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0DA-A771-4A62-9956-F014F996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9DE-4BAE-4AC4-9684-7D3987AE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2E4-428E-49C9-9818-D4A9B3A5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33F-5D49-4711-9651-B1C00F8E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F72-B89E-4C65-AFA7-4CF6F032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470-D7D6-497E-9746-9B4EC2EF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BF6-2F0E-4A0D-9A5C-6BB14B2A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028-CB98-483C-A5D8-18A8029A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F06-F941-4486-A15C-70CD90F1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4C6-D0B0-4CE2-BE63-28E154AB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8B5-1BD4-4046-8EE3-11E016B4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526-7B54-4952-8999-181979B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D87B-FE1F-4C18-B68C-BEEB2B5C96E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2"/>
          <a:stretch/>
        </p:blipFill>
        <p:spPr>
          <a:xfrm>
            <a:off x="395280" y="4581360"/>
            <a:ext cx="1782720" cy="2276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179280" y="981000"/>
            <a:ext cx="88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年年终工作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5508720" y="59500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上海财务部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250920" y="189000"/>
            <a:ext cx="5041800" cy="581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五）开票业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12"/>
          <p:cNvSpPr/>
          <p:nvPr/>
        </p:nvSpPr>
        <p:spPr>
          <a:xfrm>
            <a:off x="0" y="1197000"/>
            <a:ext cx="9144000" cy="566100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5" descr=""/>
          <p:cNvPicPr/>
          <p:nvPr/>
        </p:nvPicPr>
        <p:blipFill>
          <a:blip r:embed="rId2"/>
          <a:srcRect l="66617" t="4698" r="5463" b="50694"/>
          <a:stretch/>
        </p:blipFill>
        <p:spPr>
          <a:xfrm>
            <a:off x="4932360" y="1914480"/>
            <a:ext cx="4206960" cy="41054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rcRect l="33881" t="4604" r="38702" b="50000"/>
          <a:stretch/>
        </p:blipFill>
        <p:spPr>
          <a:xfrm>
            <a:off x="179280" y="1844640"/>
            <a:ext cx="4132440" cy="41767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187280" y="242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发票的领购及开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611280" y="2997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负责上海各公司每个月发票的领购，开具，保障发票供应。每个月需要统筹各公司的税务情况以及需求情况，做好安排和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对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上申请的发票做到每日清理，及时购票，将因为发票没有及时开具而导致不好后果的情况归于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6202440" y="234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发票增版增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5465880" y="2881440"/>
            <a:ext cx="34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日已经由原来的专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份增量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份，普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份增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份，合计开票金额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5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万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日已经由原来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份万元版增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份十万元版，合计月开票金额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也计划于本月去税务局增量，由原来的专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份增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份，普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份增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6432-EEC0-401E-AC90-F75AEEF5FE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"/>
          <p:cNvSpPr/>
          <p:nvPr/>
        </p:nvSpPr>
        <p:spPr>
          <a:xfrm>
            <a:off x="179280" y="260280"/>
            <a:ext cx="6121440" cy="581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六）职能发展与财务档案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 12"/>
          <p:cNvSpPr/>
          <p:nvPr/>
        </p:nvSpPr>
        <p:spPr>
          <a:xfrm>
            <a:off x="0" y="1197000"/>
            <a:ext cx="9144000" cy="566100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324000" y="1484280"/>
            <a:ext cx="7920000" cy="368280"/>
          </a:xfrm>
          <a:prstGeom prst="rect">
            <a:avLst/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162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财务部门既是管理部门又是服务部门，在加强严格管理的同时又要做好服务工作，这是两种不同角色的转换，在严格管理的同时不失笑容，在热情服务的同时不失原则，这是我们应有的工作态度。在过去的一年里，财务部在职能管理和档案管理上向前迈出了一大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4"/>
          <p:cNvSpPr/>
          <p:nvPr/>
        </p:nvSpPr>
        <p:spPr>
          <a:xfrm>
            <a:off x="106200" y="3141720"/>
            <a:ext cx="1440000" cy="368280"/>
          </a:xfrm>
          <a:prstGeom prst="rect">
            <a:avLst/>
          </a:prstGeom>
          <a:gradFill rotWithShape="0">
            <a:gsLst>
              <a:gs pos="0">
                <a:srgbClr val="c8b3e9"/>
              </a:gs>
              <a:gs pos="100000">
                <a:srgbClr val="efe8fa"/>
              </a:gs>
            </a:gsLst>
            <a:lin ang="16200000"/>
          </a:gradFill>
          <a:ln w="9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重新梳理并建立了成本费用明细分类目录，使成本费用核算有了统一归口的依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1646280" y="3166920"/>
            <a:ext cx="1440000" cy="916920"/>
          </a:xfrm>
          <a:prstGeom prst="rect">
            <a:avLst/>
          </a:prstGeom>
          <a:gradFill rotWithShape="0">
            <a:gsLst>
              <a:gs pos="0">
                <a:srgbClr val="ffd1bb"/>
              </a:gs>
              <a:gs pos="100000">
                <a:srgbClr val="fff2ed"/>
              </a:gs>
            </a:gsLst>
            <a:lin ang="162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修改完善了会计结算单签字流程，加强审批管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3227400" y="3141720"/>
            <a:ext cx="1873080" cy="642600"/>
          </a:xfrm>
          <a:prstGeom prst="rect">
            <a:avLst/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162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会计审核中，严格按规定办事，一就是一，对审核中发现的非原则问题仔细地向经办人员说明，并告知如何办理相关手续和解决问题的办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5464080" y="3213000"/>
            <a:ext cx="3679920" cy="368280"/>
          </a:xfrm>
          <a:prstGeom prst="rect">
            <a:avLst/>
          </a:prstGeom>
          <a:gradFill rotWithShape="0">
            <a:gsLst>
              <a:gs pos="0">
                <a:srgbClr val="a3c2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咨询服务，对前来咨询财务、税务知识和政策法规等有关问题，我们都能尽自己所能耐心解说。对公司新出台的规定做到边贯彻边学习，如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的上线、借款和费用的核销，发票的申请等，在使用时大家遇到很多问题，为此我们提供咨询的同时吸收各方意见，不断提高认识，做好服务的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8"/>
          <p:cNvSpPr/>
          <p:nvPr/>
        </p:nvSpPr>
        <p:spPr>
          <a:xfrm>
            <a:off x="0" y="6021360"/>
            <a:ext cx="8893080" cy="368280"/>
          </a:xfrm>
          <a:prstGeom prst="rect">
            <a:avLst/>
          </a:prstGeom>
          <a:gradFill rotWithShape="0">
            <a:gsLst>
              <a:gs pos="0">
                <a:srgbClr val="ffd1bb"/>
              </a:gs>
              <a:gs pos="100000">
                <a:srgbClr val="fff2ed"/>
              </a:gs>
            </a:gsLst>
            <a:lin ang="162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推出了会计档案管理办法，为加强内部管理做好前期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676E-685D-4F53-96D7-78AC562EFFF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179280" y="260280"/>
            <a:ext cx="6121440" cy="581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七）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2"/>
          <p:cNvSpPr/>
          <p:nvPr/>
        </p:nvSpPr>
        <p:spPr>
          <a:xfrm>
            <a:off x="0" y="836640"/>
            <a:ext cx="9144000" cy="602136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24" descr=""/>
          <p:cNvPicPr/>
          <p:nvPr/>
        </p:nvPicPr>
        <p:blipFill>
          <a:blip r:embed="rId2"/>
          <a:srcRect l="-1720" t="17524" r="0" b="0"/>
          <a:stretch/>
        </p:blipFill>
        <p:spPr>
          <a:xfrm>
            <a:off x="-27000" y="1628640"/>
            <a:ext cx="9155160" cy="4767480"/>
          </a:xfrm>
          <a:prstGeom prst="rect">
            <a:avLst/>
          </a:prstGeom>
          <a:ln w="0">
            <a:noFill/>
          </a:ln>
        </p:spPr>
      </p:pic>
      <p:sp>
        <p:nvSpPr>
          <p:cNvPr id="187" name="椭圆 20"/>
          <p:cNvSpPr/>
          <p:nvPr/>
        </p:nvSpPr>
        <p:spPr>
          <a:xfrm>
            <a:off x="2627280" y="1844640"/>
            <a:ext cx="1728720" cy="1584360"/>
          </a:xfrm>
          <a:prstGeom prst="ellipse">
            <a:avLst/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16200000"/>
          </a:gradFill>
          <a:ln w="93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第二，发扬团队精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3"/>
          <p:cNvSpPr/>
          <p:nvPr/>
        </p:nvSpPr>
        <p:spPr>
          <a:xfrm>
            <a:off x="826920" y="2349360"/>
            <a:ext cx="180036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第一，爱岗敬业坚持原则树立良好的职业道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21"/>
          <p:cNvSpPr/>
          <p:nvPr/>
        </p:nvSpPr>
        <p:spPr>
          <a:xfrm>
            <a:off x="4500720" y="1341360"/>
            <a:ext cx="1655640" cy="1511280"/>
          </a:xfrm>
          <a:prstGeom prst="ellips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16200000"/>
          </a:gradFill>
          <a:ln w="9360">
            <a:solidFill>
              <a:srgbClr val="4bac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第三，加强相关学科知识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22"/>
          <p:cNvSpPr/>
          <p:nvPr/>
        </p:nvSpPr>
        <p:spPr>
          <a:xfrm>
            <a:off x="6372360" y="83664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第四、遵纪守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5"/>
          <p:cNvSpPr/>
          <p:nvPr/>
        </p:nvSpPr>
        <p:spPr>
          <a:xfrm>
            <a:off x="1116000" y="4351320"/>
            <a:ext cx="180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做好财务工作，首先要坚持原则、同时要顾全大局。工作上要踏实肯干，要保质、保量按时完成。要合理合法处理好每一笔财会业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6"/>
          <p:cNvSpPr/>
          <p:nvPr/>
        </p:nvSpPr>
        <p:spPr>
          <a:xfrm>
            <a:off x="2987640" y="3875040"/>
            <a:ext cx="180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各工作岗位明确分工、密切配合、互相帮助，共同进步，大家拧成一股绳，力达事半功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7"/>
          <p:cNvSpPr/>
          <p:nvPr/>
        </p:nvSpPr>
        <p:spPr>
          <a:xfrm>
            <a:off x="4788000" y="3429000"/>
            <a:ext cx="1871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财会是一门知识性很强的专业。随着知识更新市场的变化，企业内部对财务管理的要求的提升，，更多的是要从所经手的经济业务当中，发现问题，并能够找到解决的办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8"/>
          <p:cNvSpPr/>
          <p:nvPr/>
        </p:nvSpPr>
        <p:spPr>
          <a:xfrm>
            <a:off x="6659640" y="2924280"/>
            <a:ext cx="18730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财务工作事关重大，小至个人前途，公司利益，大致国家经济发展，因而必须依照国家相关法律法规严格执行，从自身做起，严守财务管理制度，时刻注意监督与自我监督，确保财务工作顺利有序进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210A-167A-40F7-AAF2-8E267B0EDF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179280" y="260280"/>
            <a:ext cx="6121440" cy="581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八）目前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12"/>
          <p:cNvSpPr/>
          <p:nvPr/>
        </p:nvSpPr>
        <p:spPr>
          <a:xfrm>
            <a:off x="0" y="836640"/>
            <a:ext cx="9144000" cy="602136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5" descr=""/>
          <p:cNvPicPr/>
          <p:nvPr/>
        </p:nvPicPr>
        <p:blipFill>
          <a:blip r:embed="rId2"/>
          <a:srcRect l="46565" t="35741" r="29431" b="27446"/>
          <a:stretch/>
        </p:blipFill>
        <p:spPr>
          <a:xfrm>
            <a:off x="5048280" y="2781360"/>
            <a:ext cx="4095720" cy="38163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6" descr=""/>
          <p:cNvPicPr/>
          <p:nvPr/>
        </p:nvPicPr>
        <p:blipFill>
          <a:blip r:embed="rId3"/>
          <a:srcRect l="19831" t="21254" r="53501" b="41919"/>
          <a:stretch/>
        </p:blipFill>
        <p:spPr>
          <a:xfrm>
            <a:off x="-1440" y="2492280"/>
            <a:ext cx="5151240" cy="43214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4" descr=""/>
          <p:cNvPicPr/>
          <p:nvPr/>
        </p:nvPicPr>
        <p:blipFill>
          <a:blip r:embed="rId4"/>
          <a:srcRect l="0" t="8639" r="0" b="0"/>
          <a:stretch/>
        </p:blipFill>
        <p:spPr>
          <a:xfrm>
            <a:off x="395280" y="1052640"/>
            <a:ext cx="1743120" cy="15238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7"/>
          <p:cNvSpPr/>
          <p:nvPr/>
        </p:nvSpPr>
        <p:spPr>
          <a:xfrm>
            <a:off x="1116000" y="35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面临会计核算业务的变化、会计核算体系的调整；资金内部转账压力；资金结算业务、繁杂的日常报销工作，以及会计监督工作、内部部门工作的协调，外部税务银行等工作的协调等，这些挑战将要求我们人员将承受更大的工作压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9"/>
          <p:cNvSpPr/>
          <p:nvPr/>
        </p:nvSpPr>
        <p:spPr>
          <a:xfrm>
            <a:off x="4994280" y="3271680"/>
            <a:ext cx="4356000" cy="223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现金银行结算工作中，随着公司经营，收入的不断增加，规模的不断扩大，在银行账户方面将会面对资金日进日出流向、帐户现金日报表、收付款审批、费用报销单据、较预计工作量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会有大幅增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6A10-A25C-44F3-8A23-6F6DBF9B460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179280" y="260280"/>
            <a:ext cx="6121440" cy="581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九）未来的工作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12"/>
          <p:cNvSpPr/>
          <p:nvPr/>
        </p:nvSpPr>
        <p:spPr>
          <a:xfrm>
            <a:off x="0" y="836640"/>
            <a:ext cx="9144000" cy="602136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8" descr=""/>
          <p:cNvPicPr/>
          <p:nvPr/>
        </p:nvPicPr>
        <p:blipFill>
          <a:blip r:embed="rId2"/>
          <a:stretch/>
        </p:blipFill>
        <p:spPr>
          <a:xfrm>
            <a:off x="2751120" y="5205240"/>
            <a:ext cx="3486240" cy="1629000"/>
          </a:xfrm>
          <a:prstGeom prst="rect">
            <a:avLst/>
          </a:prstGeom>
          <a:ln w="0">
            <a:noFill/>
          </a:ln>
        </p:spPr>
      </p:pic>
      <p:sp>
        <p:nvSpPr>
          <p:cNvPr id="207" name="圆角矩形 11"/>
          <p:cNvSpPr/>
          <p:nvPr/>
        </p:nvSpPr>
        <p:spPr>
          <a:xfrm>
            <a:off x="0" y="1268280"/>
            <a:ext cx="226836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16200000"/>
          </a:gradFill>
          <a:ln w="93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三、加强与其他部门的联系与交流，促进公司内部健康，平稳发展，加大与同行业，同领域间的交流与协作，配合，促进公司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 13"/>
          <p:cNvSpPr/>
          <p:nvPr/>
        </p:nvSpPr>
        <p:spPr>
          <a:xfrm>
            <a:off x="2308320" y="1341360"/>
            <a:ext cx="226836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16200000"/>
          </a:gradFill>
          <a:ln w="93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四、加强税收筹划工作。根据公司业务具体特点，结合法规制度，充分分析论证，合理纳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圆角矩形 18"/>
          <p:cNvSpPr/>
          <p:nvPr/>
        </p:nvSpPr>
        <p:spPr>
          <a:xfrm>
            <a:off x="4626000" y="1341360"/>
            <a:ext cx="1962000" cy="2016360"/>
          </a:xfrm>
          <a:custGeom>
            <a:avLst/>
            <a:gdLst>
              <a:gd name="textAreaLeft" fmla="*/ 95760 w 1962000"/>
              <a:gd name="textAreaRight" fmla="*/ 1866240 w 1962000"/>
              <a:gd name="textAreaTop" fmla="*/ 95760 h 2016360"/>
              <a:gd name="textAreaBottom" fmla="*/ 1920600 h 2016360"/>
            </a:gdLst>
            <a:ahLst/>
            <a:rect l="textAreaLeft" t="textAreaTop" r="textAreaRight" b="textAreaBottom"/>
            <a:pathLst>
              <a:path w="21600" h="22198">
                <a:moveTo>
                  <a:pt x="3600" y="0"/>
                </a:moveTo>
                <a:arcTo wR="3600" hR="3600" stAng="16200000" swAng="-5400000"/>
                <a:lnTo>
                  <a:pt x="0" y="18598"/>
                </a:lnTo>
                <a:arcTo wR="3600" hR="3600" stAng="10800000" swAng="-5400000"/>
                <a:lnTo>
                  <a:pt x="18000" y="22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16200000"/>
          </a:gradFill>
          <a:ln w="93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五、加强各公司内部控制工作，减少可预见的风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圆角矩形 20"/>
          <p:cNvSpPr/>
          <p:nvPr/>
        </p:nvSpPr>
        <p:spPr>
          <a:xfrm>
            <a:off x="6659640" y="1268280"/>
            <a:ext cx="226836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16200000"/>
          </a:gradFill>
          <a:ln w="93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六、财务制度的完善和出台，规范部门财务工作，让所有工作流程合理，有依可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21"/>
          <p:cNvSpPr/>
          <p:nvPr/>
        </p:nvSpPr>
        <p:spPr>
          <a:xfrm>
            <a:off x="395280" y="3517920"/>
            <a:ext cx="439272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16200000"/>
          </a:gradFill>
          <a:ln w="93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一、注重财务团队的培训，包括基本财务知识的培训，以及专业财务知识的培训，加强财务人员的业务知识、企业会计制度和国家有关财经法规的学习，逐步提高财务人员的专业知识、技能和职业判断能力，不断提高整体实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22"/>
          <p:cNvSpPr/>
          <p:nvPr/>
        </p:nvSpPr>
        <p:spPr>
          <a:xfrm>
            <a:off x="5003640" y="3517920"/>
            <a:ext cx="3816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da5"/>
              </a:gs>
              <a:gs pos="100000">
                <a:srgbClr val="f4fee6"/>
              </a:gs>
            </a:gsLst>
            <a:lin ang="16200000"/>
          </a:gradFill>
          <a:ln w="93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二、认真做好分析统计工作，为领导的经营管理和投资决策提供有效的参考依据，针对性的将工作内容用表格的形式直观汇报给经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1979-EDEE-400D-9AB6-46C1CDD14EA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圆角矩形 12"/>
          <p:cNvSpPr/>
          <p:nvPr/>
        </p:nvSpPr>
        <p:spPr>
          <a:xfrm>
            <a:off x="0" y="836640"/>
            <a:ext cx="9144000" cy="602136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6" descr=""/>
          <p:cNvPicPr/>
          <p:nvPr/>
        </p:nvPicPr>
        <p:blipFill>
          <a:blip r:embed="rId2"/>
          <a:srcRect l="9213" t="13396" r="5926" b="3223"/>
          <a:stretch/>
        </p:blipFill>
        <p:spPr>
          <a:xfrm>
            <a:off x="2583000" y="1052640"/>
            <a:ext cx="3097080" cy="4032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1258920" y="515772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总之，感谢领导与各部门对我们工作的支持与帮助，未来我们一定继往开来，切实做好后勤保障工作，为及时为日后腾飞中付出微薄之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92ED-7FE2-4140-A787-AD1B7E5ED0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2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对角圆角矩形 4"/>
          <p:cNvSpPr/>
          <p:nvPr/>
        </p:nvSpPr>
        <p:spPr>
          <a:xfrm>
            <a:off x="0" y="1484280"/>
            <a:ext cx="9144000" cy="4248360"/>
          </a:xfrm>
          <a:prstGeom prst="pie">
            <a:avLst/>
          </a:prstGeom>
          <a:solidFill>
            <a:srgbClr val="d8d8d8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时间如梭，转眼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0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年就过去了，在这刚过去的一年里上海财务部在领导的支持帮助下，在各部门的积极配合下，全体财务人员任劳任怨、齐心协力，围绕公司中心工作和财务重点工作，圆满地完成了部门职责和领导交办的各项任务，为总结经验更好的完成以后的工作，现主要从以下几方面总结一下这一年来的工作，及对下一年的计划与展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7" descr=""/>
          <p:cNvPicPr/>
          <p:nvPr/>
        </p:nvPicPr>
        <p:blipFill>
          <a:blip r:embed="rId2"/>
          <a:stretch/>
        </p:blipFill>
        <p:spPr>
          <a:xfrm>
            <a:off x="395280" y="5224320"/>
            <a:ext cx="1278000" cy="1633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250920" y="189000"/>
            <a:ext cx="1657080" cy="8251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流程图: 可选过程 8"/>
          <p:cNvSpPr/>
          <p:nvPr/>
        </p:nvSpPr>
        <p:spPr>
          <a:xfrm rot="21310200">
            <a:off x="336240" y="1268280"/>
            <a:ext cx="8501040" cy="4186440"/>
          </a:xfrm>
          <a:prstGeom prst="flowChartAlternateProcess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流程图: 可选过程 6"/>
          <p:cNvSpPr/>
          <p:nvPr/>
        </p:nvSpPr>
        <p:spPr>
          <a:xfrm>
            <a:off x="250920" y="1268280"/>
            <a:ext cx="8642160" cy="4248360"/>
          </a:xfrm>
          <a:prstGeom prst="flowChartAlternateProcess">
            <a:avLst/>
          </a:prstGeom>
          <a:solidFill>
            <a:srgbClr val="ffffff">
              <a:alpha val="83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海财务部门担当着上海各财务公司及科技公司的会计核算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管理，控制等工作。我们将紧紧围绕公司的发展方向与经营动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遵守国家相关法律法规的前提下，在为公司提供优质服务的同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认真组织会计核算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规范各项财务基础工作，加强财务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日常工作中，我们将在财务收支、账务处理、费用的结报上都执行相关规定，绝不应个人情面而放松管理。资金的结算与安排，费用的稽核与报销，会计核算与结转，会计报表的编制，税务申报等各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开展都应当有序进行，按时完成。正确反映资产负债、经营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成果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经济运行状况。我们通过不断的摸索和总结，加强公司财务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理，主要体现在以下方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4" descr=""/>
          <p:cNvPicPr/>
          <p:nvPr/>
        </p:nvPicPr>
        <p:blipFill>
          <a:blip r:embed="rId2"/>
          <a:srcRect l="69149" t="46058" r="20212" b="-1629"/>
          <a:stretch/>
        </p:blipFill>
        <p:spPr>
          <a:xfrm>
            <a:off x="7380360" y="3774960"/>
            <a:ext cx="720720" cy="2519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250920" y="189000"/>
            <a:ext cx="5041800" cy="977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宋体"/>
              </a:rPr>
              <a:t>一</a:t>
            </a:r>
            <a:r>
              <a:rPr b="1" lang="en-US" sz="29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1" lang="zh-CN" sz="2900" spc="-1" strike="noStrike">
                <a:solidFill>
                  <a:srgbClr val="ffffff"/>
                </a:solidFill>
                <a:latin typeface="宋体"/>
              </a:rPr>
              <a:t>财务核算和财务管理方面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0" descr=""/>
          <p:cNvPicPr/>
          <p:nvPr/>
        </p:nvPicPr>
        <p:blipFill>
          <a:blip r:embed="rId3"/>
          <a:stretch/>
        </p:blipFill>
        <p:spPr>
          <a:xfrm>
            <a:off x="468360" y="5202360"/>
            <a:ext cx="1295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50920" y="189000"/>
            <a:ext cx="5041800" cy="581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一）在财务分析方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2"/>
          <p:cNvSpPr/>
          <p:nvPr/>
        </p:nvSpPr>
        <p:spPr>
          <a:xfrm>
            <a:off x="0" y="1197000"/>
            <a:ext cx="9144000" cy="566100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1" descr=""/>
          <p:cNvPicPr/>
          <p:nvPr/>
        </p:nvPicPr>
        <p:blipFill>
          <a:blip r:embed="rId2"/>
          <a:stretch/>
        </p:blipFill>
        <p:spPr>
          <a:xfrm>
            <a:off x="5580000" y="58680"/>
            <a:ext cx="3143160" cy="1771560"/>
          </a:xfrm>
          <a:prstGeom prst="rect">
            <a:avLst/>
          </a:prstGeom>
          <a:ln w="0">
            <a:noFill/>
          </a:ln>
        </p:spPr>
      </p:pic>
      <p:sp>
        <p:nvSpPr>
          <p:cNvPr id="55" name="右箭头 13"/>
          <p:cNvSpPr/>
          <p:nvPr/>
        </p:nvSpPr>
        <p:spPr>
          <a:xfrm>
            <a:off x="355680" y="1303200"/>
            <a:ext cx="1728720" cy="1008360"/>
          </a:xfrm>
          <a:prstGeom prst="righ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2d5d97"/>
              </a:gs>
              <a:gs pos="100000">
                <a:srgbClr val="397bc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财务报表数据的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箭头 14"/>
          <p:cNvSpPr/>
          <p:nvPr/>
        </p:nvSpPr>
        <p:spPr>
          <a:xfrm>
            <a:off x="250920" y="2276640"/>
            <a:ext cx="1944720" cy="1441440"/>
          </a:xfrm>
          <a:prstGeom prst="rightArrow">
            <a:avLst>
              <a:gd name="adj1" fmla="val 50000"/>
              <a:gd name="adj2" fmla="val 49950"/>
            </a:avLst>
          </a:prstGeom>
          <a:gradFill rotWithShape="0">
            <a:gsLst>
              <a:gs pos="0">
                <a:srgbClr val="992f2b"/>
              </a:gs>
              <a:gs pos="100000">
                <a:srgbClr val="cd3a3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项目完成情况及回款情况的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右箭头 15"/>
          <p:cNvSpPr/>
          <p:nvPr/>
        </p:nvSpPr>
        <p:spPr>
          <a:xfrm>
            <a:off x="250920" y="3429000"/>
            <a:ext cx="1873080" cy="1440000"/>
          </a:xfrm>
          <a:prstGeom prst="righ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部公司往来的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右箭头 16"/>
          <p:cNvSpPr/>
          <p:nvPr/>
        </p:nvSpPr>
        <p:spPr>
          <a:xfrm>
            <a:off x="250920" y="4797360"/>
            <a:ext cx="1657080" cy="100800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2d5d97"/>
              </a:gs>
              <a:gs pos="100000">
                <a:srgbClr val="397bc9"/>
              </a:gs>
            </a:gsLst>
            <a:lin ang="162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部项目借款的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箭头 17"/>
          <p:cNvSpPr/>
          <p:nvPr/>
        </p:nvSpPr>
        <p:spPr>
          <a:xfrm>
            <a:off x="250920" y="5805360"/>
            <a:ext cx="1657080" cy="1008360"/>
          </a:xfrm>
          <a:prstGeom prst="rightArrow">
            <a:avLst>
              <a:gd name="adj1" fmla="val 50000"/>
              <a:gd name="adj2" fmla="val 50015"/>
            </a:avLst>
          </a:prstGeom>
          <a:gradFill rotWithShape="0">
            <a:gsLst>
              <a:gs pos="0">
                <a:srgbClr val="992f2b"/>
              </a:gs>
              <a:gs pos="100000">
                <a:srgbClr val="cd3a3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税赋的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9"/>
          <p:cNvSpPr/>
          <p:nvPr/>
        </p:nvSpPr>
        <p:spPr>
          <a:xfrm>
            <a:off x="2182680" y="1498680"/>
            <a:ext cx="6566040" cy="100800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每月编制资产负债表、损益表，根据财务报表数据对收入、成本、费用、税金的配比进行分析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为领导及时掌握公司财务信息提供依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2195640" y="3716280"/>
            <a:ext cx="6553080" cy="978120"/>
          </a:xfrm>
          <a:prstGeom prst="rect">
            <a:avLst/>
          </a:pr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在内部公司往来核算方面，将对每笔往来都记录在案，对往来情况及银行转账情况的分析，以便随时掌握关联关系，及时有效的控制可能存在的风险及资金流动性的把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2195640" y="2565360"/>
            <a:ext cx="6553080" cy="1077840"/>
          </a:xfrm>
          <a:prstGeom prst="rect">
            <a:avLst/>
          </a:prstGeom>
          <a:gradFill rotWithShape="0">
            <a:gsLst>
              <a:gs pos="0">
                <a:srgbClr val="992f2b"/>
              </a:gs>
              <a:gs pos="100000">
                <a:srgbClr val="cd3a3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每月针对各公司项目完成情况，统计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&lt;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项目回款情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&gt;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，并做好催收记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2195640" y="4764240"/>
            <a:ext cx="6553080" cy="939600"/>
          </a:xfrm>
          <a:prstGeom prst="rect">
            <a:avLst/>
          </a:prstGeom>
          <a:gradFill rotWithShape="0">
            <a:gsLst>
              <a:gs pos="0">
                <a:srgbClr val="2d5d97"/>
              </a:gs>
              <a:gs pos="100000">
                <a:srgbClr val="397bc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项目借款情况的分析，及时核销及做好会计处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3"/>
          <p:cNvSpPr/>
          <p:nvPr/>
        </p:nvSpPr>
        <p:spPr>
          <a:xfrm>
            <a:off x="2182680" y="5776920"/>
            <a:ext cx="6551640" cy="963720"/>
          </a:xfrm>
          <a:prstGeom prst="rect">
            <a:avLst/>
          </a:prstGeom>
          <a:gradFill rotWithShape="0">
            <a:gsLst>
              <a:gs pos="0">
                <a:srgbClr val="992f2b"/>
              </a:gs>
              <a:gs pos="100000">
                <a:srgbClr val="cd3a3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税费计缴情况，进项与销项的配比与筹划，税费对企业的影响，税收政策对企业的影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250920" y="189000"/>
            <a:ext cx="5041800" cy="581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一）在财务分析方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12"/>
          <p:cNvSpPr/>
          <p:nvPr/>
        </p:nvSpPr>
        <p:spPr>
          <a:xfrm>
            <a:off x="0" y="1197000"/>
            <a:ext cx="9144000" cy="566100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5" descr=""/>
          <p:cNvPicPr/>
          <p:nvPr/>
        </p:nvPicPr>
        <p:blipFill>
          <a:blip r:embed="rId2">
            <a:lum contrast="-4000"/>
          </a:blip>
          <a:srcRect l="19444" t="0" r="20156" b="0"/>
          <a:stretch/>
        </p:blipFill>
        <p:spPr>
          <a:xfrm>
            <a:off x="0" y="4724280"/>
            <a:ext cx="18367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56000" y="2276640"/>
            <a:ext cx="1728720" cy="504720"/>
            <a:chOff x="2556000" y="2276640"/>
            <a:chExt cx="1728720" cy="504720"/>
          </a:xfrm>
        </p:grpSpPr>
        <p:sp>
          <p:nvSpPr>
            <p:cNvPr id="69" name="直接连接符 9"/>
            <p:cNvSpPr/>
            <p:nvPr/>
          </p:nvSpPr>
          <p:spPr>
            <a:xfrm flipV="1">
              <a:off x="2556000" y="2276640"/>
              <a:ext cx="1728720" cy="504720"/>
            </a:xfrm>
            <a:prstGeom prst="line">
              <a:avLst/>
            </a:prstGeom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 rot="10800000">
              <a:off x="2556000" y="2276640"/>
              <a:ext cx="172872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700000" y="3357720"/>
            <a:ext cx="1800720" cy="71280"/>
            <a:chOff x="2700000" y="3357720"/>
            <a:chExt cx="1800720" cy="71280"/>
          </a:xfrm>
        </p:grpSpPr>
        <p:sp>
          <p:nvSpPr>
            <p:cNvPr id="72" name="直接连接符 10"/>
            <p:cNvSpPr/>
            <p:nvPr/>
          </p:nvSpPr>
          <p:spPr>
            <a:xfrm flipV="1">
              <a:off x="2700360" y="3357720"/>
              <a:ext cx="1800360" cy="71280"/>
            </a:xfrm>
            <a:prstGeom prst="line">
              <a:avLst/>
            </a:prstGeom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 rot="10800000">
              <a:off x="2700000" y="3357720"/>
              <a:ext cx="180036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556000" y="4076640"/>
            <a:ext cx="1871640" cy="289080"/>
            <a:chOff x="2556000" y="4076640"/>
            <a:chExt cx="1871640" cy="289080"/>
          </a:xfrm>
        </p:grpSpPr>
        <p:sp>
          <p:nvSpPr>
            <p:cNvPr id="75" name="直接连接符 14"/>
            <p:cNvSpPr/>
            <p:nvPr/>
          </p:nvSpPr>
          <p:spPr>
            <a:xfrm>
              <a:off x="2556000" y="4076640"/>
              <a:ext cx="1871640" cy="289080"/>
            </a:xfrm>
            <a:prstGeom prst="line">
              <a:avLst/>
            </a:prstGeom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2556000" y="4076640"/>
              <a:ext cx="187164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椭圆 6"/>
          <p:cNvSpPr/>
          <p:nvPr/>
        </p:nvSpPr>
        <p:spPr>
          <a:xfrm>
            <a:off x="324000" y="2276640"/>
            <a:ext cx="2447640" cy="2304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7"/>
          <p:cNvSpPr/>
          <p:nvPr/>
        </p:nvSpPr>
        <p:spPr>
          <a:xfrm>
            <a:off x="539640" y="2492280"/>
            <a:ext cx="2016360" cy="1873440"/>
          </a:xfrm>
          <a:prstGeom prst="ellipse">
            <a:avLst/>
          </a:prstGeom>
          <a:gradFill rotWithShape="0">
            <a:gsLst>
              <a:gs pos="0">
                <a:srgbClr val="29869f"/>
              </a:gs>
              <a:gs pos="100000">
                <a:srgbClr val="33b3d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通过以上分析对所存在的问题，提出解决措施和途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6"/>
          <p:cNvSpPr/>
          <p:nvPr/>
        </p:nvSpPr>
        <p:spPr>
          <a:xfrm>
            <a:off x="4284720" y="2909880"/>
            <a:ext cx="4464000" cy="720720"/>
          </a:xfrm>
          <a:prstGeom prst="rect">
            <a:avLst/>
          </a:prstGeom>
          <a:gradFill rotWithShape="0">
            <a:gsLst>
              <a:gs pos="0">
                <a:srgbClr val="a3c2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对现行财务管理制度及流程提出建议，并初步拟定了适合上海的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7"/>
          <p:cNvSpPr/>
          <p:nvPr/>
        </p:nvSpPr>
        <p:spPr>
          <a:xfrm>
            <a:off x="4284720" y="1844640"/>
            <a:ext cx="4464000" cy="720720"/>
          </a:xfrm>
          <a:prstGeom prst="rect">
            <a:avLst/>
          </a:prstGeom>
          <a:gradFill rotWithShape="0">
            <a:gsLst>
              <a:gs pos="0">
                <a:srgbClr val="a3c2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分析结合具体情况，对企业经营管理提出合理化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8"/>
          <p:cNvSpPr/>
          <p:nvPr/>
        </p:nvSpPr>
        <p:spPr>
          <a:xfrm>
            <a:off x="4284720" y="4005360"/>
            <a:ext cx="4464000" cy="718920"/>
          </a:xfrm>
          <a:prstGeom prst="rect">
            <a:avLst/>
          </a:prstGeom>
          <a:gradFill rotWithShape="0">
            <a:gsLst>
              <a:gs pos="0">
                <a:srgbClr val="a3c2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结前期工作中的成功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97D7-DF72-405F-B23C-2DBE29D5ECE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179280" y="189000"/>
            <a:ext cx="5004000" cy="581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二）在资产管理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12"/>
          <p:cNvSpPr/>
          <p:nvPr/>
        </p:nvSpPr>
        <p:spPr>
          <a:xfrm>
            <a:off x="0" y="1484280"/>
            <a:ext cx="9144000" cy="537372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3" descr=""/>
          <p:cNvPicPr/>
          <p:nvPr/>
        </p:nvPicPr>
        <p:blipFill>
          <a:blip r:embed="rId2"/>
          <a:srcRect l="31072" t="27623" r="32255" b="20164"/>
          <a:stretch/>
        </p:blipFill>
        <p:spPr>
          <a:xfrm>
            <a:off x="3132000" y="2276640"/>
            <a:ext cx="2880000" cy="1950840"/>
          </a:xfrm>
          <a:prstGeom prst="rect">
            <a:avLst/>
          </a:prstGeom>
          <a:ln w="0">
            <a:noFill/>
          </a:ln>
        </p:spPr>
      </p:pic>
      <p:sp>
        <p:nvSpPr>
          <p:cNvPr id="86" name="流程图: 可选过程 15"/>
          <p:cNvSpPr/>
          <p:nvPr/>
        </p:nvSpPr>
        <p:spPr>
          <a:xfrm>
            <a:off x="58680" y="2060640"/>
            <a:ext cx="3043440" cy="23763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在货币资金的管理上，我们认真做到现金日清月结，银行存款结算准确，保证账账相符，帐实相符。我们部门人员本着“认真、仔细、严谨”的工作作风，保证各项资金收付安全、准确、及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流程图: 可选过程 19"/>
          <p:cNvSpPr/>
          <p:nvPr/>
        </p:nvSpPr>
        <p:spPr>
          <a:xfrm>
            <a:off x="6084720" y="2060640"/>
            <a:ext cx="2988000" cy="237636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在应收账款的管理上，我们会与业务部门做到及时沟通、对帐，并定时（每月结账之后统计）提供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&lt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项目收款情况表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&gt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便于业务员掌握项目情况；每周例会统计回款情况不断跟进，保证公司合同款的及时收回和正常运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流程图: 可选过程 20"/>
          <p:cNvSpPr/>
          <p:nvPr/>
        </p:nvSpPr>
        <p:spPr>
          <a:xfrm>
            <a:off x="2411280" y="4437000"/>
            <a:ext cx="4464360" cy="2421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在资料备案方面，因为上海涉及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家财务公司和科技公司，除去本身公司内部的财务核实之外，还涉及对外的一些沟通和备案，检查等资料的准备，具体明细如下：软件企业备案，社保检查，企业所得税的免税备案，技术开发合同备案，协会常规检查及报备，公司工商年检，公司增资、补资，税务所查账等，需要我们做的准备工作都如期完成，并做好这些备案资料的管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F9AA-4E4B-41FC-BB63-F99251C5E2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50920" y="189000"/>
            <a:ext cx="5041800" cy="581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三）在税收筹划、对内、外关系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12"/>
          <p:cNvSpPr/>
          <p:nvPr/>
        </p:nvSpPr>
        <p:spPr>
          <a:xfrm>
            <a:off x="0" y="1413000"/>
            <a:ext cx="9144000" cy="544500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140360" y="2349360"/>
            <a:ext cx="4535280" cy="360"/>
            <a:chOff x="4140360" y="2349360"/>
            <a:chExt cx="4535280" cy="360"/>
          </a:xfrm>
        </p:grpSpPr>
        <p:sp>
          <p:nvSpPr>
            <p:cNvPr id="93" name="直接连接符 8"/>
            <p:cNvSpPr/>
            <p:nvPr/>
          </p:nvSpPr>
          <p:spPr>
            <a:xfrm>
              <a:off x="4140360" y="2349360"/>
              <a:ext cx="453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140360" y="2349360"/>
              <a:ext cx="45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132000" y="2381400"/>
            <a:ext cx="5616720" cy="39600"/>
            <a:chOff x="3132000" y="2381400"/>
            <a:chExt cx="5616720" cy="39600"/>
          </a:xfrm>
        </p:grpSpPr>
        <p:sp>
          <p:nvSpPr>
            <p:cNvPr id="96" name="直接连接符 10"/>
            <p:cNvSpPr/>
            <p:nvPr/>
          </p:nvSpPr>
          <p:spPr>
            <a:xfrm flipV="1">
              <a:off x="3132000" y="2381400"/>
              <a:ext cx="5616720" cy="39600"/>
            </a:xfrm>
            <a:prstGeom prst="line">
              <a:avLst/>
            </a:prstGeom>
            <a:ln w="3816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 rot="10800000">
              <a:off x="3132000" y="2381040"/>
              <a:ext cx="5616720" cy="3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4"/>
          <p:cNvSpPr/>
          <p:nvPr/>
        </p:nvSpPr>
        <p:spPr>
          <a:xfrm>
            <a:off x="3419640" y="14288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我们将本着不违反财经纪律的原则下，通过合理税收筹划使企业承担合理税赋，并积极和税务局人员保持良好关系，在此基础上为企业节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6" descr=""/>
          <p:cNvPicPr/>
          <p:nvPr/>
        </p:nvPicPr>
        <p:blipFill>
          <a:blip r:embed="rId2"/>
          <a:srcRect l="0" t="11262" r="0" b="8088"/>
          <a:stretch/>
        </p:blipFill>
        <p:spPr>
          <a:xfrm>
            <a:off x="3276720" y="2492280"/>
            <a:ext cx="5796000" cy="936720"/>
          </a:xfrm>
          <a:prstGeom prst="rect">
            <a:avLst/>
          </a:prstGeom>
          <a:ln w="0">
            <a:noFill/>
          </a:ln>
        </p:spPr>
      </p:pic>
      <p:sp>
        <p:nvSpPr>
          <p:cNvPr id="100" name="矩形 18"/>
          <p:cNvSpPr/>
          <p:nvPr/>
        </p:nvSpPr>
        <p:spPr>
          <a:xfrm>
            <a:off x="4067280" y="2649600"/>
            <a:ext cx="46814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税种核定，初始发票核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132000" y="3987720"/>
            <a:ext cx="5673960" cy="15840"/>
            <a:chOff x="3132000" y="3987720"/>
            <a:chExt cx="5673960" cy="15840"/>
          </a:xfrm>
        </p:grpSpPr>
        <p:sp>
          <p:nvSpPr>
            <p:cNvPr id="102" name="直接连接符 21"/>
            <p:cNvSpPr/>
            <p:nvPr/>
          </p:nvSpPr>
          <p:spPr>
            <a:xfrm>
              <a:off x="3132000" y="3987720"/>
              <a:ext cx="5673960" cy="15840"/>
            </a:xfrm>
            <a:prstGeom prst="line">
              <a:avLst/>
            </a:prstGeom>
            <a:ln w="3816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3132000" y="3987720"/>
              <a:ext cx="567396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22"/>
          <p:cNvSpPr/>
          <p:nvPr/>
        </p:nvSpPr>
        <p:spPr>
          <a:xfrm>
            <a:off x="3132000" y="34876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日完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税种核定，初始发票核定，正常开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3203640" y="41893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日完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税种核定，初始发票核定，正常开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7"/>
          <p:cNvSpPr/>
          <p:nvPr/>
        </p:nvSpPr>
        <p:spPr>
          <a:xfrm>
            <a:off x="3203640" y="48355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日完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税种核定，初始发票核定，正常开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33" descr=""/>
          <p:cNvPicPr/>
          <p:nvPr/>
        </p:nvPicPr>
        <p:blipFill>
          <a:blip r:embed="rId3"/>
          <a:stretch/>
        </p:blipFill>
        <p:spPr>
          <a:xfrm>
            <a:off x="258840" y="2997360"/>
            <a:ext cx="2016000" cy="18367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3132000" y="4694400"/>
            <a:ext cx="5673960" cy="14040"/>
            <a:chOff x="3132000" y="4694400"/>
            <a:chExt cx="5673960" cy="14040"/>
          </a:xfrm>
        </p:grpSpPr>
        <p:sp>
          <p:nvSpPr>
            <p:cNvPr id="109" name="直接连接符 20"/>
            <p:cNvSpPr/>
            <p:nvPr/>
          </p:nvSpPr>
          <p:spPr>
            <a:xfrm>
              <a:off x="3132000" y="4694400"/>
              <a:ext cx="5673960" cy="14040"/>
            </a:xfrm>
            <a:prstGeom prst="line">
              <a:avLst/>
            </a:prstGeom>
            <a:ln w="3816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3132000" y="4694400"/>
              <a:ext cx="5673960" cy="1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132000" y="5427720"/>
            <a:ext cx="5673960" cy="14400"/>
            <a:chOff x="3132000" y="5427720"/>
            <a:chExt cx="5673960" cy="14400"/>
          </a:xfrm>
        </p:grpSpPr>
        <p:sp>
          <p:nvSpPr>
            <p:cNvPr id="112" name="直接连接符 23"/>
            <p:cNvSpPr/>
            <p:nvPr/>
          </p:nvSpPr>
          <p:spPr>
            <a:xfrm>
              <a:off x="3132000" y="5427720"/>
              <a:ext cx="5673960" cy="14400"/>
            </a:xfrm>
            <a:prstGeom prst="line">
              <a:avLst/>
            </a:prstGeom>
            <a:ln w="3816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3132000" y="5427720"/>
              <a:ext cx="5673960" cy="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059280" y="6399360"/>
            <a:ext cx="5675040" cy="14040"/>
            <a:chOff x="3059280" y="6399360"/>
            <a:chExt cx="5675040" cy="14040"/>
          </a:xfrm>
        </p:grpSpPr>
        <p:sp>
          <p:nvSpPr>
            <p:cNvPr id="115" name="直接连接符 28"/>
            <p:cNvSpPr/>
            <p:nvPr/>
          </p:nvSpPr>
          <p:spPr>
            <a:xfrm>
              <a:off x="3059280" y="6399360"/>
              <a:ext cx="5675040" cy="14040"/>
            </a:xfrm>
            <a:prstGeom prst="line">
              <a:avLst/>
            </a:prstGeom>
            <a:ln w="3816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3059280" y="6399360"/>
              <a:ext cx="5675040" cy="1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39"/>
          <p:cNvSpPr/>
          <p:nvPr/>
        </p:nvSpPr>
        <p:spPr>
          <a:xfrm>
            <a:off x="3160800" y="55926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日完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税种核定，初始发票核定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日完成网络开票系统安装，正常开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24" descr=""/>
          <p:cNvPicPr/>
          <p:nvPr/>
        </p:nvPicPr>
        <p:blipFill>
          <a:blip r:embed="rId4"/>
          <a:srcRect l="45440" t="35313" r="31156" b="10112"/>
          <a:stretch/>
        </p:blipFill>
        <p:spPr>
          <a:xfrm>
            <a:off x="2325600" y="18795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6" descr=""/>
          <p:cNvPicPr/>
          <p:nvPr/>
        </p:nvPicPr>
        <p:blipFill>
          <a:blip r:embed="rId5"/>
          <a:srcRect l="45440" t="35313" r="31156" b="10112"/>
          <a:stretch/>
        </p:blipFill>
        <p:spPr>
          <a:xfrm>
            <a:off x="2311560" y="4197240"/>
            <a:ext cx="649080" cy="647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34" descr=""/>
          <p:cNvPicPr/>
          <p:nvPr/>
        </p:nvPicPr>
        <p:blipFill>
          <a:blip r:embed="rId6"/>
          <a:srcRect l="45440" t="35313" r="31156" b="10112"/>
          <a:stretch/>
        </p:blipFill>
        <p:spPr>
          <a:xfrm>
            <a:off x="2297160" y="4971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35" descr=""/>
          <p:cNvPicPr/>
          <p:nvPr/>
        </p:nvPicPr>
        <p:blipFill>
          <a:blip r:embed="rId7"/>
          <a:srcRect l="45440" t="35313" r="31156" b="10112"/>
          <a:stretch/>
        </p:blipFill>
        <p:spPr>
          <a:xfrm>
            <a:off x="2282760" y="58374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6" descr=""/>
          <p:cNvPicPr/>
          <p:nvPr/>
        </p:nvPicPr>
        <p:blipFill>
          <a:blip r:embed="rId8"/>
          <a:srcRect l="45440" t="35313" r="31156" b="10112"/>
          <a:stretch/>
        </p:blipFill>
        <p:spPr>
          <a:xfrm>
            <a:off x="2297160" y="34066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694-DA32-461E-BD93-1A1D919681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250920" y="189000"/>
            <a:ext cx="5041800" cy="581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三）在税收筹划、对内、外关系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12"/>
          <p:cNvSpPr/>
          <p:nvPr/>
        </p:nvSpPr>
        <p:spPr>
          <a:xfrm>
            <a:off x="3059280" y="1413000"/>
            <a:ext cx="6084720" cy="530064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40360" y="2349360"/>
            <a:ext cx="4535280" cy="360"/>
            <a:chOff x="4140360" y="2349360"/>
            <a:chExt cx="4535280" cy="360"/>
          </a:xfrm>
        </p:grpSpPr>
        <p:sp>
          <p:nvSpPr>
            <p:cNvPr id="127" name="直接连接符 8"/>
            <p:cNvSpPr/>
            <p:nvPr/>
          </p:nvSpPr>
          <p:spPr>
            <a:xfrm>
              <a:off x="4140360" y="2349360"/>
              <a:ext cx="453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140360" y="2349360"/>
              <a:ext cx="45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132000" y="2381400"/>
            <a:ext cx="5616720" cy="39600"/>
            <a:chOff x="3132000" y="2381400"/>
            <a:chExt cx="5616720" cy="39600"/>
          </a:xfrm>
        </p:grpSpPr>
        <p:sp>
          <p:nvSpPr>
            <p:cNvPr id="130" name="直接连接符 10"/>
            <p:cNvSpPr/>
            <p:nvPr/>
          </p:nvSpPr>
          <p:spPr>
            <a:xfrm flipV="1">
              <a:off x="3132000" y="2381400"/>
              <a:ext cx="5616720" cy="39600"/>
            </a:xfrm>
            <a:prstGeom prst="line">
              <a:avLst/>
            </a:prstGeom>
            <a:ln w="3816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 rot="10800000">
              <a:off x="3132000" y="2381040"/>
              <a:ext cx="5616720" cy="3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14"/>
          <p:cNvSpPr/>
          <p:nvPr/>
        </p:nvSpPr>
        <p:spPr>
          <a:xfrm>
            <a:off x="3419640" y="14288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我们将本着不违反财经纪律的原则下，通过合理税收筹划使企业承担合理税赋，并积极和税务局人员保持良好关系，在此基础上为企业节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6" descr=""/>
          <p:cNvPicPr/>
          <p:nvPr/>
        </p:nvPicPr>
        <p:blipFill>
          <a:blip r:embed="rId2"/>
          <a:srcRect l="0" t="11262" r="0" b="8088"/>
          <a:stretch/>
        </p:blipFill>
        <p:spPr>
          <a:xfrm>
            <a:off x="3276720" y="2492280"/>
            <a:ext cx="5796000" cy="936720"/>
          </a:xfrm>
          <a:prstGeom prst="rect">
            <a:avLst/>
          </a:prstGeom>
          <a:ln w="0">
            <a:noFill/>
          </a:ln>
        </p:spPr>
      </p:pic>
      <p:sp>
        <p:nvSpPr>
          <p:cNvPr id="134" name="矩形 18"/>
          <p:cNvSpPr/>
          <p:nvPr/>
        </p:nvSpPr>
        <p:spPr>
          <a:xfrm>
            <a:off x="4067280" y="2649600"/>
            <a:ext cx="46814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网上报税系统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开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132000" y="3987720"/>
            <a:ext cx="5673960" cy="15840"/>
            <a:chOff x="3132000" y="3987720"/>
            <a:chExt cx="5673960" cy="15840"/>
          </a:xfrm>
        </p:grpSpPr>
        <p:sp>
          <p:nvSpPr>
            <p:cNvPr id="136" name="直接连接符 21"/>
            <p:cNvSpPr/>
            <p:nvPr/>
          </p:nvSpPr>
          <p:spPr>
            <a:xfrm>
              <a:off x="3132000" y="3987720"/>
              <a:ext cx="5673960" cy="15840"/>
            </a:xfrm>
            <a:prstGeom prst="line">
              <a:avLst/>
            </a:prstGeom>
            <a:ln w="3816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3132000" y="3987720"/>
              <a:ext cx="567396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22"/>
          <p:cNvSpPr/>
          <p:nvPr/>
        </p:nvSpPr>
        <p:spPr>
          <a:xfrm>
            <a:off x="3132000" y="34876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开通网上报税系统，正常网上抄报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3203640" y="41893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开通网上报税系统，正常网上抄报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3203640" y="47386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等科技公司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技术合同的备案，及免税备案，备案时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个月，通过率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33" descr=""/>
          <p:cNvPicPr/>
          <p:nvPr/>
        </p:nvPicPr>
        <p:blipFill>
          <a:blip r:embed="rId3"/>
          <a:stretch/>
        </p:blipFill>
        <p:spPr>
          <a:xfrm>
            <a:off x="258840" y="2997360"/>
            <a:ext cx="2016000" cy="18367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132000" y="4694400"/>
            <a:ext cx="5673960" cy="14040"/>
            <a:chOff x="3132000" y="4694400"/>
            <a:chExt cx="5673960" cy="14040"/>
          </a:xfrm>
        </p:grpSpPr>
        <p:sp>
          <p:nvSpPr>
            <p:cNvPr id="143" name="直接连接符 20"/>
            <p:cNvSpPr/>
            <p:nvPr/>
          </p:nvSpPr>
          <p:spPr>
            <a:xfrm>
              <a:off x="3132000" y="4694400"/>
              <a:ext cx="5673960" cy="14040"/>
            </a:xfrm>
            <a:prstGeom prst="line">
              <a:avLst/>
            </a:prstGeom>
            <a:ln w="3816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132000" y="4694400"/>
              <a:ext cx="5673960" cy="1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32000" y="5645160"/>
            <a:ext cx="5673960" cy="14400"/>
            <a:chOff x="3132000" y="5645160"/>
            <a:chExt cx="5673960" cy="14400"/>
          </a:xfrm>
        </p:grpSpPr>
        <p:sp>
          <p:nvSpPr>
            <p:cNvPr id="146" name="直接连接符 23"/>
            <p:cNvSpPr/>
            <p:nvPr/>
          </p:nvSpPr>
          <p:spPr>
            <a:xfrm>
              <a:off x="3132000" y="5645160"/>
              <a:ext cx="5673960" cy="14400"/>
            </a:xfrm>
            <a:prstGeom prst="line">
              <a:avLst/>
            </a:prstGeom>
            <a:ln w="3816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132000" y="5645160"/>
              <a:ext cx="5673960" cy="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59280" y="6726240"/>
            <a:ext cx="5675040" cy="15840"/>
            <a:chOff x="3059280" y="6726240"/>
            <a:chExt cx="5675040" cy="15840"/>
          </a:xfrm>
        </p:grpSpPr>
        <p:sp>
          <p:nvSpPr>
            <p:cNvPr id="149" name="直接连接符 28"/>
            <p:cNvSpPr/>
            <p:nvPr/>
          </p:nvSpPr>
          <p:spPr>
            <a:xfrm>
              <a:off x="3059280" y="6726240"/>
              <a:ext cx="5675040" cy="15840"/>
            </a:xfrm>
            <a:prstGeom prst="line">
              <a:avLst/>
            </a:prstGeom>
            <a:ln w="3816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059280" y="6726240"/>
              <a:ext cx="567504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39"/>
          <p:cNvSpPr/>
          <p:nvPr/>
        </p:nvSpPr>
        <p:spPr>
          <a:xfrm>
            <a:off x="3160800" y="5732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免税发票已经开具完毕，尽管其他公司这次备案无需开票，但是为我们之后的增值税免税筹划积累了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24" descr=""/>
          <p:cNvPicPr/>
          <p:nvPr/>
        </p:nvPicPr>
        <p:blipFill>
          <a:blip r:embed="rId4"/>
          <a:srcRect l="45440" t="35313" r="31156" b="10112"/>
          <a:stretch/>
        </p:blipFill>
        <p:spPr>
          <a:xfrm>
            <a:off x="2340000" y="16286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6" descr=""/>
          <p:cNvPicPr/>
          <p:nvPr/>
        </p:nvPicPr>
        <p:blipFill>
          <a:blip r:embed="rId5"/>
          <a:srcRect l="45440" t="35313" r="31156" b="10112"/>
          <a:stretch/>
        </p:blipFill>
        <p:spPr>
          <a:xfrm>
            <a:off x="2411280" y="3284640"/>
            <a:ext cx="648000" cy="6490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4" descr=""/>
          <p:cNvPicPr/>
          <p:nvPr/>
        </p:nvPicPr>
        <p:blipFill>
          <a:blip r:embed="rId6"/>
          <a:srcRect l="45440" t="35313" r="31156" b="10112"/>
          <a:stretch/>
        </p:blipFill>
        <p:spPr>
          <a:xfrm>
            <a:off x="2411280" y="407664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5" descr=""/>
          <p:cNvPicPr/>
          <p:nvPr/>
        </p:nvPicPr>
        <p:blipFill>
          <a:blip r:embed="rId7"/>
          <a:srcRect l="45440" t="35313" r="31156" b="10112"/>
          <a:stretch/>
        </p:blipFill>
        <p:spPr>
          <a:xfrm>
            <a:off x="2411280" y="48690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6" descr=""/>
          <p:cNvPicPr/>
          <p:nvPr/>
        </p:nvPicPr>
        <p:blipFill>
          <a:blip r:embed="rId8"/>
          <a:srcRect l="45440" t="35313" r="31156" b="10112"/>
          <a:stretch/>
        </p:blipFill>
        <p:spPr>
          <a:xfrm>
            <a:off x="2411280" y="5732640"/>
            <a:ext cx="648000" cy="649080"/>
          </a:xfrm>
          <a:prstGeom prst="rect">
            <a:avLst/>
          </a:prstGeom>
          <a:ln w="0">
            <a:noFill/>
          </a:ln>
        </p:spPr>
      </p:pic>
      <p:sp>
        <p:nvSpPr>
          <p:cNvPr id="1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D9C7-C438-4507-AE89-D4BC23ED5AD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250920" y="189000"/>
            <a:ext cx="5041800" cy="581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在内部单位的沟通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12"/>
          <p:cNvSpPr/>
          <p:nvPr/>
        </p:nvSpPr>
        <p:spPr>
          <a:xfrm>
            <a:off x="0" y="981000"/>
            <a:ext cx="9144000" cy="5661000"/>
          </a:xfrm>
          <a:prstGeom prst="roundRect">
            <a:avLst>
              <a:gd name="adj" fmla="val 16667"/>
            </a:avLst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左弧形箭头 11"/>
          <p:cNvSpPr/>
          <p:nvPr/>
        </p:nvSpPr>
        <p:spPr>
          <a:xfrm>
            <a:off x="179280" y="1800360"/>
            <a:ext cx="4321440" cy="5084640"/>
          </a:xfrm>
          <a:custGeom>
            <a:avLst/>
            <a:gdLst>
              <a:gd name="textAreaLeft" fmla="*/ 578880 w 4321440"/>
              <a:gd name="textAreaRight" fmla="*/ 3742560 w 4321440"/>
              <a:gd name="textAreaTop" fmla="*/ 865800 h 5084640"/>
              <a:gd name="textAreaBottom" fmla="*/ 3678480 h 508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59" stAng="-5400000" swAng="-5400000"/>
                <a:lnTo>
                  <a:pt x="0" y="11948"/>
                </a:lnTo>
                <a:arcTo wR="21600" hR="7359" stAng="10800000" swAng="-3170464"/>
                <a:lnTo>
                  <a:pt x="16200" y="21366"/>
                </a:lnTo>
                <a:lnTo>
                  <a:pt x="21600" y="17012"/>
                </a:lnTo>
                <a:lnTo>
                  <a:pt x="16200" y="12189"/>
                </a:lnTo>
                <a:lnTo>
                  <a:pt x="16200" y="14483"/>
                </a:lnTo>
                <a:arcTo wR="21600" hR="7359" stAng="7629536" swAng="2787710"/>
                <a:lnTo>
                  <a:pt x="1077" y="9653"/>
                </a:lnTo>
                <a:arcTo wR="21600" hR="7359" stAng="-10417246" swAng="5017246"/>
                <a:close/>
              </a:path>
              <a:path fill="darkenLess" w="21600" h="21600">
                <a:moveTo>
                  <a:pt x="21600" y="0"/>
                </a:moveTo>
                <a:arcTo wR="21600" hR="7359" stAng="-5400000" swAng="-5400000"/>
                <a:lnTo>
                  <a:pt x="0" y="7359"/>
                </a:lnTo>
                <a:arcTo wR="21600" hR="7359" stAng="10800000" swAng="-382754"/>
                <a:lnTo>
                  <a:pt x="1077" y="9653"/>
                </a:lnTo>
                <a:arcTo wR="21600" hR="7359" stAng="-10417246" swAng="5017246"/>
                <a:close/>
              </a:path>
            </a:pathLst>
          </a:custGeom>
          <a:gradFill rotWithShape="0">
            <a:gsLst>
              <a:gs pos="0">
                <a:srgbClr val="759436"/>
              </a:gs>
              <a:gs pos="100000">
                <a:srgbClr val="9bc54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左弧形箭头 13"/>
          <p:cNvSpPr/>
          <p:nvPr/>
        </p:nvSpPr>
        <p:spPr>
          <a:xfrm rot="10800000">
            <a:off x="4642920" y="1412640"/>
            <a:ext cx="4211640" cy="5040360"/>
          </a:xfrm>
          <a:custGeom>
            <a:avLst/>
            <a:gdLst>
              <a:gd name="textAreaLeft" fmla="*/ 564120 w 4211640"/>
              <a:gd name="textAreaRight" fmla="*/ 3647520 w 4211640"/>
              <a:gd name="textAreaTop" fmla="*/ 865080 h 5040360"/>
              <a:gd name="textAreaBottom" fmla="*/ 364860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16" stAng="-5400000" swAng="-5400000"/>
                <a:lnTo>
                  <a:pt x="0" y="11927"/>
                </a:lnTo>
                <a:arcTo wR="21600" hR="7416" stAng="10800000" swAng="-3183332"/>
                <a:lnTo>
                  <a:pt x="16200" y="21365"/>
                </a:lnTo>
                <a:lnTo>
                  <a:pt x="21600" y="17088"/>
                </a:lnTo>
                <a:lnTo>
                  <a:pt x="16200" y="12340"/>
                </a:lnTo>
                <a:lnTo>
                  <a:pt x="16200" y="14597"/>
                </a:lnTo>
                <a:arcTo wR="21600" hR="7416" stAng="7616668" swAng="2808005"/>
                <a:lnTo>
                  <a:pt x="1023" y="9672"/>
                </a:lnTo>
                <a:arcTo wR="21600" hR="7416" stAng="-10424673" swAng="5024673"/>
                <a:close/>
              </a:path>
              <a:path fill="darkenLess" w="21600" h="21600">
                <a:moveTo>
                  <a:pt x="21600" y="0"/>
                </a:moveTo>
                <a:arcTo wR="21600" hR="7416" stAng="-5400000" swAng="-5400000"/>
                <a:lnTo>
                  <a:pt x="0" y="7416"/>
                </a:lnTo>
                <a:arcTo wR="21600" hR="7416" stAng="10800000" swAng="-375327"/>
                <a:lnTo>
                  <a:pt x="1023" y="9672"/>
                </a:lnTo>
                <a:arcTo wR="21600" hR="7416" stAng="-10424673" swAng="5024673"/>
                <a:close/>
              </a:path>
            </a:pathLst>
          </a:custGeom>
          <a:gradFill rotWithShape="0">
            <a:gsLst>
              <a:gs pos="0">
                <a:srgbClr val="29869f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7"/>
          <p:cNvSpPr/>
          <p:nvPr/>
        </p:nvSpPr>
        <p:spPr>
          <a:xfrm rot="20799000">
            <a:off x="202320" y="2177640"/>
            <a:ext cx="43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与总部各财务人员保持密切联系，业务上互相帮助、学习，及时交流工作经验，相互借鉴；与公司内各部门之间保持多沟通，做好服务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 rot="964800">
            <a:off x="5070240" y="2265120"/>
            <a:ext cx="40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跟北京及深圳、广州各财务人员保持密切协作，完成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上海各公司的年度汇算清缴工作，并完成各公司直接资金的调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9"/>
          <p:cNvSpPr/>
          <p:nvPr/>
        </p:nvSpPr>
        <p:spPr>
          <a:xfrm rot="196200">
            <a:off x="1555560" y="515808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跟公司内部其他部门之间：费用报销，借款，发票的开具，一切都井然有序的进行，也不断的从其他部门不理解不配合我们的工作到现在逐步理解配合，也算很大的进步，期望以后越做越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76BC-7B10-4F35-9EA1-064DB0CA04F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3T23:43:00Z</dcterms:created>
  <dc:creator>Administrator</dc:creator>
  <dc:description/>
  <dc:language>en-US</dc:language>
  <cp:lastModifiedBy>Administrator</cp:lastModifiedBy>
  <dcterms:modified xsi:type="dcterms:W3CDTF">2016-01-20T01:59:32Z</dcterms:modified>
  <cp:revision>1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99</vt:lpwstr>
  </property>
</Properties>
</file>