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095-3AFB-4037-9D0C-BDDC5A66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718-0D2A-46C0-8D0A-16327B65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D6C-6015-40F5-BFA8-8063A949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6FC-ED75-487F-8E96-59328145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C1D-A2B9-4527-9C86-A11EC726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202-4DF1-499E-AC89-E44714D7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E1E-DEEA-476E-B3CF-E94711EA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440-9230-4E62-BBAB-B220FC51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C0C-798F-46B3-B93B-F5885704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12B-C153-4E13-B02B-C4CD357E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302-84F6-40E7-A9A8-E461C590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230-0AE0-4659-B47F-8CC5775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CCF1-B08F-4130-8408-07CF6ADC46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致——姜晓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这是我对你写的一封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508720" y="5300640"/>
            <a:ext cx="3456000" cy="12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I LOVE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9280" y="5300640"/>
            <a:ext cx="331308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I LOVE YO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 txBox="1"/>
          <p:nvPr/>
        </p:nvSpPr>
        <p:spPr>
          <a:xfrm rot="556800">
            <a:off x="6551280" y="765000"/>
            <a:ext cx="259236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5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I LOVE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pic>
        <p:nvPicPr>
          <p:cNvPr id="69" name="" descr="电脑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195640" y="5661000"/>
            <a:ext cx="518472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尛琳，我喜欢你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 advTm="13000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9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我知道，现在表白确实有些太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...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太晚了。在这寒冷的严冬中，我希望能给你带来一丝温暖，但是事情经常不随人意，我与你之间的距离是越来越大，而不是我所幻想的那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50">
                                  <p:stCondLst>
                                    <p:cond delay="10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11096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1" i="1" lang="zh-CN" sz="2800" spc="-1" strike="noStrike">
                <a:solidFill>
                  <a:srgbClr val="003366"/>
                </a:solidFill>
                <a:latin typeface="Arial"/>
              </a:rPr>
              <a:t>我想：现在我的表白可能并                                 不会带来太大的作用，它可能对                          你带来更多的是惊讶，但我并不认为这是徒劳，至少，它说出了我的心里话。我只能说我喜欢你，却并不是要求你一定要做我的女友，如果你能遇到适合你的，能关心和体贴你的人我将会打心底祝福你</a:t>
            </a:r>
            <a:r>
              <a:rPr b="1" i="1" lang="zh-CN" sz="2800" spc="-1" strike="noStrike">
                <a:solidFill>
                  <a:srgbClr val="003366"/>
                </a:solidFill>
                <a:latin typeface="Arial"/>
              </a:rPr>
              <a:t>...</a:t>
            </a:r>
            <a:r>
              <a:rPr b="1" i="1" lang="zh-CN" sz="2800" spc="-1" strike="noStrike">
                <a:solidFill>
                  <a:srgbClr val="003366"/>
                </a:solidFill>
                <a:latin typeface="Arial"/>
              </a:rPr>
              <a:t>也许有些啰嗦，还是需要再说一次：我真心喜欢你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83664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42920" y="476280"/>
            <a:ext cx="331308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班之后，我们间的距离可能会越来越大，开始逐渐忘记对方，但我希望你能够记得，有个人曾经喜欢过你。我也会记得，有个值得我守护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11239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093080" y="765000"/>
            <a:ext cx="1152360" cy="18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924360" y="2565360"/>
            <a:ext cx="1552680" cy="49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08000" y="400536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每次我与你擦肩而过总感觉有点可惜与伤感，却又期待下次与你擦肩而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5229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不知你是否也有这样的感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05556E-006 -4.07407E-006 L 0.65503 -0.00532 E">
                                      <p:cBhvr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6.38889E-006 4.07407E-006 L -0.65348 4.07407E-006 E">
                                      <p:cBhvr>
                                        <p:cTn id="175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152360" cy="180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1123920" cy="180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24360" y="2565360"/>
            <a:ext cx="1552680" cy="495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4005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有时，我希望你向我走来，和我说句话，哪怕问题也好。我觉得天上有多少星光，世间有多少女孩，但天上只有一个月亮，世间只有一个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3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05556E-006 -4.07407E-006 L 0.26927 0.0051 E">
                                      <p:cBhvr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35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4.72222E-006 -4.07407E-006 L -0.26789 0.0051 E">
                                      <p:cBhvr>
                                        <p:cTn id="21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6367" t="1378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写到这里，心理有些心酸，听着离别的歌曲，反到是增加了几分伤感，也许你可能以为你并不是我想象你那样完美，不值得我喜欢，但我觉得，你在我心理是最完美的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..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肉麻的话我实在是不会说，总之，我希望你能给我一次爱你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音乐差不多结                                               束了，我想我                                            的话也说完了，                                        不管你给我的                                            答复 如何，我                                           希望你能再今                                            后的生活中幸福，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后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有话想对你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音乐时间不够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43640" y="573408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想看的话就请点击这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 advTm="13000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-345960"/>
            <a:ext cx="9144000" cy="7203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我很感谢你能看后记，但是我要道歉，做的时间有点短，做的太粗糙了，如果你希望，我可以再做一次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.....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至于理由，应该不需要再多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转眼间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个月过去了，快到分道扬镳的时候了，我有些心里话要对你说，不然可能再也没有机会了。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写到这里，刚巧赶上昨晚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聊天，聊完之后感觉有些无意义了，但是我还是要努力做完它，毕竟我也付出了，不做完也有些对不起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是一个善良的女孩，也许你认为你不值得我这样，可我就是这样一个人，做了胜过不做，不管结果与否，我都会依然喜欢你，知道你喜欢上了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觉得我这次会猜的很准，很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写到这的时候时间已经很晚了，不知你心理怎么想的，嗨，说起来也惭愧，我现在越来越猜不准你想什么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0">
                                  <p:stCondLst>
                                    <p:cond delay="8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原本想再做一点的，可是我已想不出什么话来打动你了，你不必考虑你拒绝我之后我的反应，我是一个乐观的人，真的很乐观。我想，你需要的是与你的闺蜜一起谈谈心，忘记这封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觉得现在放的这首歌很符合我现在的所思所想，我确实很希望你会成为第一个让我甘愿拨开我的心的人，或许，这是我一厢情愿罢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也许我说的有些过于伤感了，开心点吧，我不要求你能记住我喜欢你，只希望你能再今后的学习生活中永远快乐，幸福，希望你能早点找到合适你的，爱你的，能关心你到永远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后，时间不多了，还是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句：我喜欢你，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~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5084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个喜欢你的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刚开学的时候，我一直没有谈恋爱的想法，因为我是一个不适合谈恋爱的人，我只知道关心他人，但是我并不懂得呵护他人，因此我只能看着他人成双成对，到头来才发现，成双成对的都是我撮合的，我开始问自己：我的春天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不知何时，我喜欢上了一个女生，可她并没有注意到我，依旧以学习为主，想努力考上大学。对于我这种不善于表达的人，表白似乎难于登天，我也在表白和不表白中度过了几个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时候我也会鼓起勇气，但正如老男孩中唱的那样：如今我该如何表达，她会接受我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知何时，万恶的李少杰发现了我的心思，并把它大肆宣传起来，并传的沸沸扬扬的，让我和她都很难堪，我从心底诅咒李少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0">
                                  <p:stCondLst>
                                    <p:cond delay="1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但是我也应该感谢李少杰，是他把我的心思传播给了她，应该怪我没有勇气表白，让我和她都成了上课点学号回答问题的对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836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我很希望有个人能和我一起走完这三年，如果有人能和我走下来，这将成为我记忆中的终身宝贵财富，我将守护这段记忆直到世界末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5077080" cy="38084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1">
                                  <p:stCondLst>
                                    <p:cond delay="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0">
                                  <p:stCondLst>
                                    <p:cond delay="8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40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的语文实在是烂的可以，我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哎，又不知道该说什么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4:14:57Z</dcterms:created>
  <dc:creator>Administrator</dc:creator>
  <dc:description/>
  <dc:language>en-US</dc:language>
  <cp:lastModifiedBy>Administrator</cp:lastModifiedBy>
  <dcterms:modified xsi:type="dcterms:W3CDTF">2013-01-19T13:30:24Z</dcterms:modified>
  <cp:revision>11</cp:revision>
  <dc:subject/>
  <dc:title>致——姜晓琳</dc:title>
</cp:coreProperties>
</file>