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717-21D9-47D0-BA0B-F782301E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6BD-07F2-4AA2-B3F3-A2B1F812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588-F1D0-43AC-A772-179BC068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F01-FE7C-40A6-86DC-0E5321E5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810D-174E-4FAF-9671-88A1CD72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D5FB-E9C3-4525-858F-6B0DB034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70ED-284A-4870-8E86-546FFBDD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4EA3-5C77-4772-8E63-DEC9FAAF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BD2C-1CCB-4C4B-9397-10F58210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2464-B455-4122-9F7E-E8B762A2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FD10-541D-4855-9B16-D0237DE5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101-6C84-4C7D-83E2-76A9FA63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A4CD-2953-4E99-B57F-345F598F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567A-6D88-46F0-A92C-54E130A9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FB41-C53D-4CC8-B14D-C42AA3EE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574B-8550-467C-B303-6A5EBCAB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00B5-87FC-486B-923C-DCA9973D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2AF-1E5D-486A-ABDE-85EA2BF9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2A7-1644-430F-92B9-26D0F1B3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EAF-6C6C-4D53-9BD0-C7D8FE7C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184-7895-4423-A2DE-B4C75ABC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12E-C87D-4DCC-A0B1-4FAF1222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3B7-EC2E-49FD-8CAE-6985001D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FD2-4D3A-4BF7-8405-373B6F9A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99D7-6E3D-4267-9D6E-C9C8F092677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DDD4-FC76-4498-B53B-A1000CB666C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9" name="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42Z</dcterms:modified>
  <cp:revision>13</cp:revision>
  <dc:subject/>
  <dc:title>幻灯片 1</dc:title>
</cp:coreProperties>
</file>