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42D-EC92-4937-A3BB-60CC421C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9E5-F399-4527-8411-77C57F77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525-45EC-4BB4-9947-F75932CB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B21-AE90-4DB3-A6DE-55C61D97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8BF-84F6-404A-B8CB-437B894D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5B7-3E64-4665-9D04-6C6ACE3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2278-88A5-465D-BAEF-DA7D07B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8317-3159-40E1-AE42-2E096BE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3C4D-5C22-4BA1-93DF-0236F579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133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58DE-375F-4209-8671-78BD4CA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2963-F5FD-4433-B1D6-4826295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BB8-0A19-407A-874C-78CF504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837F-7335-48DE-A0E4-04B7697E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685-D21B-4251-9081-6FD0538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4F55-9862-4D92-93A3-2B351C6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763-2D90-45D3-861A-44C28E72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D0F8-8FF7-4BA2-B9BA-CE8D092E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BD5-EC4B-4261-B105-FCB2B28D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66D-E7E4-4A52-AD33-6C7984F1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28A-5A8E-467A-8084-935D68E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33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236-BF96-4C3D-AEBC-A77AC82B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8F4-76A1-44E2-882B-1243A5D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428-2FD0-4DFE-9B96-319C548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06D-CF1D-4B90-8964-63BF556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5581-72C0-48A5-B16E-758718142302}" type="slidenum"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5D7-124E-46CA-8AAF-90A5AEED63AD}" type="slidenum"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07Z</dcterms:modified>
  <cp:revision>23</cp:revision>
  <dc:subject/>
  <dc:title>幻灯片 1</dc:title>
</cp:coreProperties>
</file>