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301680"/>
            <a:ext cx="7467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3987720" cy="346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30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360" y="6388200"/>
            <a:ext cx="9144000" cy="20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688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9688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9688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9688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43Z</dcterms:modified>
  <cp:revision>33</cp:revision>
  <dc:subject/>
  <dc:title>幻灯片 1</dc:title>
</cp:coreProperties>
</file>