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F83-5705-41D6-83B4-CCC8D68C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50D-D353-4A16-BEE7-39577A20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25D-17B0-4B36-9E02-4D2DF922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78C-0943-4967-8C6B-272424C3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C597-B4FE-40D4-873F-DCEF2447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62DC-7656-428B-BAEA-C332DCE4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D708-31A9-4B96-B744-83B8A02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9C0-BF21-4043-9B1E-FF7D2E81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DA6-79B2-4746-90E8-DF9B820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64C-5E52-4657-BEF3-73A7BB93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54C0-CEC6-431E-872D-5F903C1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B55-7A3F-4FB7-81C9-AE24851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FDE4-3A22-4F2D-8C8D-94EDC57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E911-37B9-4D3D-A768-35E98D5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8A2-AF24-4A6E-8F5E-85324F42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AB8-5790-45F5-82EE-20253984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0B68-2222-4AE7-8932-4F3F5F1B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0CE-95C3-49C6-9309-6106A90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96F-90DA-47EF-94B9-5134EFD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3C4-A70F-4415-9064-A902BA1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F37-D8F6-4775-BD26-9C0635B5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29C-CD0A-4320-8148-4436CF1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72F-E3FF-4076-B5AB-7A25980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C4A-388D-4E8E-AA51-B0B3849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D07-1D62-4CF6-A4AC-9703A4F8F3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FBD-47EF-4760-ACEA-375ECD4FC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37Z</dcterms:modified>
  <cp:revision>37</cp:revision>
  <dc:subject/>
  <dc:title>幻灯片 1</dc:title>
</cp:coreProperties>
</file>