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3EB-0A8B-434E-8F47-11D2F213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F56-69F4-42A6-A530-0EFEF2C2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AF2-0255-4646-AC99-4F62AD5A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7985-D509-42BB-9C87-83B8F57F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929C-D7DD-4FD5-B02A-6301F3F4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3DF2-FBBE-46B0-B190-10914FF8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FC8D-8806-4A88-8DE8-2845CF07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B82D-9D08-48A7-91EE-3DD31F12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45F6-77E4-4D14-8F89-D1E2184A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5512-1D03-463A-BBD2-157F8E6B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1669-3B67-4CBC-8CB3-8F83D4CA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760-7761-48C3-A82E-C7FF9E7B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B21E-C844-4A5D-970C-25122CEF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39EC-CF62-495B-8772-8056A2B5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9E6C-FCB7-4B91-9F69-8C7BC3F5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F210-788A-42C8-82AB-F731F2E1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F20C-3316-4799-9815-C59C9C9A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F66-6920-4B6A-9906-72D1031B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1F9A-C4D7-430E-857B-7C5D5BF7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BB17-6BF9-495B-831C-A4847C5A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9A2-D1C5-4A95-800C-22B7724B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E38-939C-4EF1-8444-D13B6F6A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CF4E-349B-4BC1-BC6C-7F4938B8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7510-2E9A-4396-860C-6D5FDBFF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1D9C-61A3-4A14-A297-BEBA6B914F5A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0430-6BB8-46F7-AEBF-71EB1B597B3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8:07Z</dcterms:modified>
  <cp:revision>44</cp:revision>
  <dc:subject/>
  <dc:title>幻灯片 1</dc:title>
</cp:coreProperties>
</file>