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F7B7-82C5-4B0A-B002-28EFCF48F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20574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906A-F5ED-4AF6-BE44-CED502865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20574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53373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692E-6746-48F8-ACE9-333909C45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2213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3856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20574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42213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63856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3348-43CA-44FA-9A13-DA22076FC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BCE50-77E6-467E-AE41-0EB82ADB2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96E95-088F-4A77-A818-7671A35ED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C6622-97F0-4FD7-B10A-1467BEFF9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CF8A5-611E-4E0E-ADE5-3E748F549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B2A58-A291-4CCE-B5A8-2CB8AB4DA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D20B7-9A1A-475C-A8F8-895FC0A03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0574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76381-81ED-4BBE-80B7-245E99A4E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C7F2-E0F3-435C-B60F-A91EDA68E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3373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DB0B8-A526-4CBE-A12F-51104383B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0574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1E1EA-2BC5-4598-91D4-E2FCAD012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0574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54134-963A-4662-8A36-65EFE1532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0574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3373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A4572-990E-46C4-9281-EDC14EDD5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2213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3856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0574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2213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3856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2CE7F-DDBD-45B9-A877-2533E493E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11BA-6965-45D3-833A-BF5176CC2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DF2F-786F-4585-BC92-C3C21A167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4D4F-EC03-4AAD-A01B-0ED91F216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2EB0-96D3-430C-A262-A8E7EC95A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0574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6954-2614-4503-B020-45191B7C3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73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4FA7-F254-4394-82BF-7185AE623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20574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54B9-BF96-421A-96D9-5C365D01B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82F7D-79DF-4CD4-8899-9C5722D4277F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03FDF-3B8A-4DF0-8813-ECF698F3065B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08:17:37Z</dcterms:created>
  <dc:creator>黄华林</dc:creator>
  <dc:description/>
  <dc:language>en-US</dc:language>
  <cp:lastModifiedBy>黄华林</cp:lastModifiedBy>
  <dcterms:modified xsi:type="dcterms:W3CDTF">2005-10-06T08:24:21Z</dcterms:modified>
  <cp:revision>25</cp:revision>
  <dc:subject/>
  <dc:title>幻灯片 1</dc:title>
</cp:coreProperties>
</file>