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A0D-FE1A-471F-87D5-900F2615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7F8-B039-4996-9A8C-3155537B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BE7-18F8-4EAD-BE43-38EE2ADC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6A8-3412-4531-888E-54E53161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02AC-FE13-433F-B3CC-AC2CBA61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00B8-87D3-4F82-A99F-995E442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64B4-1CE8-481E-BD37-060C398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C691-EE6F-407C-8AF4-6D599003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84F3-6388-43A0-92CE-B096E7EA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0B5F-B41A-4635-ACE4-2171847F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663B-9C72-4F66-9C42-DF8DBE2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579-9D97-4EFE-819B-A7AE90D2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39CA-F873-40C2-A373-6CC3B69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5581-D4AB-466F-912E-E2E65D50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7C0-1764-46B7-AA9B-7C7D943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576B-8F3D-4B31-AF9D-6406AC93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0E3-F79F-426E-878F-CF84873E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22C-7A9E-402F-BA59-C3D9C705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61F-7156-41AD-91C3-03F10BAF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DDD-20F8-4017-BF29-6B437DBA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464-E9F8-4D2E-B9AC-E1DAF82A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D0D-D261-4D4E-9D69-001DEDB7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9CA-73BD-4FC9-9EFA-B0A33C4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AE4-257C-4954-9585-C4F2162B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373F-7EB5-4DF5-A2EB-EA16670E991A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A8BF-9899-4889-B05F-4392E56B283C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29Z</dcterms:modified>
  <cp:revision>46</cp:revision>
  <dc:subject/>
  <dc:title>幻灯片 1</dc:title>
</cp:coreProperties>
</file>