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D79-7ED9-4ABA-833E-785F6EA4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2A2-794A-4838-AEB8-D3FAD81B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20F-B965-44AD-B1AB-1EA604F6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ED8-D120-4D18-B80D-A127C164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2896-5DE5-4CD9-B1D8-EA362C05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E466-819F-4EDC-8114-208E41E8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FEC1-1783-4697-B500-EFE17617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A0EA-A96B-446F-A57E-0780F8D9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9676-D3E6-459C-9144-9568A4A7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67F2-6E89-4D03-8015-F687E981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0F63-EAD0-4388-B6E8-78ADDAF3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06D-2B97-4947-ADEE-A00776BC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2AA6-A8FD-403A-A2C9-79E1D44B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016A-C84E-414D-8CA8-A7EACBC7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2978-1F50-46D4-BC32-65C1F001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CDFC-F22A-4943-BA5A-FBA1EEE7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86A7-9178-4747-93D2-8271626D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A72-332A-4753-8A0F-6DDE5EB0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644-C2F6-40D3-A347-B9C5FAF5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C83-558F-4F47-8B13-8DF04859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89C-7CDA-4654-9BDA-38E2882D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EC2-A279-4DDB-BD08-B9BD3753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888-E97F-4712-9E46-6B3F34AB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838-0A15-43CE-8B82-64116048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780B-8FCA-404A-9568-D304A07362F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18D1-409B-4A6A-B5BA-611A3F56828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25Z</dcterms:modified>
  <cp:revision>4</cp:revision>
  <dc:subject/>
  <dc:title>幻灯片 1</dc:title>
</cp:coreProperties>
</file>