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AA9-50F6-4B30-B12C-15F25AF6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53A-2721-4A24-8972-9C3FEB9F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289-9143-4905-8950-27E5313E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315-08F8-4099-AAAF-A2869250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67C6-B438-4BCB-BDB5-EFBCCEDE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052F-94A8-4F76-992B-7AC1F69B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06B3-0ECF-4BE7-A430-7AD193CC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78E4-F8F9-46B8-B572-860DBC98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B160-20AB-42C1-89F2-42754284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DB8A-6EB0-407D-82F9-FC43CBF2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B5DF-6534-4885-B1BA-2C8ACA8F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1F4-8404-4730-8231-2AED5A46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118D-2A67-4C98-836A-CB9C4EF5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8B97-ADE4-4DE8-AC86-C780F87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6613-C1CA-4DA4-AD76-AC2C5A26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7CBD-B9B3-4056-B037-997DD70C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133E-1E6F-4A76-AC15-CF48D158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47F-BE07-4DC4-A5EF-4987E005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B0E-A0F2-450E-9B81-BD9E3E74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A85-626D-42D7-9647-A6308E65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FD4-3887-4E3C-8CD8-6B5379CE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46B-74EE-4572-B038-5A8D2AFB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40F-15D1-48BA-B62C-7D5833A0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940-A574-4617-BE77-8B670B29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34E4-6168-4743-AF22-5850F6C2385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7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10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3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9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4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40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80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83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51680" y="5734080"/>
              <a:ext cx="444240" cy="444600"/>
              <a:chOff x="6151680" y="5734080"/>
              <a:chExt cx="444240" cy="444600"/>
            </a:xfrm>
          </p:grpSpPr>
          <p:sp>
            <p:nvSpPr>
              <p:cNvPr id="86" name=""/>
              <p:cNvSpPr/>
              <p:nvPr/>
            </p:nvSpPr>
            <p:spPr>
              <a:xfrm>
                <a:off x="6151680" y="5734080"/>
                <a:ext cx="44424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89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492880" y="615960"/>
              <a:ext cx="672840" cy="673200"/>
              <a:chOff x="5492880" y="615960"/>
              <a:chExt cx="672840" cy="673200"/>
            </a:xfrm>
          </p:grpSpPr>
          <p:sp>
            <p:nvSpPr>
              <p:cNvPr id="95" name=""/>
              <p:cNvSpPr/>
              <p:nvPr/>
            </p:nvSpPr>
            <p:spPr>
              <a:xfrm>
                <a:off x="5492880" y="61596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111640" y="920880"/>
              <a:ext cx="368280" cy="368280"/>
              <a:chOff x="5111640" y="920880"/>
              <a:chExt cx="368280" cy="368280"/>
            </a:xfrm>
          </p:grpSpPr>
          <p:sp>
            <p:nvSpPr>
              <p:cNvPr id="98" name=""/>
              <p:cNvSpPr/>
              <p:nvPr/>
            </p:nvSpPr>
            <p:spPr>
              <a:xfrm>
                <a:off x="511164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95880" y="10047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6256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25440" y="1225440"/>
              <a:ext cx="520920" cy="520920"/>
              <a:chOff x="1225440" y="1225440"/>
              <a:chExt cx="520920" cy="520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225440" y="1225440"/>
                <a:ext cx="520920" cy="520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43160" y="134316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43200" y="14619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EBE2-EC47-47E6-ACC4-573B8BEADC9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11Z</dcterms:modified>
  <cp:revision>16</cp:revision>
  <dc:subject/>
  <dc:title>幻灯片 1</dc:title>
</cp:coreProperties>
</file>