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02D-89DE-4D65-8E32-8D9CE905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942-0986-44A0-9D18-1A8A73DC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0C6-3354-43C7-97FC-9AB76441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952-BB7E-4E47-89F5-20E03633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F777-B16C-48A3-A0C2-B70197A9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9317-11E1-4D99-B4CC-CA0E5105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6444-71CD-4327-BBAA-7626EED6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7C60-DE2D-4E44-8148-C2CB14EB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ACE3-1563-43EE-9AB2-0293CA7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29C1-9A64-4893-AF61-CAC514AF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A98C-8243-411B-BAD6-D85208E8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D18-0902-4BE7-8CC5-61960B0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7EE9-A15D-4D3C-8D67-3A9239EE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3ACF-E5B9-4377-8BC9-62D457A2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68B0-3335-4D37-B066-46320419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F4D-9077-4877-9F78-68C7B33A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5738-2292-4A54-9A49-F50C326A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F3F-A92A-473A-8028-D2AE758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354-91D0-47BC-A945-72E4A92B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14F-6181-42DC-BBC3-1A5A710F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0C8-AB4F-4110-9058-B9B8A22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D52-1E73-4F01-A94F-BEF0E4AF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AF8-FF27-49BD-9E7F-A0D037BF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C5A-37FB-40FA-B697-71ADA9E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9969-9C89-4277-9B54-78208850A8D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50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F408-E378-4DF7-8A50-C45F9A0630F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52Z</dcterms:modified>
  <cp:revision>42</cp:revision>
  <dc:subject/>
  <dc:title>幻灯片 1</dc:title>
</cp:coreProperties>
</file>