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76360" y="4200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6320" y="3284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6360" y="4200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6320" y="4200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0320" y="3284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04640" y="3284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76360" y="4200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0320" y="4200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04640" y="4200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76360" y="328464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6320" y="3284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99640" y="1125000"/>
            <a:ext cx="7417080" cy="701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6320" y="3284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76360" y="4200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76360" y="328464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3284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6320" y="4200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320" y="3284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76360" y="4200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76360" y="4200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3284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76360" y="4200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6320" y="4200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40320" y="3284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04640" y="3284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76360" y="4200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40320" y="4200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04640" y="4200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6320" y="3284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99640" y="1125000"/>
            <a:ext cx="7417080" cy="701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6320" y="3284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76360" y="4200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3284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6320" y="4200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3284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76360" y="4200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52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00000" indent="-36036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48752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895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303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303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3036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468360" y="1413000"/>
            <a:ext cx="6840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4278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Monotype Corsiva"/>
              </a:rPr>
              <a:t>Click to edit the title text format</a:t>
            </a:r>
            <a:endParaRPr b="1" lang="en-US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41" name=""/>
          <p:cNvSpPr/>
          <p:nvPr/>
        </p:nvSpPr>
        <p:spPr>
          <a:xfrm>
            <a:off x="395280" y="64278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4452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952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4624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46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46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417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0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476360" y="328464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5:52Z</dcterms:modified>
  <cp:revision>34</cp:revision>
  <dc:subject/>
  <dc:title>幻灯片 1</dc:title>
</cp:coreProperties>
</file>