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11C-4A31-427B-9FEA-E912190D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A51-D1CC-4866-A0A0-EBB8ACCA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0E2-BE29-4AD1-A37E-30898200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984-696F-45C2-B882-ACA52A62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BCB-CF22-48FC-8488-273F0C77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0FEC-DC5C-47AA-84B5-8D50305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508-A14D-44DD-8041-DCFB263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2AC7-9275-428D-845D-6F71AC1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B9D9-72D4-4FE6-A6C8-48117BB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6DB0-A4D5-4695-A143-C383641C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96CE-82D1-4179-A30D-91EDCE7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E05-BDA0-42FF-82FF-D94A80C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830-660A-4283-A177-901702E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1707-01FC-4CD6-8FC1-FA1ED69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0F38-1252-44DF-ABE6-CBD8F6F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2564-7469-4156-8678-DEFE56A1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C389-A192-4095-913C-72F575A2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301-9912-4431-8AD0-BFA78C49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9BA-F796-4C21-B1E4-D049857D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112-02A0-41B0-A615-52ECBB1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CB3-4847-4E65-AB59-D0DF422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E01-D3BE-442A-9B29-BC974DF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12E-1062-4657-B8C9-206E35D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6C2-DF7E-4B78-8B28-ABE3B15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B98-0341-4836-BE73-97C2E282EEE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721-C78F-47EE-952C-A9700CDBB22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8Z</dcterms:modified>
  <cp:revision>6</cp:revision>
  <dc:subject/>
  <dc:title>幻灯片 1</dc:title>
</cp:coreProperties>
</file>