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821-60E9-40F0-BD30-E8238C07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648-7C20-402B-93B9-47A99CD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AEF-183B-4BD8-BC2E-34A8C163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E87-18F0-467C-A3BB-7C846A54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0040-CD73-493A-BC49-85F6DA3C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63F6-3DEF-4AF5-8BC2-F070C5A9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1868-570C-426E-92EB-F461F68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FEA6-251D-43EA-A238-D9698202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0BFA-672E-4177-89BB-462C151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440C-D73E-4D39-973B-FB1ED786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0766-B2D6-4A2A-90A0-0B198FC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1EB-C3CA-4E86-8E82-F57C707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3A9D-604E-44D9-A03F-DD18EEE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741-8E6E-4B66-9A30-29D610C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B8D2-DFC1-44E2-9D1F-197BA8B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6687-DDA8-4310-BD23-59676CF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EA10-AEC6-4912-A74D-4049774D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551-06F5-424D-9B25-11F4D13A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643-7F88-40B3-ABFD-461FB68E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EC4-E48A-4D7B-99EA-0D6EEB60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866-409C-450A-9104-7C7A366C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F07-FC20-412C-8284-F744E0B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1AD-D5F7-4C51-8A10-2E77944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919-A077-4763-9F02-6543FDA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3C5-EEE7-4383-8F84-6ADAC08402D6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EF2-3B7A-4980-917A-F73EDD2B90F9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48Z</dcterms:modified>
  <cp:revision>14</cp:revision>
  <dc:subject/>
  <dc:title>幻灯片 1</dc:title>
</cp:coreProperties>
</file>