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C98-CB03-4E07-BA6A-5618A5CF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DFB-FA68-4313-AA4E-37077075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20B-40EE-4D6B-B60E-9249F2EF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E2A-62B6-4828-BD3D-1DB9C50B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92B9-BA67-4276-A2E9-416D661D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BB26-E8CB-4682-B2D6-ED5407E1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6E67-EDB0-4D77-8C75-D0364618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FE69-B9A5-4706-870C-8F73A4CE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3EF4-B5ED-4BF6-BD1E-9D61E243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266A-CD03-4FF6-B221-330370EA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1117-4815-46D3-B26B-8B69B0B5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64E-1539-4FFD-99DE-F9FFC314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BD80-2827-4302-99AD-0C7F61A5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9138-C83A-44DE-A392-C3FAC3AA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93A3-1A6F-44F2-94A4-4E61D8A0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07E8-8BAC-413D-A3D4-469988B5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A787-25FD-4201-A157-0708E3EB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4AF-34B0-46D9-A0B1-7B155346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43E-8981-48DA-BC93-A86BCA90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6D4-747F-4978-B82A-602F6DB0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1E8-F207-4053-A1C0-4E275916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D86-F2BD-4274-B87E-D2703EFB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5A2-881E-48F6-8E06-E746BAF7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A98-51C4-4194-9464-A759BB2C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CABB-4527-4F4E-B884-FDD59F4642F5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E2DD-96F9-4055-BD8F-72AEF3AAAE26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0:31Z</dcterms:modified>
  <cp:revision>1</cp:revision>
  <dc:subject/>
  <dc:title>幻灯片 1</dc:title>
</cp:coreProperties>
</file>