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773F-8438-4167-B385-BDD91A20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8097-2CFA-4009-9750-E300F4F9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B32D-1E6C-4877-84E5-AE500EA6A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D7D0-FB0C-4C0A-918F-C53AB4439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C066-7D09-4617-AC93-BFDDDF9A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20F2-6A07-4511-8748-1C16103C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3DEB-ABE0-44BF-8284-EEAEBEA6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E420-E3EF-4E31-BC5A-CAB2047A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DB29-0078-4B60-9D05-40EB4100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AD7F-C99B-4F03-A09D-774AD3A8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EC22-022E-45B0-BB14-8EF052E0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119F-8CFF-4F15-B095-C38D9652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D3B3-6F7A-47D2-8269-53AE09B5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DD98-868B-4C6B-91DE-362EE859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C889-BD26-4DC2-838A-F9CC9492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A26D-56B1-47E8-8DD8-D71945A9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8F29-920B-4AE9-A6FD-197B0A452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AFC3-FFED-40E5-8FD6-53599F1D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E715-29C1-4D95-A76D-84436F63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DFEE-EC5D-41F0-A8F6-E8650448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78A7-4C85-4870-9624-A41E2B1A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8173-32DA-483E-9A3A-4DE846D7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C162-513E-4407-9B00-455AA0C6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461B-493E-4A85-BAF2-F069C957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4280" y="0"/>
            <a:ext cx="3252960" cy="6845400"/>
            <a:chOff x="44280" y="0"/>
            <a:chExt cx="3252960" cy="6845400"/>
          </a:xfrm>
        </p:grpSpPr>
        <p:grpSp>
          <p:nvGrpSpPr>
            <p:cNvPr id="1" name=""/>
            <p:cNvGrpSpPr/>
            <p:nvPr/>
          </p:nvGrpSpPr>
          <p:grpSpPr>
            <a:xfrm>
              <a:off x="108000" y="9360"/>
              <a:ext cx="3189240" cy="6836040"/>
              <a:chOff x="108000" y="9360"/>
              <a:chExt cx="3189240" cy="6836040"/>
            </a:xfrm>
          </p:grpSpPr>
          <p:sp>
            <p:nvSpPr>
              <p:cNvPr id="2" name=""/>
              <p:cNvSpPr/>
              <p:nvPr/>
            </p:nvSpPr>
            <p:spPr>
              <a:xfrm>
                <a:off x="1330200" y="1378080"/>
                <a:ext cx="85680" cy="9504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779480" y="996840"/>
                <a:ext cx="22320" cy="255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218040" y="9360"/>
                <a:ext cx="79200" cy="9396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569960" y="6734160"/>
                <a:ext cx="87480" cy="66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762280" y="460440"/>
                <a:ext cx="73080" cy="82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08000" y="289080"/>
                <a:ext cx="88920" cy="6336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57360" y="123840"/>
                <a:ext cx="88920" cy="63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225440" y="44280"/>
                <a:ext cx="84240" cy="954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995400" y="6676920"/>
                <a:ext cx="85680" cy="669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259000" y="6781680"/>
                <a:ext cx="88920" cy="6372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33200" y="6781680"/>
                <a:ext cx="88920" cy="6372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382840" y="6676920"/>
                <a:ext cx="87480" cy="669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" name=""/>
            <p:cNvGrpSpPr/>
            <p:nvPr/>
          </p:nvGrpSpPr>
          <p:grpSpPr>
            <a:xfrm>
              <a:off x="69840" y="0"/>
              <a:ext cx="2976480" cy="6845400"/>
              <a:chOff x="69840" y="0"/>
              <a:chExt cx="2976480" cy="6845400"/>
            </a:xfrm>
          </p:grpSpPr>
          <p:sp>
            <p:nvSpPr>
              <p:cNvPr id="15" name=""/>
              <p:cNvSpPr/>
              <p:nvPr/>
            </p:nvSpPr>
            <p:spPr>
              <a:xfrm>
                <a:off x="1725480" y="1600200"/>
                <a:ext cx="81000" cy="936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017720" y="1168560"/>
                <a:ext cx="83880" cy="95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2965320" y="307800"/>
                <a:ext cx="81000" cy="939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036800" y="1623960"/>
                <a:ext cx="85680" cy="684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627120" y="6426360"/>
                <a:ext cx="8568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63680" y="1695600"/>
                <a:ext cx="8712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77920" y="1449360"/>
                <a:ext cx="2196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004760" y="246240"/>
                <a:ext cx="88920" cy="648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69920" y="673200"/>
                <a:ext cx="8892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60440" y="0"/>
                <a:ext cx="8892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021040" y="120600"/>
                <a:ext cx="83880" cy="954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770120" y="596880"/>
                <a:ext cx="84240" cy="95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252440" y="6635880"/>
                <a:ext cx="8748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506600" y="6654960"/>
                <a:ext cx="8712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52520" y="6777000"/>
                <a:ext cx="87120" cy="684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69840" y="3595680"/>
                <a:ext cx="4932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641680" y="6635880"/>
                <a:ext cx="8568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" name=""/>
            <p:cNvGrpSpPr/>
            <p:nvPr/>
          </p:nvGrpSpPr>
          <p:grpSpPr>
            <a:xfrm>
              <a:off x="44280" y="73080"/>
              <a:ext cx="2789280" cy="6772320"/>
              <a:chOff x="44280" y="73080"/>
              <a:chExt cx="2789280" cy="6772320"/>
            </a:xfrm>
          </p:grpSpPr>
          <p:sp>
            <p:nvSpPr>
              <p:cNvPr id="33" name=""/>
              <p:cNvSpPr/>
              <p:nvPr/>
            </p:nvSpPr>
            <p:spPr>
              <a:xfrm>
                <a:off x="1924200" y="1204920"/>
                <a:ext cx="85680" cy="68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498760" y="969840"/>
                <a:ext cx="88920" cy="669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965240" y="787320"/>
                <a:ext cx="34920" cy="381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525680" y="1092240"/>
                <a:ext cx="83880" cy="950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53960" y="2516040"/>
                <a:ext cx="82440" cy="9216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374840" y="174600"/>
                <a:ext cx="79200" cy="93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12880" y="1825560"/>
                <a:ext cx="83880" cy="698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284040" y="387360"/>
                <a:ext cx="88920" cy="651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704880" y="390600"/>
                <a:ext cx="38160" cy="270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1644480" y="6321600"/>
                <a:ext cx="88920" cy="66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336600" y="142920"/>
                <a:ext cx="88920" cy="66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906480" y="73080"/>
                <a:ext cx="88920" cy="66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93800" y="1249200"/>
                <a:ext cx="87120" cy="6516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46120" y="1427040"/>
                <a:ext cx="88920" cy="6372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4000" y="627120"/>
                <a:ext cx="87120" cy="66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155680" y="463680"/>
                <a:ext cx="34920" cy="378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478240" y="311040"/>
                <a:ext cx="83880" cy="954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95440" y="31104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766880" y="349200"/>
                <a:ext cx="8424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49160" y="5969160"/>
                <a:ext cx="84240" cy="950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089000" y="671184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360440" y="6750000"/>
                <a:ext cx="8424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4280" y="6754680"/>
                <a:ext cx="88920" cy="6696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19000" y="6673680"/>
                <a:ext cx="8424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690560" y="6734160"/>
                <a:ext cx="115920" cy="1112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2640" y="675000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898640" y="6556320"/>
                <a:ext cx="81000" cy="93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41280" y="6599160"/>
                <a:ext cx="114480" cy="93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478240" y="6711840"/>
                <a:ext cx="838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749680" y="6750000"/>
                <a:ext cx="838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06800" y="667368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5440" y="1368360"/>
                <a:ext cx="85680" cy="698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139680" y="25560"/>
              <a:ext cx="2305080" cy="6791040"/>
              <a:chOff x="139680" y="25560"/>
              <a:chExt cx="2305080" cy="6791040"/>
            </a:xfrm>
          </p:grpSpPr>
          <p:sp>
            <p:nvSpPr>
              <p:cNvPr id="66" name=""/>
              <p:cNvSpPr/>
              <p:nvPr/>
            </p:nvSpPr>
            <p:spPr>
              <a:xfrm>
                <a:off x="787320" y="1492200"/>
                <a:ext cx="84240" cy="954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152800" y="939960"/>
                <a:ext cx="83880" cy="9504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35040" y="2852640"/>
                <a:ext cx="81000" cy="93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22120" y="3059280"/>
                <a:ext cx="81000" cy="936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39680" y="2046240"/>
                <a:ext cx="84240" cy="66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87560" y="317520"/>
                <a:ext cx="87480" cy="666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19120" y="701640"/>
                <a:ext cx="87480" cy="6336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14440" y="249120"/>
                <a:ext cx="87120" cy="651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57360" y="971640"/>
                <a:ext cx="88920" cy="666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378080" y="615960"/>
                <a:ext cx="83880" cy="954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343240" y="615960"/>
                <a:ext cx="83880" cy="954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365120" y="6019920"/>
                <a:ext cx="81000" cy="918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89040" y="6743880"/>
                <a:ext cx="79200" cy="7272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16080" y="5486400"/>
                <a:ext cx="80640" cy="921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376360" y="25560"/>
                <a:ext cx="68400" cy="759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7680" y="6334200"/>
                <a:ext cx="81000" cy="921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111400" y="6496200"/>
                <a:ext cx="79200" cy="918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57160" y="6591240"/>
                <a:ext cx="81000" cy="921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133200" y="82440"/>
              <a:ext cx="2856240" cy="6762960"/>
              <a:chOff x="133200" y="82440"/>
              <a:chExt cx="2856240" cy="676296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141120" y="82440"/>
                <a:ext cx="2725920" cy="6697800"/>
                <a:chOff x="141120" y="82440"/>
                <a:chExt cx="2725920" cy="669780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565200" y="3606840"/>
                  <a:ext cx="81000" cy="936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58640" y="4427640"/>
                  <a:ext cx="86040" cy="666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849240" y="784080"/>
                  <a:ext cx="88920" cy="65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41120" y="993600"/>
                  <a:ext cx="88920" cy="6372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174680" y="349200"/>
                  <a:ext cx="84240" cy="954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749680" y="82440"/>
                  <a:ext cx="83880" cy="954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393920" y="6445080"/>
                  <a:ext cx="85680" cy="954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101680" y="6713640"/>
                  <a:ext cx="86040" cy="666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49400" y="6642000"/>
                  <a:ext cx="52200" cy="10476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782800" y="6445080"/>
                  <a:ext cx="84240" cy="954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"/>
              <p:cNvSpPr/>
              <p:nvPr/>
            </p:nvSpPr>
            <p:spPr>
              <a:xfrm>
                <a:off x="1158840" y="6311880"/>
                <a:ext cx="85680" cy="684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6440" y="1149480"/>
                <a:ext cx="88920" cy="66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5360" y="536400"/>
                <a:ext cx="88920" cy="6516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512720" y="120600"/>
                <a:ext cx="51120" cy="57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428840" y="6692760"/>
                <a:ext cx="87120" cy="684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995400" y="6751800"/>
                <a:ext cx="79200" cy="936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63680" y="6678720"/>
                <a:ext cx="8712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0280" y="5935680"/>
                <a:ext cx="87480" cy="684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33200" y="6492960"/>
                <a:ext cx="8748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901960" y="6777000"/>
                <a:ext cx="87480" cy="684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382840" y="6751800"/>
                <a:ext cx="81000" cy="936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4000" y="25560"/>
              <a:ext cx="2625840" cy="6781680"/>
              <a:chOff x="54000" y="25560"/>
              <a:chExt cx="2625840" cy="6781680"/>
            </a:xfrm>
          </p:grpSpPr>
          <p:sp>
            <p:nvSpPr>
              <p:cNvPr id="108" name=""/>
              <p:cNvSpPr/>
              <p:nvPr/>
            </p:nvSpPr>
            <p:spPr>
              <a:xfrm>
                <a:off x="2133720" y="1546200"/>
                <a:ext cx="73080" cy="824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30080" y="4192560"/>
                <a:ext cx="39960" cy="44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93920" y="326880"/>
                <a:ext cx="87480" cy="69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247760" y="1825560"/>
                <a:ext cx="87480" cy="68400"/>
              </a:xfrm>
              <a:prstGeom prst="diamond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79640" y="654120"/>
                <a:ext cx="88920" cy="66600"/>
              </a:xfrm>
              <a:prstGeom prst="diamond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01680" y="6702480"/>
                <a:ext cx="8892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4000" y="61920"/>
                <a:ext cx="87120" cy="65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903240" y="406440"/>
                <a:ext cx="84240" cy="95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766880" y="25560"/>
                <a:ext cx="84240" cy="95040"/>
              </a:xfrm>
              <a:prstGeom prst="diamond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008000" y="6527880"/>
                <a:ext cx="55800" cy="66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30240" y="6735600"/>
                <a:ext cx="84240" cy="68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2840" y="6759720"/>
                <a:ext cx="74520" cy="47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6200" y="6264360"/>
                <a:ext cx="33480" cy="96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73160" y="6064200"/>
                <a:ext cx="22320" cy="73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90920" y="6702480"/>
                <a:ext cx="8892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95440" y="6527880"/>
                <a:ext cx="57240" cy="66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46320" y="993600"/>
                <a:ext cx="68040" cy="702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34EC-364F-4217-8C49-888960E901B8}" type="slidenum">
              <a:rPr b="0" i="1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44280" y="0"/>
            <a:ext cx="9098280" cy="6856560"/>
            <a:chOff x="44280" y="0"/>
            <a:chExt cx="9098280" cy="6856560"/>
          </a:xfrm>
        </p:grpSpPr>
        <p:sp>
          <p:nvSpPr>
            <p:cNvPr id="167" name=""/>
            <p:cNvSpPr/>
            <p:nvPr/>
          </p:nvSpPr>
          <p:spPr>
            <a:xfrm>
              <a:off x="1330200" y="1378080"/>
              <a:ext cx="85680" cy="9504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79480" y="996840"/>
              <a:ext cx="2556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18040" y="9360"/>
              <a:ext cx="79200" cy="9396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62280" y="460440"/>
              <a:ext cx="73080" cy="82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8000" y="289080"/>
              <a:ext cx="88920" cy="6336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7360" y="123840"/>
              <a:ext cx="88920" cy="63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25440" y="44280"/>
              <a:ext cx="84240" cy="95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25480" y="1600200"/>
              <a:ext cx="81000" cy="9360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17720" y="1168560"/>
              <a:ext cx="83880" cy="950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65320" y="307800"/>
              <a:ext cx="81000" cy="939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36800" y="1623960"/>
              <a:ext cx="85680" cy="6840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3680" y="1695600"/>
              <a:ext cx="87120" cy="680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77920" y="1449360"/>
              <a:ext cx="25200" cy="651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04760" y="246240"/>
              <a:ext cx="88920" cy="6480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9920" y="673200"/>
              <a:ext cx="88920" cy="651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0440" y="0"/>
              <a:ext cx="88920" cy="651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21040" y="120600"/>
              <a:ext cx="83880" cy="9540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70120" y="596880"/>
              <a:ext cx="84240" cy="954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840" y="3595680"/>
              <a:ext cx="49320" cy="684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24200" y="1204920"/>
              <a:ext cx="85680" cy="684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98760" y="969840"/>
              <a:ext cx="88920" cy="6696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65240" y="787320"/>
              <a:ext cx="34920" cy="3816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25680" y="1092240"/>
              <a:ext cx="83880" cy="950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3960" y="2516040"/>
              <a:ext cx="82440" cy="9216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74840" y="174600"/>
              <a:ext cx="79200" cy="936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2880" y="1825560"/>
              <a:ext cx="83880" cy="698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4040" y="387360"/>
              <a:ext cx="88920" cy="6516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4880" y="390600"/>
              <a:ext cx="38160" cy="270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44480" y="6321600"/>
              <a:ext cx="88920" cy="666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6600" y="142920"/>
              <a:ext cx="88920" cy="666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06480" y="73080"/>
              <a:ext cx="88920" cy="666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3800" y="1249200"/>
              <a:ext cx="87120" cy="6516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6120" y="1427040"/>
              <a:ext cx="88920" cy="6372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000" y="627120"/>
              <a:ext cx="87120" cy="666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55680" y="463680"/>
              <a:ext cx="34920" cy="378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78240" y="311040"/>
              <a:ext cx="83880" cy="954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95440" y="311040"/>
              <a:ext cx="85680" cy="954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66880" y="349200"/>
              <a:ext cx="84240" cy="954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9160" y="5969160"/>
              <a:ext cx="84240" cy="950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440" y="1368360"/>
              <a:ext cx="85680" cy="698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87320" y="1492200"/>
              <a:ext cx="84240" cy="954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52800" y="939960"/>
              <a:ext cx="83880" cy="950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5040" y="2852640"/>
              <a:ext cx="81000" cy="936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2120" y="3059280"/>
              <a:ext cx="81000" cy="936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9680" y="2046240"/>
              <a:ext cx="84240" cy="666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87560" y="317520"/>
              <a:ext cx="87480" cy="666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9120" y="701640"/>
              <a:ext cx="87480" cy="63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4440" y="249120"/>
              <a:ext cx="87120" cy="6516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7360" y="971640"/>
              <a:ext cx="88920" cy="666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78080" y="615960"/>
              <a:ext cx="83880" cy="954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43240" y="615960"/>
              <a:ext cx="83880" cy="954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65120" y="6019920"/>
              <a:ext cx="81000" cy="918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6080" y="5486400"/>
              <a:ext cx="80640" cy="9216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76360" y="25560"/>
              <a:ext cx="68400" cy="7596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5200" y="3606840"/>
              <a:ext cx="81000" cy="9360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8640" y="4427640"/>
              <a:ext cx="86040" cy="6660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49240" y="784080"/>
              <a:ext cx="88920" cy="651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1120" y="993600"/>
              <a:ext cx="88920" cy="6372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74680" y="349200"/>
              <a:ext cx="84240" cy="954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49680" y="82440"/>
              <a:ext cx="83880" cy="9540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58840" y="6311880"/>
              <a:ext cx="85680" cy="68400"/>
            </a:xfrm>
            <a:prstGeom prst="diamond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6440" y="1149480"/>
              <a:ext cx="88920" cy="6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5360" y="536400"/>
              <a:ext cx="88920" cy="65160"/>
            </a:xfrm>
            <a:prstGeom prst="diamond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12720" y="120600"/>
              <a:ext cx="51120" cy="57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0280" y="5935680"/>
              <a:ext cx="87480" cy="68400"/>
            </a:xfrm>
            <a:prstGeom prst="diamond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33720" y="1546200"/>
              <a:ext cx="73080" cy="82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0080" y="4192560"/>
              <a:ext cx="39960" cy="44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93920" y="326880"/>
              <a:ext cx="87480" cy="69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47760" y="1825560"/>
              <a:ext cx="87480" cy="68400"/>
            </a:xfrm>
            <a:prstGeom prst="diamond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79640" y="654120"/>
              <a:ext cx="88920" cy="66600"/>
            </a:xfrm>
            <a:prstGeom prst="diamond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000" y="61920"/>
              <a:ext cx="87120" cy="65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03240" y="406440"/>
              <a:ext cx="84240" cy="95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66880" y="25560"/>
              <a:ext cx="84240" cy="95040"/>
            </a:xfrm>
            <a:prstGeom prst="diamond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6200" y="6264360"/>
              <a:ext cx="33480" cy="96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73160" y="6064200"/>
              <a:ext cx="22320" cy="73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44280" y="6334200"/>
              <a:ext cx="2945160" cy="511200"/>
              <a:chOff x="44280" y="6334200"/>
              <a:chExt cx="2945160" cy="511200"/>
            </a:xfrm>
          </p:grpSpPr>
          <p:sp>
            <p:nvSpPr>
              <p:cNvPr id="243" name=""/>
              <p:cNvSpPr/>
              <p:nvPr/>
            </p:nvSpPr>
            <p:spPr>
              <a:xfrm>
                <a:off x="1569960" y="6734160"/>
                <a:ext cx="87480" cy="66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995400" y="6676920"/>
                <a:ext cx="85680" cy="669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259000" y="6781680"/>
                <a:ext cx="88920" cy="6372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33200" y="6781680"/>
                <a:ext cx="88920" cy="6372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382840" y="6676920"/>
                <a:ext cx="87480" cy="669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27120" y="6426360"/>
                <a:ext cx="8568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52440" y="6635880"/>
                <a:ext cx="8748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506600" y="6654960"/>
                <a:ext cx="8712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52520" y="6777000"/>
                <a:ext cx="87120" cy="684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641680" y="6635880"/>
                <a:ext cx="8568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089000" y="671184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360440" y="6750000"/>
                <a:ext cx="8424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4280" y="6754680"/>
                <a:ext cx="88920" cy="6696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19000" y="6673680"/>
                <a:ext cx="8424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690560" y="6734160"/>
                <a:ext cx="115920" cy="1112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952640" y="675000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898640" y="6556320"/>
                <a:ext cx="81000" cy="93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41280" y="6599160"/>
                <a:ext cx="114480" cy="93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478240" y="6711840"/>
                <a:ext cx="838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749680" y="6750000"/>
                <a:ext cx="838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206800" y="667368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9040" y="6743880"/>
                <a:ext cx="79200" cy="7272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47680" y="6334200"/>
                <a:ext cx="81000" cy="921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11400" y="6496200"/>
                <a:ext cx="79200" cy="918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57160" y="6591240"/>
                <a:ext cx="81000" cy="921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393920" y="6445080"/>
                <a:ext cx="85680" cy="95400"/>
              </a:xfrm>
              <a:prstGeom prst="diamond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101680" y="6713640"/>
                <a:ext cx="86040" cy="66600"/>
              </a:xfrm>
              <a:prstGeom prst="diamond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49400" y="6642000"/>
                <a:ext cx="52200" cy="104760"/>
              </a:xfrm>
              <a:prstGeom prst="diamond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782800" y="6445080"/>
                <a:ext cx="84240" cy="95400"/>
              </a:xfrm>
              <a:prstGeom prst="diamond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428840" y="6692760"/>
                <a:ext cx="87120" cy="684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995400" y="6751800"/>
                <a:ext cx="79200" cy="936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63680" y="6678720"/>
                <a:ext cx="8712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33200" y="6492960"/>
                <a:ext cx="8748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901960" y="6777000"/>
                <a:ext cx="87480" cy="684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382840" y="6751800"/>
                <a:ext cx="81000" cy="936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201680" y="6702480"/>
                <a:ext cx="8892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008000" y="6527880"/>
                <a:ext cx="55800" cy="66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830240" y="6735600"/>
                <a:ext cx="84240" cy="68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12840" y="6759720"/>
                <a:ext cx="74520" cy="47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590920" y="6702480"/>
                <a:ext cx="8892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395440" y="6527880"/>
                <a:ext cx="57240" cy="66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1246320" y="993600"/>
              <a:ext cx="68040" cy="702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30600" y="1378080"/>
              <a:ext cx="85680" cy="9504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979880" y="996840"/>
              <a:ext cx="2556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08400" y="289080"/>
              <a:ext cx="88920" cy="6336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925880" y="1600200"/>
              <a:ext cx="81000" cy="9360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18120" y="1168560"/>
              <a:ext cx="83880" cy="950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37200" y="1623960"/>
              <a:ext cx="85680" cy="6840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64080" y="1695600"/>
              <a:ext cx="87120" cy="680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78320" y="1449360"/>
              <a:ext cx="25200" cy="651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70320" y="673200"/>
              <a:ext cx="88920" cy="651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70520" y="596880"/>
              <a:ext cx="84240" cy="954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26080" y="1092240"/>
              <a:ext cx="83880" cy="950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484440" y="387360"/>
              <a:ext cx="88920" cy="6516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05280" y="390600"/>
              <a:ext cx="38160" cy="270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94200" y="1249200"/>
              <a:ext cx="87120" cy="6516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46520" y="1427040"/>
              <a:ext cx="88920" cy="6372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54400" y="627120"/>
              <a:ext cx="87120" cy="666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95840" y="311040"/>
              <a:ext cx="85680" cy="954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67280" y="349200"/>
              <a:ext cx="84240" cy="954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55840" y="1368360"/>
              <a:ext cx="85680" cy="698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987720" y="1492200"/>
              <a:ext cx="84240" cy="954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719520" y="701640"/>
              <a:ext cx="87480" cy="63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57760" y="971640"/>
              <a:ext cx="88920" cy="666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78480" y="615960"/>
              <a:ext cx="83880" cy="954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49640" y="784080"/>
              <a:ext cx="88920" cy="651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341520" y="993600"/>
              <a:ext cx="88920" cy="6372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75080" y="349200"/>
              <a:ext cx="84240" cy="954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606840" y="1149480"/>
              <a:ext cx="88920" cy="6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95760" y="536400"/>
              <a:ext cx="88920" cy="65160"/>
            </a:xfrm>
            <a:prstGeom prst="diamond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280040" y="654120"/>
              <a:ext cx="88920" cy="66600"/>
            </a:xfrm>
            <a:prstGeom prst="diamond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103640" y="406440"/>
              <a:ext cx="84240" cy="95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46720" y="993600"/>
              <a:ext cx="68040" cy="702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478240" y="1263600"/>
              <a:ext cx="83880" cy="9540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12880" y="1606680"/>
              <a:ext cx="34920" cy="378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935440" y="1454040"/>
              <a:ext cx="83880" cy="954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44760" y="1460520"/>
              <a:ext cx="87480" cy="666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800440" y="1758960"/>
              <a:ext cx="83880" cy="954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33560" y="1168560"/>
              <a:ext cx="68400" cy="7596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51120" y="1469880"/>
              <a:ext cx="87480" cy="69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927520" y="806400"/>
              <a:ext cx="83880" cy="954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892680" y="19080"/>
              <a:ext cx="83880" cy="95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672000" y="220680"/>
              <a:ext cx="88920" cy="6516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87920" y="95400"/>
              <a:ext cx="84240" cy="9504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41720" y="149400"/>
              <a:ext cx="79560" cy="936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73360" y="47520"/>
              <a:ext cx="88920" cy="6696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79960" y="95400"/>
              <a:ext cx="50760" cy="56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33760" y="0"/>
              <a:ext cx="84240" cy="95400"/>
            </a:xfrm>
            <a:prstGeom prst="diamond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84800" y="996840"/>
              <a:ext cx="2556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23000" y="9360"/>
              <a:ext cx="79560" cy="9396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67600" y="460440"/>
              <a:ext cx="72720" cy="82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30800" y="1600200"/>
              <a:ext cx="81000" cy="9360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70640" y="307800"/>
              <a:ext cx="81000" cy="939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26000" y="120600"/>
              <a:ext cx="84240" cy="9540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75440" y="596880"/>
              <a:ext cx="83880" cy="954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429160" y="1204920"/>
              <a:ext cx="85680" cy="684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04080" y="969840"/>
              <a:ext cx="88920" cy="6696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70560" y="787320"/>
              <a:ext cx="34920" cy="3816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661000" y="463680"/>
              <a:ext cx="34920" cy="378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83200" y="311040"/>
              <a:ext cx="84240" cy="954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72200" y="349200"/>
              <a:ext cx="83880" cy="954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57760" y="939960"/>
              <a:ext cx="84240" cy="950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92880" y="317520"/>
              <a:ext cx="87120" cy="666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48200" y="615960"/>
              <a:ext cx="84240" cy="954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881680" y="25560"/>
              <a:ext cx="68400" cy="7596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54640" y="82440"/>
              <a:ext cx="84240" cy="9540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38680" y="1546200"/>
              <a:ext cx="73080" cy="82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799240" y="326880"/>
              <a:ext cx="87120" cy="69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72200" y="25560"/>
              <a:ext cx="83880" cy="95040"/>
            </a:xfrm>
            <a:prstGeom prst="diamond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035920" y="1378080"/>
              <a:ext cx="85680" cy="9504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866080" y="2292480"/>
              <a:ext cx="25560" cy="25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813720" y="289080"/>
              <a:ext cx="88560" cy="6336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431200" y="1600200"/>
              <a:ext cx="81000" cy="9360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723080" y="1168560"/>
              <a:ext cx="84240" cy="950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42160" y="1623960"/>
              <a:ext cx="85680" cy="6840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169040" y="1695600"/>
              <a:ext cx="87480" cy="680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83280" y="1449360"/>
              <a:ext cx="25560" cy="651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75640" y="673200"/>
              <a:ext cx="88560" cy="651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856720" y="1892160"/>
              <a:ext cx="84240" cy="954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231040" y="1092240"/>
              <a:ext cx="84240" cy="950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89760" y="387360"/>
              <a:ext cx="88920" cy="6516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410600" y="390600"/>
              <a:ext cx="37800" cy="270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99520" y="1249200"/>
              <a:ext cx="87120" cy="6516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251840" y="1427040"/>
              <a:ext cx="88920" cy="6372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759720" y="627120"/>
              <a:ext cx="87120" cy="666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01160" y="311040"/>
              <a:ext cx="85680" cy="954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005760" y="2101680"/>
              <a:ext cx="84240" cy="954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61160" y="1368360"/>
              <a:ext cx="85680" cy="698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93040" y="1492200"/>
              <a:ext cx="84240" cy="954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24840" y="701640"/>
              <a:ext cx="87120" cy="63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362720" y="971640"/>
              <a:ext cx="88920" cy="666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083440" y="615960"/>
              <a:ext cx="84240" cy="954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54960" y="784080"/>
              <a:ext cx="88920" cy="651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46840" y="993600"/>
              <a:ext cx="88920" cy="6372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880400" y="349200"/>
              <a:ext cx="84240" cy="954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12160" y="1149480"/>
              <a:ext cx="88920" cy="6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01080" y="536400"/>
              <a:ext cx="88560" cy="65160"/>
            </a:xfrm>
            <a:prstGeom prst="diamond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785000" y="654120"/>
              <a:ext cx="88920" cy="66600"/>
            </a:xfrm>
            <a:prstGeom prst="diamond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08960" y="406440"/>
              <a:ext cx="84240" cy="95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951680" y="993600"/>
              <a:ext cx="68400" cy="702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983200" y="1263600"/>
              <a:ext cx="84240" cy="9540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18200" y="1606680"/>
              <a:ext cx="34920" cy="378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40400" y="1454040"/>
              <a:ext cx="84240" cy="954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50080" y="1460520"/>
              <a:ext cx="87120" cy="666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05400" y="1758960"/>
              <a:ext cx="84240" cy="954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38880" y="1168560"/>
              <a:ext cx="68400" cy="7596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256440" y="1469880"/>
              <a:ext cx="87120" cy="69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432480" y="806400"/>
              <a:ext cx="84240" cy="954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397640" y="19080"/>
              <a:ext cx="84240" cy="95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176960" y="220680"/>
              <a:ext cx="88920" cy="6516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193240" y="95400"/>
              <a:ext cx="83880" cy="9504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547040" y="149400"/>
              <a:ext cx="79200" cy="936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078680" y="47520"/>
              <a:ext cx="88920" cy="6696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684920" y="95400"/>
              <a:ext cx="51120" cy="56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39080" y="0"/>
              <a:ext cx="84240" cy="95400"/>
            </a:xfrm>
            <a:prstGeom prst="diamond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901000" y="85680"/>
              <a:ext cx="79560" cy="9360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445600" y="536400"/>
              <a:ext cx="73080" cy="82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648640" y="384120"/>
              <a:ext cx="81000" cy="936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432640" y="158760"/>
              <a:ext cx="84240" cy="9540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991720" y="365040"/>
              <a:ext cx="88920" cy="6372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9053640" y="749160"/>
              <a:ext cx="88920" cy="651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937720" y="703440"/>
              <a:ext cx="87120" cy="666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939160" y="1444680"/>
              <a:ext cx="85680" cy="698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024840" y="1069920"/>
              <a:ext cx="88920" cy="6372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296200" y="1682640"/>
              <a:ext cx="34920" cy="3816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618400" y="1530360"/>
              <a:ext cx="84240" cy="954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483760" y="1835280"/>
              <a:ext cx="83880" cy="950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516880" y="1244520"/>
              <a:ext cx="68400" cy="7632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815320" y="2841480"/>
              <a:ext cx="87480" cy="69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610480" y="882720"/>
              <a:ext cx="84240" cy="950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675640" y="1222200"/>
              <a:ext cx="88920" cy="6372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599320" y="2136600"/>
              <a:ext cx="88920" cy="6372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147160" y="4129200"/>
              <a:ext cx="48960" cy="680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531280" y="3049560"/>
              <a:ext cx="82440" cy="9216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712360" y="3386160"/>
              <a:ext cx="80640" cy="936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299440" y="3592440"/>
              <a:ext cx="81000" cy="936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642520" y="4140360"/>
              <a:ext cx="80640" cy="9360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535960" y="4960800"/>
              <a:ext cx="85680" cy="6696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807400" y="4726080"/>
              <a:ext cx="39600" cy="44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6138720" y="6334200"/>
              <a:ext cx="2944800" cy="511200"/>
              <a:chOff x="6138720" y="6334200"/>
              <a:chExt cx="2944800" cy="511200"/>
            </a:xfrm>
          </p:grpSpPr>
          <p:sp>
            <p:nvSpPr>
              <p:cNvPr id="423" name=""/>
              <p:cNvSpPr/>
              <p:nvPr/>
            </p:nvSpPr>
            <p:spPr>
              <a:xfrm>
                <a:off x="7470720" y="6734160"/>
                <a:ext cx="87480" cy="66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047080" y="6676920"/>
                <a:ext cx="85680" cy="669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780240" y="6781680"/>
                <a:ext cx="88920" cy="6372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906040" y="6781680"/>
                <a:ext cx="88560" cy="6372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657840" y="6676920"/>
                <a:ext cx="87480" cy="669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415360" y="6426360"/>
                <a:ext cx="8568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788240" y="6635880"/>
                <a:ext cx="8748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534440" y="6654960"/>
                <a:ext cx="8712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588520" y="6777000"/>
                <a:ext cx="87120" cy="684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400800" y="6635880"/>
                <a:ext cx="8568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953480" y="671184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83480" y="6750000"/>
                <a:ext cx="8424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994600" y="6754680"/>
                <a:ext cx="88920" cy="6696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224920" y="6673680"/>
                <a:ext cx="838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321680" y="6734160"/>
                <a:ext cx="115920" cy="1112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089840" y="675000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148520" y="6556320"/>
                <a:ext cx="81000" cy="93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672400" y="6599160"/>
                <a:ext cx="114480" cy="93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566040" y="6711840"/>
                <a:ext cx="838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294600" y="6750000"/>
                <a:ext cx="838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835680" y="667368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359920" y="6743880"/>
                <a:ext cx="79200" cy="7272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799480" y="6334200"/>
                <a:ext cx="81000" cy="921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937200" y="6496200"/>
                <a:ext cx="79560" cy="918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190000" y="6591240"/>
                <a:ext cx="81000" cy="921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648560" y="6445080"/>
                <a:ext cx="85680" cy="95400"/>
              </a:xfrm>
              <a:prstGeom prst="diamond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940440" y="6713640"/>
                <a:ext cx="85680" cy="66600"/>
              </a:xfrm>
              <a:prstGeom prst="diamond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926560" y="6642000"/>
                <a:ext cx="52200" cy="104760"/>
              </a:xfrm>
              <a:prstGeom prst="diamond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261120" y="6445080"/>
                <a:ext cx="84240" cy="95400"/>
              </a:xfrm>
              <a:prstGeom prst="diamond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612200" y="6692760"/>
                <a:ext cx="87120" cy="684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053560" y="6751800"/>
                <a:ext cx="79200" cy="936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577360" y="6678720"/>
                <a:ext cx="8712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907480" y="6492960"/>
                <a:ext cx="8712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138720" y="6777000"/>
                <a:ext cx="87480" cy="684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664320" y="6751800"/>
                <a:ext cx="81000" cy="936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837560" y="6702480"/>
                <a:ext cx="8892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064360" y="6527880"/>
                <a:ext cx="55800" cy="66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213680" y="6735600"/>
                <a:ext cx="83880" cy="68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740800" y="6759720"/>
                <a:ext cx="74520" cy="47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448320" y="6702480"/>
                <a:ext cx="8892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675480" y="6527880"/>
                <a:ext cx="57240" cy="66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5002200" y="6692760"/>
              <a:ext cx="81000" cy="9396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313160" y="6716880"/>
              <a:ext cx="85680" cy="6804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740040" y="6788160"/>
              <a:ext cx="87480" cy="684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554280" y="6541920"/>
              <a:ext cx="25560" cy="651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822840" y="6519960"/>
              <a:ext cx="88920" cy="6336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64040" y="6585120"/>
              <a:ext cx="84240" cy="950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11400" y="6546960"/>
              <a:ext cx="84240" cy="9504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307120" y="6692760"/>
              <a:ext cx="81000" cy="9396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15000" y="6638760"/>
              <a:ext cx="73080" cy="82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026040" y="6553080"/>
              <a:ext cx="87480" cy="6696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475840" y="4581360"/>
              <a:ext cx="79200" cy="9396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628120" y="5473800"/>
              <a:ext cx="88920" cy="651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742240" y="5187960"/>
              <a:ext cx="88920" cy="6516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512200" y="5427720"/>
              <a:ext cx="87120" cy="666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599320" y="5794200"/>
              <a:ext cx="88920" cy="6372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864640" y="5950080"/>
              <a:ext cx="88920" cy="6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091360" y="5969160"/>
              <a:ext cx="68400" cy="7596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185320" y="5607000"/>
              <a:ext cx="83880" cy="954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7F0E-D4AB-4AE2-AA86-ADBA4A233078}" type="slidenum">
              <a:rPr b="0" i="1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6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4:14Z</dcterms:modified>
  <cp:revision>24</cp:revision>
  <dc:subject/>
  <dc:title>幻灯片 1</dc:title>
</cp:coreProperties>
</file>