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C8A6-E66F-481A-872B-6AEB66905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33920" y="3200400"/>
            <a:ext cx="4495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33920" y="4116240"/>
            <a:ext cx="4495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9B9D-B277-4A50-B58C-F9056B04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33920" y="3200400"/>
            <a:ext cx="219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37920" y="3200400"/>
            <a:ext cx="219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33920" y="4116240"/>
            <a:ext cx="219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37920" y="4116240"/>
            <a:ext cx="219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8671-DF81-4FD3-911A-F31E4D74F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33920" y="3200400"/>
            <a:ext cx="1447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53840" y="3200400"/>
            <a:ext cx="1447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73760" y="3200400"/>
            <a:ext cx="1447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33920" y="4116240"/>
            <a:ext cx="1447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253840" y="4116240"/>
            <a:ext cx="1447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73760" y="4116240"/>
            <a:ext cx="1447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6397-0348-41B4-A588-15B8AD875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AA10-18A6-45B9-AAF0-86CF86A8C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733920" y="3200400"/>
            <a:ext cx="4495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9C56-A3DD-4FEF-8DEE-42BADD7A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733920" y="3200400"/>
            <a:ext cx="4495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C037-2623-4618-8E74-5184C67B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733920" y="3200400"/>
            <a:ext cx="2193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037920" y="3200400"/>
            <a:ext cx="2193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69A1-24AD-4340-8AEA-7B42158C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053D7-2BAC-4083-981E-C156F54A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428640" y="304920"/>
            <a:ext cx="441972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7E08-3B87-4E1A-B844-4F0890AE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733920" y="3200400"/>
            <a:ext cx="219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037920" y="3200400"/>
            <a:ext cx="2193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733920" y="4116240"/>
            <a:ext cx="219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E3E8-52AF-49DB-AD08-9DE652ED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33920" y="3200400"/>
            <a:ext cx="4495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D653-D2A6-4F3F-856E-8234E9AF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733920" y="3200400"/>
            <a:ext cx="2193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37920" y="3200400"/>
            <a:ext cx="219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37920" y="4116240"/>
            <a:ext cx="219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965A-1BD0-4EEC-AC2B-209B1B6E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733920" y="3200400"/>
            <a:ext cx="219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37920" y="3200400"/>
            <a:ext cx="219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733920" y="4116240"/>
            <a:ext cx="4495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6A4B-1B45-4ACA-AC19-F7B48C2C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733920" y="3200400"/>
            <a:ext cx="4495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733920" y="4116240"/>
            <a:ext cx="4495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2B56-9435-42FE-ADB2-38DC6E3E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33920" y="3200400"/>
            <a:ext cx="219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37920" y="3200400"/>
            <a:ext cx="219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733920" y="4116240"/>
            <a:ext cx="219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37920" y="4116240"/>
            <a:ext cx="219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7A3C-B206-42BA-B73C-6C515F793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33920" y="3200400"/>
            <a:ext cx="1447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3840" y="3200400"/>
            <a:ext cx="1447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773760" y="3200400"/>
            <a:ext cx="1447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733920" y="4116240"/>
            <a:ext cx="1447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5253840" y="4116240"/>
            <a:ext cx="1447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773760" y="4116240"/>
            <a:ext cx="1447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5B0A-0A0E-4C61-8084-8794BE6B4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33920" y="3200400"/>
            <a:ext cx="4495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B19C-B25B-4005-9D9A-B847CEDA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33920" y="3200400"/>
            <a:ext cx="2193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37920" y="3200400"/>
            <a:ext cx="2193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B9B8-2B2F-4E9E-BF6F-9BAFDDCF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8CE6-2A31-4E3A-A842-D1A8A26D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8640" y="304920"/>
            <a:ext cx="441972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A776-1BAB-468E-AF3E-4E99DAB2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33920" y="3200400"/>
            <a:ext cx="219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37920" y="3200400"/>
            <a:ext cx="2193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33920" y="4116240"/>
            <a:ext cx="219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6B7F-C57D-476B-AF58-8CC9C30F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33920" y="3200400"/>
            <a:ext cx="2193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37920" y="3200400"/>
            <a:ext cx="219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37920" y="4116240"/>
            <a:ext cx="219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922C-995D-42A3-A725-0A98D1C4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33920" y="3200400"/>
            <a:ext cx="219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37920" y="3200400"/>
            <a:ext cx="219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33920" y="4116240"/>
            <a:ext cx="4495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5337-256B-40E4-AC26-057940F2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218960"/>
            <a:ext cx="73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SzPct val="9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EAAF-509B-4083-8637-4241887B1B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BB6C-3066-4A47-B6FA-9DC6796A42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03640" y="6597720"/>
            <a:ext cx="51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733920" y="3200400"/>
            <a:ext cx="4495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30:06Z</dcterms:modified>
  <cp:revision>53</cp:revision>
  <dc:subject/>
  <dc:title>幻灯片 1</dc:title>
</cp:coreProperties>
</file>