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C2D-098C-4573-ABBB-63C911B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C05-F095-4DFD-AE78-08169B2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DE3-5A92-4A82-9C02-5EFCB579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CDA-D7B3-4113-BF7C-3B18834B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585-0EF1-4015-B423-A9242E95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6431-9DFA-432E-A00F-DB4011F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0078-F344-4B4B-83DF-EFC06A27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35C-3D31-45FB-B3AB-7E4E0C52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8868-CC4F-4A7F-B99E-80A7329D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8A64-5A68-4477-A207-852CF499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1BF-F371-4BBE-9053-E905B7E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317-4068-4DA0-B639-5B1024E5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638-EC93-4401-B611-B93E538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312-7806-4557-A19B-9C7D7E0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CD86-E619-4ED1-9643-A0F4E5B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A94-87DC-4646-8CC0-693F2159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04BB-562D-4FBB-8797-103DB4DA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2CA-4863-416F-9B78-AF49C1D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6CB-82E3-4610-8C37-F439059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9E1-FD8A-4AFD-9CDE-E46E0766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CBF-72EC-4804-AAC8-69CF25A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2D6-5116-4BA2-9E32-0977569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396-50D7-4503-B4D9-CDF244A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E45-D7AB-4EC1-BC3B-D6F4F9D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33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66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43200" y="632412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13F-41AF-4282-88FB-EA9FDF5F606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E089-0855-40D4-A526-773C35A88F9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13Z</dcterms:modified>
  <cp:revision>39</cp:revision>
  <dc:subject/>
  <dc:title>幻灯片 1</dc:title>
</cp:coreProperties>
</file>