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24F-EC9A-46B0-95D2-C462D14F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166-5F94-4F25-9CA6-38B6E0F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4DD-F146-40B8-841E-D0A816D6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49A-CF9F-4FFB-A9D9-EE4DF018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C8BC-7D71-4093-9277-239FF4B5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DF4D-180C-441E-9E41-7928198B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5C14-6824-4B64-9BFA-89DFA9B9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44F9-36D4-4D2C-8889-4BF25CFA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D203-F2BA-4B10-A3A6-37E885CA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300F-F0DA-4EB2-8D04-C0E4683B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FC63-90D3-4E3E-A83C-0E1A7126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868-3CAF-4FAD-A519-9F96F8AD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92C3-507F-4BBC-A625-4113D9EA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BB1C-A92E-4041-8A75-24F99CEC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0B2A-5002-45C8-A8CE-06B022BD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32AB-8BDA-4946-8820-F028FCA0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A854-6B09-45FF-B5CC-12519195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735-844E-49BE-8757-B99AC933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963-B8D2-45CF-9032-A0A194FB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C75-0A67-4C1F-B1A2-8529AFC9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759-3A6B-4118-A695-CFABE2A7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A8D-1DE2-4FF2-8640-71A03158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6E4-AD20-47E3-8DA0-49F7D22C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AF0-7097-4D74-911E-6F709147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B943-6317-41F9-A283-F59CD2B60B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35B3-FE97-4936-85EB-E71898C70D6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2:16Z</dcterms:modified>
  <cp:revision>62</cp:revision>
  <dc:subject/>
  <dc:title>幻灯片 1</dc:title>
</cp:coreProperties>
</file>