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C05-CF01-412C-AEED-DB2C4D74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63B-1198-4BD8-B35B-A7A3C2B2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CFE-93F9-4664-B15B-E0F02C93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050-9AD1-4340-BA1A-3BF1D1DF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E71B-7CC7-4163-B3F0-98B7B164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6BD3-690D-4D95-8D55-5DDFEC13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0A60-B43B-4255-822E-0BAED403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515A-EFCA-46E2-813F-9D3C2AD7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5E66-67BF-47DF-8A3E-29797369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C6DA-036D-4006-93E6-48EE75F8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0FC2-BFC0-4AC9-A2EA-EB530D79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96B-F068-48A1-BF36-D0BE2904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6DBC-78DB-4281-919A-32BAC0C3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0A3D-284E-40CF-A152-B96CF054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7053-7679-4809-8050-D982D62C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9623-32E8-4690-9E22-7F1D86DA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5501-7F19-4F93-8972-8C475A82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48E-E7CE-4C65-A088-272DCCED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B47-4164-44E3-BFA8-97254A46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2D6-33F7-4F76-8EAA-2A1365B5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EF2-8CDA-4781-92D8-8B847763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F53-077D-4500-898F-CA4C809B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28A-E049-4912-BAE5-CDDCC2E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8E5-D0E2-4F22-8339-AEFFB364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2364-1F9F-4DD5-825E-B1A3887D543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45D0-247D-452E-9AE6-0FA517431BB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46Z</dcterms:modified>
  <cp:revision>60</cp:revision>
  <dc:subject/>
  <dc:title>幻灯片 1</dc:title>
</cp:coreProperties>
</file>