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F80-87F6-44A6-A47B-B366A042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D56-C92F-408A-981B-6CD16B4F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8EF-DAE5-433B-BF6E-91B6DD75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FAA-AFD8-497D-9C45-176B3611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675C-749E-403C-80E0-D177AF45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E2C-C114-4B74-88FE-0E791E5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2CFC-C218-4F17-93AE-EC6B125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5A32-DC75-4E5F-AB35-B4C9CB7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947-795B-4844-B06F-C2DDD78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D74-599F-41AF-B014-C596CC3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EF81-885A-480F-B3EC-0DCA210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F47-9FA4-4DCF-A53D-CA15A88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A275-6F57-47C9-BCFE-C25904F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991-376E-442E-98C5-5E7F891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B6E-9144-4DCC-93F5-0F7E2B44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D505-A4A0-4A8C-ADE4-7028548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FCA2-8C90-428D-9886-9CD300B2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18E-F0A9-4CC0-95E8-523B0836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DE0-4C73-430E-B20A-A6CA634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7FE-B97F-4924-8179-603F9E72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F1A-4865-4520-A3F1-0A512337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8C9-3390-4857-A7F0-0D8467D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CE7-1684-4658-9C4E-1C2A0AF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69B-93D0-47B3-8DD1-E7CE859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6680" y="5783400"/>
            <a:ext cx="8077320" cy="1074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4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BDA-16A3-468F-A23D-0F7BF35342F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52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430-DBB9-4675-B025-26BB882AE91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31Z</dcterms:modified>
  <cp:revision>32</cp:revision>
  <dc:subject/>
  <dc:title>幻灯片 1</dc:title>
</cp:coreProperties>
</file>