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00C-51E1-44D1-BAB6-29B8BDB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BA4-1803-4691-9BC8-B92D236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4DB-900B-4E07-8B48-581C13FF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6BA-9D88-4786-8C3C-4F54C336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1AAE-89DC-43CA-8125-29E53549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EABB-8DEC-4E91-8FAB-26E7EAF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3F4-F349-4B56-8D68-3D7CA17B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1EA-CD79-407D-87DA-365173DC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1B3-EDAB-4D2F-8E27-7A9F36C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B6E3-F3B5-450E-8D03-79A5925A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978-4763-4F91-8605-F723069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6E7-1466-4EB9-8D03-6C2A83F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FEF-167C-4774-ADDE-C2B8B1E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C832-DE7B-4D1B-89F2-522115A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94C-AFD7-4437-B8C6-60430BBB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0185-541D-4D3E-BD31-32713C7C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C674-B34A-4140-B0F6-E6F592FE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6EE-02D0-4407-9857-04FC119E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F43-3194-43AF-A3ED-5EB97333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E8C-7BD9-4744-BF54-7D577AC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8BB-891E-4050-AA79-905C8798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FD4-DDA2-415A-856F-859274A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B5F-DD5C-4C17-918D-FE52E30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FCD-9AAB-4870-8FB8-C0814EF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55Z</dcterms:modified>
  <cp:revision>22</cp:revision>
  <dc:subject/>
  <dc:title>幻灯片 1</dc:title>
</cp:coreProperties>
</file>