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3F3-AA46-45A2-BCCB-459E04C3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7E8-5891-447C-9C58-317F49B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833-87CF-40F9-9D4A-96CEA675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53C-7464-467E-8781-C155255B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A1A-4E91-4D42-874B-A1F1658D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2A1A-B6BF-422A-B4F7-CE991B8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FA4E-2EDE-42AE-8E7D-EAFD225F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BA16-06EC-463F-B8C7-D78FD6E5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CB8C-21CB-418E-86E7-C3CEB41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6F6B-6E02-4A72-A106-70FF6340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B37-548C-487E-BFBC-0069429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910-8FBE-4DA0-9379-03B18B06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C251-42A8-4875-AE88-30EF6B2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01C4-4B67-4DAE-BF78-5B69B284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8A9-74EB-4114-A5F8-C63C7D3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96D-6DA9-465C-8000-86A9A36E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1050-C3A4-441D-B0D5-1C55273B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66F-9EA2-4DD4-9098-AE03B49C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DFB-E5B7-43C7-92A5-9A407F0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80E-080A-4971-A344-F95029B9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A08-FC61-4379-8A7B-AC23843D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01B-CA41-4EAE-A62E-A1CC9CA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B6C-D26E-4F51-ACDD-CE5FD325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E1E-E348-4F2C-9C45-D6BB31A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C89-3095-4E8A-9F23-1E5C5DBCA0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104-304F-4D04-824D-354391C1D3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43Z</dcterms:modified>
  <cp:revision>41</cp:revision>
  <dc:subject/>
  <dc:title>幻灯片 1</dc:title>
</cp:coreProperties>
</file>