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055-435D-4E32-9CA4-BD14273D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79C-FEFE-456A-86AB-39D96ED1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03D-32FA-48F9-9EB0-27C09295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62C-2BC7-459F-9BBE-2DB01D03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45C9-FF1D-4D31-B003-15AC7045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074E-8472-46CF-8397-A511FC01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58B5-ED91-429B-8966-A70BE170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7B2B-4934-40E4-827B-4FFD8F64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9CCD-69E1-4200-8A4C-2D3F4FAE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1907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C353-F6C7-4695-9363-1898E483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E69E-3C93-49C6-9347-F11E56DC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9FC-4EA1-406D-BCA6-F169253D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80F0-835F-4EDC-B01F-D2C87FEE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7D09-EC75-4F7D-ADD6-4A74F30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C0AC-D040-4627-A6E2-4E81A142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C787-7378-49A7-9E06-94E3352B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EEAD-EA2E-42EA-B488-1BBECB5E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056-CE49-4946-A4C1-166BB6BD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F33-0BEC-4863-A3F3-C18A2F6B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937-38B9-4793-AF6A-14726890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1907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736-F46C-4B46-AC1D-0D75C250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6C2-EC00-4789-88CB-531D35E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0A7-3E1D-4FE1-9446-8AD99E4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B9E-A618-42DA-9407-0EEB2C2D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1A50-5BB2-438D-B823-C26908A39C6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25E0-B506-4F97-B58B-5B0F8E78B8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6500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21Z</dcterms:modified>
  <cp:revision>31</cp:revision>
  <dc:subject/>
  <dc:title>幻灯片 1</dc:title>
</cp:coreProperties>
</file>