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D31-55F2-46D4-AB6B-6D54C099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B0-42F9-44B5-B362-3F72C276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CF1-AF6E-4F00-96E4-8FCDA470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C2F-6F81-44AC-A5A4-4419687D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4D4-6750-41AD-A980-B00CC14B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E23-EC00-451D-8907-5FB9A67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35C4-05BD-4681-852C-F4ECA726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1E4-38C9-45FB-8796-F8FB6EEB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AF4B-BE46-426D-AF04-92C45DE8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55A-1A03-4DB4-BE46-E04CF9C6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F60D-304E-40C1-A94D-023406E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F25-A743-4B2E-960A-69D758E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21D-CEE8-4B6D-9751-47D6CAD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EF9E-893F-4B38-BCF1-DF05AAB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4834-483C-430C-8C86-F9583AB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16F-553E-4C9B-918C-70E8D1A7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57F3-2C86-40C4-9CEB-78ABFFB3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83D-0021-4018-BA09-2EEB05B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30D-E99B-47F0-8DAA-5E79663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B55-5A7A-4F70-9E9F-A17C653A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D08-D057-4F96-B5B0-11632B0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6FE-01FE-4AC3-84DA-9E91C6A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A79-B239-4A8D-979D-B802DEA5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1E5-7149-4575-93BF-D7F7C7D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0B34-74A9-4F10-9201-FF658D5C5143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B038-7819-408A-A2AA-27AE91BCE676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8Z</dcterms:modified>
  <cp:revision>21</cp:revision>
  <dc:subject/>
  <dc:title>幻灯片 1</dc:title>
</cp:coreProperties>
</file>