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B90C-E59C-4628-8E00-62A9B201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886-BCE7-4965-933A-069FEAAA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91A-0B49-483D-B47D-20588A9C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E7A4-1AF8-456A-AB8C-7BB2269A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1DD4-054E-4142-8703-C493197B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80D6-7136-4A1F-8ED8-5825E6F7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71C4-C15C-448B-8D90-F75423B4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0203-4BB3-4610-9923-0130DCA8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DF7C-0F55-4500-8B96-A011E5BE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1F6F-BD3B-4F87-BD8D-37E49321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3DFD-D157-478D-95B6-66D55CF1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6C7E-9006-40DD-87B8-030FE7A8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12A0-25F4-488D-A02F-712D1086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9087-D27F-4EA8-9577-6B7A4BB8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7B96-5DBE-49B2-99FD-1C207B3E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5CB5-953A-4F60-8195-008602E1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93EB-4005-4A75-91CD-FD643ECE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CAE7-7986-4BA9-903F-E0BB29E3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F8E5-328B-4381-A09A-8AA3ADEE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270F-3F4A-4D32-B7FA-9F9A3455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20E9-85B3-40F8-B53A-C72F0F67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4680-335B-4F6D-A3D0-F64FD48F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4D0-04BE-46D6-8520-F88C3C34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982B-6F65-4014-A0B2-2CD38D9A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151C-275B-4BED-B34B-5690EDAC30EF}" type="slidenum"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99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66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c9ddf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9ddf1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c9ddf1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c9ddf1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c9ddf1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"/>
              </a:rPr>
              <a:t>Click to edit the title text format</a:t>
            </a: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09EB-6958-427A-AB1F-BC5C2E1E508A}" type="slidenum"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9ddf1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c9ddf1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c9ddf1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c9ddf1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227160" algn="ctr">
              <a:spcBef>
                <a:spcPts val="601"/>
              </a:spcBef>
              <a:buClr>
                <a:srgbClr val="c9ddf1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1:19Z</dcterms:modified>
  <cp:revision>57</cp:revision>
  <dc:subject/>
  <dc:title>幻灯片 1</dc:title>
</cp:coreProperties>
</file>