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8080" y="1143000"/>
            <a:ext cx="77724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447920" y="3886200"/>
            <a:ext cx="64008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447920" y="4642560"/>
            <a:ext cx="64008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1143000"/>
            <a:ext cx="77724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47920" y="38862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27880" y="38862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447920" y="464256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727880" y="464256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8080" y="1143000"/>
            <a:ext cx="77724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47920" y="388620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611880" y="388620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776200" y="388620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1447920" y="464256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611880" y="464256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776200" y="464256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A779A-6808-4B80-AF5E-158B03298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1143000"/>
            <a:ext cx="77724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3151A-3F3A-44D1-B59C-3231EA835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1143000"/>
            <a:ext cx="77724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447920" y="3886200"/>
            <a:ext cx="640080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39FB3-2A56-414D-9014-8C83C9FED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8080" y="1143000"/>
            <a:ext cx="77724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447920" y="3886200"/>
            <a:ext cx="312336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27880" y="3886200"/>
            <a:ext cx="312336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7DEC3-EB90-4A16-B877-3FCEE1BFB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1143000"/>
            <a:ext cx="77724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29340-275D-4642-A9B6-E079D0F73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838080" y="1143000"/>
            <a:ext cx="7772400" cy="9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224D8-8978-4B73-B037-711769460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8080" y="1143000"/>
            <a:ext cx="77724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447920" y="38862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7880" y="3886200"/>
            <a:ext cx="312336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447920" y="464256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5F72E-9854-4D58-B73B-8DEB96633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838080" y="1143000"/>
            <a:ext cx="77724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1143000"/>
            <a:ext cx="77724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447920" y="3886200"/>
            <a:ext cx="312336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7880" y="38862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27880" y="464256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1250C-56C7-409E-A268-4822965B6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1143000"/>
            <a:ext cx="77724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47920" y="38862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27880" y="38862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447920" y="4642560"/>
            <a:ext cx="64008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E9A26-204D-47FA-8632-94D3D4A24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1143000"/>
            <a:ext cx="77724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47920" y="3886200"/>
            <a:ext cx="64008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447920" y="4642560"/>
            <a:ext cx="64008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9F823-478E-4859-8137-2F9736404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1143000"/>
            <a:ext cx="77724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447920" y="38862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27880" y="38862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447920" y="464256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27880" y="464256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67E0A-B9F5-4D53-8130-9EC15884E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8080" y="1143000"/>
            <a:ext cx="77724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47920" y="388620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611880" y="388620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776200" y="388620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447920" y="464256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611880" y="464256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776200" y="464256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C9E0D-90F7-40B3-9F74-4CE648A3F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1143000"/>
            <a:ext cx="77724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447920" y="3886200"/>
            <a:ext cx="640080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1143000"/>
            <a:ext cx="77724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47920" y="3886200"/>
            <a:ext cx="312336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727880" y="3886200"/>
            <a:ext cx="312336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1143000"/>
            <a:ext cx="77724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838080" y="1143000"/>
            <a:ext cx="7772400" cy="9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1143000"/>
            <a:ext cx="77724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447920" y="38862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27880" y="3886200"/>
            <a:ext cx="312336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1447920" y="464256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8080" y="1143000"/>
            <a:ext cx="77724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47920" y="3886200"/>
            <a:ext cx="312336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7880" y="38862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727880" y="464256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8080" y="1143000"/>
            <a:ext cx="77724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447920" y="38862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7880" y="38862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447920" y="4642560"/>
            <a:ext cx="64008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9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2" marL="1119960" indent="-22392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3" marL="1568160" indent="-223920">
              <a:spcBef>
                <a:spcPts val="9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4" marL="2016000" indent="-223920">
              <a:spcBef>
                <a:spcPts val="901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5" marL="2016000" indent="-22392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6" marL="2016000" indent="-22392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395280" y="6580080"/>
            <a:ext cx="849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99cc00"/>
                </a:solidFill>
                <a:latin typeface="楷体_GB2312"/>
                <a:ea typeface="楷体_GB2312"/>
              </a:rPr>
              <a:t>http://www.zzone.cn</a:t>
            </a:r>
            <a:r>
              <a:rPr b="1" lang="zh-CN" sz="1400" spc="-1" strike="noStrike">
                <a:solidFill>
                  <a:srgbClr val="99cc00"/>
                </a:solidFill>
                <a:latin typeface="楷体_GB2312"/>
                <a:ea typeface="楷体_GB2312"/>
              </a:rPr>
              <a:t>　  中国</a:t>
            </a:r>
            <a:r>
              <a:rPr b="1" lang="zh-CN" sz="1400" spc="-1" strike="noStrike">
                <a:solidFill>
                  <a:srgbClr val="99cc00"/>
                </a:solidFill>
                <a:latin typeface="楷体_GB2312"/>
                <a:ea typeface="楷体_GB2312"/>
              </a:rPr>
              <a:t>.</a:t>
            </a:r>
            <a:r>
              <a:rPr b="1" lang="zh-CN" sz="1400" spc="-1" strike="noStrike">
                <a:solidFill>
                  <a:srgbClr val="99cc00"/>
                </a:solidFill>
                <a:latin typeface="楷体_GB2312"/>
                <a:ea typeface="楷体_GB2312"/>
              </a:rPr>
              <a:t>中学政治教学网崇尚互联共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838080" y="1143000"/>
            <a:ext cx="77724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AB90A-0850-45F2-A62D-434B709A9BF4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96720" y="6597720"/>
            <a:ext cx="849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99cc00"/>
                </a:solidFill>
                <a:latin typeface="楷体_GB2312"/>
                <a:ea typeface="楷体_GB2312"/>
              </a:rPr>
              <a:t>http://www.zzone.cn</a:t>
            </a:r>
            <a:r>
              <a:rPr b="1" lang="zh-CN" sz="1400" spc="-1" strike="noStrike">
                <a:solidFill>
                  <a:srgbClr val="99cc00"/>
                </a:solidFill>
                <a:latin typeface="楷体_GB2312"/>
                <a:ea typeface="楷体_GB2312"/>
              </a:rPr>
              <a:t>　  中国</a:t>
            </a:r>
            <a:r>
              <a:rPr b="1" lang="zh-CN" sz="1400" spc="-1" strike="noStrike">
                <a:solidFill>
                  <a:srgbClr val="99cc00"/>
                </a:solidFill>
                <a:latin typeface="楷体_GB2312"/>
                <a:ea typeface="楷体_GB2312"/>
              </a:rPr>
              <a:t>.</a:t>
            </a:r>
            <a:r>
              <a:rPr b="1" lang="zh-CN" sz="1400" spc="-1" strike="noStrike">
                <a:solidFill>
                  <a:srgbClr val="99cc00"/>
                </a:solidFill>
                <a:latin typeface="楷体_GB2312"/>
                <a:ea typeface="楷体_GB2312"/>
              </a:rPr>
              <a:t>中学政治教学网崇尚互联共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8080" y="1143000"/>
            <a:ext cx="77724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08:17:37Z</dcterms:created>
  <dc:creator>黄华林</dc:creator>
  <dc:description/>
  <dc:language>en-US</dc:language>
  <cp:lastModifiedBy>黄华林</cp:lastModifiedBy>
  <dcterms:modified xsi:type="dcterms:W3CDTF">2005-10-06T08:30:30Z</dcterms:modified>
  <cp:revision>55</cp:revision>
  <dc:subject/>
  <dc:title>幻灯片 1</dc:title>
</cp:coreProperties>
</file>