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59C3E-5C52-462C-A82D-ABAA4081F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72AE6-CCD2-417C-8AF9-88B61A42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E6C4A-E873-4519-B7D9-A8142EF19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12381-B2AE-4FE4-8772-6A2E16CA0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3089-8BA2-4691-B6C6-F2EA3A0AC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9F6B-6493-4169-916E-194C08F2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97DB-FD65-470A-A8FE-4E33DDBF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663B-1043-492F-BE63-246C239A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A36A-5878-4DB4-A597-C7EB1B7C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8AE8-9240-4E42-A2B1-D8BBB2B7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1DF6-EB0A-4327-A61A-D15C7164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9D7EA-ADDA-4841-8B4A-F7036809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402E-0E37-4601-AF58-A7C4258C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2032-290A-485E-9991-1CF9AF3A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A3AA-59E5-45D5-8FB5-089FC0A5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BC44-7792-4AEE-BA40-61BF932E4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45CF-FF1C-4B9A-B04F-86635CB81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2DCCD-BEF2-496D-A1FD-43DB57DD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55E2F-C8A3-491B-9D36-6B3D6966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EDAE6-4851-4B72-9849-F74BEAB3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FF1A1-BA2B-46C5-8E9D-2499EB96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B5FAF-9BFA-48EF-9F16-2A32D74F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133B8-3931-40B7-9C45-D29ADF79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6A141-23A8-40FD-A6AD-8EC21E5A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AC32-3F5D-4EC7-AC32-73BBB798E8E8}" type="slidenum">
              <a:rPr b="0" lang="zh-CN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32840" cy="1638360"/>
            <a:chOff x="0" y="0"/>
            <a:chExt cx="9132840" cy="163836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9132840" cy="15429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638360"/>
              <a:ext cx="913284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</p:grp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32840" cy="3429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0" y="3429000"/>
            <a:ext cx="913284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360" y="3543480"/>
            <a:ext cx="913320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80B5-1D6D-48DC-A560-AED91AC28F67}" type="slidenum">
              <a:rPr b="0" lang="zh-CN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1:32Z</dcterms:modified>
  <cp:revision>5</cp:revision>
  <dc:subject/>
  <dc:title>幻灯片 1</dc:title>
</cp:coreProperties>
</file>