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435B-054E-46C5-BAD3-FE72D933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F2BE-4B34-4459-8E48-BD30EFBF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FCA6-284A-465F-80C8-BD606881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AA46-C0A2-4C66-B0B8-EFFC0211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E992-C356-42B9-8743-AEE255BD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AF70-3513-409B-AD9B-7DD84B48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6CE5-50C6-4B40-90F7-BEECDDA3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5F5D-6F5F-494B-A2F4-9255F660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5971-9D75-40BD-A3BC-6951688C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9675-5779-4784-8C26-B73624E9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6611-4DD1-4D3E-9F97-2E9798E6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0824-033F-421C-95C8-DA4D1452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78B8-53BF-4D4B-90C9-E3ED1D77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CF9F-611D-48C9-B80E-AB088B3B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6283-9B2A-4061-B392-59602809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32CE-AE9D-4F63-B000-FC48BAE5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F866-1A2E-4DB4-9E91-35102623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698C-F4D8-4FAD-B6EA-757BF588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8A2A-F382-4217-91B1-D7C60A4D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1DF5A-9083-47FE-BFCF-91C7BFF3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5385-FE91-4001-BCC0-8595415B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8DDD-D026-4A9B-A65C-913EF271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7C27-BF85-466A-A9F1-FE4D772E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807B-AE1A-4735-BB5F-6C384D69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9F97-7573-4B04-92EC-6032C86AE81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C4A4-8E0B-4DF7-989F-0D84A5E9413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58Z</dcterms:modified>
  <cp:revision>61</cp:revision>
  <dc:subject/>
  <dc:title>幻灯片 1</dc:title>
</cp:coreProperties>
</file>