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255-3487-4905-BF5E-F9367D58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3C4-238E-4E0E-BF3C-2E31CDA9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210-22B0-4277-8911-6E362EDB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0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04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5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0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04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5E9-73D1-440D-B933-4B463659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07C9-26DD-4BC6-B377-9BF46E91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2A6A-0AD4-427D-83B1-51005536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7060-E19D-44A9-85E1-B62B7D28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E42B-0890-4684-BB89-68FF6A40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D828-43AD-44DA-942E-4F2922F6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0C78-DB3A-4E1C-88F3-62F5B438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F2F6-CD96-441D-9934-E0EA5D64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CA7-875B-4C02-8F6A-7E73F487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0FE1-287B-4FDD-A970-BEA8FBF5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6D1D-5FC8-4D50-BF00-BE00CCDB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7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0710-E42B-4413-976C-48F97A8E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8A0D-4E71-45C6-9251-E3439142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0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04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6765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0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04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C89E-D435-435D-831D-24FAB3A2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7F6-7F54-4410-BC10-545DD097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F40-F341-4382-A030-453ED6BA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7E7-3C91-4AA5-9357-1769CD84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BEE-3C65-4AD8-833A-CCE2B875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EA8-5193-406D-9589-6E1E1309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F40-95EC-4B60-B5DA-79553735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704-E2F4-494A-999C-1DF7F8DF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F760-3389-40BE-946F-268A8101A5F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5062-5A92-4237-987E-F707538D6A0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28Z</dcterms:modified>
  <cp:revision>18</cp:revision>
  <dc:subject/>
  <dc:title>幻灯片 1</dc:title>
</cp:coreProperties>
</file>