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486-CA4F-458D-9A4A-97F640B8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2BE-C4CE-4C37-8810-A663AA33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DFB-8010-49F7-9AD6-63CCDCCB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444-3585-49BF-ADB7-F9759FC2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27E7-3506-44E6-89AF-E1340B7A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EDE0-73C3-42FD-AB78-0D3CA8C6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EBEC-70BD-404C-B1EA-F49CF90E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0FD1-4DC9-40F0-B55F-B286B843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340F-8B32-4F48-B836-9401A317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9B6D-D234-49A5-9992-AE64F21D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EDDC-7058-46AF-9327-4D97A9F9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345-4B2C-4EFE-92C0-DF0CE4A7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3EB9-F19F-42FE-B2E7-ED2F1BA0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D106-2412-4161-AA96-C6232F74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5647-692B-48DF-9339-CC93B3E9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1596-A308-4869-897E-F89F5DD3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13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85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057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13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85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96F9-587A-4BFB-AE88-3B8E433E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71E-6D3C-4E11-9353-10F1F0A9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54D-8453-4839-B1C6-AF87EE70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A97-58A2-475C-9402-984EB226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21C-D082-4F8E-8C08-58D96908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F02-D997-4EB8-A7B0-F0D46EC7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473-433F-4BB9-9C5E-DDBB36E4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9C5-9EE3-4EB9-B6F9-788F6671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FDCD-0223-4100-8EB4-883378E25FC7}" type="slidenum">
              <a:rPr b="0" lang="zh-CN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E7BA-0897-4F9B-8916-C3F66CAF89EF}" type="slidenum">
              <a:rPr b="0" lang="zh-CN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03Z</dcterms:modified>
  <cp:revision>2</cp:revision>
  <dc:subject/>
  <dc:title>幻灯片 1</dc:title>
</cp:coreProperties>
</file>