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85BB-350D-4AB7-BCB0-4E0DB766D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72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99072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3671-0C92-4C43-9072-632038322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270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9907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270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4878-EC62-48E7-9C90-AE76DA2F3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9072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1546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3190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99072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1546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3190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3E72-0359-4054-92B9-869C7D751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0DBCC-B4CF-4CDF-9ABD-4C614030F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EB596-6CEA-47AD-8EBE-CD4762856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907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45EF7-BC99-4E05-ADB6-F513F4E0C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907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270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FEFDF-B213-4177-B6BD-0E75982D4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AFA3E-952E-411F-93EF-A9322CA2F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AA1F0-47FB-4F24-AC46-24DA6F01D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90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270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907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9CCF0-B9E6-431B-A10D-DFDD3E5F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F338-2C5E-43CF-8755-C7D63E208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907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270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270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DF944-5036-4823-BC20-F6BB618EE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90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270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99072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F54D9-2189-4395-88C3-4B7197B9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9072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99072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D274B-E430-4D45-9172-510C50E06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90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70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907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270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A7927-41EA-4E4F-947D-C034AA3FF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9072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1546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3190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99072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1546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53190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5EA1F-0B06-4844-AFB9-798100080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5B27-37B9-48E4-8DA6-47BF93936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7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270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8065-01C4-4392-82C7-04224CF00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749F-846F-415C-A0D4-5E573AC8D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3A76-77FC-4893-97AA-118D408BF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270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9907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D852-CBAB-448F-9E4F-6DAC8880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70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270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90FB-E2EC-4047-BAD0-9D4D95AE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270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9072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D16B-60A6-41D5-A07D-7D3555F72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3276720" y="6324480"/>
              <a:ext cx="3047760" cy="457200"/>
              <a:chOff x="3276720" y="6324480"/>
              <a:chExt cx="3047760" cy="457200"/>
            </a:xfrm>
          </p:grpSpPr>
          <p:sp>
            <p:nvSpPr>
              <p:cNvPr id="57" name=""/>
              <p:cNvSpPr/>
              <p:nvPr/>
            </p:nvSpPr>
            <p:spPr>
              <a:xfrm>
                <a:off x="3352680" y="6400800"/>
                <a:ext cx="2895840" cy="30492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276720" y="6400800"/>
                <a:ext cx="30477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276720" y="6705720"/>
                <a:ext cx="30477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352680" y="6324480"/>
                <a:ext cx="0" cy="457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248520" y="6324480"/>
                <a:ext cx="0" cy="457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7162920" y="6324480"/>
              <a:ext cx="1447560" cy="457200"/>
              <a:chOff x="7162920" y="6324480"/>
              <a:chExt cx="1447560" cy="457200"/>
            </a:xfrm>
          </p:grpSpPr>
          <p:sp>
            <p:nvSpPr>
              <p:cNvPr id="63" name=""/>
              <p:cNvSpPr/>
              <p:nvPr/>
            </p:nvSpPr>
            <p:spPr>
              <a:xfrm>
                <a:off x="7238880" y="6400800"/>
                <a:ext cx="1295640" cy="30492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62920" y="6400800"/>
                <a:ext cx="14475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162920" y="6705720"/>
                <a:ext cx="14475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238880" y="6324480"/>
                <a:ext cx="0" cy="457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534520" y="6324480"/>
                <a:ext cx="0" cy="457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990720" y="6324480"/>
              <a:ext cx="1447560" cy="457200"/>
              <a:chOff x="990720" y="6324480"/>
              <a:chExt cx="1447560" cy="457200"/>
            </a:xfrm>
          </p:grpSpPr>
          <p:sp>
            <p:nvSpPr>
              <p:cNvPr id="69" name=""/>
              <p:cNvSpPr/>
              <p:nvPr/>
            </p:nvSpPr>
            <p:spPr>
              <a:xfrm>
                <a:off x="1066680" y="6400800"/>
                <a:ext cx="1295640" cy="30492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990720" y="6400800"/>
                <a:ext cx="14475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990720" y="6705720"/>
                <a:ext cx="14475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066680" y="6324480"/>
                <a:ext cx="0" cy="457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362320" y="6324480"/>
                <a:ext cx="0" cy="457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76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f89f7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d88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f89f7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40458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3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26672FD7-F3DF-4A37-9088-F7B5FA4143F1}" type="slidenum">
              <a:rPr b="0" lang="en-US" sz="14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21" name=""/>
            <p:cNvGrpSpPr/>
            <p:nvPr/>
          </p:nvGrpSpPr>
          <p:grpSpPr>
            <a:xfrm>
              <a:off x="1104840" y="3141720"/>
              <a:ext cx="4971960" cy="514440"/>
              <a:chOff x="1104840" y="3141720"/>
              <a:chExt cx="4971960" cy="514440"/>
            </a:xfrm>
          </p:grpSpPr>
          <p:sp>
            <p:nvSpPr>
              <p:cNvPr id="122" name=""/>
              <p:cNvSpPr/>
              <p:nvPr/>
            </p:nvSpPr>
            <p:spPr>
              <a:xfrm>
                <a:off x="1104840" y="3141720"/>
                <a:ext cx="1752840" cy="45720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04840" y="3503880"/>
                <a:ext cx="228600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24120" y="3418200"/>
                <a:ext cx="3352680" cy="17136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719440" y="3237120"/>
                <a:ext cx="2971800" cy="22860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128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7162920" y="6324480"/>
              <a:ext cx="1447560" cy="457200"/>
              <a:chOff x="7162920" y="6324480"/>
              <a:chExt cx="1447560" cy="457200"/>
            </a:xfrm>
          </p:grpSpPr>
          <p:sp>
            <p:nvSpPr>
              <p:cNvPr id="182" name=""/>
              <p:cNvSpPr/>
              <p:nvPr/>
            </p:nvSpPr>
            <p:spPr>
              <a:xfrm>
                <a:off x="7238880" y="6400800"/>
                <a:ext cx="1295640" cy="3049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162920" y="6400800"/>
                <a:ext cx="14475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162920" y="6705720"/>
                <a:ext cx="14475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238880" y="6324480"/>
                <a:ext cx="0" cy="457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534520" y="6324480"/>
                <a:ext cx="0" cy="457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414360" y="2845080"/>
              <a:ext cx="6355800" cy="2690280"/>
              <a:chOff x="414360" y="2845080"/>
              <a:chExt cx="6355800" cy="2690280"/>
            </a:xfrm>
          </p:grpSpPr>
          <p:sp>
            <p:nvSpPr>
              <p:cNvPr id="189" name=""/>
              <p:cNvSpPr/>
              <p:nvPr/>
            </p:nvSpPr>
            <p:spPr>
              <a:xfrm flipH="1">
                <a:off x="414360" y="3232440"/>
                <a:ext cx="243360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08040" y="3117960"/>
                <a:ext cx="0" cy="236844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H="1" rot="16200000">
                <a:off x="479160" y="31147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045800" y="3000240"/>
                <a:ext cx="476280" cy="47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715" y="6518"/>
                    </a:moveTo>
                    <a:arcTo wR="10800" hR="10800" stAng="-1401335" swAng="986146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715" y="6518"/>
                    </a:moveTo>
                    <a:arcTo wR="10800" hR="10800" stAng="-1401335" swAng="986146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>
                <a:off x="1324080" y="3081600"/>
                <a:ext cx="914040" cy="912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498" y="20209"/>
                    </a:moveTo>
                    <a:arcTo wR="10800" hR="10800" stAng="7164193" swAng="449806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498" y="20209"/>
                    </a:moveTo>
                    <a:arcTo wR="10800" hR="10800" stAng="7164193" swAng="4498063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V="1">
                <a:off x="1327320" y="3092040"/>
                <a:ext cx="914040" cy="914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315" y="8333"/>
                    </a:moveTo>
                    <a:arcTo wR="10800" hR="10800" stAng="-792138" swAng="474729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315" y="8333"/>
                    </a:moveTo>
                    <a:arcTo wR="10800" hR="10800" stAng="-792138" swAng="474729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1143000" y="3137040"/>
                <a:ext cx="662040" cy="5191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224000" y="3137040"/>
                <a:ext cx="476280" cy="51444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V="1">
                <a:off x="4135680" y="2902320"/>
                <a:ext cx="2634480" cy="2632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610" y="18858"/>
                    </a:moveTo>
                    <a:arcTo wR="10800" hR="10800" stAng="7904515" swAng="11638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610" y="18858"/>
                    </a:moveTo>
                    <a:arcTo wR="10800" hR="10800" stAng="7904515" swAng="1163815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880520" y="2845080"/>
                <a:ext cx="680760" cy="682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471" y="12467"/>
                    </a:moveTo>
                    <a:arcTo wR="10800" hR="10800" stAng="532687" swAng="98360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471" y="12467"/>
                    </a:moveTo>
                    <a:arcTo wR="10800" hR="10800" stAng="532687" swAng="9836051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 flipV="1">
                <a:off x="5461560" y="3368160"/>
                <a:ext cx="45756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9" y="11474"/>
                    </a:moveTo>
                    <a:arcTo wR="10800" hR="10800" stAng="214610" swAng="104078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9" y="11474"/>
                    </a:moveTo>
                    <a:arcTo wR="10800" hR="10800" stAng="214610" swAng="10407819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 flipV="1">
                <a:off x="4357080" y="3381480"/>
                <a:ext cx="318600" cy="31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114" y="7598"/>
                    </a:moveTo>
                    <a:arcTo wR="10800" hR="10800" stAng="-1034896" swAng="1275208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114" y="7598"/>
                    </a:moveTo>
                    <a:arcTo wR="10800" hR="10800" stAng="-1034896" swAng="1275208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419720" y="3246480"/>
                <a:ext cx="347400" cy="3430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210280" y="3232440"/>
                <a:ext cx="476280" cy="35244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>
                <a:off x="4723920" y="3232440"/>
                <a:ext cx="476280" cy="35244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205240" y="3232440"/>
                <a:ext cx="0" cy="3571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681520" y="3232440"/>
                <a:ext cx="0" cy="47124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57200" y="3589560"/>
                <a:ext cx="561960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dt" idx="4"/>
          </p:nvPr>
        </p:nvSpPr>
        <p:spPr>
          <a:xfrm>
            <a:off x="7238880" y="6248520"/>
            <a:ext cx="1339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sldNum" idx="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A2C904FC-7563-4D4B-B9F4-B1144E96E5E8}" type="slidenum">
              <a:rPr b="0" lang="en-US" sz="14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ecd882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89f7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40458c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2:33Z</dcterms:modified>
  <cp:revision>12</cp:revision>
  <dc:subject/>
  <dc:title>幻灯片 1</dc:title>
</cp:coreProperties>
</file>