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A710-6DB6-433A-A14E-2BEEB5C1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676520" y="5487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8A9F-BDAF-4310-B208-3CD77EA7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648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F16-E118-4543-BD6B-C41213BE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4048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0480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67652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4048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0480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979-4F0C-45C8-B1C8-7CA2FAE6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F6C8-6B08-4E8F-9475-651D5A58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6B6D-ED58-4DD0-A154-EDE60DA5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083F-2E76-4D38-A513-9220ABF1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A647-0E19-4778-8F38-799E0EC5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67AD-DF89-4D37-9DC4-5A1CBA07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1351-5959-4E97-B69A-EE4DE29A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99BA-1965-4747-B74A-A62BA37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6C1-1137-4E87-9447-42715B1B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648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778A-4044-41B9-9D48-9A1B97A0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BA59-961B-48E0-B4B0-545733B7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676520" y="5487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9B0C-9B8B-40DA-81C3-2B0F50AD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648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517E-32FC-4466-99AD-FC4EB25D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4048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0480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67652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84048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0480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D3CC-1D31-4D4D-A515-1A18A6E0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E49-84A4-491D-8EEE-D308F34B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B98-ECA1-45CD-9D5B-ED12A421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22F-B338-4F89-B32C-E8F2C00A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932-3D18-4D7D-8AF8-3620F8E6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E9B-75CC-4FD3-8BFE-B7A2E2CD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648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443-DD70-4D6C-86F2-FCBC350D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C3B-A38A-457A-9D3A-389B7300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2240" y="-25560"/>
            <a:ext cx="10686240" cy="7440120"/>
            <a:chOff x="-1542240" y="-25560"/>
            <a:chExt cx="10686240" cy="7440120"/>
          </a:xfrm>
        </p:grpSpPr>
        <p:grpSp>
          <p:nvGrpSpPr>
            <p:cNvPr id="1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2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" name=""/>
            <p:cNvGrpSpPr/>
            <p:nvPr/>
          </p:nvGrpSpPr>
          <p:grpSpPr>
            <a:xfrm>
              <a:off x="0" y="6280200"/>
              <a:ext cx="9144000" cy="605880"/>
              <a:chOff x="0" y="6280200"/>
              <a:chExt cx="9144000" cy="605880"/>
            </a:xfrm>
          </p:grpSpPr>
          <p:sp>
            <p:nvSpPr>
              <p:cNvPr id="18" name=""/>
              <p:cNvSpPr/>
              <p:nvPr/>
            </p:nvSpPr>
            <p:spPr>
              <a:xfrm>
                <a:off x="2590920" y="6280200"/>
                <a:ext cx="2757240" cy="60588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280200"/>
                <a:ext cx="2757600" cy="605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943600" y="6280560"/>
                <a:ext cx="2760840" cy="60552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8120" y="6280560"/>
                <a:ext cx="3301920" cy="60480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676520" y="6283080"/>
                <a:ext cx="1981080" cy="603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280920"/>
                <a:ext cx="1981440" cy="6048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V="1">
                <a:off x="7162920" y="6281280"/>
                <a:ext cx="1981080" cy="60408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00400" y="62197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rot="18897000">
              <a:off x="2358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rot="18897000">
              <a:off x="1215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rot="18897000">
              <a:off x="47160" y="61189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flipV="1">
              <a:off x="913680" y="62064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flipV="1">
              <a:off x="38052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flipV="1">
              <a:off x="4819680" y="62827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flipV="1">
              <a:off x="632448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5486400" y="62064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62406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9915-6779-4AAC-A8AC-6891C62492A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-1542240" y="-25560"/>
            <a:ext cx="10686240" cy="6897960"/>
            <a:chOff x="-1542240" y="-25560"/>
            <a:chExt cx="10686240" cy="6897960"/>
          </a:xfrm>
        </p:grpSpPr>
        <p:grpSp>
          <p:nvGrpSpPr>
            <p:cNvPr id="78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79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0" y="3319560"/>
              <a:ext cx="9144000" cy="1762920"/>
              <a:chOff x="0" y="3319560"/>
              <a:chExt cx="9144000" cy="176292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0" y="3948120"/>
                <a:ext cx="9144000" cy="605880"/>
                <a:chOff x="0" y="3948120"/>
                <a:chExt cx="9144000" cy="605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590920" y="3948120"/>
                  <a:ext cx="2757240" cy="60588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0" y="3948120"/>
                  <a:ext cx="2757600" cy="60552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943600" y="3948480"/>
                  <a:ext cx="2760840" cy="605520"/>
                </a:xfrm>
                <a:custGeom>
                  <a:avLst/>
                  <a:gdLst/>
                  <a:ahLst/>
                  <a:rect l="l" t="t" r="r" b="b"/>
                  <a:pathLst>
                    <a:path w="1739" h="4420">
                      <a:moveTo>
                        <a:pt x="494" y="4415"/>
                      </a:moveTo>
                      <a:lnTo>
                        <a:pt x="1739" y="44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4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048120" y="3948480"/>
                  <a:ext cx="3301920" cy="604800"/>
                </a:xfrm>
                <a:custGeom>
                  <a:avLst/>
                  <a:gdLst/>
                  <a:ahLst/>
                  <a:rect l="l" t="t" r="r" b="b"/>
                  <a:pathLst>
                    <a:path w="2080" h="4338">
                      <a:moveTo>
                        <a:pt x="0" y="7"/>
                      </a:moveTo>
                      <a:lnTo>
                        <a:pt x="1870" y="4338"/>
                      </a:lnTo>
                      <a:lnTo>
                        <a:pt x="2080" y="4338"/>
                      </a:lnTo>
                      <a:lnTo>
                        <a:pt x="103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676520" y="3951000"/>
                  <a:ext cx="1981080" cy="6030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952880" y="3948840"/>
                  <a:ext cx="1981440" cy="6048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7162920" y="3949200"/>
                  <a:ext cx="1981080" cy="60408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solidFill>
                <a:srgbClr val="0000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00400" y="3887640"/>
                <a:ext cx="1644840" cy="666720"/>
              </a:xfrm>
              <a:custGeom>
                <a:avLst/>
                <a:gdLst/>
                <a:ahLst/>
                <a:rect l="l" t="t" r="r" b="b"/>
                <a:pathLst>
                  <a:path w="1036" h="420">
                    <a:moveTo>
                      <a:pt x="1027" y="0"/>
                    </a:moveTo>
                    <a:cubicBezTo>
                      <a:pt x="508" y="159"/>
                      <a:pt x="167" y="347"/>
                      <a:pt x="0" y="417"/>
                    </a:cubicBezTo>
                    <a:cubicBezTo>
                      <a:pt x="0" y="417"/>
                      <a:pt x="12" y="418"/>
                      <a:pt x="24" y="420"/>
                    </a:cubicBezTo>
                    <a:cubicBezTo>
                      <a:pt x="237" y="321"/>
                      <a:pt x="708" y="105"/>
                      <a:pt x="1036" y="16"/>
                    </a:cubicBezTo>
                    <a:cubicBezTo>
                      <a:pt x="1036" y="16"/>
                      <a:pt x="1027" y="0"/>
                      <a:pt x="10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rot="18897000">
                <a:off x="2358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8897000">
                <a:off x="1215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rot="18897000">
                <a:off x="47160" y="3786840"/>
                <a:ext cx="1641600" cy="77292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913680" y="3874320"/>
                <a:ext cx="563868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38052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4819680" y="3950640"/>
                <a:ext cx="2114640" cy="60804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632448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5486400" y="3874320"/>
                <a:ext cx="365760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908520"/>
                <a:ext cx="9144000" cy="2196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50000">
                    <a:srgbClr val="9ce157"/>
                  </a:gs>
                  <a:gs pos="100000">
                    <a:srgbClr val="00004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219320" y="25909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D5BD-32C2-4C8B-8BE4-AB7CD52AE39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54Z</dcterms:modified>
  <cp:revision>8</cp:revision>
  <dc:subject/>
  <dc:title>幻灯片 1</dc:title>
</cp:coreProperties>
</file>