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15A-F53C-45CA-8028-0A0652D5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C0C-E5C4-4CD7-A7A4-1F9D77C8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1872-4C88-4EE1-9AE8-DC2C2F9E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7D5-1BA2-4BBB-8D64-4D898E77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B2C6-4D97-485F-B807-B153D014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01CC-5E69-4D7A-B4CE-AE72BF3B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8B95-185E-4094-A191-6F97CD88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1DAC-C4EE-4DD3-AEC3-A89207D3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777B-4E75-4F9C-86FA-1B0A7DE4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869D-E90F-40C5-AEA4-8E0CB8B7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C1BC-062B-434E-83DA-C6517C07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62D-BF47-4A4A-B4C4-C5CA7DBF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2B25-48F1-4723-84F3-F737FA22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0908-E3A5-487C-9ACF-ED34EDD9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CC91-EDE4-4689-B8D7-A42AD07E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6412-7A78-43DF-8CFC-201CB963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5E93-B1E7-4985-9B12-C15B0A5A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F6B-8305-45A1-89D2-93E2284A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1394-BEBB-4E88-BA3B-0C829AAA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10A9-8858-4CDB-8DAA-E709EA0B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9BB-8F93-44B9-B16D-47412524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1DF-7D62-4F45-9EE5-74E3F7F5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687-0D92-4609-BA9D-D3A23C8F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A10-2F7B-454C-A579-0BC40934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384720" y="5410080"/>
            <a:ext cx="575928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3468-9BA0-45A1-A0ED-7CBEDE41F5F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0920" y="64278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2590920"/>
            <a:ext cx="8229600" cy="1981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A6F3-619F-4720-8E86-0179B4C3D13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200b5b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00b5b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200b5b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200b5b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200b5b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200b5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200b5b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7:22Z</dcterms:modified>
  <cp:revision>40</cp:revision>
  <dc:subject/>
  <dc:title>幻灯片 1</dc:title>
</cp:coreProperties>
</file>