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E3D-4DA9-40D1-AF72-6FF426F7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DD2-435A-4CFC-9411-E517090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B28-3792-43E0-8C8E-E5960EF9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721-A817-493A-A127-9A3E1257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A451-983E-4E46-ACBB-531C97EE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6014-727D-4A9B-9D3B-4E8D62B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28AF-C8ED-42C9-A235-12FC3C21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6F1-4B13-4FFB-BC64-3EC0FC9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CB0-77A2-471B-8CCB-8DE903D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E8E-C33C-4FDC-966E-3F0ACAA1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35B5-FF67-481A-A155-1E3992E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41C-0A01-4723-B730-243F4D8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59F0-47D6-4E18-88F9-2129FE7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250E-21A6-4CD8-A31B-35C6F6D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A0D9-83DC-4208-98DE-A5A4F6D9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D783-F68C-4F0E-A76E-67231BB2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4EF-C0CC-43CA-9075-B274A07E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ACB-9117-4079-9A90-0B9FD8F6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409-1B97-48DF-8FF8-18C5B4B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85D-0F96-4DC1-890A-12839BCA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C4E-C7C0-4E15-AF73-27CEF44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A83-64A8-4652-88CA-D9C12EA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2E9-15FE-49B0-9984-7C5FBB55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BD6-4E07-4C24-BCEC-DDC91C3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357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C34-9C09-451F-AC7F-39DD1B2FB2C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582C-06D0-464E-9FC4-27C47D47C2B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8720" y="658008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40Z</dcterms:modified>
  <cp:revision>56</cp:revision>
  <dc:subject/>
  <dc:title>幻灯片 1</dc:title>
</cp:coreProperties>
</file>