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DE50-017D-417C-91A0-BC832A212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7524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7D3A-E1DF-4622-8A89-BFE58C2B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7524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324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6E41-F415-4836-A2B9-5F2C32155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164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80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7524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164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80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3FA1-167A-43EA-9203-862B088A3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D4A6-4B18-455A-B2A0-7D5FEAE34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84EB-7B16-41DB-9B9C-3F4E43B7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5E12-7722-47F7-97CE-F798EB16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B9F7D-0AD2-4E07-B782-45C1C58F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207D-04B2-4B1E-B49D-F7B266FC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6668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8842-87B7-4791-815B-3D932950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7524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16E4-CF39-4F47-80BE-F0877A95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6376-0DC6-4251-84F3-33AA7CBE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4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C8ED-BD21-4B08-8154-39CEE352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7524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6499-D0D4-4E3C-A225-6A6D9AAB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7524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701A-9769-40D6-8E50-2D8CA019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7524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324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FBAC-BDF4-4355-BB4F-31E556AEF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9164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80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7524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9164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80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5712-7D02-4D7F-8DC5-950C5232F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D7C5-8E03-4309-B61F-F1FA4291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060F-EE96-4BD5-A221-1C693A40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2AFA-7EAF-4ED2-BAC2-0100BAAC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EB06-8DD5-438E-AE51-310739D9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524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42B3-B3DD-4507-BBF9-E3A01C9B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324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6BEF-E860-49FC-81FD-1BF32FAB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7524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C683-1CDC-4A78-86E9-E3121C75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8680" cy="6856560"/>
            <a:chOff x="0" y="0"/>
            <a:chExt cx="914868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6684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525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6305400"/>
              <a:ext cx="9148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641988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10666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5049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933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B1E0-2CA0-4E04-8865-6B036AFA633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8680" cy="6856560"/>
            <a:chOff x="0" y="0"/>
            <a:chExt cx="9148680" cy="685656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66840"/>
              <a:ext cx="914400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452520"/>
              <a:ext cx="9148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30540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41988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10666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5049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933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33D8-4244-453F-B5C6-E6404980CC5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1:47Z</dcterms:modified>
  <cp:revision>7</cp:revision>
  <dc:subject/>
  <dc:title>幻灯片 1</dc:title>
</cp:coreProperties>
</file>