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0346-7197-4590-A6AC-E628544C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C8A2-0920-4AB5-84B4-17A4EB31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406-B580-4512-9801-E86E25B9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388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30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388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30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3FC-2084-46FA-8EFC-19A49FC1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48FD-10FD-4488-BBEA-89C3A5FC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63ED-5B19-4639-9C4A-7F2DA07A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C80-A22B-4F45-A33B-D944F035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9D2-2C25-48FD-8FD3-617B4C50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-3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1DA6-3C1C-4721-B432-81CA4229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2F3-E680-4F95-9754-598F7E7A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3B0-8A7F-4D78-92FE-3594BE58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BDD-E8F4-4719-8128-2D9034CE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7DF3-6FF2-4111-B586-C3D9DD890B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108000" y="658008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9:43Z</dcterms:modified>
  <cp:revision>51</cp:revision>
  <dc:subject/>
  <dc:title>幻灯片 1</dc:title>
</cp:coreProperties>
</file>