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F7F0-2083-4894-96E4-925C5FF27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352680" y="2742840"/>
            <a:ext cx="56390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352680" y="3539160"/>
            <a:ext cx="56390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BAF4-D3DD-4B20-896C-D599CB04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352680" y="2742840"/>
            <a:ext cx="27518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42400" y="2742840"/>
            <a:ext cx="27518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352680" y="3539160"/>
            <a:ext cx="27518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42400" y="3539160"/>
            <a:ext cx="27518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D159-3098-4543-B21A-88CCE2AE4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352680" y="2742840"/>
            <a:ext cx="18154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59240" y="2742840"/>
            <a:ext cx="18154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165800" y="2742840"/>
            <a:ext cx="18154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352680" y="3539160"/>
            <a:ext cx="18154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5259240" y="3539160"/>
            <a:ext cx="18154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165800" y="3539160"/>
            <a:ext cx="18154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BFD3-9C1F-45EF-B581-D32E4D1AB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D8204-C8A5-4D07-9728-C1F69FF08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352680" y="2742840"/>
            <a:ext cx="56390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64121-8A73-4715-82D4-FFB4D229B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352680" y="2742840"/>
            <a:ext cx="563904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FF86E-5A7A-489E-AF60-0ADD65F25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352680" y="2742840"/>
            <a:ext cx="275184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42400" y="2742840"/>
            <a:ext cx="275184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6EEA5-61BC-44ED-A3CD-48B5F348A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09C40-FC13-486B-8DA3-7175EF8ED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7B87F-CD69-44C9-A98D-38E7EA74B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352680" y="2742840"/>
            <a:ext cx="27518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42400" y="2742840"/>
            <a:ext cx="275184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352680" y="3539160"/>
            <a:ext cx="27518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1B1E5-771D-47A5-A41D-11AC09D8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352680" y="2742840"/>
            <a:ext cx="56390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E19D-8372-4369-BBCA-95EE6A764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352680" y="2742840"/>
            <a:ext cx="275184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42400" y="2742840"/>
            <a:ext cx="27518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42400" y="3539160"/>
            <a:ext cx="27518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3DBBE-81D5-4DF1-9B91-7CE673A4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352680" y="2742840"/>
            <a:ext cx="27518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42400" y="2742840"/>
            <a:ext cx="27518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352680" y="3539160"/>
            <a:ext cx="56390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D3172-9D04-4A70-BCA8-80CEBD65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352680" y="2742840"/>
            <a:ext cx="56390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52680" y="3539160"/>
            <a:ext cx="56390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56DCB-2258-437B-8E8E-13B34FDE0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52680" y="2742840"/>
            <a:ext cx="27518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242400" y="2742840"/>
            <a:ext cx="27518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352680" y="3539160"/>
            <a:ext cx="27518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42400" y="3539160"/>
            <a:ext cx="27518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16FDA-79A1-4944-9683-C75006C8C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352680" y="2742840"/>
            <a:ext cx="18154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59240" y="2742840"/>
            <a:ext cx="18154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165800" y="2742840"/>
            <a:ext cx="18154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352680" y="3539160"/>
            <a:ext cx="18154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5259240" y="3539160"/>
            <a:ext cx="18154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7165800" y="3539160"/>
            <a:ext cx="18154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45EA0-B13D-4242-B990-3D872064F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352680" y="2742840"/>
            <a:ext cx="563904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8B5B-0297-4792-81DF-9BE5911BE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52680" y="2742840"/>
            <a:ext cx="275184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42400" y="2742840"/>
            <a:ext cx="275184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8672-F25C-4410-A2C8-4DD349552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CD5C-19B5-4842-9BC8-6732D9E3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09C7-9CD7-476A-995B-5ADA56E6A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352680" y="2742840"/>
            <a:ext cx="27518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42400" y="2742840"/>
            <a:ext cx="275184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352680" y="3539160"/>
            <a:ext cx="27518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394D-2603-4D34-AE09-1B497AA1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352680" y="2742840"/>
            <a:ext cx="275184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42400" y="2742840"/>
            <a:ext cx="27518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42400" y="3539160"/>
            <a:ext cx="27518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0F84-A0B7-4C98-9740-7477CBF7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352680" y="2742840"/>
            <a:ext cx="27518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42400" y="2742840"/>
            <a:ext cx="27518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352680" y="3539160"/>
            <a:ext cx="56390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7F2A-8B34-4036-9015-4B1825C7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31400" cy="1066680"/>
          </a:xfrm>
          <a:prstGeom prst="rect">
            <a:avLst/>
          </a:prstGeom>
          <a:gradFill rotWithShape="0">
            <a:gsLst>
              <a:gs pos="0">
                <a:srgbClr val="fc0128"/>
              </a:gs>
              <a:gs pos="100000">
                <a:srgbClr val="4a000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977760"/>
            <a:ext cx="9131400" cy="586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429000" y="16002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7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indent="-191880">
              <a:spcBef>
                <a:spcPts val="7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-191880">
              <a:spcBef>
                <a:spcPts val="7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2D3BC-DF45-406A-A34E-BCC531F5878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977760"/>
            <a:ext cx="9131400" cy="5867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9131400" cy="1066680"/>
          </a:xfrm>
          <a:prstGeom prst="rect">
            <a:avLst/>
          </a:prstGeom>
          <a:gradFill rotWithShape="0">
            <a:gsLst>
              <a:gs pos="0">
                <a:srgbClr val="fc0128"/>
              </a:gs>
              <a:gs pos="100000">
                <a:srgbClr val="4a000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92276-BCCB-41EB-88E8-6123C65671B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103640" y="6597720"/>
            <a:ext cx="51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6633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1400" spc="-1" strike="noStrike">
                <a:solidFill>
                  <a:srgbClr val="666633"/>
                </a:solidFill>
                <a:latin typeface="楷体_GB2312"/>
                <a:ea typeface="楷体_GB2312"/>
              </a:rPr>
              <a:t>　  中国</a:t>
            </a:r>
            <a:r>
              <a:rPr b="1" lang="zh-CN" sz="1400" spc="-1" strike="noStrike">
                <a:solidFill>
                  <a:srgbClr val="666633"/>
                </a:solidFill>
                <a:latin typeface="楷体_GB2312"/>
                <a:ea typeface="楷体_GB2312"/>
              </a:rPr>
              <a:t>.</a:t>
            </a:r>
            <a:r>
              <a:rPr b="1" lang="zh-CN" sz="1400" spc="-1" strike="noStrike">
                <a:solidFill>
                  <a:srgbClr val="666633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2742840"/>
            <a:ext cx="56390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8:55Z</dcterms:modified>
  <cp:revision>49</cp:revision>
  <dc:subject/>
  <dc:title>幻灯片 1</dc:title>
</cp:coreProperties>
</file>