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A0B-B590-42EE-B436-F564C36B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39F-1166-435A-AFFF-5B74182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7B1-F405-4003-B1AE-E0609247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83-5157-4302-AD10-2E0CF665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6B8-C04B-4989-AC83-BCD91957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0F4B-2F6C-4587-A9D2-C3E1A5E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D0D-008F-40EA-BE0A-D13BBFA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321E-EDA9-4851-898A-ABE6E77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06D8-32F6-4D31-8C6F-E2F25FA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CC1-561D-4C37-BD5F-FF96D5AB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F356-C103-490F-94FF-145AAE0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8F6-6B22-4146-BD20-6CEF2F8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3DD3-C414-49BF-99C8-028F1A6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B388-DE69-484E-ACC8-0A02717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428-2147-4558-8133-0648B96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380F-76D9-4F2E-A41A-959BEE54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638-03CA-4C87-AC72-E0B9BAC9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1C5-096A-4A00-9013-CA6F5F9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5F3-4B9E-40B4-B585-B21ED3CD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821-5C38-463D-B091-03A432A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70F-48E9-4BFA-942C-78A3AA23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201-269D-4A08-BF45-3BD4949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F70-597F-4ECB-8322-A95F1F2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E51-2BCF-4B74-8F15-610980B4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6028-21DA-44F9-9AF5-96D11A37A00E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6D2E-1261-4BC7-8864-9B1908225BB0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04Z</dcterms:modified>
  <cp:revision>9</cp:revision>
  <dc:subject/>
  <dc:title>幻灯片 1</dc:title>
</cp:coreProperties>
</file>