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1F15-070A-4627-A421-71C6D4D4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315D-D021-40E1-8FBF-B42814D2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55B0-F21C-4077-9416-61A16ED1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1DE5-5665-4D4A-B3F8-EE0E54B2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88AC-3887-4603-9295-41656964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AF7E-D363-4A43-B5DF-01CC19A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6F1-D838-4D4A-AA59-7980C8C8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5A3-BB26-4BE7-B9C6-002ACFB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7684-EE00-4722-AD87-AD7C4556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68D-5A60-44FE-A28F-83CDF6FE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04D5-C995-4FE7-91BE-494B8EA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3FA1-AEE3-41D9-BC58-934A862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9BC7-E426-4158-AD3A-12EDA95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85CB-72C9-4AA7-9407-59567DE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68B-CACF-4B67-81F1-9D2F538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A31A-43C6-4A4B-B8A7-9C986A2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81EF-43F4-494D-ACC0-5200BFBA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78B4-B16C-44E8-BC4B-EF4E2944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A927-9AE3-47C4-B3B2-D62B113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4151-4C7F-4137-95E7-29BFA89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3FF1-2F59-44BF-957E-C25CF041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54DF-4B96-4123-AFFF-ABEF7CD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BC15-83E9-4744-AF2D-C6DFDB64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992B-2C56-4380-ADA9-75BC2A9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12Z</dcterms:modified>
  <cp:revision>3</cp:revision>
  <dc:subject/>
  <dc:title>幻灯片 1</dc:title>
</cp:coreProperties>
</file>