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4504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93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4504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93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0102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504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093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810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504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093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0102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104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104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39680" cy="6845400"/>
          </a:xfrm>
          <a:prstGeom prst="rect">
            <a:avLst/>
          </a:prstGeom>
          <a:gradFill rotWithShape="0">
            <a:gsLst>
              <a:gs pos="0">
                <a:srgbClr val="009183"/>
              </a:gs>
              <a:gs pos="100000">
                <a:srgbClr val="00b7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7a5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b7a5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b7a5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b7a5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02Z</dcterms:modified>
  <cp:revision>50</cp:revision>
  <dc:subject/>
  <dc:title>幻灯片 1</dc:title>
</cp:coreProperties>
</file>