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26E-70F7-4EA8-A30A-F5C672E3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D6A-F2E0-4532-9DE1-91778118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667-15FF-44FC-ACA1-2A635422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693-A408-4C7E-8A7A-494F4B6A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F1F-EF41-471F-B134-993F2B35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1EE-4F8E-4382-B237-607D6473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67E-8B8B-451B-BD9A-16BB6917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48E-6819-47B7-A0E7-3E99CC21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F97-C220-4A23-A325-81A1EA4B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489-04D9-4CCD-95DF-D1E181D2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BB7-AF20-4372-8522-0E6BF4E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830-9FB3-46EA-81B8-664C353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43200" y="647712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B13C-0AB9-48BE-9294-C7D812C732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2436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6:24Z</dcterms:modified>
  <cp:revision>35</cp:revision>
  <dc:subject/>
  <dc:title>幻灯片 1</dc:title>
</cp:coreProperties>
</file>