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74E-D234-4823-9D4F-9D3BFEDE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834-0C62-4AD3-9AD3-F1E58DE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92F-5BF4-4DBE-82A2-18D8A075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2FA-B83D-44D9-BA9B-C3FD9301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413-32FD-436E-920F-4D513948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EFE7-0F21-4440-95C1-4F3C08F1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AE38-C583-443D-BD57-2BB8717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94B-DDA3-44DF-9009-26E27C8D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EE5F-0F34-4FBB-ADD8-9E8108B8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7892-6D72-48FE-A469-EE9057CE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9483-B19F-49FB-8047-572FBE7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C21-6408-4071-BD6E-07F70CE8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A14-54AD-4017-BF3C-EFCAD2E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805-5E16-497D-B4A2-B606A2C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DCE-BAD4-4B9F-9547-50E945D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03B-7111-4488-9EFB-4A2D9AC7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0A8E-F5E3-4D76-965D-A7668EDA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891-A2C0-4A5A-AAF1-CBED136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6C9-CEEF-4055-A152-1F857C6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74C-2A29-4C33-BA26-CB585926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820-E18A-4B47-A2FD-6CF7944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5EF-2FD0-4BCF-A243-F8890BA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A41-6DB6-4404-8CA6-0B74F2DB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FD3-5F78-4FFA-A0F5-A182B6B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/>
              <a:ahLst/>
              <a:rect l="l" t="t" r="r" b="b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/>
              <a:ahLst/>
              <a:rect l="l" t="t" r="r" b="b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33F-ECC6-43F1-9138-EC34E00650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/>
              <a:ahLst/>
              <a:rect l="l" t="t" r="r" b="b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/>
              <a:ahLst/>
              <a:rect l="l" t="t" r="r" b="b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8620-A3B3-4B97-A68A-4DBCCA767B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04Z</dcterms:modified>
  <cp:revision>15</cp:revision>
  <dc:subject/>
  <dc:title>幻灯片 1</dc:title>
</cp:coreProperties>
</file>