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7266-55F6-4CE2-8CB1-D6BBF3F1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AF67-2683-449F-B4D7-F3759F3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7EA8-D949-4D8C-8259-FAA0A93A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79CB-220F-45B5-9480-4C234134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624-92F7-4C2A-A8D3-11FFCF38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D0A-2240-4A08-ADE8-D14E3D69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6B29-7FC3-4E40-804D-0D07D16C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FB9-A0EE-46DD-8753-530F0704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9BB-4376-468C-BA4F-745A689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EB66-EB9B-4539-A64A-E16D954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394A-4F42-4C81-9B8A-282A8D5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A898-9D1F-4954-91C4-98AF59CA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498A-BBA0-4287-9251-62F8D4E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8B30-1025-4654-8337-0D27954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7D2E-EC66-4073-B7A6-CC26D7F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608-DC7F-4408-A289-B42BF311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E1F9-4CDF-471C-AFF1-1FF48A83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90AC-CF3C-4B96-823B-B3AD80AE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B8DF-EFF1-4E7F-B008-702AD6C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42A6-9A75-4035-A591-2C9259C1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39D2-3D67-4ADA-8FBC-3866A709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FDD6-012E-4E58-B210-C56206B1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7750-E2DA-4CA7-B77D-6EE128F7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9A23-F0D1-49EE-BD77-C0523D9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00FD-03C0-4E4D-99E5-DC8E1D3B4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51A9-7D8B-49BB-83C7-43C9ADDDF0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59Z</dcterms:modified>
  <cp:revision>29</cp:revision>
  <dc:subject/>
  <dc:title>幻灯片 1</dc:title>
</cp:coreProperties>
</file>