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4145-C11B-4B9F-AA6E-854B9A963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438B-1C67-40C9-95B0-23E9EA20C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97F9-1285-446B-AF75-48D58D058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E27D-0B43-4D4B-A456-C2CEC0FCF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9BCA-2D62-4B8B-9C2C-B07D896F8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1EBB-BF6D-40A7-A163-B7C623596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20C7-EE3C-47A2-BA82-59B2479D3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3BD5-23FA-4E01-ACDA-B85B0B806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91E4-5172-45C8-825C-604C822B3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8885-B64B-468E-B2A1-287765B35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F7F7-5FAD-4624-8D1B-B719E8B2F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746C-E73C-40FE-82CE-C0B76C8B5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55Z</dcterms:modified>
  <cp:revision>52</cp:revision>
  <dc:subject/>
  <dc:title>幻灯片 1</dc:title>
</cp:coreProperties>
</file>