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F5E9-F4A7-40C2-B15F-1EDA093C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9BC4-7BF4-46A3-97A3-D893C88C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5A8-8D2E-4E64-9D7D-D50238DF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6BC-D1DC-4AAB-BD3C-C6968940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CC73-06E5-4088-964F-B94B001C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E833-E4BC-4D02-99EA-58EABFFB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50A-68CF-4486-8E9A-4D1729D5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089F-1A51-4D15-94A5-42ED886E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CC89-58C2-4312-A049-5554950B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F4C-D846-44D2-ADDD-C52DEAFB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3A0-1370-4F80-B45A-F2B49EF8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C1B8-3A03-4571-A4CC-88352B79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D667-346D-47A8-B8B9-D1E2403AF6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5:12Z</dcterms:modified>
  <cp:revision>30</cp:revision>
  <dc:subject/>
  <dc:title>幻灯片 1</dc:title>
</cp:coreProperties>
</file>