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BC6-1905-4FBA-AABC-1D95FEAD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0BC-A068-48F7-8206-8A08D048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B28-D41C-468A-9014-5BF89A06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69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33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9051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69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233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893-4BEF-4507-B980-CCE37D3C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B72-6B6C-477D-A038-4F40BF08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2C40-7454-42DE-9E3F-198B5C27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5D7B-E085-4ACC-ABB3-E99F42B4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8658-1A17-43CB-96D1-83C3E36A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C7F0-C167-4376-A021-EF9BDE21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FEAD-A573-40DF-A183-8149AE9F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DA9B-677F-4ACF-AEF1-4E1B9D8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114-FEE4-4F0C-9D36-E5398E0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17EB-A1C3-4332-874B-0D9F0E1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8B3F-4448-4568-A804-336BDFC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9799-4E0F-4642-AC57-3D984A17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CEB5-51F6-4DB9-BC1F-A7275512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69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33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9051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69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33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D882-180E-4885-92C5-E5E8BFA4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235-4BF5-4B6E-8B72-4BB50B0A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F9A-8E02-4D3A-88BF-A28F0DAD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3AB-C902-4ABF-8238-D7974260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8F6-704C-400F-952C-302EF31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5DE-C1B7-47D0-BBBE-3A286F9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92C-5AB7-46AA-A861-984BCAF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AAF-F5A1-4404-8CCC-DF384FC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0"/>
            <a:ext cx="1144440" cy="6788160"/>
            <a:chOff x="77760" y="0"/>
            <a:chExt cx="1144440" cy="6788160"/>
          </a:xfrm>
        </p:grpSpPr>
        <p:grpSp>
          <p:nvGrpSpPr>
            <p:cNvPr id="1" name="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2" name="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480" cy="60847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1200" cy="1084320"/>
              <a:chOff x="81000" y="5703840"/>
              <a:chExt cx="1141200" cy="108432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141960"/>
                <a:ext cx="398520" cy="24768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5640" y="570384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7560" y="633888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32B-FD8F-46D5-B332-C7D4CBFBCF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7760" y="0"/>
            <a:ext cx="1144440" cy="3511440"/>
            <a:chOff x="77760" y="0"/>
            <a:chExt cx="1144440" cy="3511440"/>
          </a:xfrm>
        </p:grpSpPr>
        <p:grpSp>
          <p:nvGrpSpPr>
            <p:cNvPr id="55" name=""/>
            <p:cNvGrpSpPr/>
            <p:nvPr/>
          </p:nvGrpSpPr>
          <p:grpSpPr>
            <a:xfrm>
              <a:off x="77760" y="0"/>
              <a:ext cx="1069920" cy="2819520"/>
              <a:chOff x="77760" y="0"/>
              <a:chExt cx="1069920" cy="2819520"/>
            </a:xfrm>
          </p:grpSpPr>
          <p:sp>
            <p:nvSpPr>
              <p:cNvPr id="56" name=""/>
              <p:cNvSpPr/>
              <p:nvPr/>
            </p:nvSpPr>
            <p:spPr>
              <a:xfrm>
                <a:off x="77760" y="0"/>
                <a:ext cx="1069920" cy="28195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5640" y="0"/>
                <a:ext cx="276480" cy="28195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81000" y="2427120"/>
              <a:ext cx="1141200" cy="1084320"/>
              <a:chOff x="81000" y="2427120"/>
              <a:chExt cx="1141200" cy="1084320"/>
            </a:xfrm>
          </p:grpSpPr>
          <p:sp>
            <p:nvSpPr>
              <p:cNvPr id="59" name=""/>
              <p:cNvSpPr/>
              <p:nvPr/>
            </p:nvSpPr>
            <p:spPr>
              <a:xfrm>
                <a:off x="822240" y="2865600"/>
                <a:ext cx="398520" cy="24732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000" y="280980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5640" y="242712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9120" y="280980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99880" y="320832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7560" y="306216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1960" y="305748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7600" y="247824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3698-D747-4588-AB25-31D8820497E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52Z</dcterms:modified>
  <cp:revision>28</cp:revision>
  <dc:subject/>
  <dc:title>幻灯片 1</dc:title>
</cp:coreProperties>
</file>