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082-FF37-4D89-BC63-2B678803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9F2-CD45-498B-843F-D932278D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645-A181-4349-A3B5-EC0EFB6A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CB7-5B72-4353-8122-657C9D33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3735-F778-4E1F-88C0-07AADDF5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0BFC-1F24-4C43-B8DF-7345AF4A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5F1D-2FE4-4B7F-A179-6486D36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6F5D-3385-486D-ADF0-6588A305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A85C-1016-4B79-990C-DC74CC27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C845-51D2-46FD-A0DB-1188D403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2A33-75B1-4901-86BE-2D9601DB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3F9-890A-48A6-BBDC-C4346235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E3CB-F617-4964-91AB-7A848658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F61C-78A8-4D13-B132-D36DE177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CCFB-D752-4560-AFD7-7EDAC448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9982-1B56-4D20-9D47-DE4A65E2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673A-2295-4A87-8277-006DDBA3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267-880F-4E00-B90B-750C7146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9D1-3D72-4FEE-9B66-806F9CB7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612-DFFB-4956-A488-E1A242CA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4DB-7546-4469-BF34-CAA2F2B5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30F-09EE-4ACD-B021-6B416DF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685-46DC-4987-A9EA-7FD811A6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AA6-A547-4034-9904-A652788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7" name="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1000" y="1634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9240" y="3650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11" name="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09200" y="18900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77440" y="390600"/>
              <a:ext cx="21096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15" name="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1800" y="63356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040" y="65372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19" name="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38040" y="6361200"/>
              <a:ext cx="19548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280" y="6562800"/>
              <a:ext cx="21132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62" name="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5520" y="1602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440" y="369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66" name="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3160" y="10944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08440" y="31896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70" name="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6600" y="6307200"/>
              <a:ext cx="25380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1520" y="6516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74" name="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31080" y="14760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6360" y="3571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78" name="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32960" y="63324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97880" y="654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82" name="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3760" y="122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38680" y="33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86" name="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6600" y="320832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520" y="341784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90" name="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07400" y="3335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72680" y="354492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18Z</dcterms:modified>
  <cp:revision>17</cp:revision>
  <dc:subject/>
  <dc:title>幻灯片 1</dc:title>
</cp:coreProperties>
</file>