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E41-F5BE-4D7E-ADB8-3561C42A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462-C319-4270-AA78-DBAD16F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1FC-D336-49F1-AB6E-58F5DA8A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969-4DF1-4CCF-905C-5A3A5D4F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246F-FE60-4254-A2E1-602EF77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181-27D6-40D9-AE9D-3F55C0F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6B9-5D1E-409A-A7B3-E45F78D4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421B-35C8-44CA-A17F-462BA63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60A-682C-4F2B-8BF1-9426456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656-64DE-483F-959E-CCEAAAE5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2D3-DEA3-42A0-976E-D66EF64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354-F765-4504-9745-4A711DD1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D21C-59E2-472D-8442-CDF12C5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37DF-221A-403A-8B1C-A734A44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0E76-265B-4949-97F8-99A3AD6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D3F-5D49-432C-AA89-FDB380AE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759-9B88-4CF6-B1EE-1A4C2099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CF9-77E5-447E-A111-012917F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474-B8DD-47D9-825A-8EC3EAB4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3AE-8E55-44C2-B3CE-BC79B1F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4D3-02BA-4587-93A5-9F4CA98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14A-70E4-4E9A-A713-68B98DC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606-E1F3-4A25-A328-5946226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F87-A817-463A-AF59-472C7C0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0B5-F915-4595-AAC1-0FC36D0424F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587-27FA-4A68-A5B0-86AA16636E5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1Z</dcterms:modified>
  <cp:revision>43</cp:revision>
  <dc:subject/>
  <dc:title>幻灯片 1</dc:title>
</cp:coreProperties>
</file>