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14F-BB4A-4D89-92EE-8A42FCC0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952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110-FC43-42B8-A4A3-7464FB99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952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52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562-E63A-432B-9523-49375CF3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5924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23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952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5924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23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4C59-AC43-438F-B031-2629D564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0606-A590-4C40-84A9-6F10523E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83E0-4ED9-4FD4-9994-C6369CCA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86BC-6F7A-4350-BBFD-A8227EFA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3C6F-06D7-4B7A-A40E-77F4EE79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F584-A260-4D36-BA69-08A91EE3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433A-0C8F-4384-83CF-EF744E78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952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9361-F777-49AB-9934-78E4CE1D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6ED-A796-4506-B761-A036A16C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52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1858-C589-4247-B3B6-645A618B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952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2D70-B735-4C80-8F32-36F21DF5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2952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5B55-DDA9-457E-A3A0-1EB56F00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2952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52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B078-1A5F-453B-823C-38DEDF65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5924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23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2952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45924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623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AD33-7831-4DC6-9027-9AC6BA90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E44-B7A2-4B34-AF6C-D00E459B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19A0-9AAC-476B-9494-801736D4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08F-B58E-49B8-AC78-66438B3F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FA4-F6F1-4374-9FAF-AAA6F25E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880-CB85-4451-ABEF-137407C5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52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088-AC07-4EC6-AC93-E3336F2C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52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5969-AC7B-426C-82BC-B9D9AB03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" name="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A7F9-320E-4C2E-9210-A3FAE67E61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9559-4461-4EFC-9372-F787D28A71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fd1e7"/>
              </a:buClr>
              <a:buSzPct val="5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SzPct val="5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35Z</dcterms:modified>
  <cp:revision>19</cp:revision>
  <dc:subject/>
  <dc:title>幻灯片 1</dc:title>
</cp:coreProperties>
</file>