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78E-0E99-4328-84DB-AE95E3A6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BCE-BD58-450E-9181-F549122D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316-458E-4498-B8F6-4288D9B9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7364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79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7364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79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386-E82B-4517-9AF1-3EEA7989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7A90-F326-4FE4-AB22-EC8ECF7D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4750-6BBA-4727-8F2A-F2734A72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52EB-8D37-4F16-8EF2-77BAB3A5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6E55-9F52-499B-9D04-749982F9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0082-1242-460E-B8D5-AB223742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057040" y="22856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0BDD-6518-44A2-818A-4F60790A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B6EF-1686-495D-B324-7161DA4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925-6106-4C73-8A34-C2EB439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03A4-4EF3-416F-A62C-6351C1A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8952-86D0-4947-92D6-394E260C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9FC-6340-4001-939D-B2754539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AB27-A5F3-4021-B099-6668889D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7364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379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096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7364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379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6C24-8F4C-4C71-AAB6-978F0CA7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AF1-4115-4520-AB3B-7DC9C23E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DE4-A550-4015-B8AE-6621BF66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58C-A866-47BF-AAE6-8F928087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040" y="22856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4DD-4440-47DA-8280-08071010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5E5-9E48-41AF-8B1D-5E8D4F5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F6B-681E-448B-97BC-EAC8F47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21B-3872-401B-B14C-2889928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093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DA73-7F3A-40F9-A3CB-A4A9AC3763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6E85-36AD-4409-AB91-F1E2057CD1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48Z</dcterms:modified>
  <cp:revision>48</cp:revision>
  <dc:subject/>
  <dc:title>幻灯片 1</dc:title>
</cp:coreProperties>
</file>