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202-E56C-4BC0-A0AB-BAA15248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808-F4A7-4703-8F3B-87A53CDA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37A-5E23-40B7-AA77-56683E2A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BA2-E14A-40D2-8A8C-1DBE094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2FB-0EE8-46CB-95D2-07488D76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E04-3972-44C8-82A6-6139DAB6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387-AFC0-456A-804D-C667D82C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DED-429D-414A-B50F-002B20AF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6C5-CDD4-46BC-A62D-25728962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2A4-C6E3-464E-837A-FEE9D90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082-29E8-4260-978F-D80D00CC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37C-A79C-4371-AD14-8F4B922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48C0-495C-439E-AD99-D4C6D93BB4AD}" type="slidenum">
              <a:rPr b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56Z</dcterms:modified>
  <cp:revision>38</cp:revision>
  <dc:subject/>
  <dc:title>幻灯片 1</dc:title>
</cp:coreProperties>
</file>