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D47-8C8A-4B01-9DFC-03CE5FF2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043-6F44-4DFE-A93B-B9C10F3B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129-AD87-4B44-AF03-CCFDBAFB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B0B-5452-4825-9F94-7F7AC1C9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3802E-D49C-4E52-A915-EB7837C5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18C4-1D5B-4BBE-8996-50AB887E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B662C-311F-4F95-9365-1DE216EE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A786B-4299-43D6-9106-EB084E0E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3FBB9-7D30-4F0A-A42F-468309D9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3DA9B-946A-4C61-92D9-FB79EDB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0A817-4F13-4E1D-9075-835D99CD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6E6-6D1A-493C-86AE-EC276C1A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04BA6-6F94-4162-BCD9-74F7A56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63AF4-35FC-4AD0-8A4A-DD59CB6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6D347-ABCC-4B99-8255-114EFC7E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D32C8-30B6-4B57-9BD0-C63C0774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AFB46-8841-4F7D-BFF1-FF6FEEC4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1D3-9682-4810-BD0F-E397117E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E47-510A-47A7-A287-F315674A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B40-FD05-442C-BAAE-9DCB922B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933-2D50-43CB-9AEF-4655B54A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1A5-C538-479E-BFFC-DD00DDF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DBE-6076-45EE-B113-0AFEDB54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B72-C939-4FA0-A230-329CA809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5F56-48C7-4742-9EF5-2648C90C40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BCD2-0E3E-4D58-984B-AFDED5B83D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40Z</dcterms:modified>
  <cp:revision>59</cp:revision>
  <dc:subject/>
  <dc:title>幻灯片 1</dc:title>
</cp:coreProperties>
</file>