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2DD-A16B-437D-80C5-4C4D280B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19E-FE65-4C77-A1E4-6EECA703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584-66FE-4C80-A390-3C55698C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377-12DD-46F9-BA84-AF341530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3C2E-DBE2-43E9-B025-84FC6D66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4140-DDCC-4829-A8A2-7006A473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28B6-AD45-444A-B889-9D029745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EF2B-B23E-4F94-937D-45F6BB9D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1522-26F7-4889-B4A5-26AE57C1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F40F-5E39-4DE3-AFB9-0A966B1F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A678-FE2B-4DB2-999F-223726CD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E91-162C-45A1-BEC2-96B7985C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B4A7-2C84-4DC5-8E6D-FC1094B6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F303-6364-4410-83DF-F861B875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8F13-5CE3-4A56-813F-96E67B77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9AFC-4F5C-44E9-BA8B-4EAFC28C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7E0C-D2DD-4D8C-8A1B-B525ED4F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479-2003-409E-B9B7-3B7A3C37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6D1-B317-4F15-93DD-31FCC46A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1D1-4BF1-4375-9D32-5CDAB37A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076-58DD-4B6B-9724-98DCD5D6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237-0811-4BE3-9E2D-B964C288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DD8-1DCB-4621-9D2F-44715B6D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0DB-0C31-421A-A38C-F6CCEA14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D850-CABF-4ABE-8A93-3D92280E136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6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BDC2-8886-43FF-A09C-B35CF2426A7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00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00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15Z</dcterms:modified>
  <cp:revision>45</cp:revision>
  <dc:subject/>
  <dc:title>幻灯片 1</dc:title>
</cp:coreProperties>
</file>