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1AF9-B298-42F6-B39F-080BF32E9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71C5-CB6C-4023-A85D-C9CEEA7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1C78-B933-4B77-9B56-E257D47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9D68-754A-426B-BD84-D651B7ECE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0167-AABD-41B2-9B2E-FF4000B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E8E4-2C3E-4109-9247-FAA8A07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6183-C1B7-4D48-AAE3-4F96BE5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38CF-17F7-40F0-AC6F-307AFD3E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CBB1-7D51-4279-BDAE-5DF4B5C8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8290-6B07-4B0E-9A96-5E95FAA1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844F-6E28-469A-8DE5-95C9129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96E2-89E4-4140-92EF-BC659DE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D62-C27B-4D76-A01F-20BA7BA95F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15Z</dcterms:modified>
  <cp:revision>54</cp:revision>
  <dc:subject/>
  <dc:title>幻灯片 1</dc:title>
</cp:coreProperties>
</file>