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3BE-A630-45E5-B252-039AA293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46B-25A4-4DD4-8B0E-D26916BA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660-B685-4EA2-A0D7-81ECB150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DD8-1580-4A3E-882F-C3E49EC1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2085-0E0A-4F8F-AF88-5B491B9E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03EB-6C1E-4222-9A1F-C93FFA32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EA9F-9042-43D5-8CDF-57120E4C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E907-3E58-48E7-82A7-305B4C75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20AA-CBB9-47FF-965C-9667E1FA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EEF7-4FED-4661-B539-B16561AC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420A-6F61-48D3-9CDA-5A73088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8E4-D790-4909-A695-212CC400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2330-7058-4D4F-8485-46E2A0DC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54CD-B8A0-4266-9A00-8DC00E12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C660-0259-4280-A9FC-6B4E2CF4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D823-91F8-4859-93AB-882F43F9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E9FF-FCAF-49C3-997B-E3014CE2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AFC-2D61-4C23-8C25-FB468ECB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281-15EE-419B-9412-EE29A509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7F0-9CE6-4263-929F-DA32AA4B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B7F-83E7-4024-96CA-4910A5ED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B7C-0881-4D03-A327-FCD12BB6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D63-A457-4AEC-96A7-26F54726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515-F6FB-4A78-B5A5-85CCB241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399960" y="209520"/>
              <a:ext cx="1525680" cy="1525680"/>
            </a:xfrm>
            <a:custGeom>
              <a:avLst/>
              <a:gdLst/>
              <a:ahLst/>
              <a:rect l="l" t="t" r="r" b="b"/>
              <a:pathLst>
                <a:path w="961" h="961">
                  <a:moveTo>
                    <a:pt x="480" y="0"/>
                  </a:moveTo>
                  <a:lnTo>
                    <a:pt x="0" y="480"/>
                  </a:lnTo>
                  <a:lnTo>
                    <a:pt x="480" y="960"/>
                  </a:lnTo>
                  <a:lnTo>
                    <a:pt x="960" y="480"/>
                  </a:lnTo>
                  <a:lnTo>
                    <a:pt x="480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96"/>
                  </a:moveTo>
                  <a:lnTo>
                    <a:pt x="0" y="0"/>
                  </a:lnTo>
                  <a:lnTo>
                    <a:pt x="480" y="480"/>
                  </a:lnTo>
                  <a:lnTo>
                    <a:pt x="384" y="480"/>
                  </a:lnTo>
                  <a:lnTo>
                    <a:pt x="0" y="96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480" y="0"/>
                  </a:moveTo>
                  <a:lnTo>
                    <a:pt x="480" y="96"/>
                  </a:lnTo>
                  <a:lnTo>
                    <a:pt x="96" y="480"/>
                  </a:lnTo>
                  <a:lnTo>
                    <a:pt x="0" y="480"/>
                  </a:lnTo>
                  <a:lnTo>
                    <a:pt x="480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384" y="0"/>
                  </a:moveTo>
                  <a:lnTo>
                    <a:pt x="480" y="0"/>
                  </a:lnTo>
                  <a:lnTo>
                    <a:pt x="0" y="480"/>
                  </a:lnTo>
                  <a:lnTo>
                    <a:pt x="0" y="384"/>
                  </a:lnTo>
                  <a:lnTo>
                    <a:pt x="384" y="0"/>
                  </a:lnTo>
                </a:path>
              </a:pathLst>
            </a:custGeom>
            <a:solidFill>
              <a:srgbClr val="00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96" y="0"/>
                  </a:moveTo>
                  <a:lnTo>
                    <a:pt x="480" y="384"/>
                  </a:lnTo>
                  <a:lnTo>
                    <a:pt x="480" y="480"/>
                  </a:ln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1FD8-9532-4297-9196-B9755348C52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866960"/>
            <a:ext cx="2021040" cy="2020680"/>
            <a:chOff x="0" y="1866960"/>
            <a:chExt cx="2021040" cy="2020680"/>
          </a:xfrm>
        </p:grpSpPr>
        <p:sp>
          <p:nvSpPr>
            <p:cNvPr id="48" name=""/>
            <p:cNvSpPr/>
            <p:nvPr/>
          </p:nvSpPr>
          <p:spPr>
            <a:xfrm>
              <a:off x="0" y="1866960"/>
              <a:ext cx="2021040" cy="2020680"/>
            </a:xfrm>
            <a:custGeom>
              <a:avLst/>
              <a:gdLst/>
              <a:ahLst/>
              <a:rect l="l" t="t" r="r" b="b"/>
              <a:pathLst>
                <a:path w="1273" h="1273">
                  <a:moveTo>
                    <a:pt x="636" y="0"/>
                  </a:moveTo>
                  <a:lnTo>
                    <a:pt x="0" y="636"/>
                  </a:lnTo>
                  <a:lnTo>
                    <a:pt x="636" y="1272"/>
                  </a:lnTo>
                  <a:lnTo>
                    <a:pt x="1272" y="636"/>
                  </a:lnTo>
                  <a:lnTo>
                    <a:pt x="636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0980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0" y="127"/>
                  </a:moveTo>
                  <a:lnTo>
                    <a:pt x="0" y="0"/>
                  </a:lnTo>
                  <a:lnTo>
                    <a:pt x="636" y="636"/>
                  </a:lnTo>
                  <a:lnTo>
                    <a:pt x="508" y="636"/>
                  </a:lnTo>
                  <a:lnTo>
                    <a:pt x="0" y="127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636" y="0"/>
                  </a:moveTo>
                  <a:lnTo>
                    <a:pt x="636" y="127"/>
                  </a:lnTo>
                  <a:lnTo>
                    <a:pt x="127" y="636"/>
                  </a:lnTo>
                  <a:lnTo>
                    <a:pt x="0" y="636"/>
                  </a:lnTo>
                  <a:lnTo>
                    <a:pt x="636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0980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508" y="0"/>
                  </a:moveTo>
                  <a:lnTo>
                    <a:pt x="636" y="0"/>
                  </a:lnTo>
                  <a:lnTo>
                    <a:pt x="0" y="636"/>
                  </a:lnTo>
                  <a:lnTo>
                    <a:pt x="0" y="508"/>
                  </a:lnTo>
                  <a:lnTo>
                    <a:pt x="508" y="0"/>
                  </a:lnTo>
                </a:path>
              </a:pathLst>
            </a:custGeom>
            <a:solidFill>
              <a:srgbClr val="00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127" y="0"/>
                  </a:moveTo>
                  <a:lnTo>
                    <a:pt x="636" y="508"/>
                  </a:lnTo>
                  <a:lnTo>
                    <a:pt x="636" y="636"/>
                  </a:lnTo>
                  <a:lnTo>
                    <a:pt x="0" y="0"/>
                  </a:lnTo>
                  <a:lnTo>
                    <a:pt x="127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7DCE-1533-4E5F-829D-7999F9154B6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43Z</dcterms:modified>
  <cp:revision>27</cp:revision>
  <dc:subject/>
  <dc:title>幻灯片 1</dc:title>
</cp:coreProperties>
</file>