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624852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132800"/>
            <a:ext cx="624852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0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25160" y="281916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13280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2320" y="413280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25160" y="413280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2819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2819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020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2800"/>
            <a:ext cx="624852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624852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2800"/>
            <a:ext cx="624852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020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12320" y="281916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25160" y="281916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280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12320" y="413280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25160" y="4132800"/>
            <a:ext cx="201168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040" y="413280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040" y="2819160"/>
            <a:ext cx="304920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132800"/>
            <a:ext cx="6248520" cy="11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 Futura Bol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 Futura Bol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45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SzPct val="4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B Futur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99840" y="2819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31Z</dcterms:modified>
  <cp:revision>36</cp:revision>
  <dc:subject/>
  <dc:title>幻灯片 1</dc:title>
</cp:coreProperties>
</file>