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68E-F58B-4D4A-AF51-59531579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88F-0BFE-4CEA-974B-0F6206B2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BECD-C323-4F17-A621-F5C4E3DA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C70C-5515-4381-A327-AC496A0D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F579-DFAC-438B-AD5D-EABE8061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B911-FE4C-4A62-89F6-162E7273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67F-1A7A-4785-8B36-ABA6C56A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E8E1-DFDD-42E5-BF7B-CA14D7F3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9FA0-AE5D-4882-8D94-4E1B7536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7528-BCCE-4C48-94A4-F2F7D932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B01-7E67-48C4-9E9D-8EE3366B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FB71-8F36-4242-802E-E33802A9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3BEA-3DC9-4D05-BF85-1C9A0E678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16"/>
          <p:cNvSpPr/>
          <p:nvPr/>
        </p:nvSpPr>
        <p:spPr>
          <a:xfrm>
            <a:off x="515880" y="6113520"/>
            <a:ext cx="15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元宵佳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5440" y="262080"/>
            <a:ext cx="74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方正大黑连筋_GBK"/>
              </a:rPr>
              <a:t>秋力电器祝您元宵节快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4360" y="4724280"/>
            <a:ext cx="1655640" cy="1409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" descr=""/>
          <p:cNvPicPr/>
          <p:nvPr/>
        </p:nvPicPr>
        <p:blipFill>
          <a:blip r:embed="rId2"/>
          <a:stretch/>
        </p:blipFill>
        <p:spPr>
          <a:xfrm>
            <a:off x="177840" y="1387440"/>
            <a:ext cx="4792680" cy="4083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508720" y="1557360"/>
            <a:ext cx="295092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85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920" y="566064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正大黑简体"/>
              </a:rPr>
              <a:t>正月十五购物全场两折起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艾特 42"/>
          <p:cNvSpPr/>
          <p:nvPr/>
        </p:nvSpPr>
        <p:spPr>
          <a:xfrm>
            <a:off x="108000" y="5805360"/>
            <a:ext cx="1008000" cy="97020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艾特 43"/>
          <p:cNvSpPr/>
          <p:nvPr/>
        </p:nvSpPr>
        <p:spPr>
          <a:xfrm>
            <a:off x="7885080" y="5734080"/>
            <a:ext cx="1081080" cy="104148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7056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360" y="5660640"/>
            <a:ext cx="90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元宵节当天晚上</a:t>
            </a:r>
            <a:r>
              <a:rPr b="1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门前焰火盛宴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拉手小人 46"/>
          <p:cNvSpPr/>
          <p:nvPr/>
        </p:nvSpPr>
        <p:spPr>
          <a:xfrm>
            <a:off x="34920" y="6165720"/>
            <a:ext cx="720720" cy="681120"/>
          </a:xfrm>
          <a:custGeom>
            <a:avLst/>
            <a:gdLst/>
            <a:ahLst/>
            <a:rect l="l" t="t" r="r" b="b"/>
            <a:pathLst>
              <a:path w="104" h="100">
                <a:moveTo>
                  <a:pt x="15" y="30"/>
                </a:moveTo>
                <a:cubicBezTo>
                  <a:pt x="39" y="30"/>
                  <a:pt x="39" y="30"/>
                  <a:pt x="39" y="30"/>
                </a:cubicBezTo>
                <a:cubicBezTo>
                  <a:pt x="47" y="44"/>
                  <a:pt x="47" y="44"/>
                  <a:pt x="47" y="44"/>
                </a:cubicBezTo>
                <a:cubicBezTo>
                  <a:pt x="54" y="53"/>
                  <a:pt x="54" y="53"/>
                  <a:pt x="54" y="53"/>
                </a:cubicBezTo>
                <a:cubicBezTo>
                  <a:pt x="69" y="30"/>
                  <a:pt x="69" y="30"/>
                  <a:pt x="69" y="30"/>
                </a:cubicBezTo>
                <a:cubicBezTo>
                  <a:pt x="96" y="30"/>
                  <a:pt x="96" y="30"/>
                  <a:pt x="96" y="30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0" y="66"/>
                  <a:pt x="100" y="66"/>
                  <a:pt x="100" y="66"/>
                </a:cubicBezTo>
                <a:cubicBezTo>
                  <a:pt x="96" y="65"/>
                  <a:pt x="96" y="65"/>
                  <a:pt x="96" y="65"/>
                </a:cubicBezTo>
                <a:cubicBezTo>
                  <a:pt x="97" y="55"/>
                  <a:pt x="97" y="55"/>
                  <a:pt x="97" y="55"/>
                </a:cubicBezTo>
                <a:cubicBezTo>
                  <a:pt x="94" y="47"/>
                  <a:pt x="94" y="47"/>
                  <a:pt x="94" y="47"/>
                </a:cubicBezTo>
                <a:cubicBezTo>
                  <a:pt x="93" y="65"/>
                  <a:pt x="93" y="65"/>
                  <a:pt x="93" y="65"/>
                </a:cubicBezTo>
                <a:cubicBezTo>
                  <a:pt x="90" y="100"/>
                  <a:pt x="90" y="100"/>
                  <a:pt x="90" y="100"/>
                </a:cubicBezTo>
                <a:cubicBezTo>
                  <a:pt x="83" y="100"/>
                  <a:pt x="83" y="100"/>
                  <a:pt x="83" y="100"/>
                </a:cubicBezTo>
                <a:cubicBezTo>
                  <a:pt x="83" y="68"/>
                  <a:pt x="83" y="68"/>
                  <a:pt x="83" y="68"/>
                </a:cubicBezTo>
                <a:cubicBezTo>
                  <a:pt x="79" y="68"/>
                  <a:pt x="79" y="68"/>
                  <a:pt x="79" y="68"/>
                </a:cubicBezTo>
                <a:cubicBezTo>
                  <a:pt x="74" y="100"/>
                  <a:pt x="74" y="100"/>
                  <a:pt x="74" y="100"/>
                </a:cubicBezTo>
                <a:cubicBezTo>
                  <a:pt x="67" y="100"/>
                  <a:pt x="67" y="100"/>
                  <a:pt x="67" y="100"/>
                </a:cubicBezTo>
                <a:cubicBezTo>
                  <a:pt x="69" y="65"/>
                  <a:pt x="69" y="65"/>
                  <a:pt x="69" y="65"/>
                </a:cubicBezTo>
                <a:cubicBezTo>
                  <a:pt x="69" y="48"/>
                  <a:pt x="69" y="48"/>
                  <a:pt x="69" y="48"/>
                </a:cubicBezTo>
                <a:cubicBezTo>
                  <a:pt x="53" y="61"/>
                  <a:pt x="53" y="61"/>
                  <a:pt x="53" y="61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65"/>
                  <a:pt x="41" y="65"/>
                  <a:pt x="41" y="65"/>
                </a:cubicBezTo>
                <a:cubicBezTo>
                  <a:pt x="37" y="100"/>
                  <a:pt x="37" y="100"/>
                  <a:pt x="37" y="100"/>
                </a:cubicBezTo>
                <a:cubicBezTo>
                  <a:pt x="30" y="100"/>
                  <a:pt x="30" y="100"/>
                  <a:pt x="30" y="100"/>
                </a:cubicBezTo>
                <a:cubicBezTo>
                  <a:pt x="30" y="68"/>
                  <a:pt x="30" y="68"/>
                  <a:pt x="30" y="68"/>
                </a:cubicBezTo>
                <a:cubicBezTo>
                  <a:pt x="27" y="68"/>
                  <a:pt x="27" y="68"/>
                  <a:pt x="27" y="68"/>
                </a:cubicBezTo>
                <a:cubicBezTo>
                  <a:pt x="20" y="100"/>
                  <a:pt x="20" y="100"/>
                  <a:pt x="20" y="100"/>
                </a:cubicBezTo>
                <a:cubicBezTo>
                  <a:pt x="14" y="100"/>
                  <a:pt x="14" y="100"/>
                  <a:pt x="14" y="100"/>
                </a:cubicBezTo>
                <a:cubicBezTo>
                  <a:pt x="16" y="65"/>
                  <a:pt x="16" y="65"/>
                  <a:pt x="16" y="65"/>
                </a:cubicBezTo>
                <a:cubicBezTo>
                  <a:pt x="16" y="49"/>
                  <a:pt x="16" y="49"/>
                  <a:pt x="16" y="49"/>
                </a:cubicBezTo>
                <a:cubicBezTo>
                  <a:pt x="7" y="60"/>
                  <a:pt x="7" y="60"/>
                  <a:pt x="7" y="60"/>
                </a:cubicBezTo>
                <a:cubicBezTo>
                  <a:pt x="7" y="65"/>
                  <a:pt x="7" y="65"/>
                  <a:pt x="7" y="65"/>
                </a:cubicBezTo>
                <a:cubicBezTo>
                  <a:pt x="10" y="65"/>
                  <a:pt x="10" y="65"/>
                  <a:pt x="10" y="65"/>
                </a:cubicBezTo>
                <a:cubicBezTo>
                  <a:pt x="10" y="89"/>
                  <a:pt x="10" y="89"/>
                  <a:pt x="10" y="89"/>
                </a:cubicBezTo>
                <a:cubicBezTo>
                  <a:pt x="0" y="89"/>
                  <a:pt x="0" y="89"/>
                  <a:pt x="0" y="89"/>
                </a:cubicBezTo>
                <a:cubicBezTo>
                  <a:pt x="0" y="65"/>
                  <a:pt x="0" y="65"/>
                  <a:pt x="0" y="65"/>
                </a:cubicBezTo>
                <a:cubicBezTo>
                  <a:pt x="3" y="65"/>
                  <a:pt x="3" y="65"/>
                  <a:pt x="3" y="65"/>
                </a:cubicBezTo>
                <a:cubicBezTo>
                  <a:pt x="3" y="60"/>
                  <a:pt x="3" y="60"/>
                  <a:pt x="3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15" y="30"/>
                  <a:pt x="15" y="30"/>
                  <a:pt x="15" y="30"/>
                </a:cubicBezTo>
                <a:close/>
                <a:moveTo>
                  <a:pt x="86" y="4"/>
                </a:moveTo>
                <a:cubicBezTo>
                  <a:pt x="80" y="0"/>
                  <a:pt x="73" y="2"/>
                  <a:pt x="70" y="8"/>
                </a:cubicBezTo>
                <a:cubicBezTo>
                  <a:pt x="67" y="13"/>
                  <a:pt x="68" y="20"/>
                  <a:pt x="74" y="24"/>
                </a:cubicBezTo>
                <a:cubicBezTo>
                  <a:pt x="79" y="27"/>
                  <a:pt x="87" y="25"/>
                  <a:pt x="90" y="20"/>
                </a:cubicBezTo>
                <a:cubicBezTo>
                  <a:pt x="93" y="14"/>
                  <a:pt x="91" y="7"/>
                  <a:pt x="86" y="4"/>
                </a:cubicBezTo>
                <a:close/>
                <a:moveTo>
                  <a:pt x="22" y="4"/>
                </a:moveTo>
                <a:cubicBezTo>
                  <a:pt x="28" y="0"/>
                  <a:pt x="35" y="2"/>
                  <a:pt x="38" y="8"/>
                </a:cubicBezTo>
                <a:cubicBezTo>
                  <a:pt x="41" y="13"/>
                  <a:pt x="40" y="20"/>
                  <a:pt x="34" y="24"/>
                </a:cubicBezTo>
                <a:cubicBezTo>
                  <a:pt x="29" y="27"/>
                  <a:pt x="21" y="25"/>
                  <a:pt x="18" y="20"/>
                </a:cubicBezTo>
                <a:cubicBezTo>
                  <a:pt x="15" y="14"/>
                  <a:pt x="17" y="7"/>
                  <a:pt x="22" y="4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轴 47"/>
          <p:cNvSpPr/>
          <p:nvPr/>
        </p:nvSpPr>
        <p:spPr>
          <a:xfrm>
            <a:off x="8245440" y="5950080"/>
            <a:ext cx="825480" cy="826920"/>
          </a:xfrm>
          <a:custGeom>
            <a:avLst/>
            <a:gdLst/>
            <a:ahLst/>
            <a:rect l="l" t="t" r="r" b="b"/>
            <a:pathLst>
              <a:path w="3526872" h="3526871">
                <a:moveTo>
                  <a:pt x="1710861" y="0"/>
                </a:moveTo>
                <a:lnTo>
                  <a:pt x="1768439" y="1648835"/>
                </a:lnTo>
                <a:lnTo>
                  <a:pt x="1969505" y="11293"/>
                </a:lnTo>
                <a:lnTo>
                  <a:pt x="1987371" y="13486"/>
                </a:lnTo>
                <a:lnTo>
                  <a:pt x="1786306" y="1651027"/>
                </a:lnTo>
                <a:lnTo>
                  <a:pt x="2241063" y="65100"/>
                </a:lnTo>
                <a:lnTo>
                  <a:pt x="2258366" y="70062"/>
                </a:lnTo>
                <a:lnTo>
                  <a:pt x="1803609" y="1655989"/>
                </a:lnTo>
                <a:lnTo>
                  <a:pt x="2500861" y="160728"/>
                </a:lnTo>
                <a:lnTo>
                  <a:pt x="2517174" y="168335"/>
                </a:lnTo>
                <a:lnTo>
                  <a:pt x="1819921" y="1663598"/>
                </a:lnTo>
                <a:lnTo>
                  <a:pt x="2742501" y="295818"/>
                </a:lnTo>
                <a:lnTo>
                  <a:pt x="2757424" y="305883"/>
                </a:lnTo>
                <a:lnTo>
                  <a:pt x="1834846" y="1673661"/>
                </a:lnTo>
                <a:lnTo>
                  <a:pt x="2960032" y="467046"/>
                </a:lnTo>
                <a:lnTo>
                  <a:pt x="2973198" y="479322"/>
                </a:lnTo>
                <a:lnTo>
                  <a:pt x="1848009" y="1685939"/>
                </a:lnTo>
                <a:lnTo>
                  <a:pt x="3148101" y="670196"/>
                </a:lnTo>
                <a:lnTo>
                  <a:pt x="3159183" y="684380"/>
                </a:lnTo>
                <a:lnTo>
                  <a:pt x="1859092" y="1700122"/>
                </a:lnTo>
                <a:lnTo>
                  <a:pt x="3302074" y="900264"/>
                </a:lnTo>
                <a:lnTo>
                  <a:pt x="3310800" y="916008"/>
                </a:lnTo>
                <a:lnTo>
                  <a:pt x="1867819" y="1715865"/>
                </a:lnTo>
                <a:lnTo>
                  <a:pt x="3418160" y="1151588"/>
                </a:lnTo>
                <a:lnTo>
                  <a:pt x="3424317" y="1168502"/>
                </a:lnTo>
                <a:lnTo>
                  <a:pt x="1873975" y="1732780"/>
                </a:lnTo>
                <a:lnTo>
                  <a:pt x="3493502" y="1417976"/>
                </a:lnTo>
                <a:lnTo>
                  <a:pt x="3496936" y="1435645"/>
                </a:lnTo>
                <a:lnTo>
                  <a:pt x="1877408" y="1750450"/>
                </a:lnTo>
                <a:lnTo>
                  <a:pt x="3526244" y="1692871"/>
                </a:lnTo>
                <a:lnTo>
                  <a:pt x="3526872" y="1710860"/>
                </a:lnTo>
                <a:lnTo>
                  <a:pt x="1878038" y="1768439"/>
                </a:lnTo>
                <a:lnTo>
                  <a:pt x="3515580" y="1969503"/>
                </a:lnTo>
                <a:lnTo>
                  <a:pt x="3513385" y="1987369"/>
                </a:lnTo>
                <a:lnTo>
                  <a:pt x="1875843" y="1786305"/>
                </a:lnTo>
                <a:lnTo>
                  <a:pt x="3461771" y="2241062"/>
                </a:lnTo>
                <a:lnTo>
                  <a:pt x="3456810" y="2258365"/>
                </a:lnTo>
                <a:lnTo>
                  <a:pt x="1870880" y="1803607"/>
                </a:lnTo>
                <a:lnTo>
                  <a:pt x="3366145" y="2500860"/>
                </a:lnTo>
                <a:lnTo>
                  <a:pt x="3358538" y="2517173"/>
                </a:lnTo>
                <a:lnTo>
                  <a:pt x="1863275" y="1819921"/>
                </a:lnTo>
                <a:lnTo>
                  <a:pt x="3231054" y="2742500"/>
                </a:lnTo>
                <a:lnTo>
                  <a:pt x="3220988" y="2757423"/>
                </a:lnTo>
                <a:lnTo>
                  <a:pt x="1853211" y="1834845"/>
                </a:lnTo>
                <a:lnTo>
                  <a:pt x="3059826" y="2960032"/>
                </a:lnTo>
                <a:lnTo>
                  <a:pt x="3047549" y="2973197"/>
                </a:lnTo>
                <a:lnTo>
                  <a:pt x="1840934" y="1848009"/>
                </a:lnTo>
                <a:lnTo>
                  <a:pt x="2856676" y="3148100"/>
                </a:lnTo>
                <a:lnTo>
                  <a:pt x="2842491" y="3159182"/>
                </a:lnTo>
                <a:lnTo>
                  <a:pt x="1826748" y="1859090"/>
                </a:lnTo>
                <a:lnTo>
                  <a:pt x="2626607" y="3302073"/>
                </a:lnTo>
                <a:lnTo>
                  <a:pt x="2610864" y="3310799"/>
                </a:lnTo>
                <a:lnTo>
                  <a:pt x="1811005" y="1867817"/>
                </a:lnTo>
                <a:lnTo>
                  <a:pt x="2375284" y="3418159"/>
                </a:lnTo>
                <a:lnTo>
                  <a:pt x="2358370" y="3424316"/>
                </a:lnTo>
                <a:lnTo>
                  <a:pt x="1794091" y="1873972"/>
                </a:lnTo>
                <a:lnTo>
                  <a:pt x="2108895" y="3493501"/>
                </a:lnTo>
                <a:lnTo>
                  <a:pt x="2091226" y="3496935"/>
                </a:lnTo>
                <a:lnTo>
                  <a:pt x="1776422" y="1877407"/>
                </a:lnTo>
                <a:lnTo>
                  <a:pt x="1834000" y="3526243"/>
                </a:lnTo>
                <a:lnTo>
                  <a:pt x="1816012" y="3526871"/>
                </a:lnTo>
                <a:lnTo>
                  <a:pt x="1758432" y="1878036"/>
                </a:lnTo>
                <a:lnTo>
                  <a:pt x="1557368" y="3515579"/>
                </a:lnTo>
                <a:lnTo>
                  <a:pt x="1539502" y="3513384"/>
                </a:lnTo>
                <a:lnTo>
                  <a:pt x="1740567" y="1875842"/>
                </a:lnTo>
                <a:lnTo>
                  <a:pt x="1285809" y="3461770"/>
                </a:lnTo>
                <a:lnTo>
                  <a:pt x="1268506" y="3456808"/>
                </a:lnTo>
                <a:lnTo>
                  <a:pt x="1723263" y="1870884"/>
                </a:lnTo>
                <a:lnTo>
                  <a:pt x="1026011" y="3366144"/>
                </a:lnTo>
                <a:lnTo>
                  <a:pt x="1009697" y="3358537"/>
                </a:lnTo>
                <a:lnTo>
                  <a:pt x="1706950" y="1863273"/>
                </a:lnTo>
                <a:lnTo>
                  <a:pt x="784371" y="3231053"/>
                </a:lnTo>
                <a:lnTo>
                  <a:pt x="769448" y="3220987"/>
                </a:lnTo>
                <a:lnTo>
                  <a:pt x="1692027" y="1853209"/>
                </a:lnTo>
                <a:lnTo>
                  <a:pt x="566840" y="3059825"/>
                </a:lnTo>
                <a:lnTo>
                  <a:pt x="553675" y="3047549"/>
                </a:lnTo>
                <a:lnTo>
                  <a:pt x="1678863" y="1840932"/>
                </a:lnTo>
                <a:lnTo>
                  <a:pt x="378771" y="2856675"/>
                </a:lnTo>
                <a:lnTo>
                  <a:pt x="367689" y="2842490"/>
                </a:lnTo>
                <a:lnTo>
                  <a:pt x="1667780" y="1826750"/>
                </a:lnTo>
                <a:lnTo>
                  <a:pt x="224798" y="2626606"/>
                </a:lnTo>
                <a:lnTo>
                  <a:pt x="216072" y="2610863"/>
                </a:lnTo>
                <a:lnTo>
                  <a:pt x="1659054" y="1811004"/>
                </a:lnTo>
                <a:lnTo>
                  <a:pt x="108712" y="2375284"/>
                </a:lnTo>
                <a:lnTo>
                  <a:pt x="102555" y="2358369"/>
                </a:lnTo>
                <a:lnTo>
                  <a:pt x="1652899" y="1794090"/>
                </a:lnTo>
                <a:lnTo>
                  <a:pt x="33370" y="2108894"/>
                </a:lnTo>
                <a:lnTo>
                  <a:pt x="29936" y="2091225"/>
                </a:lnTo>
                <a:lnTo>
                  <a:pt x="1649464" y="1776421"/>
                </a:lnTo>
                <a:lnTo>
                  <a:pt x="628" y="1833999"/>
                </a:lnTo>
                <a:lnTo>
                  <a:pt x="0" y="1816010"/>
                </a:lnTo>
                <a:lnTo>
                  <a:pt x="1648834" y="1758431"/>
                </a:lnTo>
                <a:lnTo>
                  <a:pt x="11293" y="1557367"/>
                </a:lnTo>
                <a:lnTo>
                  <a:pt x="13487" y="1539501"/>
                </a:lnTo>
                <a:lnTo>
                  <a:pt x="1651029" y="1740565"/>
                </a:lnTo>
                <a:lnTo>
                  <a:pt x="65101" y="1285808"/>
                </a:lnTo>
                <a:lnTo>
                  <a:pt x="70063" y="1268506"/>
                </a:lnTo>
                <a:lnTo>
                  <a:pt x="1655991" y="1723263"/>
                </a:lnTo>
                <a:lnTo>
                  <a:pt x="160727" y="1026011"/>
                </a:lnTo>
                <a:lnTo>
                  <a:pt x="168334" y="1009698"/>
                </a:lnTo>
                <a:lnTo>
                  <a:pt x="1663598" y="1706949"/>
                </a:lnTo>
                <a:lnTo>
                  <a:pt x="295818" y="784371"/>
                </a:lnTo>
                <a:lnTo>
                  <a:pt x="305884" y="769448"/>
                </a:lnTo>
                <a:lnTo>
                  <a:pt x="1673663" y="1692027"/>
                </a:lnTo>
                <a:lnTo>
                  <a:pt x="467046" y="566839"/>
                </a:lnTo>
                <a:lnTo>
                  <a:pt x="479323" y="553674"/>
                </a:lnTo>
                <a:lnTo>
                  <a:pt x="1685939" y="1678861"/>
                </a:lnTo>
                <a:lnTo>
                  <a:pt x="670196" y="378771"/>
                </a:lnTo>
                <a:lnTo>
                  <a:pt x="684381" y="367689"/>
                </a:lnTo>
                <a:lnTo>
                  <a:pt x="1700124" y="1667780"/>
                </a:lnTo>
                <a:lnTo>
                  <a:pt x="900265" y="224798"/>
                </a:lnTo>
                <a:lnTo>
                  <a:pt x="916008" y="216071"/>
                </a:lnTo>
                <a:lnTo>
                  <a:pt x="1715866" y="1659053"/>
                </a:lnTo>
                <a:lnTo>
                  <a:pt x="1151588" y="108711"/>
                </a:lnTo>
                <a:lnTo>
                  <a:pt x="1168502" y="102555"/>
                </a:lnTo>
                <a:lnTo>
                  <a:pt x="1732782" y="1652898"/>
                </a:lnTo>
                <a:lnTo>
                  <a:pt x="1417977" y="33370"/>
                </a:lnTo>
                <a:lnTo>
                  <a:pt x="1435646" y="29935"/>
                </a:lnTo>
                <a:lnTo>
                  <a:pt x="1750451" y="1649459"/>
                </a:lnTo>
                <a:lnTo>
                  <a:pt x="1692872" y="628"/>
                </a:lnTo>
                <a:lnTo>
                  <a:pt x="1710861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40" y="-27000"/>
            <a:ext cx="9142560" cy="5832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360" y="5660640"/>
            <a:ext cx="90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正大黑简体"/>
              </a:rPr>
              <a:t>正月十五猜灯谜送好礼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大巴 52"/>
          <p:cNvSpPr/>
          <p:nvPr/>
        </p:nvSpPr>
        <p:spPr>
          <a:xfrm>
            <a:off x="36360" y="6238800"/>
            <a:ext cx="1152720" cy="595440"/>
          </a:xfrm>
          <a:custGeom>
            <a:avLst/>
            <a:gdLst/>
            <a:ahLst/>
            <a:rect l="l" t="t" r="r" b="b"/>
            <a:pathLst>
              <a:path w="373" h="159">
                <a:moveTo>
                  <a:pt x="371" y="40"/>
                </a:moveTo>
                <a:cubicBezTo>
                  <a:pt x="363" y="28"/>
                  <a:pt x="354" y="16"/>
                  <a:pt x="338" y="16"/>
                </a:cubicBezTo>
                <a:cubicBezTo>
                  <a:pt x="318" y="16"/>
                  <a:pt x="318" y="16"/>
                  <a:pt x="318" y="16"/>
                </a:cubicBezTo>
                <a:cubicBezTo>
                  <a:pt x="307" y="6"/>
                  <a:pt x="295" y="0"/>
                  <a:pt x="28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9" y="0"/>
                  <a:pt x="6" y="30"/>
                  <a:pt x="0" y="55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30"/>
                  <a:pt x="11" y="141"/>
                  <a:pt x="24" y="141"/>
                </a:cubicBezTo>
                <a:cubicBezTo>
                  <a:pt x="24" y="140"/>
                  <a:pt x="24" y="139"/>
                  <a:pt x="24" y="139"/>
                </a:cubicBezTo>
                <a:cubicBezTo>
                  <a:pt x="24" y="121"/>
                  <a:pt x="39" y="106"/>
                  <a:pt x="57" y="106"/>
                </a:cubicBezTo>
                <a:cubicBezTo>
                  <a:pt x="74" y="106"/>
                  <a:pt x="89" y="121"/>
                  <a:pt x="89" y="139"/>
                </a:cubicBezTo>
                <a:cubicBezTo>
                  <a:pt x="89" y="139"/>
                  <a:pt x="89" y="140"/>
                  <a:pt x="89" y="141"/>
                </a:cubicBezTo>
                <a:cubicBezTo>
                  <a:pt x="95" y="141"/>
                  <a:pt x="95" y="141"/>
                  <a:pt x="95" y="141"/>
                </a:cubicBezTo>
                <a:cubicBezTo>
                  <a:pt x="95" y="140"/>
                  <a:pt x="95" y="139"/>
                  <a:pt x="95" y="139"/>
                </a:cubicBezTo>
                <a:cubicBezTo>
                  <a:pt x="95" y="121"/>
                  <a:pt x="109" y="106"/>
                  <a:pt x="127" y="106"/>
                </a:cubicBezTo>
                <a:cubicBezTo>
                  <a:pt x="145" y="106"/>
                  <a:pt x="159" y="121"/>
                  <a:pt x="159" y="139"/>
                </a:cubicBezTo>
                <a:cubicBezTo>
                  <a:pt x="159" y="139"/>
                  <a:pt x="159" y="140"/>
                  <a:pt x="159" y="141"/>
                </a:cubicBezTo>
                <a:cubicBezTo>
                  <a:pt x="249" y="141"/>
                  <a:pt x="249" y="141"/>
                  <a:pt x="249" y="141"/>
                </a:cubicBezTo>
                <a:cubicBezTo>
                  <a:pt x="249" y="140"/>
                  <a:pt x="249" y="139"/>
                  <a:pt x="249" y="139"/>
                </a:cubicBezTo>
                <a:cubicBezTo>
                  <a:pt x="249" y="121"/>
                  <a:pt x="263" y="106"/>
                  <a:pt x="281" y="106"/>
                </a:cubicBezTo>
                <a:cubicBezTo>
                  <a:pt x="299" y="106"/>
                  <a:pt x="313" y="121"/>
                  <a:pt x="313" y="139"/>
                </a:cubicBezTo>
                <a:cubicBezTo>
                  <a:pt x="313" y="139"/>
                  <a:pt x="313" y="140"/>
                  <a:pt x="313" y="141"/>
                </a:cubicBezTo>
                <a:cubicBezTo>
                  <a:pt x="336" y="141"/>
                  <a:pt x="336" y="141"/>
                  <a:pt x="336" y="141"/>
                </a:cubicBezTo>
                <a:cubicBezTo>
                  <a:pt x="350" y="141"/>
                  <a:pt x="361" y="130"/>
                  <a:pt x="361" y="116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56" y="66"/>
                  <a:pt x="344" y="44"/>
                  <a:pt x="330" y="28"/>
                </a:cubicBezTo>
                <a:cubicBezTo>
                  <a:pt x="338" y="28"/>
                  <a:pt x="338" y="28"/>
                  <a:pt x="338" y="28"/>
                </a:cubicBezTo>
                <a:cubicBezTo>
                  <a:pt x="347" y="28"/>
                  <a:pt x="353" y="35"/>
                  <a:pt x="361" y="47"/>
                </a:cubicBezTo>
                <a:cubicBezTo>
                  <a:pt x="362" y="48"/>
                  <a:pt x="364" y="49"/>
                  <a:pt x="366" y="49"/>
                </a:cubicBezTo>
                <a:cubicBezTo>
                  <a:pt x="367" y="49"/>
                  <a:pt x="368" y="49"/>
                  <a:pt x="369" y="48"/>
                </a:cubicBezTo>
                <a:cubicBezTo>
                  <a:pt x="372" y="47"/>
                  <a:pt x="373" y="43"/>
                  <a:pt x="371" y="40"/>
                </a:cubicBezTo>
                <a:close/>
                <a:moveTo>
                  <a:pt x="234" y="64"/>
                </a:moveTo>
                <a:cubicBezTo>
                  <a:pt x="16" y="64"/>
                  <a:pt x="16" y="64"/>
                  <a:pt x="16" y="64"/>
                </a:cubicBezTo>
                <a:cubicBezTo>
                  <a:pt x="16" y="56"/>
                  <a:pt x="16" y="56"/>
                  <a:pt x="16" y="56"/>
                </a:cubicBezTo>
                <a:cubicBezTo>
                  <a:pt x="17" y="53"/>
                  <a:pt x="18" y="49"/>
                  <a:pt x="18" y="45"/>
                </a:cubicBezTo>
                <a:cubicBezTo>
                  <a:pt x="20" y="36"/>
                  <a:pt x="23" y="20"/>
                  <a:pt x="27" y="16"/>
                </a:cubicBezTo>
                <a:cubicBezTo>
                  <a:pt x="234" y="16"/>
                  <a:pt x="234" y="16"/>
                  <a:pt x="234" y="16"/>
                </a:cubicBezTo>
                <a:lnTo>
                  <a:pt x="234" y="64"/>
                </a:lnTo>
                <a:close/>
                <a:moveTo>
                  <a:pt x="347" y="116"/>
                </a:moveTo>
                <a:cubicBezTo>
                  <a:pt x="347" y="118"/>
                  <a:pt x="346" y="119"/>
                  <a:pt x="346" y="120"/>
                </a:cubicBezTo>
                <a:cubicBezTo>
                  <a:pt x="337" y="120"/>
                  <a:pt x="329" y="120"/>
                  <a:pt x="329" y="116"/>
                </a:cubicBezTo>
                <a:cubicBezTo>
                  <a:pt x="329" y="113"/>
                  <a:pt x="336" y="107"/>
                  <a:pt x="347" y="106"/>
                </a:cubicBezTo>
                <a:lnTo>
                  <a:pt x="347" y="116"/>
                </a:lnTo>
                <a:close/>
                <a:moveTo>
                  <a:pt x="345" y="92"/>
                </a:moveTo>
                <a:cubicBezTo>
                  <a:pt x="345" y="95"/>
                  <a:pt x="345" y="95"/>
                  <a:pt x="345" y="95"/>
                </a:cubicBezTo>
                <a:cubicBezTo>
                  <a:pt x="316" y="87"/>
                  <a:pt x="280" y="64"/>
                  <a:pt x="248" y="64"/>
                </a:cubicBezTo>
                <a:cubicBezTo>
                  <a:pt x="246" y="64"/>
                  <a:pt x="246" y="64"/>
                  <a:pt x="246" y="64"/>
                </a:cubicBezTo>
                <a:cubicBezTo>
                  <a:pt x="246" y="16"/>
                  <a:pt x="246" y="16"/>
                  <a:pt x="246" y="16"/>
                </a:cubicBezTo>
                <a:cubicBezTo>
                  <a:pt x="285" y="16"/>
                  <a:pt x="285" y="16"/>
                  <a:pt x="285" y="16"/>
                </a:cubicBezTo>
                <a:cubicBezTo>
                  <a:pt x="303" y="16"/>
                  <a:pt x="336" y="48"/>
                  <a:pt x="345" y="92"/>
                </a:cubicBezTo>
                <a:close/>
                <a:moveTo>
                  <a:pt x="57" y="118"/>
                </a:moveTo>
                <a:cubicBezTo>
                  <a:pt x="45" y="118"/>
                  <a:pt x="36" y="127"/>
                  <a:pt x="36" y="139"/>
                </a:cubicBezTo>
                <a:cubicBezTo>
                  <a:pt x="36" y="150"/>
                  <a:pt x="45" y="159"/>
                  <a:pt x="57" y="159"/>
                </a:cubicBezTo>
                <a:cubicBezTo>
                  <a:pt x="68" y="159"/>
                  <a:pt x="77" y="150"/>
                  <a:pt x="77" y="139"/>
                </a:cubicBezTo>
                <a:cubicBezTo>
                  <a:pt x="77" y="127"/>
                  <a:pt x="68" y="118"/>
                  <a:pt x="57" y="118"/>
                </a:cubicBezTo>
                <a:close/>
                <a:moveTo>
                  <a:pt x="57" y="151"/>
                </a:moveTo>
                <a:cubicBezTo>
                  <a:pt x="50" y="151"/>
                  <a:pt x="45" y="145"/>
                  <a:pt x="45" y="139"/>
                </a:cubicBezTo>
                <a:cubicBezTo>
                  <a:pt x="45" y="132"/>
                  <a:pt x="50" y="126"/>
                  <a:pt x="57" y="126"/>
                </a:cubicBezTo>
                <a:cubicBezTo>
                  <a:pt x="63" y="126"/>
                  <a:pt x="69" y="132"/>
                  <a:pt x="69" y="139"/>
                </a:cubicBezTo>
                <a:cubicBezTo>
                  <a:pt x="69" y="145"/>
                  <a:pt x="63" y="151"/>
                  <a:pt x="57" y="151"/>
                </a:cubicBezTo>
                <a:close/>
                <a:moveTo>
                  <a:pt x="127" y="118"/>
                </a:moveTo>
                <a:cubicBezTo>
                  <a:pt x="116" y="118"/>
                  <a:pt x="106" y="127"/>
                  <a:pt x="106" y="139"/>
                </a:cubicBezTo>
                <a:cubicBezTo>
                  <a:pt x="106" y="150"/>
                  <a:pt x="116" y="159"/>
                  <a:pt x="127" y="159"/>
                </a:cubicBezTo>
                <a:cubicBezTo>
                  <a:pt x="139" y="159"/>
                  <a:pt x="148" y="150"/>
                  <a:pt x="148" y="139"/>
                </a:cubicBezTo>
                <a:cubicBezTo>
                  <a:pt x="148" y="127"/>
                  <a:pt x="139" y="118"/>
                  <a:pt x="127" y="118"/>
                </a:cubicBezTo>
                <a:close/>
                <a:moveTo>
                  <a:pt x="127" y="151"/>
                </a:moveTo>
                <a:cubicBezTo>
                  <a:pt x="120" y="151"/>
                  <a:pt x="115" y="145"/>
                  <a:pt x="115" y="139"/>
                </a:cubicBezTo>
                <a:cubicBezTo>
                  <a:pt x="115" y="132"/>
                  <a:pt x="120" y="126"/>
                  <a:pt x="127" y="126"/>
                </a:cubicBezTo>
                <a:cubicBezTo>
                  <a:pt x="134" y="126"/>
                  <a:pt x="139" y="132"/>
                  <a:pt x="139" y="139"/>
                </a:cubicBezTo>
                <a:cubicBezTo>
                  <a:pt x="139" y="145"/>
                  <a:pt x="134" y="151"/>
                  <a:pt x="127" y="151"/>
                </a:cubicBezTo>
                <a:close/>
                <a:moveTo>
                  <a:pt x="281" y="118"/>
                </a:moveTo>
                <a:cubicBezTo>
                  <a:pt x="269" y="118"/>
                  <a:pt x="260" y="127"/>
                  <a:pt x="260" y="139"/>
                </a:cubicBezTo>
                <a:cubicBezTo>
                  <a:pt x="260" y="150"/>
                  <a:pt x="269" y="159"/>
                  <a:pt x="281" y="159"/>
                </a:cubicBezTo>
                <a:cubicBezTo>
                  <a:pt x="292" y="159"/>
                  <a:pt x="301" y="150"/>
                  <a:pt x="301" y="139"/>
                </a:cubicBezTo>
                <a:cubicBezTo>
                  <a:pt x="301" y="127"/>
                  <a:pt x="292" y="118"/>
                  <a:pt x="281" y="118"/>
                </a:cubicBezTo>
                <a:close/>
                <a:moveTo>
                  <a:pt x="281" y="151"/>
                </a:moveTo>
                <a:cubicBezTo>
                  <a:pt x="274" y="151"/>
                  <a:pt x="269" y="145"/>
                  <a:pt x="269" y="139"/>
                </a:cubicBezTo>
                <a:cubicBezTo>
                  <a:pt x="269" y="132"/>
                  <a:pt x="274" y="126"/>
                  <a:pt x="281" y="126"/>
                </a:cubicBezTo>
                <a:cubicBezTo>
                  <a:pt x="287" y="126"/>
                  <a:pt x="293" y="132"/>
                  <a:pt x="293" y="139"/>
                </a:cubicBezTo>
                <a:cubicBezTo>
                  <a:pt x="293" y="145"/>
                  <a:pt x="287" y="151"/>
                  <a:pt x="281" y="15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微信 53"/>
          <p:cNvSpPr/>
          <p:nvPr/>
        </p:nvSpPr>
        <p:spPr>
          <a:xfrm>
            <a:off x="7813800" y="5807160"/>
            <a:ext cx="1257120" cy="981000"/>
          </a:xfrm>
          <a:custGeom>
            <a:avLst/>
            <a:gdLst/>
            <a:ahLst/>
            <a:rect l="l" t="t" r="r" b="b"/>
            <a:pathLst>
              <a:path w="969654" h="903534">
                <a:moveTo>
                  <a:pt x="813088" y="487443"/>
                </a:moveTo>
                <a:cubicBezTo>
                  <a:pt x="793206" y="487443"/>
                  <a:pt x="777088" y="503561"/>
                  <a:pt x="777088" y="523443"/>
                </a:cubicBezTo>
                <a:cubicBezTo>
                  <a:pt x="777088" y="543325"/>
                  <a:pt x="793206" y="559443"/>
                  <a:pt x="813088" y="559443"/>
                </a:cubicBezTo>
                <a:cubicBezTo>
                  <a:pt x="832970" y="559443"/>
                  <a:pt x="849088" y="543325"/>
                  <a:pt x="849088" y="523443"/>
                </a:cubicBezTo>
                <a:cubicBezTo>
                  <a:pt x="849088" y="503561"/>
                  <a:pt x="832970" y="487443"/>
                  <a:pt x="813088" y="487443"/>
                </a:cubicBezTo>
                <a:close/>
                <a:moveTo>
                  <a:pt x="606961" y="487443"/>
                </a:moveTo>
                <a:cubicBezTo>
                  <a:pt x="587079" y="487443"/>
                  <a:pt x="570961" y="503561"/>
                  <a:pt x="570961" y="523443"/>
                </a:cubicBezTo>
                <a:cubicBezTo>
                  <a:pt x="570961" y="543325"/>
                  <a:pt x="587079" y="559443"/>
                  <a:pt x="606961" y="559443"/>
                </a:cubicBezTo>
                <a:cubicBezTo>
                  <a:pt x="626843" y="559443"/>
                  <a:pt x="642961" y="543325"/>
                  <a:pt x="642961" y="523443"/>
                </a:cubicBezTo>
                <a:cubicBezTo>
                  <a:pt x="642961" y="503561"/>
                  <a:pt x="626843" y="487443"/>
                  <a:pt x="606961" y="487443"/>
                </a:cubicBezTo>
                <a:close/>
                <a:moveTo>
                  <a:pt x="691345" y="336511"/>
                </a:moveTo>
                <a:cubicBezTo>
                  <a:pt x="769490" y="335080"/>
                  <a:pt x="847112" y="364668"/>
                  <a:pt x="901758" y="422110"/>
                </a:cubicBezTo>
                <a:cubicBezTo>
                  <a:pt x="999759" y="525126"/>
                  <a:pt x="990612" y="681640"/>
                  <a:pt x="881173" y="774306"/>
                </a:cubicBezTo>
                <a:lnTo>
                  <a:pt x="905846" y="903534"/>
                </a:lnTo>
                <a:lnTo>
                  <a:pt x="792422" y="824563"/>
                </a:lnTo>
                <a:cubicBezTo>
                  <a:pt x="666952" y="867914"/>
                  <a:pt x="525982" y="820668"/>
                  <a:pt x="459770" y="713074"/>
                </a:cubicBezTo>
                <a:cubicBezTo>
                  <a:pt x="386891" y="594648"/>
                  <a:pt x="429055" y="444146"/>
                  <a:pt x="554971" y="373268"/>
                </a:cubicBezTo>
                <a:cubicBezTo>
                  <a:pt x="597384" y="349394"/>
                  <a:pt x="644458" y="337369"/>
                  <a:pt x="691345" y="336511"/>
                </a:cubicBezTo>
                <a:close/>
                <a:moveTo>
                  <a:pt x="547874" y="187267"/>
                </a:moveTo>
                <a:cubicBezTo>
                  <a:pt x="518051" y="187267"/>
                  <a:pt x="493874" y="211444"/>
                  <a:pt x="493874" y="241267"/>
                </a:cubicBezTo>
                <a:cubicBezTo>
                  <a:pt x="493874" y="271090"/>
                  <a:pt x="518051" y="295267"/>
                  <a:pt x="547874" y="295267"/>
                </a:cubicBezTo>
                <a:cubicBezTo>
                  <a:pt x="577697" y="295267"/>
                  <a:pt x="601874" y="271090"/>
                  <a:pt x="601874" y="241267"/>
                </a:cubicBezTo>
                <a:cubicBezTo>
                  <a:pt x="601874" y="211444"/>
                  <a:pt x="577697" y="187267"/>
                  <a:pt x="547874" y="187267"/>
                </a:cubicBezTo>
                <a:close/>
                <a:moveTo>
                  <a:pt x="294449" y="187267"/>
                </a:moveTo>
                <a:cubicBezTo>
                  <a:pt x="264626" y="187267"/>
                  <a:pt x="240449" y="211444"/>
                  <a:pt x="240449" y="241267"/>
                </a:cubicBezTo>
                <a:cubicBezTo>
                  <a:pt x="240449" y="271090"/>
                  <a:pt x="264626" y="295267"/>
                  <a:pt x="294449" y="295267"/>
                </a:cubicBezTo>
                <a:cubicBezTo>
                  <a:pt x="324272" y="295267"/>
                  <a:pt x="348449" y="271090"/>
                  <a:pt x="348449" y="241267"/>
                </a:cubicBezTo>
                <a:cubicBezTo>
                  <a:pt x="348449" y="211444"/>
                  <a:pt x="324272" y="187267"/>
                  <a:pt x="294449" y="187267"/>
                </a:cubicBezTo>
                <a:close/>
                <a:moveTo>
                  <a:pt x="408549" y="168"/>
                </a:moveTo>
                <a:cubicBezTo>
                  <a:pt x="456533" y="-1113"/>
                  <a:pt x="505397" y="4870"/>
                  <a:pt x="553141" y="18800"/>
                </a:cubicBezTo>
                <a:cubicBezTo>
                  <a:pt x="730896" y="70663"/>
                  <a:pt x="843952" y="217556"/>
                  <a:pt x="840274" y="375462"/>
                </a:cubicBezTo>
                <a:cubicBezTo>
                  <a:pt x="754752" y="310337"/>
                  <a:pt x="632797" y="302687"/>
                  <a:pt x="535419" y="357502"/>
                </a:cubicBezTo>
                <a:cubicBezTo>
                  <a:pt x="409503" y="428380"/>
                  <a:pt x="367339" y="578882"/>
                  <a:pt x="440218" y="697308"/>
                </a:cubicBezTo>
                <a:cubicBezTo>
                  <a:pt x="450352" y="713775"/>
                  <a:pt x="462237" y="728829"/>
                  <a:pt x="478397" y="739559"/>
                </a:cubicBezTo>
                <a:cubicBezTo>
                  <a:pt x="442192" y="745523"/>
                  <a:pt x="404623" y="745773"/>
                  <a:pt x="366675" y="741395"/>
                </a:cubicBezTo>
                <a:lnTo>
                  <a:pt x="245711" y="837584"/>
                </a:lnTo>
                <a:lnTo>
                  <a:pt x="214226" y="696474"/>
                </a:lnTo>
                <a:cubicBezTo>
                  <a:pt x="11680" y="595442"/>
                  <a:pt x="-59861" y="368389"/>
                  <a:pt x="54436" y="189343"/>
                </a:cubicBezTo>
                <a:cubicBezTo>
                  <a:pt x="128564" y="73222"/>
                  <a:pt x="264598" y="4010"/>
                  <a:pt x="408549" y="16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5734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920" y="566064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元宵节中国夜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叶子 61"/>
          <p:cNvSpPr/>
          <p:nvPr/>
        </p:nvSpPr>
        <p:spPr>
          <a:xfrm>
            <a:off x="181080" y="6094440"/>
            <a:ext cx="1439640" cy="646200"/>
          </a:xfrm>
          <a:custGeom>
            <a:avLst/>
            <a:gdLst/>
            <a:ahLst/>
            <a:rect l="l" t="t" r="r" b="b"/>
            <a:pathLst>
              <a:path w="63" h="57">
                <a:moveTo>
                  <a:pt x="0" y="55"/>
                </a:moveTo>
                <a:cubicBezTo>
                  <a:pt x="0" y="55"/>
                  <a:pt x="0" y="57"/>
                  <a:pt x="4" y="57"/>
                </a:cubicBezTo>
                <a:cubicBezTo>
                  <a:pt x="3" y="54"/>
                  <a:pt x="11" y="45"/>
                  <a:pt x="11" y="45"/>
                </a:cubicBezTo>
                <a:cubicBezTo>
                  <a:pt x="11" y="45"/>
                  <a:pt x="25" y="54"/>
                  <a:pt x="40" y="39"/>
                </a:cubicBezTo>
                <a:cubicBezTo>
                  <a:pt x="54" y="23"/>
                  <a:pt x="44" y="11"/>
                  <a:pt x="63" y="0"/>
                </a:cubicBezTo>
                <a:cubicBezTo>
                  <a:pt x="17" y="10"/>
                  <a:pt x="7" y="24"/>
                  <a:pt x="8" y="43"/>
                </a:cubicBezTo>
                <a:cubicBezTo>
                  <a:pt x="12" y="34"/>
                  <a:pt x="24" y="22"/>
                  <a:pt x="34" y="17"/>
                </a:cubicBezTo>
                <a:cubicBezTo>
                  <a:pt x="17" y="29"/>
                  <a:pt x="5" y="47"/>
                  <a:pt x="0" y="55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心形 62"/>
          <p:cNvSpPr/>
          <p:nvPr/>
        </p:nvSpPr>
        <p:spPr>
          <a:xfrm>
            <a:off x="7524720" y="5877000"/>
            <a:ext cx="1185840" cy="898560"/>
          </a:xfrm>
          <a:custGeom>
            <a:avLst/>
            <a:gdLst/>
            <a:ahLst/>
            <a:rect l="l" t="t" r="r" b="b"/>
            <a:pathLst>
              <a:path w="1905000" h="1905000">
                <a:moveTo>
                  <a:pt x="952500" y="476250"/>
                </a:moveTo>
                <a:cubicBezTo>
                  <a:pt x="1349375" y="-635000"/>
                  <a:pt x="2897188" y="476250"/>
                  <a:pt x="952500" y="1905000"/>
                </a:cubicBezTo>
                <a:cubicBezTo>
                  <a:pt x="-992187" y="476250"/>
                  <a:pt x="555625" y="-635000"/>
                  <a:pt x="952500" y="47625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920" y="566064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正大黑简体"/>
              </a:rPr>
              <a:t>秋力电器祝您元宵节快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手势箭头 104"/>
          <p:cNvSpPr/>
          <p:nvPr/>
        </p:nvSpPr>
        <p:spPr>
          <a:xfrm>
            <a:off x="108000" y="6022800"/>
            <a:ext cx="1079280" cy="733680"/>
          </a:xfrm>
          <a:custGeom>
            <a:avLst/>
            <a:gdLst/>
            <a:ahLst/>
            <a:rect l="l" t="t" r="r" b="b"/>
            <a:pathLst>
              <a:path w="2758" h="1666">
                <a:moveTo>
                  <a:pt x="931" y="1269"/>
                </a:moveTo>
                <a:lnTo>
                  <a:pt x="895" y="1297"/>
                </a:lnTo>
                <a:lnTo>
                  <a:pt x="864" y="1328"/>
                </a:lnTo>
                <a:lnTo>
                  <a:pt x="839" y="1359"/>
                </a:lnTo>
                <a:lnTo>
                  <a:pt x="816" y="1392"/>
                </a:lnTo>
                <a:lnTo>
                  <a:pt x="1102" y="1555"/>
                </a:lnTo>
                <a:lnTo>
                  <a:pt x="1172" y="1557"/>
                </a:lnTo>
                <a:lnTo>
                  <a:pt x="1210" y="1555"/>
                </a:lnTo>
                <a:lnTo>
                  <a:pt x="1243" y="1547"/>
                </a:lnTo>
                <a:lnTo>
                  <a:pt x="1269" y="1535"/>
                </a:lnTo>
                <a:lnTo>
                  <a:pt x="1293" y="1518"/>
                </a:lnTo>
                <a:lnTo>
                  <a:pt x="1310" y="1495"/>
                </a:lnTo>
                <a:lnTo>
                  <a:pt x="1323" y="1466"/>
                </a:lnTo>
                <a:lnTo>
                  <a:pt x="1331" y="1434"/>
                </a:lnTo>
                <a:lnTo>
                  <a:pt x="1333" y="1397"/>
                </a:lnTo>
                <a:lnTo>
                  <a:pt x="1164" y="1397"/>
                </a:lnTo>
                <a:lnTo>
                  <a:pt x="931" y="1269"/>
                </a:lnTo>
                <a:close/>
                <a:moveTo>
                  <a:pt x="1060" y="975"/>
                </a:moveTo>
                <a:lnTo>
                  <a:pt x="1026" y="983"/>
                </a:lnTo>
                <a:lnTo>
                  <a:pt x="993" y="992"/>
                </a:lnTo>
                <a:lnTo>
                  <a:pt x="964" y="1006"/>
                </a:lnTo>
                <a:lnTo>
                  <a:pt x="937" y="1021"/>
                </a:lnTo>
                <a:lnTo>
                  <a:pt x="912" y="1040"/>
                </a:lnTo>
                <a:lnTo>
                  <a:pt x="891" y="1061"/>
                </a:lnTo>
                <a:lnTo>
                  <a:pt x="872" y="1084"/>
                </a:lnTo>
                <a:lnTo>
                  <a:pt x="855" y="1111"/>
                </a:lnTo>
                <a:lnTo>
                  <a:pt x="1195" y="1292"/>
                </a:lnTo>
                <a:lnTo>
                  <a:pt x="1352" y="1296"/>
                </a:lnTo>
                <a:lnTo>
                  <a:pt x="1392" y="1294"/>
                </a:lnTo>
                <a:lnTo>
                  <a:pt x="1427" y="1288"/>
                </a:lnTo>
                <a:lnTo>
                  <a:pt x="1456" y="1276"/>
                </a:lnTo>
                <a:lnTo>
                  <a:pt x="1481" y="1263"/>
                </a:lnTo>
                <a:lnTo>
                  <a:pt x="1500" y="1244"/>
                </a:lnTo>
                <a:lnTo>
                  <a:pt x="1513" y="1221"/>
                </a:lnTo>
                <a:lnTo>
                  <a:pt x="1521" y="1192"/>
                </a:lnTo>
                <a:lnTo>
                  <a:pt x="1523" y="1161"/>
                </a:lnTo>
                <a:lnTo>
                  <a:pt x="1521" y="1142"/>
                </a:lnTo>
                <a:lnTo>
                  <a:pt x="1517" y="1121"/>
                </a:lnTo>
                <a:lnTo>
                  <a:pt x="1510" y="1096"/>
                </a:lnTo>
                <a:lnTo>
                  <a:pt x="1498" y="1071"/>
                </a:lnTo>
                <a:lnTo>
                  <a:pt x="1241" y="1075"/>
                </a:lnTo>
                <a:lnTo>
                  <a:pt x="1060" y="975"/>
                </a:lnTo>
                <a:close/>
                <a:moveTo>
                  <a:pt x="1137" y="668"/>
                </a:moveTo>
                <a:lnTo>
                  <a:pt x="1104" y="670"/>
                </a:lnTo>
                <a:lnTo>
                  <a:pt x="1074" y="676"/>
                </a:lnTo>
                <a:lnTo>
                  <a:pt x="1047" y="687"/>
                </a:lnTo>
                <a:lnTo>
                  <a:pt x="1020" y="702"/>
                </a:lnTo>
                <a:lnTo>
                  <a:pt x="997" y="722"/>
                </a:lnTo>
                <a:lnTo>
                  <a:pt x="976" y="745"/>
                </a:lnTo>
                <a:lnTo>
                  <a:pt x="954" y="772"/>
                </a:lnTo>
                <a:lnTo>
                  <a:pt x="937" y="804"/>
                </a:lnTo>
                <a:lnTo>
                  <a:pt x="1269" y="969"/>
                </a:lnTo>
                <a:lnTo>
                  <a:pt x="1454" y="971"/>
                </a:lnTo>
                <a:lnTo>
                  <a:pt x="1502" y="969"/>
                </a:lnTo>
                <a:lnTo>
                  <a:pt x="1542" y="962"/>
                </a:lnTo>
                <a:lnTo>
                  <a:pt x="1579" y="952"/>
                </a:lnTo>
                <a:lnTo>
                  <a:pt x="1608" y="937"/>
                </a:lnTo>
                <a:lnTo>
                  <a:pt x="1631" y="916"/>
                </a:lnTo>
                <a:lnTo>
                  <a:pt x="1646" y="893"/>
                </a:lnTo>
                <a:lnTo>
                  <a:pt x="1656" y="864"/>
                </a:lnTo>
                <a:lnTo>
                  <a:pt x="1659" y="833"/>
                </a:lnTo>
                <a:lnTo>
                  <a:pt x="1657" y="810"/>
                </a:lnTo>
                <a:lnTo>
                  <a:pt x="1650" y="789"/>
                </a:lnTo>
                <a:lnTo>
                  <a:pt x="1640" y="772"/>
                </a:lnTo>
                <a:lnTo>
                  <a:pt x="1625" y="758"/>
                </a:lnTo>
                <a:lnTo>
                  <a:pt x="1604" y="749"/>
                </a:lnTo>
                <a:lnTo>
                  <a:pt x="1579" y="741"/>
                </a:lnTo>
                <a:lnTo>
                  <a:pt x="1550" y="735"/>
                </a:lnTo>
                <a:lnTo>
                  <a:pt x="1517" y="733"/>
                </a:lnTo>
                <a:lnTo>
                  <a:pt x="1293" y="733"/>
                </a:lnTo>
                <a:lnTo>
                  <a:pt x="1273" y="718"/>
                </a:lnTo>
                <a:lnTo>
                  <a:pt x="1254" y="704"/>
                </a:lnTo>
                <a:lnTo>
                  <a:pt x="1233" y="693"/>
                </a:lnTo>
                <a:lnTo>
                  <a:pt x="1214" y="683"/>
                </a:lnTo>
                <a:lnTo>
                  <a:pt x="1195" y="678"/>
                </a:lnTo>
                <a:lnTo>
                  <a:pt x="1175" y="672"/>
                </a:lnTo>
                <a:lnTo>
                  <a:pt x="1156" y="668"/>
                </a:lnTo>
                <a:lnTo>
                  <a:pt x="1137" y="668"/>
                </a:lnTo>
                <a:close/>
                <a:moveTo>
                  <a:pt x="1694" y="240"/>
                </a:moveTo>
                <a:lnTo>
                  <a:pt x="1898" y="466"/>
                </a:lnTo>
                <a:lnTo>
                  <a:pt x="1874" y="497"/>
                </a:lnTo>
                <a:lnTo>
                  <a:pt x="1855" y="520"/>
                </a:lnTo>
                <a:lnTo>
                  <a:pt x="2251" y="518"/>
                </a:lnTo>
                <a:lnTo>
                  <a:pt x="2303" y="516"/>
                </a:lnTo>
                <a:lnTo>
                  <a:pt x="2351" y="516"/>
                </a:lnTo>
                <a:lnTo>
                  <a:pt x="2395" y="512"/>
                </a:lnTo>
                <a:lnTo>
                  <a:pt x="2435" y="511"/>
                </a:lnTo>
                <a:lnTo>
                  <a:pt x="2474" y="505"/>
                </a:lnTo>
                <a:lnTo>
                  <a:pt x="2508" y="501"/>
                </a:lnTo>
                <a:lnTo>
                  <a:pt x="2539" y="493"/>
                </a:lnTo>
                <a:lnTo>
                  <a:pt x="2568" y="488"/>
                </a:lnTo>
                <a:lnTo>
                  <a:pt x="2593" y="478"/>
                </a:lnTo>
                <a:lnTo>
                  <a:pt x="2614" y="470"/>
                </a:lnTo>
                <a:lnTo>
                  <a:pt x="2631" y="459"/>
                </a:lnTo>
                <a:lnTo>
                  <a:pt x="2647" y="449"/>
                </a:lnTo>
                <a:lnTo>
                  <a:pt x="2658" y="436"/>
                </a:lnTo>
                <a:lnTo>
                  <a:pt x="2666" y="424"/>
                </a:lnTo>
                <a:lnTo>
                  <a:pt x="2672" y="411"/>
                </a:lnTo>
                <a:lnTo>
                  <a:pt x="2673" y="395"/>
                </a:lnTo>
                <a:lnTo>
                  <a:pt x="2672" y="380"/>
                </a:lnTo>
                <a:lnTo>
                  <a:pt x="2668" y="363"/>
                </a:lnTo>
                <a:lnTo>
                  <a:pt x="2662" y="349"/>
                </a:lnTo>
                <a:lnTo>
                  <a:pt x="2652" y="336"/>
                </a:lnTo>
                <a:lnTo>
                  <a:pt x="2639" y="324"/>
                </a:lnTo>
                <a:lnTo>
                  <a:pt x="2625" y="313"/>
                </a:lnTo>
                <a:lnTo>
                  <a:pt x="2608" y="301"/>
                </a:lnTo>
                <a:lnTo>
                  <a:pt x="2587" y="294"/>
                </a:lnTo>
                <a:lnTo>
                  <a:pt x="2566" y="284"/>
                </a:lnTo>
                <a:lnTo>
                  <a:pt x="2541" y="278"/>
                </a:lnTo>
                <a:lnTo>
                  <a:pt x="2512" y="273"/>
                </a:lnTo>
                <a:lnTo>
                  <a:pt x="2481" y="267"/>
                </a:lnTo>
                <a:lnTo>
                  <a:pt x="2449" y="263"/>
                </a:lnTo>
                <a:lnTo>
                  <a:pt x="2412" y="261"/>
                </a:lnTo>
                <a:lnTo>
                  <a:pt x="2374" y="259"/>
                </a:lnTo>
                <a:lnTo>
                  <a:pt x="2334" y="259"/>
                </a:lnTo>
                <a:lnTo>
                  <a:pt x="1694" y="240"/>
                </a:lnTo>
                <a:close/>
                <a:moveTo>
                  <a:pt x="1060" y="109"/>
                </a:moveTo>
                <a:lnTo>
                  <a:pt x="1039" y="117"/>
                </a:lnTo>
                <a:lnTo>
                  <a:pt x="1018" y="125"/>
                </a:lnTo>
                <a:lnTo>
                  <a:pt x="993" y="134"/>
                </a:lnTo>
                <a:lnTo>
                  <a:pt x="966" y="146"/>
                </a:lnTo>
                <a:lnTo>
                  <a:pt x="937" y="159"/>
                </a:lnTo>
                <a:lnTo>
                  <a:pt x="906" y="173"/>
                </a:lnTo>
                <a:lnTo>
                  <a:pt x="872" y="188"/>
                </a:lnTo>
                <a:lnTo>
                  <a:pt x="835" y="203"/>
                </a:lnTo>
                <a:lnTo>
                  <a:pt x="799" y="221"/>
                </a:lnTo>
                <a:lnTo>
                  <a:pt x="757" y="240"/>
                </a:lnTo>
                <a:lnTo>
                  <a:pt x="714" y="261"/>
                </a:lnTo>
                <a:lnTo>
                  <a:pt x="670" y="282"/>
                </a:lnTo>
                <a:lnTo>
                  <a:pt x="622" y="305"/>
                </a:lnTo>
                <a:lnTo>
                  <a:pt x="572" y="328"/>
                </a:lnTo>
                <a:lnTo>
                  <a:pt x="520" y="353"/>
                </a:lnTo>
                <a:lnTo>
                  <a:pt x="467" y="380"/>
                </a:lnTo>
                <a:lnTo>
                  <a:pt x="150" y="380"/>
                </a:lnTo>
                <a:lnTo>
                  <a:pt x="123" y="480"/>
                </a:lnTo>
                <a:lnTo>
                  <a:pt x="104" y="580"/>
                </a:lnTo>
                <a:lnTo>
                  <a:pt x="92" y="679"/>
                </a:lnTo>
                <a:lnTo>
                  <a:pt x="88" y="779"/>
                </a:lnTo>
                <a:lnTo>
                  <a:pt x="92" y="875"/>
                </a:lnTo>
                <a:lnTo>
                  <a:pt x="102" y="971"/>
                </a:lnTo>
                <a:lnTo>
                  <a:pt x="119" y="1069"/>
                </a:lnTo>
                <a:lnTo>
                  <a:pt x="142" y="1169"/>
                </a:lnTo>
                <a:lnTo>
                  <a:pt x="378" y="1169"/>
                </a:lnTo>
                <a:lnTo>
                  <a:pt x="417" y="1228"/>
                </a:lnTo>
                <a:lnTo>
                  <a:pt x="459" y="1286"/>
                </a:lnTo>
                <a:lnTo>
                  <a:pt x="501" y="1340"/>
                </a:lnTo>
                <a:lnTo>
                  <a:pt x="545" y="1390"/>
                </a:lnTo>
                <a:lnTo>
                  <a:pt x="591" y="1438"/>
                </a:lnTo>
                <a:lnTo>
                  <a:pt x="640" y="1482"/>
                </a:lnTo>
                <a:lnTo>
                  <a:pt x="688" y="1524"/>
                </a:lnTo>
                <a:lnTo>
                  <a:pt x="737" y="1562"/>
                </a:lnTo>
                <a:lnTo>
                  <a:pt x="757" y="1566"/>
                </a:lnTo>
                <a:lnTo>
                  <a:pt x="774" y="1568"/>
                </a:lnTo>
                <a:lnTo>
                  <a:pt x="787" y="1570"/>
                </a:lnTo>
                <a:lnTo>
                  <a:pt x="797" y="1570"/>
                </a:lnTo>
                <a:lnTo>
                  <a:pt x="805" y="1570"/>
                </a:lnTo>
                <a:lnTo>
                  <a:pt x="814" y="1570"/>
                </a:lnTo>
                <a:lnTo>
                  <a:pt x="826" y="1568"/>
                </a:lnTo>
                <a:lnTo>
                  <a:pt x="839" y="1566"/>
                </a:lnTo>
                <a:lnTo>
                  <a:pt x="855" y="1564"/>
                </a:lnTo>
                <a:lnTo>
                  <a:pt x="872" y="1562"/>
                </a:lnTo>
                <a:lnTo>
                  <a:pt x="891" y="1559"/>
                </a:lnTo>
                <a:lnTo>
                  <a:pt x="912" y="1555"/>
                </a:lnTo>
                <a:lnTo>
                  <a:pt x="695" y="1441"/>
                </a:lnTo>
                <a:lnTo>
                  <a:pt x="720" y="1380"/>
                </a:lnTo>
                <a:lnTo>
                  <a:pt x="753" y="1322"/>
                </a:lnTo>
                <a:lnTo>
                  <a:pt x="791" y="1267"/>
                </a:lnTo>
                <a:lnTo>
                  <a:pt x="835" y="1215"/>
                </a:lnTo>
                <a:lnTo>
                  <a:pt x="728" y="1155"/>
                </a:lnTo>
                <a:lnTo>
                  <a:pt x="753" y="1107"/>
                </a:lnTo>
                <a:lnTo>
                  <a:pt x="778" y="1065"/>
                </a:lnTo>
                <a:lnTo>
                  <a:pt x="803" y="1027"/>
                </a:lnTo>
                <a:lnTo>
                  <a:pt x="830" y="994"/>
                </a:lnTo>
                <a:lnTo>
                  <a:pt x="855" y="967"/>
                </a:lnTo>
                <a:lnTo>
                  <a:pt x="883" y="942"/>
                </a:lnTo>
                <a:lnTo>
                  <a:pt x="910" y="925"/>
                </a:lnTo>
                <a:lnTo>
                  <a:pt x="939" y="912"/>
                </a:lnTo>
                <a:lnTo>
                  <a:pt x="816" y="846"/>
                </a:lnTo>
                <a:lnTo>
                  <a:pt x="832" y="812"/>
                </a:lnTo>
                <a:lnTo>
                  <a:pt x="849" y="781"/>
                </a:lnTo>
                <a:lnTo>
                  <a:pt x="864" y="750"/>
                </a:lnTo>
                <a:lnTo>
                  <a:pt x="882" y="724"/>
                </a:lnTo>
                <a:lnTo>
                  <a:pt x="899" y="697"/>
                </a:lnTo>
                <a:lnTo>
                  <a:pt x="918" y="674"/>
                </a:lnTo>
                <a:lnTo>
                  <a:pt x="937" y="653"/>
                </a:lnTo>
                <a:lnTo>
                  <a:pt x="956" y="633"/>
                </a:lnTo>
                <a:lnTo>
                  <a:pt x="976" y="616"/>
                </a:lnTo>
                <a:lnTo>
                  <a:pt x="997" y="603"/>
                </a:lnTo>
                <a:lnTo>
                  <a:pt x="1020" y="591"/>
                </a:lnTo>
                <a:lnTo>
                  <a:pt x="1041" y="580"/>
                </a:lnTo>
                <a:lnTo>
                  <a:pt x="1064" y="572"/>
                </a:lnTo>
                <a:lnTo>
                  <a:pt x="1087" y="566"/>
                </a:lnTo>
                <a:lnTo>
                  <a:pt x="1112" y="564"/>
                </a:lnTo>
                <a:lnTo>
                  <a:pt x="1137" y="562"/>
                </a:lnTo>
                <a:lnTo>
                  <a:pt x="1181" y="566"/>
                </a:lnTo>
                <a:lnTo>
                  <a:pt x="1225" y="578"/>
                </a:lnTo>
                <a:lnTo>
                  <a:pt x="1248" y="585"/>
                </a:lnTo>
                <a:lnTo>
                  <a:pt x="1271" y="597"/>
                </a:lnTo>
                <a:lnTo>
                  <a:pt x="1294" y="610"/>
                </a:lnTo>
                <a:lnTo>
                  <a:pt x="1317" y="624"/>
                </a:lnTo>
                <a:lnTo>
                  <a:pt x="1477" y="622"/>
                </a:lnTo>
                <a:lnTo>
                  <a:pt x="1431" y="599"/>
                </a:lnTo>
                <a:lnTo>
                  <a:pt x="1385" y="568"/>
                </a:lnTo>
                <a:lnTo>
                  <a:pt x="1335" y="530"/>
                </a:lnTo>
                <a:lnTo>
                  <a:pt x="1285" y="484"/>
                </a:lnTo>
                <a:lnTo>
                  <a:pt x="1248" y="505"/>
                </a:lnTo>
                <a:lnTo>
                  <a:pt x="1214" y="524"/>
                </a:lnTo>
                <a:lnTo>
                  <a:pt x="1177" y="539"/>
                </a:lnTo>
                <a:lnTo>
                  <a:pt x="1139" y="553"/>
                </a:lnTo>
                <a:lnTo>
                  <a:pt x="1102" y="562"/>
                </a:lnTo>
                <a:lnTo>
                  <a:pt x="1064" y="570"/>
                </a:lnTo>
                <a:lnTo>
                  <a:pt x="1026" y="574"/>
                </a:lnTo>
                <a:lnTo>
                  <a:pt x="987" y="576"/>
                </a:lnTo>
                <a:lnTo>
                  <a:pt x="947" y="572"/>
                </a:lnTo>
                <a:lnTo>
                  <a:pt x="943" y="466"/>
                </a:lnTo>
                <a:lnTo>
                  <a:pt x="972" y="468"/>
                </a:lnTo>
                <a:lnTo>
                  <a:pt x="1014" y="466"/>
                </a:lnTo>
                <a:lnTo>
                  <a:pt x="1056" y="461"/>
                </a:lnTo>
                <a:lnTo>
                  <a:pt x="1099" y="453"/>
                </a:lnTo>
                <a:lnTo>
                  <a:pt x="1141" y="441"/>
                </a:lnTo>
                <a:lnTo>
                  <a:pt x="1181" y="424"/>
                </a:lnTo>
                <a:lnTo>
                  <a:pt x="1221" y="405"/>
                </a:lnTo>
                <a:lnTo>
                  <a:pt x="1262" y="384"/>
                </a:lnTo>
                <a:lnTo>
                  <a:pt x="1302" y="357"/>
                </a:lnTo>
                <a:lnTo>
                  <a:pt x="1339" y="401"/>
                </a:lnTo>
                <a:lnTo>
                  <a:pt x="1375" y="440"/>
                </a:lnTo>
                <a:lnTo>
                  <a:pt x="1414" y="474"/>
                </a:lnTo>
                <a:lnTo>
                  <a:pt x="1450" y="499"/>
                </a:lnTo>
                <a:lnTo>
                  <a:pt x="1487" y="520"/>
                </a:lnTo>
                <a:lnTo>
                  <a:pt x="1525" y="536"/>
                </a:lnTo>
                <a:lnTo>
                  <a:pt x="1561" y="545"/>
                </a:lnTo>
                <a:lnTo>
                  <a:pt x="1600" y="547"/>
                </a:lnTo>
                <a:lnTo>
                  <a:pt x="1623" y="547"/>
                </a:lnTo>
                <a:lnTo>
                  <a:pt x="1646" y="543"/>
                </a:lnTo>
                <a:lnTo>
                  <a:pt x="1669" y="536"/>
                </a:lnTo>
                <a:lnTo>
                  <a:pt x="1692" y="526"/>
                </a:lnTo>
                <a:lnTo>
                  <a:pt x="1713" y="514"/>
                </a:lnTo>
                <a:lnTo>
                  <a:pt x="1734" y="501"/>
                </a:lnTo>
                <a:lnTo>
                  <a:pt x="1753" y="484"/>
                </a:lnTo>
                <a:lnTo>
                  <a:pt x="1773" y="464"/>
                </a:lnTo>
                <a:lnTo>
                  <a:pt x="1502" y="155"/>
                </a:lnTo>
                <a:lnTo>
                  <a:pt x="1060" y="109"/>
                </a:lnTo>
                <a:close/>
                <a:moveTo>
                  <a:pt x="1054" y="0"/>
                </a:moveTo>
                <a:lnTo>
                  <a:pt x="1536" y="54"/>
                </a:lnTo>
                <a:lnTo>
                  <a:pt x="1608" y="134"/>
                </a:lnTo>
                <a:lnTo>
                  <a:pt x="2318" y="154"/>
                </a:lnTo>
                <a:lnTo>
                  <a:pt x="2378" y="155"/>
                </a:lnTo>
                <a:lnTo>
                  <a:pt x="2431" y="157"/>
                </a:lnTo>
                <a:lnTo>
                  <a:pt x="2481" y="161"/>
                </a:lnTo>
                <a:lnTo>
                  <a:pt x="2528" y="167"/>
                </a:lnTo>
                <a:lnTo>
                  <a:pt x="2568" y="175"/>
                </a:lnTo>
                <a:lnTo>
                  <a:pt x="2602" y="184"/>
                </a:lnTo>
                <a:lnTo>
                  <a:pt x="2635" y="196"/>
                </a:lnTo>
                <a:lnTo>
                  <a:pt x="2662" y="207"/>
                </a:lnTo>
                <a:lnTo>
                  <a:pt x="2683" y="223"/>
                </a:lnTo>
                <a:lnTo>
                  <a:pt x="2704" y="240"/>
                </a:lnTo>
                <a:lnTo>
                  <a:pt x="2720" y="259"/>
                </a:lnTo>
                <a:lnTo>
                  <a:pt x="2735" y="280"/>
                </a:lnTo>
                <a:lnTo>
                  <a:pt x="2745" y="305"/>
                </a:lnTo>
                <a:lnTo>
                  <a:pt x="2752" y="332"/>
                </a:lnTo>
                <a:lnTo>
                  <a:pt x="2756" y="361"/>
                </a:lnTo>
                <a:lnTo>
                  <a:pt x="2758" y="393"/>
                </a:lnTo>
                <a:lnTo>
                  <a:pt x="2756" y="420"/>
                </a:lnTo>
                <a:lnTo>
                  <a:pt x="2752" y="447"/>
                </a:lnTo>
                <a:lnTo>
                  <a:pt x="2745" y="470"/>
                </a:lnTo>
                <a:lnTo>
                  <a:pt x="2733" y="493"/>
                </a:lnTo>
                <a:lnTo>
                  <a:pt x="2720" y="514"/>
                </a:lnTo>
                <a:lnTo>
                  <a:pt x="2700" y="532"/>
                </a:lnTo>
                <a:lnTo>
                  <a:pt x="2681" y="549"/>
                </a:lnTo>
                <a:lnTo>
                  <a:pt x="2656" y="564"/>
                </a:lnTo>
                <a:lnTo>
                  <a:pt x="2629" y="578"/>
                </a:lnTo>
                <a:lnTo>
                  <a:pt x="2599" y="589"/>
                </a:lnTo>
                <a:lnTo>
                  <a:pt x="2566" y="601"/>
                </a:lnTo>
                <a:lnTo>
                  <a:pt x="2529" y="608"/>
                </a:lnTo>
                <a:lnTo>
                  <a:pt x="2489" y="614"/>
                </a:lnTo>
                <a:lnTo>
                  <a:pt x="2447" y="618"/>
                </a:lnTo>
                <a:lnTo>
                  <a:pt x="2401" y="622"/>
                </a:lnTo>
                <a:lnTo>
                  <a:pt x="2353" y="622"/>
                </a:lnTo>
                <a:lnTo>
                  <a:pt x="1725" y="631"/>
                </a:lnTo>
                <a:lnTo>
                  <a:pt x="1661" y="649"/>
                </a:lnTo>
                <a:lnTo>
                  <a:pt x="1682" y="666"/>
                </a:lnTo>
                <a:lnTo>
                  <a:pt x="1700" y="685"/>
                </a:lnTo>
                <a:lnTo>
                  <a:pt x="1715" y="704"/>
                </a:lnTo>
                <a:lnTo>
                  <a:pt x="1727" y="727"/>
                </a:lnTo>
                <a:lnTo>
                  <a:pt x="1736" y="750"/>
                </a:lnTo>
                <a:lnTo>
                  <a:pt x="1744" y="777"/>
                </a:lnTo>
                <a:lnTo>
                  <a:pt x="1748" y="804"/>
                </a:lnTo>
                <a:lnTo>
                  <a:pt x="1748" y="835"/>
                </a:lnTo>
                <a:lnTo>
                  <a:pt x="1746" y="875"/>
                </a:lnTo>
                <a:lnTo>
                  <a:pt x="1738" y="912"/>
                </a:lnTo>
                <a:lnTo>
                  <a:pt x="1727" y="944"/>
                </a:lnTo>
                <a:lnTo>
                  <a:pt x="1709" y="973"/>
                </a:lnTo>
                <a:lnTo>
                  <a:pt x="1688" y="1000"/>
                </a:lnTo>
                <a:lnTo>
                  <a:pt x="1661" y="1021"/>
                </a:lnTo>
                <a:lnTo>
                  <a:pt x="1631" y="1040"/>
                </a:lnTo>
                <a:lnTo>
                  <a:pt x="1596" y="1056"/>
                </a:lnTo>
                <a:lnTo>
                  <a:pt x="1604" y="1084"/>
                </a:lnTo>
                <a:lnTo>
                  <a:pt x="1609" y="1111"/>
                </a:lnTo>
                <a:lnTo>
                  <a:pt x="1613" y="1136"/>
                </a:lnTo>
                <a:lnTo>
                  <a:pt x="1615" y="1159"/>
                </a:lnTo>
                <a:lnTo>
                  <a:pt x="1611" y="1207"/>
                </a:lnTo>
                <a:lnTo>
                  <a:pt x="1602" y="1251"/>
                </a:lnTo>
                <a:lnTo>
                  <a:pt x="1586" y="1290"/>
                </a:lnTo>
                <a:lnTo>
                  <a:pt x="1565" y="1321"/>
                </a:lnTo>
                <a:lnTo>
                  <a:pt x="1538" y="1347"/>
                </a:lnTo>
                <a:lnTo>
                  <a:pt x="1504" y="1370"/>
                </a:lnTo>
                <a:lnTo>
                  <a:pt x="1463" y="1386"/>
                </a:lnTo>
                <a:lnTo>
                  <a:pt x="1417" y="1397"/>
                </a:lnTo>
                <a:lnTo>
                  <a:pt x="1419" y="1416"/>
                </a:lnTo>
                <a:lnTo>
                  <a:pt x="1419" y="1432"/>
                </a:lnTo>
                <a:lnTo>
                  <a:pt x="1417" y="1459"/>
                </a:lnTo>
                <a:lnTo>
                  <a:pt x="1415" y="1486"/>
                </a:lnTo>
                <a:lnTo>
                  <a:pt x="1410" y="1511"/>
                </a:lnTo>
                <a:lnTo>
                  <a:pt x="1402" y="1532"/>
                </a:lnTo>
                <a:lnTo>
                  <a:pt x="1394" y="1553"/>
                </a:lnTo>
                <a:lnTo>
                  <a:pt x="1383" y="1572"/>
                </a:lnTo>
                <a:lnTo>
                  <a:pt x="1369" y="1589"/>
                </a:lnTo>
                <a:lnTo>
                  <a:pt x="1354" y="1605"/>
                </a:lnTo>
                <a:lnTo>
                  <a:pt x="1337" y="1618"/>
                </a:lnTo>
                <a:lnTo>
                  <a:pt x="1317" y="1630"/>
                </a:lnTo>
                <a:lnTo>
                  <a:pt x="1296" y="1639"/>
                </a:lnTo>
                <a:lnTo>
                  <a:pt x="1273" y="1649"/>
                </a:lnTo>
                <a:lnTo>
                  <a:pt x="1246" y="1654"/>
                </a:lnTo>
                <a:lnTo>
                  <a:pt x="1220" y="1658"/>
                </a:lnTo>
                <a:lnTo>
                  <a:pt x="1191" y="1662"/>
                </a:lnTo>
                <a:lnTo>
                  <a:pt x="1158" y="1662"/>
                </a:lnTo>
                <a:lnTo>
                  <a:pt x="1099" y="1658"/>
                </a:lnTo>
                <a:lnTo>
                  <a:pt x="1033" y="1624"/>
                </a:lnTo>
                <a:lnTo>
                  <a:pt x="979" y="1643"/>
                </a:lnTo>
                <a:lnTo>
                  <a:pt x="928" y="1656"/>
                </a:lnTo>
                <a:lnTo>
                  <a:pt x="876" y="1664"/>
                </a:lnTo>
                <a:lnTo>
                  <a:pt x="828" y="1666"/>
                </a:lnTo>
                <a:lnTo>
                  <a:pt x="809" y="1666"/>
                </a:lnTo>
                <a:lnTo>
                  <a:pt x="785" y="1664"/>
                </a:lnTo>
                <a:lnTo>
                  <a:pt x="757" y="1660"/>
                </a:lnTo>
                <a:lnTo>
                  <a:pt x="722" y="1656"/>
                </a:lnTo>
                <a:lnTo>
                  <a:pt x="676" y="1626"/>
                </a:lnTo>
                <a:lnTo>
                  <a:pt x="628" y="1591"/>
                </a:lnTo>
                <a:lnTo>
                  <a:pt x="578" y="1553"/>
                </a:lnTo>
                <a:lnTo>
                  <a:pt x="530" y="1509"/>
                </a:lnTo>
                <a:lnTo>
                  <a:pt x="482" y="1459"/>
                </a:lnTo>
                <a:lnTo>
                  <a:pt x="432" y="1403"/>
                </a:lnTo>
                <a:lnTo>
                  <a:pt x="382" y="1344"/>
                </a:lnTo>
                <a:lnTo>
                  <a:pt x="332" y="1280"/>
                </a:lnTo>
                <a:lnTo>
                  <a:pt x="83" y="1280"/>
                </a:lnTo>
                <a:lnTo>
                  <a:pt x="63" y="1219"/>
                </a:lnTo>
                <a:lnTo>
                  <a:pt x="46" y="1157"/>
                </a:lnTo>
                <a:lnTo>
                  <a:pt x="33" y="1096"/>
                </a:lnTo>
                <a:lnTo>
                  <a:pt x="19" y="1036"/>
                </a:lnTo>
                <a:lnTo>
                  <a:pt x="11" y="975"/>
                </a:lnTo>
                <a:lnTo>
                  <a:pt x="4" y="914"/>
                </a:lnTo>
                <a:lnTo>
                  <a:pt x="0" y="854"/>
                </a:lnTo>
                <a:lnTo>
                  <a:pt x="0" y="793"/>
                </a:lnTo>
                <a:lnTo>
                  <a:pt x="0" y="724"/>
                </a:lnTo>
                <a:lnTo>
                  <a:pt x="6" y="656"/>
                </a:lnTo>
                <a:lnTo>
                  <a:pt x="11" y="591"/>
                </a:lnTo>
                <a:lnTo>
                  <a:pt x="23" y="526"/>
                </a:lnTo>
                <a:lnTo>
                  <a:pt x="34" y="463"/>
                </a:lnTo>
                <a:lnTo>
                  <a:pt x="52" y="399"/>
                </a:lnTo>
                <a:lnTo>
                  <a:pt x="69" y="336"/>
                </a:lnTo>
                <a:lnTo>
                  <a:pt x="92" y="276"/>
                </a:lnTo>
                <a:lnTo>
                  <a:pt x="465" y="276"/>
                </a:lnTo>
                <a:lnTo>
                  <a:pt x="530" y="236"/>
                </a:lnTo>
                <a:lnTo>
                  <a:pt x="599" y="200"/>
                </a:lnTo>
                <a:lnTo>
                  <a:pt x="668" y="163"/>
                </a:lnTo>
                <a:lnTo>
                  <a:pt x="741" y="129"/>
                </a:lnTo>
                <a:lnTo>
                  <a:pt x="816" y="94"/>
                </a:lnTo>
                <a:lnTo>
                  <a:pt x="893" y="61"/>
                </a:lnTo>
                <a:lnTo>
                  <a:pt x="972" y="31"/>
                </a:lnTo>
                <a:lnTo>
                  <a:pt x="105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手 105"/>
          <p:cNvSpPr/>
          <p:nvPr/>
        </p:nvSpPr>
        <p:spPr>
          <a:xfrm>
            <a:off x="7740720" y="5734080"/>
            <a:ext cx="1328760" cy="1041480"/>
          </a:xfrm>
          <a:custGeom>
            <a:avLst/>
            <a:gdLst/>
            <a:ahLst/>
            <a:rect l="l" t="t" r="r" b="b"/>
            <a:pathLst>
              <a:path w="5342334" h="5785910">
                <a:moveTo>
                  <a:pt x="1438934" y="2944008"/>
                </a:moveTo>
                <a:lnTo>
                  <a:pt x="1441770" y="2943473"/>
                </a:lnTo>
                <a:lnTo>
                  <a:pt x="1438934" y="2944008"/>
                </a:lnTo>
                <a:close/>
                <a:moveTo>
                  <a:pt x="1354605" y="2912708"/>
                </a:moveTo>
                <a:cubicBezTo>
                  <a:pt x="1381420" y="2914268"/>
                  <a:pt x="1412164" y="2879445"/>
                  <a:pt x="1423317" y="2947468"/>
                </a:cubicBezTo>
                <a:cubicBezTo>
                  <a:pt x="1434470" y="3015491"/>
                  <a:pt x="1420535" y="3195595"/>
                  <a:pt x="1421525" y="3320849"/>
                </a:cubicBezTo>
                <a:cubicBezTo>
                  <a:pt x="1438368" y="4219980"/>
                  <a:pt x="1608134" y="5048330"/>
                  <a:pt x="2146318" y="5548257"/>
                </a:cubicBezTo>
                <a:cubicBezTo>
                  <a:pt x="2132082" y="5546972"/>
                  <a:pt x="2129659" y="5554867"/>
                  <a:pt x="2115204" y="5553206"/>
                </a:cubicBezTo>
                <a:lnTo>
                  <a:pt x="1246460" y="5785910"/>
                </a:lnTo>
                <a:cubicBezTo>
                  <a:pt x="37772" y="4518970"/>
                  <a:pt x="415487" y="4027706"/>
                  <a:pt x="0" y="3148605"/>
                </a:cubicBezTo>
                <a:cubicBezTo>
                  <a:pt x="396729" y="3102488"/>
                  <a:pt x="860213" y="3040376"/>
                  <a:pt x="1262428" y="2938106"/>
                </a:cubicBezTo>
                <a:lnTo>
                  <a:pt x="1354605" y="2912708"/>
                </a:lnTo>
                <a:close/>
                <a:moveTo>
                  <a:pt x="3380735" y="118"/>
                </a:moveTo>
                <a:cubicBezTo>
                  <a:pt x="3615010" y="9662"/>
                  <a:pt x="3910837" y="593941"/>
                  <a:pt x="3863622" y="912639"/>
                </a:cubicBezTo>
                <a:cubicBezTo>
                  <a:pt x="3800670" y="1290355"/>
                  <a:pt x="3548860" y="1856928"/>
                  <a:pt x="3674765" y="2045786"/>
                </a:cubicBezTo>
                <a:cubicBezTo>
                  <a:pt x="3797827" y="2230377"/>
                  <a:pt x="4501324" y="2071126"/>
                  <a:pt x="4585837" y="2046833"/>
                </a:cubicBezTo>
                <a:cubicBezTo>
                  <a:pt x="4670350" y="2022540"/>
                  <a:pt x="4615047" y="2013011"/>
                  <a:pt x="4775401" y="2003486"/>
                </a:cubicBezTo>
                <a:cubicBezTo>
                  <a:pt x="4935754" y="1993961"/>
                  <a:pt x="5203724" y="2172925"/>
                  <a:pt x="5203724" y="2381935"/>
                </a:cubicBezTo>
                <a:cubicBezTo>
                  <a:pt x="5203724" y="2524417"/>
                  <a:pt x="5114611" y="2648510"/>
                  <a:pt x="4980124" y="2705696"/>
                </a:cubicBezTo>
                <a:cubicBezTo>
                  <a:pt x="5186442" y="2738785"/>
                  <a:pt x="5342334" y="2974614"/>
                  <a:pt x="5342334" y="3258997"/>
                </a:cubicBezTo>
                <a:cubicBezTo>
                  <a:pt x="5342334" y="3478715"/>
                  <a:pt x="5249280" y="3669449"/>
                  <a:pt x="5107100" y="3754493"/>
                </a:cubicBezTo>
                <a:cubicBezTo>
                  <a:pt x="5250279" y="3829786"/>
                  <a:pt x="5342334" y="3975115"/>
                  <a:pt x="5342334" y="4140580"/>
                </a:cubicBezTo>
                <a:cubicBezTo>
                  <a:pt x="5342334" y="4397998"/>
                  <a:pt x="5119540" y="4606676"/>
                  <a:pt x="4844706" y="4606676"/>
                </a:cubicBezTo>
                <a:lnTo>
                  <a:pt x="4790537" y="4596433"/>
                </a:lnTo>
                <a:lnTo>
                  <a:pt x="4802287" y="4606672"/>
                </a:lnTo>
                <a:cubicBezTo>
                  <a:pt x="5095775" y="4623426"/>
                  <a:pt x="5180585" y="4859077"/>
                  <a:pt x="5191248" y="4997228"/>
                </a:cubicBezTo>
                <a:cubicBezTo>
                  <a:pt x="5201911" y="5135379"/>
                  <a:pt x="5088613" y="5385095"/>
                  <a:pt x="4866278" y="5435572"/>
                </a:cubicBezTo>
                <a:lnTo>
                  <a:pt x="4581456" y="5443059"/>
                </a:lnTo>
                <a:lnTo>
                  <a:pt x="4593578" y="5444848"/>
                </a:lnTo>
                <a:lnTo>
                  <a:pt x="4581281" y="5445228"/>
                </a:lnTo>
                <a:cubicBezTo>
                  <a:pt x="3769354" y="5470211"/>
                  <a:pt x="4031718" y="5729575"/>
                  <a:pt x="2276075" y="5536459"/>
                </a:cubicBezTo>
                <a:cubicBezTo>
                  <a:pt x="1740041" y="5125519"/>
                  <a:pt x="1434982" y="3948583"/>
                  <a:pt x="1567871" y="2924388"/>
                </a:cubicBezTo>
                <a:cubicBezTo>
                  <a:pt x="1736241" y="2898340"/>
                  <a:pt x="1793870" y="2941357"/>
                  <a:pt x="1975047" y="2725675"/>
                </a:cubicBezTo>
                <a:cubicBezTo>
                  <a:pt x="2156224" y="2509993"/>
                  <a:pt x="2466077" y="1970243"/>
                  <a:pt x="2654934" y="1630299"/>
                </a:cubicBezTo>
                <a:cubicBezTo>
                  <a:pt x="2843792" y="1290355"/>
                  <a:pt x="2994878" y="956704"/>
                  <a:pt x="3108192" y="686009"/>
                </a:cubicBezTo>
                <a:cubicBezTo>
                  <a:pt x="3221507" y="415315"/>
                  <a:pt x="3095602" y="81664"/>
                  <a:pt x="3334821" y="6121"/>
                </a:cubicBezTo>
                <a:cubicBezTo>
                  <a:pt x="3349773" y="1399"/>
                  <a:pt x="3365117" y="-519"/>
                  <a:pt x="3380735" y="11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40" y="-2700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喇叭 114"/>
          <p:cNvSpPr/>
          <p:nvPr/>
        </p:nvSpPr>
        <p:spPr>
          <a:xfrm>
            <a:off x="109440" y="6310440"/>
            <a:ext cx="430200" cy="471240"/>
          </a:xfrm>
          <a:custGeom>
            <a:avLst/>
            <a:gdLst/>
            <a:ahLst/>
            <a:rect l="l" t="t" r="r" b="b"/>
            <a:pathLst>
              <a:path w="534" h="354">
                <a:moveTo>
                  <a:pt x="140" y="105"/>
                </a:moveTo>
                <a:lnTo>
                  <a:pt x="190" y="85"/>
                </a:lnTo>
                <a:lnTo>
                  <a:pt x="394" y="0"/>
                </a:lnTo>
                <a:lnTo>
                  <a:pt x="394" y="165"/>
                </a:lnTo>
                <a:lnTo>
                  <a:pt x="394" y="329"/>
                </a:lnTo>
                <a:lnTo>
                  <a:pt x="190" y="245"/>
                </a:lnTo>
                <a:lnTo>
                  <a:pt x="140" y="230"/>
                </a:lnTo>
                <a:lnTo>
                  <a:pt x="175" y="354"/>
                </a:lnTo>
                <a:lnTo>
                  <a:pt x="75" y="354"/>
                </a:lnTo>
                <a:lnTo>
                  <a:pt x="45" y="225"/>
                </a:lnTo>
                <a:lnTo>
                  <a:pt x="0" y="225"/>
                </a:lnTo>
                <a:lnTo>
                  <a:pt x="0" y="105"/>
                </a:lnTo>
                <a:lnTo>
                  <a:pt x="140" y="105"/>
                </a:lnTo>
                <a:close/>
                <a:moveTo>
                  <a:pt x="444" y="230"/>
                </a:moveTo>
                <a:lnTo>
                  <a:pt x="524" y="255"/>
                </a:lnTo>
                <a:lnTo>
                  <a:pt x="509" y="284"/>
                </a:lnTo>
                <a:lnTo>
                  <a:pt x="434" y="259"/>
                </a:lnTo>
                <a:lnTo>
                  <a:pt x="444" y="230"/>
                </a:lnTo>
                <a:close/>
                <a:moveTo>
                  <a:pt x="439" y="70"/>
                </a:moveTo>
                <a:lnTo>
                  <a:pt x="514" y="45"/>
                </a:lnTo>
                <a:lnTo>
                  <a:pt x="524" y="75"/>
                </a:lnTo>
                <a:lnTo>
                  <a:pt x="449" y="105"/>
                </a:lnTo>
                <a:lnTo>
                  <a:pt x="439" y="70"/>
                </a:lnTo>
                <a:close/>
                <a:moveTo>
                  <a:pt x="454" y="150"/>
                </a:moveTo>
                <a:lnTo>
                  <a:pt x="534" y="150"/>
                </a:lnTo>
                <a:lnTo>
                  <a:pt x="534" y="185"/>
                </a:lnTo>
                <a:lnTo>
                  <a:pt x="454" y="185"/>
                </a:lnTo>
                <a:lnTo>
                  <a:pt x="454" y="15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920" y="566064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方正彩云简体"/>
              </a:rPr>
              <a:t>元宵节秋力电器与您共同度过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飞机1 115"/>
          <p:cNvSpPr/>
          <p:nvPr/>
        </p:nvSpPr>
        <p:spPr>
          <a:xfrm rot="10800000">
            <a:off x="8461440" y="6093000"/>
            <a:ext cx="536400" cy="652320"/>
          </a:xfrm>
          <a:custGeom>
            <a:avLst/>
            <a:gdLst/>
            <a:ahLst/>
            <a:rect l="l" t="t" r="r" b="b"/>
            <a:pathLst>
              <a:path w="2040" h="1697">
                <a:moveTo>
                  <a:pt x="2039" y="1166"/>
                </a:moveTo>
                <a:cubicBezTo>
                  <a:pt x="1952" y="866"/>
                  <a:pt x="1952" y="866"/>
                  <a:pt x="1952" y="866"/>
                </a:cubicBezTo>
                <a:cubicBezTo>
                  <a:pt x="1984" y="862"/>
                  <a:pt x="2003" y="855"/>
                  <a:pt x="2003" y="849"/>
                </a:cubicBezTo>
                <a:cubicBezTo>
                  <a:pt x="2003" y="842"/>
                  <a:pt x="1984" y="836"/>
                  <a:pt x="1952" y="831"/>
                </a:cubicBezTo>
                <a:cubicBezTo>
                  <a:pt x="2039" y="532"/>
                  <a:pt x="2039" y="532"/>
                  <a:pt x="2039" y="532"/>
                </a:cubicBezTo>
                <a:cubicBezTo>
                  <a:pt x="2040" y="529"/>
                  <a:pt x="2038" y="526"/>
                  <a:pt x="2034" y="526"/>
                </a:cubicBezTo>
                <a:cubicBezTo>
                  <a:pt x="1954" y="526"/>
                  <a:pt x="1954" y="526"/>
                  <a:pt x="1954" y="526"/>
                </a:cubicBezTo>
                <a:cubicBezTo>
                  <a:pt x="1951" y="526"/>
                  <a:pt x="1946" y="528"/>
                  <a:pt x="1944" y="531"/>
                </a:cubicBezTo>
                <a:cubicBezTo>
                  <a:pt x="1715" y="783"/>
                  <a:pt x="1715" y="783"/>
                  <a:pt x="1715" y="783"/>
                </a:cubicBezTo>
                <a:cubicBezTo>
                  <a:pt x="1694" y="780"/>
                  <a:pt x="1674" y="776"/>
                  <a:pt x="1661" y="774"/>
                </a:cubicBezTo>
                <a:cubicBezTo>
                  <a:pt x="1635" y="770"/>
                  <a:pt x="1593" y="764"/>
                  <a:pt x="1567" y="762"/>
                </a:cubicBezTo>
                <a:cubicBezTo>
                  <a:pt x="1542" y="760"/>
                  <a:pt x="1492" y="757"/>
                  <a:pt x="1457" y="757"/>
                </a:cubicBezTo>
                <a:cubicBezTo>
                  <a:pt x="1382" y="755"/>
                  <a:pt x="1382" y="755"/>
                  <a:pt x="1382" y="755"/>
                </a:cubicBezTo>
                <a:cubicBezTo>
                  <a:pt x="1346" y="754"/>
                  <a:pt x="1289" y="753"/>
                  <a:pt x="1254" y="753"/>
                </a:cubicBezTo>
                <a:cubicBezTo>
                  <a:pt x="1042" y="754"/>
                  <a:pt x="1042" y="754"/>
                  <a:pt x="1042" y="754"/>
                </a:cubicBezTo>
                <a:cubicBezTo>
                  <a:pt x="1057" y="706"/>
                  <a:pt x="1057" y="706"/>
                  <a:pt x="1057" y="706"/>
                </a:cubicBezTo>
                <a:cubicBezTo>
                  <a:pt x="1129" y="683"/>
                  <a:pt x="1129" y="683"/>
                  <a:pt x="1129" y="683"/>
                </a:cubicBezTo>
                <a:cubicBezTo>
                  <a:pt x="1064" y="684"/>
                  <a:pt x="1064" y="684"/>
                  <a:pt x="1064" y="684"/>
                </a:cubicBezTo>
                <a:cubicBezTo>
                  <a:pt x="1084" y="621"/>
                  <a:pt x="1084" y="621"/>
                  <a:pt x="1084" y="621"/>
                </a:cubicBezTo>
                <a:cubicBezTo>
                  <a:pt x="1154" y="599"/>
                  <a:pt x="1154" y="599"/>
                  <a:pt x="1154" y="599"/>
                </a:cubicBezTo>
                <a:cubicBezTo>
                  <a:pt x="1091" y="600"/>
                  <a:pt x="1091" y="600"/>
                  <a:pt x="1091" y="600"/>
                </a:cubicBezTo>
                <a:cubicBezTo>
                  <a:pt x="1126" y="489"/>
                  <a:pt x="1126" y="489"/>
                  <a:pt x="1126" y="489"/>
                </a:cubicBezTo>
                <a:cubicBezTo>
                  <a:pt x="1128" y="482"/>
                  <a:pt x="1133" y="472"/>
                  <a:pt x="1136" y="466"/>
                </a:cubicBezTo>
                <a:cubicBezTo>
                  <a:pt x="1142" y="457"/>
                  <a:pt x="1142" y="457"/>
                  <a:pt x="1142" y="457"/>
                </a:cubicBezTo>
                <a:cubicBezTo>
                  <a:pt x="1225" y="431"/>
                  <a:pt x="1225" y="431"/>
                  <a:pt x="1225" y="431"/>
                </a:cubicBezTo>
                <a:cubicBezTo>
                  <a:pt x="1157" y="432"/>
                  <a:pt x="1157" y="432"/>
                  <a:pt x="1157" y="432"/>
                </a:cubicBezTo>
                <a:cubicBezTo>
                  <a:pt x="1160" y="426"/>
                  <a:pt x="1160" y="426"/>
                  <a:pt x="1160" y="426"/>
                </a:cubicBezTo>
                <a:cubicBezTo>
                  <a:pt x="1163" y="420"/>
                  <a:pt x="1169" y="410"/>
                  <a:pt x="1173" y="404"/>
                </a:cubicBezTo>
                <a:cubicBezTo>
                  <a:pt x="1205" y="351"/>
                  <a:pt x="1205" y="351"/>
                  <a:pt x="1205" y="351"/>
                </a:cubicBezTo>
                <a:cubicBezTo>
                  <a:pt x="1293" y="323"/>
                  <a:pt x="1293" y="323"/>
                  <a:pt x="1293" y="323"/>
                </a:cubicBezTo>
                <a:cubicBezTo>
                  <a:pt x="1220" y="324"/>
                  <a:pt x="1220" y="324"/>
                  <a:pt x="1220" y="324"/>
                </a:cubicBezTo>
                <a:cubicBezTo>
                  <a:pt x="1294" y="200"/>
                  <a:pt x="1294" y="200"/>
                  <a:pt x="1294" y="200"/>
                </a:cubicBezTo>
                <a:cubicBezTo>
                  <a:pt x="1298" y="194"/>
                  <a:pt x="1304" y="184"/>
                  <a:pt x="1307" y="178"/>
                </a:cubicBezTo>
                <a:cubicBezTo>
                  <a:pt x="1370" y="80"/>
                  <a:pt x="1370" y="80"/>
                  <a:pt x="1370" y="80"/>
                </a:cubicBezTo>
                <a:cubicBezTo>
                  <a:pt x="1374" y="74"/>
                  <a:pt x="1381" y="65"/>
                  <a:pt x="1385" y="59"/>
                </a:cubicBezTo>
                <a:cubicBezTo>
                  <a:pt x="1396" y="44"/>
                  <a:pt x="1396" y="44"/>
                  <a:pt x="1396" y="44"/>
                </a:cubicBezTo>
                <a:cubicBezTo>
                  <a:pt x="1400" y="39"/>
                  <a:pt x="1409" y="33"/>
                  <a:pt x="1416" y="33"/>
                </a:cubicBezTo>
                <a:cubicBezTo>
                  <a:pt x="1445" y="30"/>
                  <a:pt x="1445" y="30"/>
                  <a:pt x="1445" y="30"/>
                </a:cubicBezTo>
                <a:cubicBezTo>
                  <a:pt x="1452" y="30"/>
                  <a:pt x="1464" y="28"/>
                  <a:pt x="1471" y="26"/>
                </a:cubicBezTo>
                <a:cubicBezTo>
                  <a:pt x="1495" y="20"/>
                  <a:pt x="1495" y="20"/>
                  <a:pt x="1495" y="20"/>
                </a:cubicBezTo>
                <a:cubicBezTo>
                  <a:pt x="1502" y="18"/>
                  <a:pt x="1502" y="16"/>
                  <a:pt x="1495" y="14"/>
                </a:cubicBezTo>
                <a:cubicBezTo>
                  <a:pt x="1469" y="8"/>
                  <a:pt x="1469" y="8"/>
                  <a:pt x="1469" y="8"/>
                </a:cubicBezTo>
                <a:cubicBezTo>
                  <a:pt x="1462" y="7"/>
                  <a:pt x="1451" y="5"/>
                  <a:pt x="1444" y="4"/>
                </a:cubicBezTo>
                <a:cubicBezTo>
                  <a:pt x="1399" y="0"/>
                  <a:pt x="1399" y="0"/>
                  <a:pt x="1399" y="0"/>
                </a:cubicBezTo>
                <a:cubicBezTo>
                  <a:pt x="1392" y="0"/>
                  <a:pt x="1380" y="0"/>
                  <a:pt x="1373" y="0"/>
                </a:cubicBezTo>
                <a:cubicBezTo>
                  <a:pt x="1332" y="4"/>
                  <a:pt x="1332" y="4"/>
                  <a:pt x="1332" y="4"/>
                </a:cubicBezTo>
                <a:cubicBezTo>
                  <a:pt x="1325" y="5"/>
                  <a:pt x="1314" y="7"/>
                  <a:pt x="1307" y="9"/>
                </a:cubicBezTo>
                <a:cubicBezTo>
                  <a:pt x="1281" y="17"/>
                  <a:pt x="1281" y="17"/>
                  <a:pt x="1281" y="17"/>
                </a:cubicBezTo>
                <a:cubicBezTo>
                  <a:pt x="1274" y="19"/>
                  <a:pt x="1265" y="25"/>
                  <a:pt x="1260" y="30"/>
                </a:cubicBezTo>
                <a:cubicBezTo>
                  <a:pt x="1071" y="241"/>
                  <a:pt x="1071" y="241"/>
                  <a:pt x="1071" y="241"/>
                </a:cubicBezTo>
                <a:cubicBezTo>
                  <a:pt x="1056" y="233"/>
                  <a:pt x="1035" y="228"/>
                  <a:pt x="1012" y="228"/>
                </a:cubicBezTo>
                <a:cubicBezTo>
                  <a:pt x="951" y="228"/>
                  <a:pt x="951" y="228"/>
                  <a:pt x="951" y="228"/>
                </a:cubicBezTo>
                <a:cubicBezTo>
                  <a:pt x="937" y="228"/>
                  <a:pt x="926" y="240"/>
                  <a:pt x="926" y="254"/>
                </a:cubicBezTo>
                <a:cubicBezTo>
                  <a:pt x="926" y="284"/>
                  <a:pt x="926" y="284"/>
                  <a:pt x="926" y="284"/>
                </a:cubicBezTo>
                <a:cubicBezTo>
                  <a:pt x="926" y="299"/>
                  <a:pt x="937" y="310"/>
                  <a:pt x="951" y="310"/>
                </a:cubicBezTo>
                <a:cubicBezTo>
                  <a:pt x="989" y="310"/>
                  <a:pt x="989" y="310"/>
                  <a:pt x="989" y="310"/>
                </a:cubicBezTo>
                <a:cubicBezTo>
                  <a:pt x="995" y="311"/>
                  <a:pt x="1002" y="311"/>
                  <a:pt x="1008" y="312"/>
                </a:cubicBezTo>
                <a:cubicBezTo>
                  <a:pt x="897" y="435"/>
                  <a:pt x="897" y="435"/>
                  <a:pt x="897" y="435"/>
                </a:cubicBezTo>
                <a:cubicBezTo>
                  <a:pt x="893" y="441"/>
                  <a:pt x="885" y="449"/>
                  <a:pt x="880" y="454"/>
                </a:cubicBezTo>
                <a:cubicBezTo>
                  <a:pt x="842" y="496"/>
                  <a:pt x="842" y="496"/>
                  <a:pt x="842" y="496"/>
                </a:cubicBezTo>
                <a:cubicBezTo>
                  <a:pt x="827" y="488"/>
                  <a:pt x="805" y="483"/>
                  <a:pt x="782" y="483"/>
                </a:cubicBezTo>
                <a:cubicBezTo>
                  <a:pt x="721" y="483"/>
                  <a:pt x="721" y="483"/>
                  <a:pt x="721" y="483"/>
                </a:cubicBezTo>
                <a:cubicBezTo>
                  <a:pt x="707" y="483"/>
                  <a:pt x="695" y="494"/>
                  <a:pt x="695" y="508"/>
                </a:cubicBezTo>
                <a:cubicBezTo>
                  <a:pt x="695" y="539"/>
                  <a:pt x="695" y="539"/>
                  <a:pt x="695" y="539"/>
                </a:cubicBezTo>
                <a:cubicBezTo>
                  <a:pt x="695" y="553"/>
                  <a:pt x="707" y="564"/>
                  <a:pt x="721" y="564"/>
                </a:cubicBezTo>
                <a:cubicBezTo>
                  <a:pt x="759" y="564"/>
                  <a:pt x="759" y="564"/>
                  <a:pt x="759" y="564"/>
                </a:cubicBezTo>
                <a:cubicBezTo>
                  <a:pt x="765" y="565"/>
                  <a:pt x="771" y="566"/>
                  <a:pt x="777" y="566"/>
                </a:cubicBezTo>
                <a:cubicBezTo>
                  <a:pt x="616" y="741"/>
                  <a:pt x="616" y="741"/>
                  <a:pt x="616" y="741"/>
                </a:cubicBezTo>
                <a:cubicBezTo>
                  <a:pt x="613" y="744"/>
                  <a:pt x="608" y="749"/>
                  <a:pt x="605" y="754"/>
                </a:cubicBezTo>
                <a:cubicBezTo>
                  <a:pt x="490" y="753"/>
                  <a:pt x="490" y="753"/>
                  <a:pt x="490" y="753"/>
                </a:cubicBezTo>
                <a:cubicBezTo>
                  <a:pt x="455" y="753"/>
                  <a:pt x="398" y="754"/>
                  <a:pt x="362" y="754"/>
                </a:cubicBezTo>
                <a:cubicBezTo>
                  <a:pt x="308" y="755"/>
                  <a:pt x="308" y="755"/>
                  <a:pt x="308" y="755"/>
                </a:cubicBezTo>
                <a:cubicBezTo>
                  <a:pt x="273" y="756"/>
                  <a:pt x="221" y="760"/>
                  <a:pt x="193" y="765"/>
                </a:cubicBezTo>
                <a:cubicBezTo>
                  <a:pt x="165" y="770"/>
                  <a:pt x="118" y="782"/>
                  <a:pt x="90" y="791"/>
                </a:cubicBezTo>
                <a:cubicBezTo>
                  <a:pt x="61" y="800"/>
                  <a:pt x="30" y="813"/>
                  <a:pt x="21" y="820"/>
                </a:cubicBezTo>
                <a:cubicBezTo>
                  <a:pt x="12" y="826"/>
                  <a:pt x="3" y="838"/>
                  <a:pt x="2" y="846"/>
                </a:cubicBezTo>
                <a:cubicBezTo>
                  <a:pt x="0" y="854"/>
                  <a:pt x="8" y="868"/>
                  <a:pt x="18" y="877"/>
                </a:cubicBezTo>
                <a:cubicBezTo>
                  <a:pt x="29" y="886"/>
                  <a:pt x="60" y="901"/>
                  <a:pt x="86" y="910"/>
                </a:cubicBezTo>
                <a:cubicBezTo>
                  <a:pt x="113" y="919"/>
                  <a:pt x="159" y="930"/>
                  <a:pt x="187" y="935"/>
                </a:cubicBezTo>
                <a:cubicBezTo>
                  <a:pt x="216" y="940"/>
                  <a:pt x="268" y="944"/>
                  <a:pt x="303" y="945"/>
                </a:cubicBezTo>
                <a:cubicBezTo>
                  <a:pt x="367" y="947"/>
                  <a:pt x="367" y="947"/>
                  <a:pt x="367" y="947"/>
                </a:cubicBezTo>
                <a:cubicBezTo>
                  <a:pt x="402" y="948"/>
                  <a:pt x="460" y="948"/>
                  <a:pt x="495" y="949"/>
                </a:cubicBezTo>
                <a:cubicBezTo>
                  <a:pt x="606" y="949"/>
                  <a:pt x="606" y="949"/>
                  <a:pt x="606" y="949"/>
                </a:cubicBezTo>
                <a:cubicBezTo>
                  <a:pt x="609" y="951"/>
                  <a:pt x="611" y="954"/>
                  <a:pt x="613" y="956"/>
                </a:cubicBezTo>
                <a:cubicBezTo>
                  <a:pt x="783" y="1140"/>
                  <a:pt x="783" y="1140"/>
                  <a:pt x="783" y="1140"/>
                </a:cubicBezTo>
                <a:cubicBezTo>
                  <a:pt x="775" y="1140"/>
                  <a:pt x="768" y="1141"/>
                  <a:pt x="761" y="1142"/>
                </a:cubicBezTo>
                <a:cubicBezTo>
                  <a:pt x="722" y="1142"/>
                  <a:pt x="722" y="1142"/>
                  <a:pt x="722" y="1142"/>
                </a:cubicBezTo>
                <a:cubicBezTo>
                  <a:pt x="708" y="1142"/>
                  <a:pt x="697" y="1154"/>
                  <a:pt x="697" y="1168"/>
                </a:cubicBezTo>
                <a:cubicBezTo>
                  <a:pt x="697" y="1198"/>
                  <a:pt x="697" y="1198"/>
                  <a:pt x="697" y="1198"/>
                </a:cubicBezTo>
                <a:cubicBezTo>
                  <a:pt x="697" y="1212"/>
                  <a:pt x="708" y="1224"/>
                  <a:pt x="722" y="1224"/>
                </a:cubicBezTo>
                <a:cubicBezTo>
                  <a:pt x="783" y="1224"/>
                  <a:pt x="783" y="1224"/>
                  <a:pt x="783" y="1224"/>
                </a:cubicBezTo>
                <a:cubicBezTo>
                  <a:pt x="809" y="1224"/>
                  <a:pt x="831" y="1218"/>
                  <a:pt x="847" y="1209"/>
                </a:cubicBezTo>
                <a:cubicBezTo>
                  <a:pt x="877" y="1242"/>
                  <a:pt x="877" y="1242"/>
                  <a:pt x="877" y="1242"/>
                </a:cubicBezTo>
                <a:cubicBezTo>
                  <a:pt x="882" y="1247"/>
                  <a:pt x="889" y="1256"/>
                  <a:pt x="894" y="1261"/>
                </a:cubicBezTo>
                <a:cubicBezTo>
                  <a:pt x="1014" y="1395"/>
                  <a:pt x="1014" y="1395"/>
                  <a:pt x="1014" y="1395"/>
                </a:cubicBezTo>
                <a:cubicBezTo>
                  <a:pt x="1008" y="1395"/>
                  <a:pt x="1002" y="1396"/>
                  <a:pt x="996" y="1396"/>
                </a:cubicBezTo>
                <a:cubicBezTo>
                  <a:pt x="958" y="1396"/>
                  <a:pt x="958" y="1396"/>
                  <a:pt x="958" y="1396"/>
                </a:cubicBezTo>
                <a:cubicBezTo>
                  <a:pt x="943" y="1396"/>
                  <a:pt x="932" y="1408"/>
                  <a:pt x="932" y="1422"/>
                </a:cubicBezTo>
                <a:cubicBezTo>
                  <a:pt x="932" y="1452"/>
                  <a:pt x="932" y="1452"/>
                  <a:pt x="932" y="1452"/>
                </a:cubicBezTo>
                <a:cubicBezTo>
                  <a:pt x="932" y="1467"/>
                  <a:pt x="943" y="1478"/>
                  <a:pt x="958" y="1478"/>
                </a:cubicBezTo>
                <a:cubicBezTo>
                  <a:pt x="1018" y="1478"/>
                  <a:pt x="1018" y="1478"/>
                  <a:pt x="1018" y="1478"/>
                </a:cubicBezTo>
                <a:cubicBezTo>
                  <a:pt x="1041" y="1478"/>
                  <a:pt x="1062" y="1473"/>
                  <a:pt x="1077" y="1466"/>
                </a:cubicBezTo>
                <a:cubicBezTo>
                  <a:pt x="1257" y="1666"/>
                  <a:pt x="1257" y="1666"/>
                  <a:pt x="1257" y="1666"/>
                </a:cubicBezTo>
                <a:cubicBezTo>
                  <a:pt x="1262" y="1672"/>
                  <a:pt x="1271" y="1678"/>
                  <a:pt x="1278" y="1680"/>
                </a:cubicBezTo>
                <a:cubicBezTo>
                  <a:pt x="1304" y="1687"/>
                  <a:pt x="1304" y="1687"/>
                  <a:pt x="1304" y="1687"/>
                </a:cubicBezTo>
                <a:cubicBezTo>
                  <a:pt x="1311" y="1689"/>
                  <a:pt x="1322" y="1691"/>
                  <a:pt x="1329" y="1692"/>
                </a:cubicBezTo>
                <a:cubicBezTo>
                  <a:pt x="1370" y="1696"/>
                  <a:pt x="1370" y="1696"/>
                  <a:pt x="1370" y="1696"/>
                </a:cubicBezTo>
                <a:cubicBezTo>
                  <a:pt x="1377" y="1697"/>
                  <a:pt x="1388" y="1697"/>
                  <a:pt x="1395" y="1696"/>
                </a:cubicBezTo>
                <a:cubicBezTo>
                  <a:pt x="1440" y="1692"/>
                  <a:pt x="1440" y="1692"/>
                  <a:pt x="1440" y="1692"/>
                </a:cubicBezTo>
                <a:cubicBezTo>
                  <a:pt x="1447" y="1691"/>
                  <a:pt x="1459" y="1690"/>
                  <a:pt x="1466" y="1688"/>
                </a:cubicBezTo>
                <a:cubicBezTo>
                  <a:pt x="1492" y="1682"/>
                  <a:pt x="1492" y="1682"/>
                  <a:pt x="1492" y="1682"/>
                </a:cubicBezTo>
                <a:cubicBezTo>
                  <a:pt x="1499" y="1681"/>
                  <a:pt x="1499" y="1678"/>
                  <a:pt x="1492" y="1676"/>
                </a:cubicBezTo>
                <a:cubicBezTo>
                  <a:pt x="1467" y="1670"/>
                  <a:pt x="1467" y="1670"/>
                  <a:pt x="1467" y="1670"/>
                </a:cubicBezTo>
                <a:cubicBezTo>
                  <a:pt x="1460" y="1669"/>
                  <a:pt x="1449" y="1667"/>
                  <a:pt x="1442" y="1666"/>
                </a:cubicBezTo>
                <a:cubicBezTo>
                  <a:pt x="1413" y="1664"/>
                  <a:pt x="1413" y="1664"/>
                  <a:pt x="1413" y="1664"/>
                </a:cubicBezTo>
                <a:cubicBezTo>
                  <a:pt x="1406" y="1663"/>
                  <a:pt x="1397" y="1658"/>
                  <a:pt x="1393" y="1652"/>
                </a:cubicBezTo>
                <a:cubicBezTo>
                  <a:pt x="1382" y="1637"/>
                  <a:pt x="1382" y="1637"/>
                  <a:pt x="1382" y="1637"/>
                </a:cubicBezTo>
                <a:cubicBezTo>
                  <a:pt x="1378" y="1632"/>
                  <a:pt x="1371" y="1622"/>
                  <a:pt x="1367" y="1616"/>
                </a:cubicBezTo>
                <a:cubicBezTo>
                  <a:pt x="1304" y="1518"/>
                  <a:pt x="1304" y="1518"/>
                  <a:pt x="1304" y="1518"/>
                </a:cubicBezTo>
                <a:cubicBezTo>
                  <a:pt x="1300" y="1512"/>
                  <a:pt x="1294" y="1502"/>
                  <a:pt x="1291" y="1496"/>
                </a:cubicBezTo>
                <a:cubicBezTo>
                  <a:pt x="1221" y="1379"/>
                  <a:pt x="1221" y="1379"/>
                  <a:pt x="1221" y="1379"/>
                </a:cubicBezTo>
                <a:cubicBezTo>
                  <a:pt x="1295" y="1380"/>
                  <a:pt x="1295" y="1380"/>
                  <a:pt x="1295" y="1380"/>
                </a:cubicBezTo>
                <a:cubicBezTo>
                  <a:pt x="1205" y="1352"/>
                  <a:pt x="1205" y="1352"/>
                  <a:pt x="1205" y="1352"/>
                </a:cubicBezTo>
                <a:cubicBezTo>
                  <a:pt x="1169" y="1292"/>
                  <a:pt x="1169" y="1292"/>
                  <a:pt x="1169" y="1292"/>
                </a:cubicBezTo>
                <a:cubicBezTo>
                  <a:pt x="1166" y="1287"/>
                  <a:pt x="1161" y="1278"/>
                  <a:pt x="1157" y="1272"/>
                </a:cubicBezTo>
                <a:cubicBezTo>
                  <a:pt x="1226" y="1273"/>
                  <a:pt x="1226" y="1273"/>
                  <a:pt x="1226" y="1273"/>
                </a:cubicBezTo>
                <a:cubicBezTo>
                  <a:pt x="1143" y="1246"/>
                  <a:pt x="1143" y="1246"/>
                  <a:pt x="1143" y="1246"/>
                </a:cubicBezTo>
                <a:cubicBezTo>
                  <a:pt x="1133" y="1230"/>
                  <a:pt x="1133" y="1230"/>
                  <a:pt x="1133" y="1230"/>
                </a:cubicBezTo>
                <a:cubicBezTo>
                  <a:pt x="1130" y="1224"/>
                  <a:pt x="1125" y="1214"/>
                  <a:pt x="1123" y="1207"/>
                </a:cubicBezTo>
                <a:cubicBezTo>
                  <a:pt x="1090" y="1103"/>
                  <a:pt x="1090" y="1103"/>
                  <a:pt x="1090" y="1103"/>
                </a:cubicBezTo>
                <a:cubicBezTo>
                  <a:pt x="1156" y="1104"/>
                  <a:pt x="1156" y="1104"/>
                  <a:pt x="1156" y="1104"/>
                </a:cubicBezTo>
                <a:cubicBezTo>
                  <a:pt x="1083" y="1081"/>
                  <a:pt x="1083" y="1081"/>
                  <a:pt x="1083" y="1081"/>
                </a:cubicBezTo>
                <a:cubicBezTo>
                  <a:pt x="1063" y="1019"/>
                  <a:pt x="1063" y="1019"/>
                  <a:pt x="1063" y="1019"/>
                </a:cubicBezTo>
                <a:cubicBezTo>
                  <a:pt x="1130" y="1020"/>
                  <a:pt x="1130" y="1020"/>
                  <a:pt x="1130" y="1020"/>
                </a:cubicBezTo>
                <a:cubicBezTo>
                  <a:pt x="1056" y="997"/>
                  <a:pt x="1056" y="997"/>
                  <a:pt x="1056" y="997"/>
                </a:cubicBezTo>
                <a:cubicBezTo>
                  <a:pt x="1040" y="948"/>
                  <a:pt x="1040" y="948"/>
                  <a:pt x="1040" y="948"/>
                </a:cubicBezTo>
                <a:cubicBezTo>
                  <a:pt x="1265" y="948"/>
                  <a:pt x="1265" y="948"/>
                  <a:pt x="1265" y="948"/>
                </a:cubicBezTo>
                <a:cubicBezTo>
                  <a:pt x="1300" y="948"/>
                  <a:pt x="1358" y="947"/>
                  <a:pt x="1393" y="946"/>
                </a:cubicBezTo>
                <a:cubicBezTo>
                  <a:pt x="1463" y="944"/>
                  <a:pt x="1463" y="944"/>
                  <a:pt x="1463" y="944"/>
                </a:cubicBezTo>
                <a:cubicBezTo>
                  <a:pt x="1498" y="943"/>
                  <a:pt x="1548" y="941"/>
                  <a:pt x="1574" y="939"/>
                </a:cubicBezTo>
                <a:cubicBezTo>
                  <a:pt x="1599" y="937"/>
                  <a:pt x="1641" y="932"/>
                  <a:pt x="1666" y="927"/>
                </a:cubicBezTo>
                <a:cubicBezTo>
                  <a:pt x="1679" y="924"/>
                  <a:pt x="1698" y="921"/>
                  <a:pt x="1718" y="917"/>
                </a:cubicBezTo>
                <a:cubicBezTo>
                  <a:pt x="1944" y="1167"/>
                  <a:pt x="1944" y="1167"/>
                  <a:pt x="1944" y="1167"/>
                </a:cubicBezTo>
                <a:cubicBezTo>
                  <a:pt x="1947" y="1170"/>
                  <a:pt x="1951" y="1172"/>
                  <a:pt x="1955" y="1172"/>
                </a:cubicBezTo>
                <a:cubicBezTo>
                  <a:pt x="2035" y="1172"/>
                  <a:pt x="2035" y="1172"/>
                  <a:pt x="2035" y="1172"/>
                </a:cubicBezTo>
                <a:cubicBezTo>
                  <a:pt x="2038" y="1172"/>
                  <a:pt x="2040" y="1169"/>
                  <a:pt x="2039" y="1166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00:44:01Z</dcterms:created>
  <dc:creator>Administrator</dc:creator>
  <dc:description/>
  <cp:keywords/>
  <dc:language>en-US</dc:language>
  <cp:lastModifiedBy>未知用户</cp:lastModifiedBy>
  <dcterms:modified xsi:type="dcterms:W3CDTF">2016-02-05T02:50:01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