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186-1AFB-444F-A9DA-FE19CF91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0DA-D7E1-4784-BB0B-D3758EB4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BC1-2288-406C-B912-B314CAFA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9C6-DCA6-4885-8666-0801A3F1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9D46-7466-4089-93E2-E456AEA7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A517-AF2C-464A-9EEF-44B84A28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CD72-81F6-49E9-83D9-24607D89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FCBE-E21D-4977-9942-B57A8C2C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9226-D3BC-4A05-806E-DBB4029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E510-50EA-4149-BD08-A2BC7109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481D-A113-4F64-8AB6-D7AF56A6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C9B-5EEB-468F-9D40-6B42C869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3CA0-2408-48AE-A651-1E4477D6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E335-F0DF-435C-8C0F-937C256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929C-913D-4464-A586-2718E662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BD96-937A-48CE-BDB8-F405E7BC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C6C7-0B86-4E04-9F39-966C1FFF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3D4-7145-4C40-B013-B4854957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CF4-3073-47DB-ADF7-7431A702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F35-77CC-435A-AFEB-B3D22E07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041-4B75-475D-8692-060DB809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643-D74A-4618-8E9D-8570F46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A14-A2F1-4BAD-9F81-8985C344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171-B9DF-4FA9-A64C-AFC3DF8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72CE-5A3E-4FAB-AC89-0208E3D75C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8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8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BA9-AAE2-48FA-88D0-65AF3351F0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971640" y="4437000"/>
            <a:ext cx="6858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婚礼日期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:2016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年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月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6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日</a:t>
            </a: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/ 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撰写日期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:2016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年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月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8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策划方</a:t>
            </a: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:</a:t>
            </a:r>
            <a:r>
              <a:rPr b="1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婚庆礼仪有限公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24000" y="285264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324000" y="3933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11280" y="1803600"/>
            <a:ext cx="67849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李晓光先生房静小姐</a:t>
            </a:r>
            <a:r>
              <a:rPr b="0" lang="zh-CN" sz="42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971640" y="2877120"/>
            <a:ext cx="53974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婚庆典礼仪式策划方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0" y="389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60" y="3928680"/>
            <a:ext cx="272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0" y="836640"/>
            <a:ext cx="461196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人员安排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6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典礼结束后安排服务员准备好敬酒的物品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7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婚宴中间物品要找专人负责看守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不能让服务员或某些人随意拿走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要尽量的多照顾新郎新娘的领导和娘家人等贵宾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物品需要及时补给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8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提前跟烟酒的供应商协调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要有剩下整件的酒或整条的烟等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可以退回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婚宴结束后安排人收拾剩余的物品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烟酒饮料等等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有必要的话也安排人收拾一下饭菜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避免不必要的浪费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9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婚宴结束后看安排没有吃饭的人员就餐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一般有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郎新娘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伴郎伴娘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郎父母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司仪摄像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酒宴总管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照相老师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等人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10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婚宴中间帮新郎处理一些小事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如杯子打破需要签字等等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11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当天参加婚礼的人员多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且有的彼此之间都不大熟悉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防止有人混水摸鱼或顺手牵羊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0920" y="620640"/>
            <a:ext cx="4943520" cy="6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人员安排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三礼炮手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&lt;1&gt;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第一件事就是除了两个礼炮手外不要把礼炮给任何人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否则就会打乱计划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&lt;2&gt;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大礼炮室外用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室外打注意风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风往哪个方向刮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朝相反的方向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刚好落在新人上面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&lt;3&gt;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小礼炮室内用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室内打注意灯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一般大一点的酒店的灯都很名贵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不要朝灯上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更不能朝人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&lt;4&gt;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摄像机不开的时候不要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&lt;5&gt;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郎家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郎出门由新郎亲手打第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跟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到新娘家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郎下车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新人下楼出门到花车前之间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  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到酒店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郎下车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娘下车打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典礼时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证婚主婚入场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父母入场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郎出场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娘出场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郎向新娘献花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人走向典礼台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娘说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我愿意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人走上典礼台转身或掀盖头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新人读完婚盟誓约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爱情宣言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)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证婚人上台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主婚人上台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戴戒指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交杯酒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夫妻对拜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接吻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    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结束向大家挥手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支 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入洞房打完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5079960" cy="60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人员安排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四音响师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婚礼当中尤为重要而往往被忽略的人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起到婚礼当中调动气氛非常重要的人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一般情况司仪对音响及音响师的要求较高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尽量不要安排酒店的音响师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不太专业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关键是跟司仪配合不够默契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五小花童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根据新人的喜好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可有可无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.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六打灯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新郎负责安排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主要跟摄像师配合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七撒喜糖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分两次到三次撒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新郎出家门可有可无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新郎把新娘接出门撒一次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新人到酒店下车撒一次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给门口负责看门的保安或门卫先准备好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一定要注意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提前想好怎么打发拦喜的人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特别是新娘家热情的邻居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老乡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场景设计</a:t>
            </a:r>
            <a:endParaRPr b="0" lang="en-US" sz="4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追光灯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新郎新娘出场都分别以一束追光灯打上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此时所有的目光全部集中在新人身上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全场灯光暗掉，两束灯光分别从前面和后面照在两位新人的身上，全场的目光随着你们的身影配合音乐缓缓前行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倒香槟时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追光灯可以不断地变幻颜色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魔幻灯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魔幻灯目前在婚礼上用的较少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只有少数大的婚庆公司可以提供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!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魔幻灯能发出七彩的光芒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令现场观众和嘉宾目不暇接，亦真亦幻浮光掠影，必定让现场嘉宾由衷感叹！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cut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现场布置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婚宴场地的布置，可以说是每对筹备婚礼的新人所追求的，为自己也为亲友们留驻美好的记忆。场景布置离不开鲜花，轻纱，布艺，灯光，写真，烛光台，浪漫泡泡，丝带和气球等。运用这些材料，能营造出一个爱情的仙境，也能创造出一个极具艺术气质的艺廊，更能营造出完美的小天堂。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44" name="Picture 4" descr="e-marry_cn_2616_200772695811"/>
          <p:cNvPicPr/>
          <p:nvPr/>
        </p:nvPicPr>
        <p:blipFill>
          <a:blip r:embed="rId1"/>
          <a:stretch/>
        </p:blipFill>
        <p:spPr>
          <a:xfrm>
            <a:off x="4932360" y="155736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新人倒香槟塔：在现场亲朋好友的祝福声中，新郎左手托着香槟瓶颈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右手托着瓶底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新娘右手轻托新郎左手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右手轻托新郎右手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以不紧不慢的速度向第一只杯中缓缓倒入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.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搭起来的香槟塔好比婚后的生活甜蜜节节高。香槟不但拥有柔顺、清新、易于亲近的美好滋味，如珠串般不停冒升涌起的气泡，更随时令欢饮时刻的幸福心情与婚礼气氛一起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High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到最高点。（灯光、音响、司仪解说配合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婚礼流程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当新人交换戒指后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这时由司仪指导大家安静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灯光渐渐暗了下来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舒缓的音乐悄然响起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由礼仪小姐捧上了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盛放蝴蝶的花篮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新郎新娘默默的许下心愿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双方共同打开丝带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用手轻轻捧起可爱的精灵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放飞出美丽的蝴蝶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蝴蝶在新人周围翩翩起舞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令婚礼有着童话般的效果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对婚姻产生美好永恒的记忆 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48" name="Picture 9" descr="蝴蝶,小天使"/>
          <p:cNvPicPr/>
          <p:nvPr/>
        </p:nvPicPr>
        <p:blipFill>
          <a:blip r:embed="rId1"/>
          <a:stretch/>
        </p:blipFill>
        <p:spPr>
          <a:xfrm>
            <a:off x="250920" y="2421000"/>
            <a:ext cx="4392360" cy="306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酒店门口：在新人举行放飞仪式时使用，场面雄伟壮观。从新人花车停车处到酒店大门口铺设大红地毯，一路引领新人步入婚礼殿堂。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典礼区入口：是一座纯美的心型藤编鲜花幸福门。它和路引、主典礼台的设计格调一致、相互映衬，完美地营造出了唯美、高雅、豪华的婚礼氛围。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大厅入口：要让宾客未进入婚礼现场，便能感受到婚礼的气氛，便要在入口处下些功夫。鲜花精心装饰的花门、签到台、迎宾墙及新人的迎宾照片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展架）使人一进门便能感受到婚礼的浪漫气息。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爱情是坚定的守候、是一生的承诺。婚礼则是芳香满屋的浪漫。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唯美浪漫的圣堂里终成眷属的新人许下一生不变的承诺。现场所有的来宾见证着最为神圣、庄重的一刻，并为新人祝福。 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婚礼对于每个人来说都是最难忘的，最幸福的时光，结婚也意味着人生一个新阶段的开始。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/>
          <p:cNvSpPr/>
          <p:nvPr/>
        </p:nvSpPr>
        <p:spPr>
          <a:xfrm>
            <a:off x="3132000" y="549360"/>
            <a:ext cx="266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主持人推荐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康刚：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河南民俗学会会员，郑州知名婚礼司仪，多次担当省市大型演出节目主持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他依托自己积累的丰富的舞台经验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凭借对婚礼这一传统文化的理解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和时尚的庆典礼仪溶为一体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推陈出新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自成一家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形成独特的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非常前卫的主持风格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他在主持技巧上工夫老到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在程序设置上匠心独运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在烘托气氛上驾轻就熟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迅速与来宾打成一片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在节奏把握上起伏有致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最后达到高峰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给新人庆典划上圆满的句号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他的风格很受男女青年的欢迎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在某些方面引导着时尚婚礼的发展方向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50368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项目报价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421000"/>
          <a:ext cx="8280360" cy="375912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4200"/>
                <a:gridCol w="1730160"/>
                <a:gridCol w="15829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服务项目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规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费用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备注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司仪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摄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高清数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现场督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名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水晶烛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天使服装翅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水晶喜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海洋路引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座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鲜花装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烟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追光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0"/>
          <p:cNvSpPr/>
          <p:nvPr/>
        </p:nvSpPr>
        <p:spPr>
          <a:xfrm>
            <a:off x="3492360" y="476280"/>
            <a:ext cx="2376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项目报价（一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2565360"/>
          <a:ext cx="8028000" cy="3687840"/>
        </p:xfrm>
        <a:graphic>
          <a:graphicData uri="http://schemas.openxmlformats.org/drawingml/2006/table">
            <a:tbl>
              <a:tblPr/>
              <a:tblGrid>
                <a:gridCol w="1606680"/>
                <a:gridCol w="1606320"/>
                <a:gridCol w="1648080"/>
                <a:gridCol w="1560240"/>
                <a:gridCol w="160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服务项目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规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泡泡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双孔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干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公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冷焰火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组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(12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发光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香槟酒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欧式背景纱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含照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LED</a:t>
                      </a: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发光大魔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氢气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同心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总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511440" y="4724280"/>
            <a:ext cx="24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anks for your time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50920" y="134136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概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公关目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活动实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程安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人员安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现场布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创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流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【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项目报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48040" y="5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活动部分索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05 新娘出场（有请最美丽的公主).wma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83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79280" y="2060640"/>
            <a:ext cx="83534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主题：“李晓光先生房静小姐婚庆典礼仪式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时间：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016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2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地点：郑州市纬五路与经七路交叉口天堂鸟酒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结构：现场布展  前期策划  流程安排  后期制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参与人员：男方亲友  女方亲友  礼仪公司工作人员  婚礼主礼团与辅礼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参与人数：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00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人（待定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定位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: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浪漫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高雅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.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纯美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13880" y="706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婚礼概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4137480" y="69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公关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50920" y="1844640"/>
            <a:ext cx="849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主题传达表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贯穿于活动形式的主体表现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所有现场标示宣传的表现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以媒体嘉宾为载体的社会影响与口碑传播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活动目的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营造喜庆、浪漫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高雅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.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隆重的婚礼庆典气氛，让所有的来宾在掌声和欢笑声中欣赏到一场完美的婚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通过婚礼向亲友宣布一对新人正式结为夫妇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为一对玉人浪漫的恋爱历程划上一个圆满的句号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,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同时也为他们美好的婚姻生活奠定一个良好的基础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3921480" y="83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活动实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24000" y="2133720"/>
            <a:ext cx="777708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布展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（外场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签到处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主席台、现场、背景等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AV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（来宾签到、现场轻松背景音乐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讲话（介绍来宾、致辞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制作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（文案类：嘉宾名单，签到薄等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             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音频类：婚礼暖场音乐，典礼现场音乐，来宾伴餐音乐，演出节目音乐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             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硬件类：背景纱缦，花门，路引。签到台，地毯。香槟塔，烛台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                              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雪花机，泡泡机。烟机、追光灯等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POP</a:t>
            </a:r>
            <a:r>
              <a:rPr b="1" i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类：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X</a:t>
            </a:r>
            <a:r>
              <a:rPr b="1" i="1" lang="zh-CN" sz="16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展架。引导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祝福（用特殊节目形式为新人祝福，活动结束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4137480" y="5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程安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547640" y="2421000"/>
            <a:ext cx="61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现场布置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5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—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0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出发仪式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（早上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9:3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迎娶时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:   20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（上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9:30-10: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4 </a:t>
            </a:r>
            <a:r>
              <a:rPr b="1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、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迎娶新娘：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（上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0:00-10:30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5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迎到酒店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:  20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（上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0:30-11: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6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典礼仪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:  20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（上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1:18-11:5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、 答谢午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:   2013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08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6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日（中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12:10-15:0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324000" y="1700280"/>
            <a:ext cx="82296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一：人员安排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证婚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主婚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伴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伴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车队队长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婚宴总管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音响师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小花童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9 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礼炮手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打灯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撒喜糖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065840" y="620640"/>
            <a:ext cx="1034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人员安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0600" y="263160"/>
            <a:ext cx="730584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人员安排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一 车队队长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!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线路图的规划和制定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可制定两套方案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复印后于婚礼当天早上分发到所有司机手中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2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车队封礼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可在新郎家出发前封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也可在婚车到达典礼酒店封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建议第一种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)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3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保证车队顺利到达酒店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尽量保持车队的完整性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如遇突发事件冷静处理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如时间紧张在可能的情况下及时调整路线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4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车队到达酒店后安排人把花车上的花整盘摘下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放到酒店装点典礼台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单个鲜花只摘花瓣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分发给来宾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或酒店服务员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或花童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499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二 婚宴总管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1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头天晚上外地客人的食宿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及第二天退房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一般要在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点之前退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2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糖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烟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酒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饮料等物品的发放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可带领酒宴副总管安排酒店服务员在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10:20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之前把所有物品发放完毕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3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提前跟酒店沟通座签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一般酒店可提供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如遇两家以上婚礼在同一酒店举行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则要在前面加上名字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!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如新人双方宾客较多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在典礼结束后可安排不同的人分别引领新郎朋友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郎同学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郎同事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郎家属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郎领导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娘朋友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娘同学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娘同事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娘家属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新娘领导等人入席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4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注意民族差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特别是宾客中有回民的要安排回民席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spcBef>
                <a:spcPts val="400"/>
              </a:spcBef>
              <a:buClr>
                <a:srgbClr val="ff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&lt;5&gt;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安排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9-10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人一桌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如人员太多或太少做及时的调整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9:25:46Z</dcterms:created>
  <dc:creator>微软用户</dc:creator>
  <dc:description/>
  <cp:keywords/>
  <dc:language>en-US</dc:language>
  <cp:lastModifiedBy>Administrator</cp:lastModifiedBy>
  <dcterms:modified xsi:type="dcterms:W3CDTF">2016-02-06T01:51:32Z</dcterms:modified>
  <cp:revision>326</cp:revision>
  <dc:subject/>
  <dc:title>演出提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2052</vt:lpwstr>
  </property>
</Properties>
</file>