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F11-DEA5-415A-9361-474A30A1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F3B-23A2-4CA6-A3AC-DACD4DB1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E87-1B11-4BFC-93F5-AC027C68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A53-3CDD-4719-BC54-70B89926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935-264C-4E5D-B035-FC92301D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DDE-0415-4CA5-8710-67F7DC5E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4C1-AFD9-4B5F-8DA2-2E403E91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3DB-262F-404A-87A4-8955292A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540-9E56-485D-B70F-799D9ACE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037-9E2B-4246-B9DF-EB58E7E1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5B7-2A0A-49AF-A1B8-55579E36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94E-AE8F-43E1-B382-56CA024C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8856-A7D4-4133-9029-509DC77CDAC2}" type="slidenum">
              <a:rPr b="0" lang="zh-CN" sz="1200" spc="-1" strike="noStrike">
                <a:solidFill>
                  <a:srgbClr val="0033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09480" y="2730600"/>
            <a:ext cx="763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image/e1bf87258a2e137334a80f17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11280" y="2421000"/>
            <a:ext cx="417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华文彩云"/>
              </a:rPr>
              <a:t>我们的耳朵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5373720"/>
            <a:ext cx="658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七次全国“爱耳日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----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耳护耳，健康听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5337000"/>
            <a:ext cx="205092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619280" y="3429000"/>
            <a:ext cx="5562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愿你的世界更加动听！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40360" y="5589720"/>
            <a:ext cx="261000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微软雅黑"/>
              </a:rPr>
              <a:t>无锡市崇安区实验幼儿园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4335" r="3374" b="19080"/>
          <a:stretch/>
        </p:blipFill>
        <p:spPr>
          <a:xfrm>
            <a:off x="539640" y="549360"/>
            <a:ext cx="828036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82900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710400" y="2514240"/>
            <a:ext cx="1868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 u="sng">
                <a:solidFill>
                  <a:srgbClr val="6e815b"/>
                </a:solidFill>
                <a:uFillTx/>
                <a:latin typeface="Arial"/>
                <a:ea typeface="宋体"/>
                <a:hlinkClick r:id="rId2"/>
              </a:rPr>
              <a:t>  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23640" y="54900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e815b"/>
                </a:solidFill>
                <a:latin typeface="Verdana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6e815b"/>
                </a:solidFill>
                <a:latin typeface="Verdana"/>
                <a:ea typeface="微软雅黑"/>
              </a:rPr>
              <a:t>爱耳日”的由来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7777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1998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月，在政协第九届全国委员会第一次会议上，社会福利组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名委员针对我国耳聋发病率高、数量多、危害大，预防薄弱这一现实，提出了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《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关于建议确立爱耳日宣传活动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的提案。经中国残疾人联合会、卫生部等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个部门共同商定，自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00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起确定每年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日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为</a:t>
            </a:r>
            <a:r>
              <a:rPr b="1" lang="zh-CN" sz="2800" spc="-1" strike="noStrike" u="sng">
                <a:solidFill>
                  <a:srgbClr val="6e815b"/>
                </a:solidFill>
                <a:uFillTx/>
                <a:latin typeface="Verdana"/>
                <a:ea typeface="宋体"/>
              </a:rPr>
              <a:t>全国爱耳日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。</a:t>
            </a: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13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起我国“爱耳日”被定为国际“爱耳日” 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04000" y="260280"/>
            <a:ext cx="2050920" cy="15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00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预防耳毒性药物致聋 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减少耳聋发生 实施早期干预 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02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听力助残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----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救助贫困聋儿 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提高人口素质，减少出生听力     缺陷 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防聋走进社区 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全社会共同关爱老年人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健康听力，幸福生活 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06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预防听力损伤和耳聋，人人享有健康听力 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3332160" y="476280"/>
            <a:ext cx="1857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e815b"/>
                </a:solidFill>
                <a:latin typeface="Arial"/>
                <a:ea typeface="微软雅黑"/>
              </a:rPr>
              <a:t>历年的主题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0" b="14233"/>
          <a:stretch/>
        </p:blipFill>
        <p:spPr>
          <a:xfrm>
            <a:off x="7164360" y="404640"/>
            <a:ext cx="15526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6697440" cy="42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城乡联动，共同关注青少年听力健康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珍爱听力，快乐成长 </a:t>
            </a:r>
            <a:br>
              <a:rPr sz="2800"/>
            </a:b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08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奥运精彩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我听到 </a:t>
            </a:r>
            <a:br>
              <a:rPr sz="2800"/>
            </a:b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09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正确使用助听器 </a:t>
            </a:r>
            <a:br>
              <a:rPr sz="2800"/>
            </a:b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人工耳蜗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重建听的希望 </a:t>
            </a:r>
            <a:br>
              <a:rPr sz="2800"/>
            </a:b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11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康复从发现开始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大力推广新生儿听力筛查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12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减少噪声，保护听力</a:t>
            </a:r>
            <a:br>
              <a:rPr sz="2800"/>
            </a:b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13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健康听力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幸福人生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关注老年人听力健康</a:t>
            </a:r>
            <a:br>
              <a:rPr sz="2800"/>
            </a:b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014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年：爱耳护耳，健康听力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预防从初级耳科保健做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0" r="0" b="14233"/>
          <a:stretch/>
        </p:blipFill>
        <p:spPr>
          <a:xfrm>
            <a:off x="7164360" y="404640"/>
            <a:ext cx="15526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爱耳护耳，健康听力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预防从初级耳科保健做起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据世界卫生组织２０１３年报告，全球有３．６亿听力残疾人，占全球总人口的５．３％。听力残疾中５０％可通过初级耳科保健加以预防和避免。初级耳科保健是预防听力残疾最基本、最经济、最有效的手段和途径。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1052640"/>
            <a:ext cx="8497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e815b"/>
                </a:solidFill>
                <a:latin typeface="Verdana"/>
                <a:ea typeface="宋体"/>
              </a:rPr>
              <a:t>耳朵的结构分为三部分：外耳、中耳、内耳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3810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外耳是指能从人体外部看见的耳朵部分，即耳廓和外耳道。</a:t>
            </a:r>
            <a:endParaRPr b="1" lang="en-US" sz="24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中耳由鼓膜、中耳腔和听骨链组成。</a:t>
            </a:r>
            <a:endParaRPr b="1" lang="en-US" sz="24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内耳位于颞骨岩部内，包括半规管、前庭和耳蜗。</a:t>
            </a:r>
            <a:endParaRPr b="1" lang="en-US" sz="24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815b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319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e815b"/>
                </a:solidFill>
                <a:latin typeface="Verdana"/>
                <a:ea typeface="宋体"/>
              </a:rPr>
              <a:t>耳朵的作用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4392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815b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听觉功能</a:t>
            </a:r>
            <a:r>
              <a:rPr b="0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：说起</a:t>
            </a: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耳朵，大家可能是再也熟悉不过的了，它可是我们人身上重要器官之一啊！它的作用可不小。</a:t>
            </a:r>
            <a:endParaRPr b="1" lang="en-US" sz="24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耳朵是我们人体的一大宝贝</a:t>
            </a:r>
            <a:r>
              <a:rPr b="1" lang="en-US" sz="2400" spc="-1" strike="noStrike">
                <a:solidFill>
                  <a:srgbClr val="6e815b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听音乐</a:t>
            </a:r>
            <a:r>
              <a:rPr b="1" lang="en-US" sz="2400" spc="-1" strike="noStrike">
                <a:solidFill>
                  <a:srgbClr val="6e815b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听铃声</a:t>
            </a:r>
            <a:r>
              <a:rPr b="1" lang="en-US" sz="2400" spc="-1" strike="noStrike">
                <a:solidFill>
                  <a:srgbClr val="6e815b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听故事</a:t>
            </a:r>
            <a:r>
              <a:rPr b="1" lang="en-US" sz="2400" spc="-1" strike="noStrike">
                <a:solidFill>
                  <a:srgbClr val="6e815b"/>
                </a:solidFill>
                <a:latin typeface="Verdana"/>
                <a:ea typeface="宋体"/>
              </a:rPr>
              <a:t>------</a:t>
            </a: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没有耳朵根本不行</a:t>
            </a:r>
            <a:r>
              <a:rPr b="1" lang="en-US" sz="2400" spc="-1" strike="noStrike">
                <a:solidFill>
                  <a:srgbClr val="6e815b"/>
                </a:solidFill>
                <a:latin typeface="Verdana"/>
                <a:ea typeface="宋体"/>
              </a:rPr>
              <a:t>!</a:t>
            </a:r>
            <a:r>
              <a:rPr b="1" lang="zh-CN" sz="1800" spc="-1" strike="noStrike">
                <a:solidFill>
                  <a:srgbClr val="6e815b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815b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、平衡功能：人体维持平衡主要依靠内耳的前庭部、视觉、肌肉和关节等本体感觉三个系统的相互协调来完成的。</a:t>
            </a:r>
            <a:endParaRPr b="1" lang="en-US" sz="2400" spc="-1" strike="noStrike">
              <a:solidFill>
                <a:srgbClr val="6e815b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3205080" cy="242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003640" y="220500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e815b"/>
                </a:solidFill>
                <a:latin typeface="Verdana"/>
                <a:ea typeface="宋体"/>
              </a:rPr>
              <a:t>耳部保健要点常识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815b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．避免到太嘈杂的地方，如歌厅、迪厅。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．在高噪声的环境下工作，要配戴适当的护耳罩及耳塞。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．耳朵发炎或耳鸣，听力下降要立刻看医生。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．用耳机听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CD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MD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MP3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时不要把音量调得太大。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．耳垢是一种天然保护外耳道的分泌物，不需特别清理，每天只要清洗耳廓便可。不要以为棉花棒是较佳的洁耳工具，其实这只会将大部分耳垢推得更深入耳孔，形成嵌塞，而棉花球也可能遗留在耳道内。因为耳垢对耳道有保护作用，并可以自行排出，如耳垢过多堵塞耳道时，要请耳科医生检查处理。 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e815b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e815b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．洗头或沐浴时，可用棉花球塞耳，防止污水流入耳道。避免诱发耳道感染。如果有污水进入耳道，要用消毒棉签将水吸干，必要时可用少许酒精消毒。 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、穿耳洞要防发炎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6e815b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、注意正确的擤鼻方法：有鼻炎、咽喉炎的人，不要用力擤鼻涕，以防止鼻咽部分泌物经咽喉鼓管进入中耳。正确的擤鼻方法是：按住一侧鼻孔擤出另一侧鼻涕，然后再交换擤另一侧。 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4:25:53Z</dcterms:created>
  <dc:creator>陈静（企业安全管理部）</dc:creator>
  <dc:description/>
  <dc:language>en-US</dc:language>
  <cp:lastModifiedBy>微软用户</cp:lastModifiedBy>
  <dcterms:modified xsi:type="dcterms:W3CDTF">2016-02-26T07:21:48Z</dcterms:modified>
  <cp:revision>4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