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F38-FBB3-4FEC-AFA0-0A584983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E7D-BCBE-46FF-B3C0-58E7D4EB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02E-2660-487A-8291-415E409A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A57-0539-441C-9471-17488190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478-E86D-44FA-B0B8-55CFEB6E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424-F623-47E4-93BD-8091F9D4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CA2-2795-46B6-A98C-C3603605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2CC-475F-49AA-9205-F7DBC1C7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61F-F2A4-4DBB-814F-4548F9C1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BEC-9118-4D61-910D-A754E28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4F2-BF96-4188-B076-BF9CEF9C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872-BC6C-4010-85AE-33073062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080E-3096-40B5-AF23-65B1011C26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14112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429000" y="4714920"/>
            <a:ext cx="4857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猴年新年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500280" y="521496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圆角矩形 10" descr=""/>
          <p:cNvPicPr/>
          <p:nvPr/>
        </p:nvPicPr>
        <p:blipFill>
          <a:blip r:embed="rId2"/>
          <a:stretch/>
        </p:blipFill>
        <p:spPr>
          <a:xfrm>
            <a:off x="3295800" y="2786040"/>
            <a:ext cx="2139840" cy="903240"/>
          </a:xfrm>
          <a:prstGeom prst="rect">
            <a:avLst/>
          </a:prstGeom>
          <a:ln w="0">
            <a:noFill/>
          </a:ln>
        </p:spPr>
      </p:pic>
      <p:sp>
        <p:nvSpPr>
          <p:cNvPr id="50" name="圆角矩形 11"/>
          <p:cNvSpPr/>
          <p:nvPr/>
        </p:nvSpPr>
        <p:spPr>
          <a:xfrm>
            <a:off x="3335400" y="2820960"/>
            <a:ext cx="2060640" cy="835200"/>
          </a:xfrm>
          <a:prstGeom prst="roundRect">
            <a:avLst>
              <a:gd name="adj" fmla="val 16667"/>
            </a:avLst>
          </a:prstGeom>
          <a:solidFill>
            <a:srgbClr val="f6ae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圆角矩形 12" descr=""/>
          <p:cNvPicPr/>
          <p:nvPr/>
        </p:nvPicPr>
        <p:blipFill>
          <a:blip r:embed="rId3"/>
          <a:stretch/>
        </p:blipFill>
        <p:spPr>
          <a:xfrm>
            <a:off x="3292560" y="2516040"/>
            <a:ext cx="3305160" cy="2235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 rot="20980800">
            <a:off x="3631680" y="3315600"/>
            <a:ext cx="73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151d"/>
                </a:solidFill>
                <a:latin typeface="Adidas Unity"/>
                <a:ea typeface="Gungsuh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65"/>
          <p:cNvSpPr/>
          <p:nvPr/>
        </p:nvSpPr>
        <p:spPr>
          <a:xfrm>
            <a:off x="4106880" y="3294000"/>
            <a:ext cx="131760" cy="647640"/>
          </a:xfrm>
          <a:prstGeom prst="line">
            <a:avLst/>
          </a:prstGeom>
          <a:ln w="9360">
            <a:solidFill>
              <a:srgbClr val="b51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圆角矩形 16" descr=""/>
          <p:cNvPicPr/>
          <p:nvPr/>
        </p:nvPicPr>
        <p:blipFill>
          <a:blip r:embed="rId4"/>
          <a:stretch/>
        </p:blipFill>
        <p:spPr>
          <a:xfrm>
            <a:off x="5653080" y="1357200"/>
            <a:ext cx="2139840" cy="903240"/>
          </a:xfrm>
          <a:prstGeom prst="rect">
            <a:avLst/>
          </a:prstGeom>
          <a:ln w="0">
            <a:noFill/>
          </a:ln>
        </p:spPr>
      </p:pic>
      <p:sp>
        <p:nvSpPr>
          <p:cNvPr id="55" name="圆角矩形 17"/>
          <p:cNvSpPr/>
          <p:nvPr/>
        </p:nvSpPr>
        <p:spPr>
          <a:xfrm>
            <a:off x="5692680" y="1392120"/>
            <a:ext cx="2060640" cy="835200"/>
          </a:xfrm>
          <a:prstGeom prst="roundRect">
            <a:avLst>
              <a:gd name="adj" fmla="val 16667"/>
            </a:avLst>
          </a:prstGeom>
          <a:solidFill>
            <a:srgbClr val="f6ae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圆角矩形 18" descr=""/>
          <p:cNvPicPr/>
          <p:nvPr/>
        </p:nvPicPr>
        <p:blipFill>
          <a:blip r:embed="rId5"/>
          <a:stretch/>
        </p:blipFill>
        <p:spPr>
          <a:xfrm>
            <a:off x="5651640" y="1087560"/>
            <a:ext cx="3303360" cy="2235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9"/>
          <p:cNvSpPr/>
          <p:nvPr/>
        </p:nvSpPr>
        <p:spPr>
          <a:xfrm rot="20980800">
            <a:off x="5988600" y="1885320"/>
            <a:ext cx="73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151d"/>
                </a:solidFill>
                <a:latin typeface="Adidas Unity"/>
                <a:ea typeface="Gungsuh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71"/>
          <p:cNvSpPr/>
          <p:nvPr/>
        </p:nvSpPr>
        <p:spPr>
          <a:xfrm>
            <a:off x="6464160" y="1865160"/>
            <a:ext cx="131760" cy="648000"/>
          </a:xfrm>
          <a:prstGeom prst="line">
            <a:avLst/>
          </a:prstGeom>
          <a:ln w="9360">
            <a:solidFill>
              <a:srgbClr val="b51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圆角矩形 22" descr=""/>
          <p:cNvPicPr/>
          <p:nvPr/>
        </p:nvPicPr>
        <p:blipFill>
          <a:blip r:embed="rId6"/>
          <a:stretch/>
        </p:blipFill>
        <p:spPr>
          <a:xfrm>
            <a:off x="938160" y="4143240"/>
            <a:ext cx="2139840" cy="90504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23"/>
          <p:cNvSpPr/>
          <p:nvPr/>
        </p:nvSpPr>
        <p:spPr>
          <a:xfrm>
            <a:off x="977760" y="4178160"/>
            <a:ext cx="2060640" cy="835200"/>
          </a:xfrm>
          <a:prstGeom prst="roundRect">
            <a:avLst>
              <a:gd name="adj" fmla="val 16667"/>
            </a:avLst>
          </a:prstGeom>
          <a:solidFill>
            <a:srgbClr val="f6ae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圆角矩形 24" descr=""/>
          <p:cNvPicPr/>
          <p:nvPr/>
        </p:nvPicPr>
        <p:blipFill>
          <a:blip r:embed="rId7"/>
          <a:stretch/>
        </p:blipFill>
        <p:spPr>
          <a:xfrm>
            <a:off x="936720" y="3873600"/>
            <a:ext cx="3303360" cy="2235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5"/>
          <p:cNvSpPr/>
          <p:nvPr/>
        </p:nvSpPr>
        <p:spPr>
          <a:xfrm rot="20980800">
            <a:off x="1273680" y="4671360"/>
            <a:ext cx="73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151d"/>
                </a:solidFill>
                <a:latin typeface="Adidas Unity"/>
                <a:ea typeface="Gungsuh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77"/>
          <p:cNvSpPr/>
          <p:nvPr/>
        </p:nvSpPr>
        <p:spPr>
          <a:xfrm>
            <a:off x="1749600" y="4651200"/>
            <a:ext cx="131760" cy="648000"/>
          </a:xfrm>
          <a:prstGeom prst="line">
            <a:avLst/>
          </a:prstGeom>
          <a:ln w="9360">
            <a:solidFill>
              <a:srgbClr val="b51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5"/>
          <p:cNvSpPr/>
          <p:nvPr/>
        </p:nvSpPr>
        <p:spPr>
          <a:xfrm rot="20967600">
            <a:off x="2145240" y="4494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5"/>
          <p:cNvSpPr/>
          <p:nvPr/>
        </p:nvSpPr>
        <p:spPr>
          <a:xfrm rot="20967600">
            <a:off x="4566240" y="3270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 rot="20967600">
            <a:off x="6852240" y="1841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 rot="18900000">
            <a:off x="6267600" y="2577600"/>
            <a:ext cx="1120680" cy="1121040"/>
          </a:xfrm>
          <a:custGeom>
            <a:avLst/>
            <a:gdLst/>
            <a:ahLst/>
            <a:rect l="l" t="t" r="r" b="b"/>
            <a:pathLst>
              <a:path w="1120064" h="1120063">
                <a:moveTo>
                  <a:pt x="41447" y="0"/>
                </a:moveTo>
                <a:lnTo>
                  <a:pt x="1062038" y="58026"/>
                </a:lnTo>
                <a:lnTo>
                  <a:pt x="1120064" y="1078616"/>
                </a:lnTo>
                <a:lnTo>
                  <a:pt x="0" y="1120063"/>
                </a:lnTo>
                <a:lnTo>
                  <a:pt x="41447" y="0"/>
                </a:lnTo>
                <a:close/>
              </a:path>
            </a:pathLst>
          </a:custGeom>
          <a:solidFill>
            <a:srgbClr val="b51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18900000">
            <a:off x="4049280" y="2577600"/>
            <a:ext cx="1119240" cy="1121040"/>
          </a:xfrm>
          <a:custGeom>
            <a:avLst/>
            <a:gdLst/>
            <a:ahLst/>
            <a:rect l="l" t="t" r="r" b="b"/>
            <a:pathLst>
              <a:path w="1120064" h="1120063">
                <a:moveTo>
                  <a:pt x="41447" y="0"/>
                </a:moveTo>
                <a:lnTo>
                  <a:pt x="1062038" y="58026"/>
                </a:lnTo>
                <a:lnTo>
                  <a:pt x="1120064" y="1078616"/>
                </a:lnTo>
                <a:lnTo>
                  <a:pt x="0" y="1120063"/>
                </a:lnTo>
                <a:lnTo>
                  <a:pt x="41447" y="0"/>
                </a:lnTo>
                <a:close/>
              </a:path>
            </a:pathLst>
          </a:custGeom>
          <a:solidFill>
            <a:srgbClr val="b51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 rot="18900000">
            <a:off x="1804680" y="2582640"/>
            <a:ext cx="1120680" cy="1120680"/>
          </a:xfrm>
          <a:custGeom>
            <a:avLst/>
            <a:gdLst/>
            <a:ahLst/>
            <a:rect l="l" t="t" r="r" b="b"/>
            <a:pathLst>
              <a:path w="1120064" h="1120063">
                <a:moveTo>
                  <a:pt x="41447" y="0"/>
                </a:moveTo>
                <a:lnTo>
                  <a:pt x="1062038" y="58026"/>
                </a:lnTo>
                <a:lnTo>
                  <a:pt x="1120064" y="1078616"/>
                </a:lnTo>
                <a:lnTo>
                  <a:pt x="0" y="1120063"/>
                </a:lnTo>
                <a:lnTo>
                  <a:pt x="41447" y="0"/>
                </a:lnTo>
                <a:close/>
              </a:path>
            </a:pathLst>
          </a:custGeom>
          <a:solidFill>
            <a:srgbClr val="b51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4"/>
          <p:cNvSpPr/>
          <p:nvPr/>
        </p:nvSpPr>
        <p:spPr>
          <a:xfrm>
            <a:off x="1300320" y="2000160"/>
            <a:ext cx="42386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b51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"/>
          <p:cNvSpPr/>
          <p:nvPr/>
        </p:nvSpPr>
        <p:spPr>
          <a:xfrm flipH="1" flipV="1">
            <a:off x="3691080" y="1999440"/>
            <a:ext cx="42386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b51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 rot="18900000">
            <a:off x="1834920" y="2577960"/>
            <a:ext cx="1062000" cy="1062000"/>
          </a:xfrm>
          <a:prstGeom prst="rect">
            <a:avLst/>
          </a:prstGeom>
          <a:solidFill>
            <a:srgbClr val="f6ae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 rot="18900000">
            <a:off x="4078080" y="2577960"/>
            <a:ext cx="1062000" cy="1062000"/>
          </a:xfrm>
          <a:prstGeom prst="rect">
            <a:avLst/>
          </a:prstGeom>
          <a:solidFill>
            <a:srgbClr val="f6ae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 rot="18900000">
            <a:off x="6300360" y="2577960"/>
            <a:ext cx="1062000" cy="1062000"/>
          </a:xfrm>
          <a:prstGeom prst="rect">
            <a:avLst/>
          </a:prstGeom>
          <a:solidFill>
            <a:srgbClr val="f6ae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41421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18561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 rot="19922400">
            <a:off x="878040" y="2231640"/>
            <a:ext cx="2054160" cy="2428920"/>
          </a:xfrm>
          <a:prstGeom prst="rect">
            <a:avLst/>
          </a:prstGeom>
          <a:solidFill>
            <a:srgbClr val="f6ae5f"/>
          </a:solidFill>
          <a:ln w="25560">
            <a:solidFill>
              <a:srgbClr val="b5151d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1996920" y="2179800"/>
            <a:ext cx="84240" cy="83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E:\PPT背景\未标题-1.png"/>
          <p:cNvPicPr/>
          <p:nvPr/>
        </p:nvPicPr>
        <p:blipFill>
          <a:blip r:embed="rId1"/>
          <a:stretch/>
        </p:blipFill>
        <p:spPr>
          <a:xfrm rot="1685400">
            <a:off x="2036880" y="1895040"/>
            <a:ext cx="247680" cy="424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91" name="矩形 13"/>
          <p:cNvSpPr/>
          <p:nvPr/>
        </p:nvSpPr>
        <p:spPr>
          <a:xfrm rot="19942800">
            <a:off x="1382400" y="323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 rot="19922400">
            <a:off x="3592440" y="2052360"/>
            <a:ext cx="2054160" cy="2428920"/>
          </a:xfrm>
          <a:prstGeom prst="rect">
            <a:avLst/>
          </a:prstGeom>
          <a:solidFill>
            <a:srgbClr val="f6ae5f"/>
          </a:solidFill>
          <a:ln w="25560">
            <a:solidFill>
              <a:srgbClr val="b5151d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1"/>
          <p:cNvSpPr/>
          <p:nvPr/>
        </p:nvSpPr>
        <p:spPr>
          <a:xfrm>
            <a:off x="4711680" y="2000160"/>
            <a:ext cx="84240" cy="84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E:\PPT背景\未标题-1.png"/>
          <p:cNvPicPr/>
          <p:nvPr/>
        </p:nvPicPr>
        <p:blipFill>
          <a:blip r:embed="rId2"/>
          <a:stretch/>
        </p:blipFill>
        <p:spPr>
          <a:xfrm rot="1685400">
            <a:off x="4750920" y="1715760"/>
            <a:ext cx="247680" cy="423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95" name="矩形 13"/>
          <p:cNvSpPr/>
          <p:nvPr/>
        </p:nvSpPr>
        <p:spPr>
          <a:xfrm rot="19942800">
            <a:off x="4097520" y="3052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 rot="19922400">
            <a:off x="6283440" y="1837800"/>
            <a:ext cx="2054160" cy="2428920"/>
          </a:xfrm>
          <a:prstGeom prst="rect">
            <a:avLst/>
          </a:prstGeom>
          <a:solidFill>
            <a:srgbClr val="f6ae5f"/>
          </a:solidFill>
          <a:ln w="25560">
            <a:solidFill>
              <a:srgbClr val="b5151d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7402680" y="1785960"/>
            <a:ext cx="83880" cy="84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PPT背景\未标题-1.png"/>
          <p:cNvPicPr/>
          <p:nvPr/>
        </p:nvPicPr>
        <p:blipFill>
          <a:blip r:embed="rId3"/>
          <a:stretch/>
        </p:blipFill>
        <p:spPr>
          <a:xfrm rot="1685400">
            <a:off x="7441920" y="1501560"/>
            <a:ext cx="247680" cy="423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99" name="矩形 13"/>
          <p:cNvSpPr/>
          <p:nvPr/>
        </p:nvSpPr>
        <p:spPr>
          <a:xfrm rot="19942800">
            <a:off x="6788160" y="2838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六边形 6"/>
          <p:cNvSpPr/>
          <p:nvPr/>
        </p:nvSpPr>
        <p:spPr>
          <a:xfrm rot="1800000">
            <a:off x="2927160" y="1646280"/>
            <a:ext cx="3733560" cy="3219480"/>
          </a:xfrm>
          <a:prstGeom prst="hexagon">
            <a:avLst>
              <a:gd name="adj" fmla="val 28659"/>
              <a:gd name="vf" fmla="val 115470"/>
            </a:avLst>
          </a:prstGeom>
          <a:noFill/>
          <a:ln w="25560">
            <a:solidFill>
              <a:srgbClr val="b515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组合 4" descr=""/>
          <p:cNvPicPr/>
          <p:nvPr/>
        </p:nvPicPr>
        <p:blipFill>
          <a:blip r:embed="rId1"/>
          <a:stretch/>
        </p:blipFill>
        <p:spPr>
          <a:xfrm>
            <a:off x="3408480" y="4011480"/>
            <a:ext cx="1136520" cy="1306800"/>
          </a:xfrm>
          <a:prstGeom prst="rect">
            <a:avLst/>
          </a:prstGeom>
          <a:ln w="0">
            <a:noFill/>
          </a:ln>
        </p:spPr>
      </p:pic>
      <p:pic>
        <p:nvPicPr>
          <p:cNvPr id="107" name="组合 10" descr=""/>
          <p:cNvPicPr/>
          <p:nvPr/>
        </p:nvPicPr>
        <p:blipFill>
          <a:blip r:embed="rId2"/>
          <a:stretch/>
        </p:blipFill>
        <p:spPr>
          <a:xfrm>
            <a:off x="5872320" y="2598840"/>
            <a:ext cx="1136520" cy="1307880"/>
          </a:xfrm>
          <a:prstGeom prst="rect">
            <a:avLst/>
          </a:prstGeom>
          <a:ln w="0">
            <a:noFill/>
          </a:ln>
        </p:spPr>
      </p:pic>
      <p:pic>
        <p:nvPicPr>
          <p:cNvPr id="108" name="组合 5" descr=""/>
          <p:cNvPicPr/>
          <p:nvPr/>
        </p:nvPicPr>
        <p:blipFill>
          <a:blip r:embed="rId3"/>
          <a:stretch/>
        </p:blipFill>
        <p:spPr>
          <a:xfrm>
            <a:off x="2600280" y="2598840"/>
            <a:ext cx="1136520" cy="1307880"/>
          </a:xfrm>
          <a:prstGeom prst="rect">
            <a:avLst/>
          </a:prstGeom>
          <a:ln w="0">
            <a:noFill/>
          </a:ln>
        </p:spPr>
      </p:pic>
      <p:pic>
        <p:nvPicPr>
          <p:cNvPr id="109" name="组合 1" descr=""/>
          <p:cNvPicPr/>
          <p:nvPr/>
        </p:nvPicPr>
        <p:blipFill>
          <a:blip r:embed="rId4"/>
          <a:stretch/>
        </p:blipFill>
        <p:spPr>
          <a:xfrm>
            <a:off x="5022720" y="1201680"/>
            <a:ext cx="1136880" cy="1308240"/>
          </a:xfrm>
          <a:prstGeom prst="rect">
            <a:avLst/>
          </a:prstGeom>
          <a:ln w="0">
            <a:noFill/>
          </a:ln>
        </p:spPr>
      </p:pic>
      <p:pic>
        <p:nvPicPr>
          <p:cNvPr id="110" name="组合 3" descr=""/>
          <p:cNvPicPr/>
          <p:nvPr/>
        </p:nvPicPr>
        <p:blipFill>
          <a:blip r:embed="rId5"/>
          <a:stretch/>
        </p:blipFill>
        <p:spPr>
          <a:xfrm>
            <a:off x="5022720" y="4011480"/>
            <a:ext cx="1136880" cy="1306800"/>
          </a:xfrm>
          <a:prstGeom prst="rect">
            <a:avLst/>
          </a:prstGeom>
          <a:ln w="0">
            <a:noFill/>
          </a:ln>
        </p:spPr>
      </p:pic>
      <p:pic>
        <p:nvPicPr>
          <p:cNvPr id="111" name="组合 6" descr=""/>
          <p:cNvPicPr/>
          <p:nvPr/>
        </p:nvPicPr>
        <p:blipFill>
          <a:blip r:embed="rId6"/>
          <a:stretch/>
        </p:blipFill>
        <p:spPr>
          <a:xfrm>
            <a:off x="3449520" y="1201680"/>
            <a:ext cx="1136880" cy="1308240"/>
          </a:xfrm>
          <a:prstGeom prst="rect">
            <a:avLst/>
          </a:prstGeom>
          <a:ln w="0">
            <a:noFill/>
          </a:ln>
        </p:spPr>
      </p:pic>
      <p:sp>
        <p:nvSpPr>
          <p:cNvPr id="112" name="矩形 12"/>
          <p:cNvSpPr/>
          <p:nvPr/>
        </p:nvSpPr>
        <p:spPr>
          <a:xfrm>
            <a:off x="34977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57852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35690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2"/>
          <p:cNvSpPr/>
          <p:nvPr/>
        </p:nvSpPr>
        <p:spPr>
          <a:xfrm>
            <a:off x="303120" y="1984320"/>
            <a:ext cx="2737080" cy="2158920"/>
          </a:xfrm>
          <a:custGeom>
            <a:avLst/>
            <a:gdLst/>
            <a:ahLst/>
            <a:rect l="l" t="t" r="r" b="b"/>
            <a:pathLst>
              <a:path w="3600400" h="2842090">
                <a:moveTo>
                  <a:pt x="1800200" y="0"/>
                </a:moveTo>
                <a:cubicBezTo>
                  <a:pt x="2794423" y="0"/>
                  <a:pt x="3600400" y="805977"/>
                  <a:pt x="3600400" y="1800200"/>
                </a:cubicBezTo>
                <a:cubicBezTo>
                  <a:pt x="3600400" y="2188690"/>
                  <a:pt x="3477342" y="2548437"/>
                  <a:pt x="3267426" y="2842090"/>
                </a:cubicBezTo>
                <a:lnTo>
                  <a:pt x="332975" y="2842090"/>
                </a:lnTo>
                <a:cubicBezTo>
                  <a:pt x="123060" y="2548437"/>
                  <a:pt x="0" y="2188690"/>
                  <a:pt x="0" y="1800200"/>
                </a:cubicBezTo>
                <a:cubicBezTo>
                  <a:pt x="0" y="805977"/>
                  <a:pt x="805977" y="0"/>
                  <a:pt x="1800200" y="0"/>
                </a:cubicBezTo>
                <a:close/>
              </a:path>
            </a:pathLst>
          </a:custGeom>
          <a:solidFill>
            <a:srgbClr val="b51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2"/>
          <p:cNvSpPr/>
          <p:nvPr/>
        </p:nvSpPr>
        <p:spPr>
          <a:xfrm>
            <a:off x="466560" y="2168640"/>
            <a:ext cx="2408400" cy="1974600"/>
          </a:xfrm>
          <a:custGeom>
            <a:avLst/>
            <a:gdLst/>
            <a:ahLst/>
            <a:rect l="l" t="t" r="r" b="b"/>
            <a:pathLst>
              <a:path w="3600400" h="2953855">
                <a:moveTo>
                  <a:pt x="1800200" y="0"/>
                </a:moveTo>
                <a:cubicBezTo>
                  <a:pt x="2794423" y="0"/>
                  <a:pt x="3600400" y="805977"/>
                  <a:pt x="3600400" y="1800200"/>
                </a:cubicBezTo>
                <a:cubicBezTo>
                  <a:pt x="3600400" y="2239327"/>
                  <a:pt x="3443171" y="2641730"/>
                  <a:pt x="3181542" y="2953855"/>
                </a:cubicBezTo>
                <a:lnTo>
                  <a:pt x="418859" y="2953855"/>
                </a:lnTo>
                <a:cubicBezTo>
                  <a:pt x="157230" y="2641730"/>
                  <a:pt x="0" y="2239327"/>
                  <a:pt x="0" y="1800200"/>
                </a:cubicBezTo>
                <a:cubicBezTo>
                  <a:pt x="0" y="805977"/>
                  <a:pt x="805977" y="0"/>
                  <a:pt x="1800200" y="0"/>
                </a:cubicBezTo>
                <a:close/>
              </a:path>
            </a:pathLst>
          </a:custGeom>
          <a:solidFill>
            <a:srgbClr val="f6ae5f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"/>
          <p:cNvSpPr/>
          <p:nvPr/>
        </p:nvSpPr>
        <p:spPr>
          <a:xfrm>
            <a:off x="3241800" y="1978200"/>
            <a:ext cx="2736720" cy="2160360"/>
          </a:xfrm>
          <a:custGeom>
            <a:avLst/>
            <a:gdLst/>
            <a:ahLst/>
            <a:rect l="l" t="t" r="r" b="b"/>
            <a:pathLst>
              <a:path w="3600400" h="2842090">
                <a:moveTo>
                  <a:pt x="1800200" y="0"/>
                </a:moveTo>
                <a:cubicBezTo>
                  <a:pt x="2794423" y="0"/>
                  <a:pt x="3600400" y="805977"/>
                  <a:pt x="3600400" y="1800200"/>
                </a:cubicBezTo>
                <a:cubicBezTo>
                  <a:pt x="3600400" y="2188690"/>
                  <a:pt x="3477342" y="2548437"/>
                  <a:pt x="3267426" y="2842090"/>
                </a:cubicBezTo>
                <a:lnTo>
                  <a:pt x="332975" y="2842090"/>
                </a:lnTo>
                <a:cubicBezTo>
                  <a:pt x="123060" y="2548437"/>
                  <a:pt x="0" y="2188690"/>
                  <a:pt x="0" y="1800200"/>
                </a:cubicBezTo>
                <a:cubicBezTo>
                  <a:pt x="0" y="805977"/>
                  <a:pt x="805977" y="0"/>
                  <a:pt x="1800200" y="0"/>
                </a:cubicBezTo>
                <a:close/>
              </a:path>
            </a:pathLst>
          </a:custGeom>
          <a:solidFill>
            <a:srgbClr val="b51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2"/>
          <p:cNvSpPr/>
          <p:nvPr/>
        </p:nvSpPr>
        <p:spPr>
          <a:xfrm>
            <a:off x="3406680" y="2162160"/>
            <a:ext cx="2408400" cy="1976400"/>
          </a:xfrm>
          <a:custGeom>
            <a:avLst/>
            <a:gdLst/>
            <a:ahLst/>
            <a:rect l="l" t="t" r="r" b="b"/>
            <a:pathLst>
              <a:path w="3600400" h="2953855">
                <a:moveTo>
                  <a:pt x="1800200" y="0"/>
                </a:moveTo>
                <a:cubicBezTo>
                  <a:pt x="2794423" y="0"/>
                  <a:pt x="3600400" y="805977"/>
                  <a:pt x="3600400" y="1800200"/>
                </a:cubicBezTo>
                <a:cubicBezTo>
                  <a:pt x="3600400" y="2239327"/>
                  <a:pt x="3443171" y="2641730"/>
                  <a:pt x="3181542" y="2953855"/>
                </a:cubicBezTo>
                <a:lnTo>
                  <a:pt x="418859" y="2953855"/>
                </a:lnTo>
                <a:cubicBezTo>
                  <a:pt x="157230" y="2641730"/>
                  <a:pt x="0" y="2239327"/>
                  <a:pt x="0" y="1800200"/>
                </a:cubicBezTo>
                <a:cubicBezTo>
                  <a:pt x="0" y="805977"/>
                  <a:pt x="805977" y="0"/>
                  <a:pt x="1800200" y="0"/>
                </a:cubicBezTo>
                <a:close/>
              </a:path>
            </a:pathLst>
          </a:custGeom>
          <a:solidFill>
            <a:srgbClr val="f6ae5f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2"/>
          <p:cNvSpPr/>
          <p:nvPr/>
        </p:nvSpPr>
        <p:spPr>
          <a:xfrm>
            <a:off x="6192720" y="1978200"/>
            <a:ext cx="2737080" cy="2160360"/>
          </a:xfrm>
          <a:custGeom>
            <a:avLst/>
            <a:gdLst/>
            <a:ahLst/>
            <a:rect l="l" t="t" r="r" b="b"/>
            <a:pathLst>
              <a:path w="3600400" h="2842090">
                <a:moveTo>
                  <a:pt x="1800200" y="0"/>
                </a:moveTo>
                <a:cubicBezTo>
                  <a:pt x="2794423" y="0"/>
                  <a:pt x="3600400" y="805977"/>
                  <a:pt x="3600400" y="1800200"/>
                </a:cubicBezTo>
                <a:cubicBezTo>
                  <a:pt x="3600400" y="2188690"/>
                  <a:pt x="3477342" y="2548437"/>
                  <a:pt x="3267426" y="2842090"/>
                </a:cubicBezTo>
                <a:lnTo>
                  <a:pt x="332975" y="2842090"/>
                </a:lnTo>
                <a:cubicBezTo>
                  <a:pt x="123060" y="2548437"/>
                  <a:pt x="0" y="2188690"/>
                  <a:pt x="0" y="1800200"/>
                </a:cubicBezTo>
                <a:cubicBezTo>
                  <a:pt x="0" y="805977"/>
                  <a:pt x="805977" y="0"/>
                  <a:pt x="1800200" y="0"/>
                </a:cubicBezTo>
                <a:close/>
              </a:path>
            </a:pathLst>
          </a:custGeom>
          <a:solidFill>
            <a:srgbClr val="b51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2"/>
          <p:cNvSpPr/>
          <p:nvPr/>
        </p:nvSpPr>
        <p:spPr>
          <a:xfrm>
            <a:off x="6357960" y="2162160"/>
            <a:ext cx="2408040" cy="1976400"/>
          </a:xfrm>
          <a:custGeom>
            <a:avLst/>
            <a:gdLst/>
            <a:ahLst/>
            <a:rect l="l" t="t" r="r" b="b"/>
            <a:pathLst>
              <a:path w="3600400" h="2953855">
                <a:moveTo>
                  <a:pt x="1800200" y="0"/>
                </a:moveTo>
                <a:cubicBezTo>
                  <a:pt x="2794423" y="0"/>
                  <a:pt x="3600400" y="805977"/>
                  <a:pt x="3600400" y="1800200"/>
                </a:cubicBezTo>
                <a:cubicBezTo>
                  <a:pt x="3600400" y="2239327"/>
                  <a:pt x="3443171" y="2641730"/>
                  <a:pt x="3181542" y="2953855"/>
                </a:cubicBezTo>
                <a:lnTo>
                  <a:pt x="418859" y="2953855"/>
                </a:lnTo>
                <a:cubicBezTo>
                  <a:pt x="157230" y="2641730"/>
                  <a:pt x="0" y="2239327"/>
                  <a:pt x="0" y="1800200"/>
                </a:cubicBezTo>
                <a:cubicBezTo>
                  <a:pt x="0" y="805977"/>
                  <a:pt x="805977" y="0"/>
                  <a:pt x="1800200" y="0"/>
                </a:cubicBezTo>
                <a:close/>
              </a:path>
            </a:pathLst>
          </a:custGeom>
          <a:solidFill>
            <a:srgbClr val="f6ae5f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1140120" y="3162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7142760" y="3090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4069080" y="3162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圆角矩形 6" descr=""/>
          <p:cNvPicPr/>
          <p:nvPr/>
        </p:nvPicPr>
        <p:blipFill>
          <a:blip r:embed="rId1"/>
          <a:stretch/>
        </p:blipFill>
        <p:spPr>
          <a:xfrm>
            <a:off x="1089000" y="1467000"/>
            <a:ext cx="7020000" cy="8304120"/>
          </a:xfrm>
          <a:prstGeom prst="rect">
            <a:avLst/>
          </a:prstGeom>
          <a:ln w="0">
            <a:noFill/>
          </a:ln>
        </p:spPr>
      </p:pic>
      <p:sp>
        <p:nvSpPr>
          <p:cNvPr id="135" name="直角三角形 7"/>
          <p:cNvSpPr/>
          <p:nvPr/>
        </p:nvSpPr>
        <p:spPr>
          <a:xfrm>
            <a:off x="3195720" y="1285920"/>
            <a:ext cx="8388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五边形 8"/>
          <p:cNvSpPr/>
          <p:nvPr/>
        </p:nvSpPr>
        <p:spPr>
          <a:xfrm rot="5400000">
            <a:off x="567000" y="2329560"/>
            <a:ext cx="3672000" cy="15843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6ae5f"/>
          </a:solidFill>
          <a:ln w="1260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角三角形 9"/>
          <p:cNvSpPr/>
          <p:nvPr/>
        </p:nvSpPr>
        <p:spPr>
          <a:xfrm>
            <a:off x="5356080" y="1285920"/>
            <a:ext cx="8424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边形 10"/>
          <p:cNvSpPr/>
          <p:nvPr/>
        </p:nvSpPr>
        <p:spPr>
          <a:xfrm rot="5400000">
            <a:off x="2727720" y="2329920"/>
            <a:ext cx="3672000" cy="158400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6ae5f"/>
          </a:solidFill>
          <a:ln w="648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角三角形 11"/>
          <p:cNvSpPr/>
          <p:nvPr/>
        </p:nvSpPr>
        <p:spPr>
          <a:xfrm>
            <a:off x="7515360" y="1285920"/>
            <a:ext cx="85680" cy="1918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五边形 12"/>
          <p:cNvSpPr/>
          <p:nvPr/>
        </p:nvSpPr>
        <p:spPr>
          <a:xfrm rot="5400000">
            <a:off x="4886640" y="2329560"/>
            <a:ext cx="3672000" cy="15843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6ae5f"/>
          </a:solidFill>
          <a:ln w="1260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燕尾形 13"/>
          <p:cNvSpPr/>
          <p:nvPr/>
        </p:nvSpPr>
        <p:spPr>
          <a:xfrm>
            <a:off x="3279600" y="2732040"/>
            <a:ext cx="144720" cy="258840"/>
          </a:xfrm>
          <a:custGeom>
            <a:avLst/>
            <a:gdLst>
              <a:gd name="textAreaLeft" fmla="*/ 0 w 144720"/>
              <a:gd name="textAreaRight" fmla="*/ 145080 w 1447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燕尾形 14"/>
          <p:cNvSpPr/>
          <p:nvPr/>
        </p:nvSpPr>
        <p:spPr>
          <a:xfrm>
            <a:off x="3454560" y="2732040"/>
            <a:ext cx="144360" cy="258840"/>
          </a:xfrm>
          <a:custGeom>
            <a:avLst/>
            <a:gdLst>
              <a:gd name="textAreaLeft" fmla="*/ 0 w 144360"/>
              <a:gd name="textAreaRight" fmla="*/ 144360 w 144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燕尾形 15"/>
          <p:cNvSpPr/>
          <p:nvPr/>
        </p:nvSpPr>
        <p:spPr>
          <a:xfrm>
            <a:off x="5443560" y="2732040"/>
            <a:ext cx="144360" cy="258840"/>
          </a:xfrm>
          <a:custGeom>
            <a:avLst/>
            <a:gdLst>
              <a:gd name="textAreaLeft" fmla="*/ 0 w 144360"/>
              <a:gd name="textAreaRight" fmla="*/ 144360 w 144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燕尾形 16"/>
          <p:cNvSpPr/>
          <p:nvPr/>
        </p:nvSpPr>
        <p:spPr>
          <a:xfrm>
            <a:off x="5618160" y="2732040"/>
            <a:ext cx="144360" cy="258840"/>
          </a:xfrm>
          <a:custGeom>
            <a:avLst/>
            <a:gdLst>
              <a:gd name="textAreaLeft" fmla="*/ 0 w 144360"/>
              <a:gd name="textAreaRight" fmla="*/ 144360 w 144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1816200" y="1913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3"/>
          <p:cNvSpPr/>
          <p:nvPr/>
        </p:nvSpPr>
        <p:spPr>
          <a:xfrm>
            <a:off x="3963960" y="189864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6124680" y="18842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1927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212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070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7"/>
          <p:cNvSpPr/>
          <p:nvPr/>
        </p:nvSpPr>
        <p:spPr>
          <a:xfrm>
            <a:off x="2200320" y="5006880"/>
            <a:ext cx="3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8"/>
          <p:cNvSpPr/>
          <p:nvPr/>
        </p:nvSpPr>
        <p:spPr>
          <a:xfrm>
            <a:off x="4356000" y="500688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9"/>
          <p:cNvSpPr/>
          <p:nvPr/>
        </p:nvSpPr>
        <p:spPr>
          <a:xfrm>
            <a:off x="6516720" y="500688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6-01-04T08:00:37Z</dcterms:modified>
  <cp:revision>2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