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3.png" ContentType="image/png"/>
  <Override PartName="/ppt/media/image21.wmf" ContentType="image/x-wmf"/>
  <Override PartName="/ppt/media/image10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F74-11B0-49B4-BD84-1D2E1454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276-F936-4D37-9F74-6888745C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119-5276-456E-B869-DC65C40E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876-8B75-4D80-8A94-9B8812D7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BF5-5068-4667-A913-72A27B89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6D4-B58E-4CDA-95BF-462AE53B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260-AECD-431C-9621-35B1C5E7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2FC-DF2F-4C33-8A5F-1231F366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07920"/>
            <a:ext cx="82296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FB3-E3FD-44B5-86DD-E9A3A5B6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09C-370F-4447-9D1A-D98DEFB5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3E2-5C97-4E13-A028-A215D7EE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D17-F716-4FC7-8188-EF162C99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CCB9-3BC9-4980-9380-C2E20FC2CD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wmf"/><Relationship Id="rId4" Type="http://schemas.openxmlformats.org/officeDocument/2006/relationships/image" Target="../media/image16.png"/><Relationship Id="rId5" Type="http://schemas.openxmlformats.org/officeDocument/2006/relationships/image" Target="../media/image8.png"/><Relationship Id="rId6" Type="http://schemas.openxmlformats.org/officeDocument/2006/relationships/image" Target="../media/image17.wmf"/><Relationship Id="rId7" Type="http://schemas.openxmlformats.org/officeDocument/2006/relationships/image" Target="../media/image16.png"/><Relationship Id="rId8" Type="http://schemas.openxmlformats.org/officeDocument/2006/relationships/image" Target="../media/image8.png"/><Relationship Id="rId9" Type="http://schemas.openxmlformats.org/officeDocument/2006/relationships/image" Target="../media/image17.wmf"/><Relationship Id="rId10" Type="http://schemas.openxmlformats.org/officeDocument/2006/relationships/image" Target="../media/image16.png"/><Relationship Id="rId11" Type="http://schemas.openxmlformats.org/officeDocument/2006/relationships/image" Target="../media/image8.png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wmf"/><Relationship Id="rId3" Type="http://schemas.openxmlformats.org/officeDocument/2006/relationships/image" Target="../media/image8.png"/><Relationship Id="rId4" Type="http://schemas.openxmlformats.org/officeDocument/2006/relationships/image" Target="../media/image17.wmf"/><Relationship Id="rId5" Type="http://schemas.openxmlformats.org/officeDocument/2006/relationships/image" Target="../media/image8.png"/><Relationship Id="rId6" Type="http://schemas.openxmlformats.org/officeDocument/2006/relationships/image" Target="../media/image17.wmf"/><Relationship Id="rId7" Type="http://schemas.openxmlformats.org/officeDocument/2006/relationships/image" Target="../media/image8.png"/><Relationship Id="rId8" Type="http://schemas.openxmlformats.org/officeDocument/2006/relationships/image" Target="../media/image17.wmf"/><Relationship Id="rId9" Type="http://schemas.openxmlformats.org/officeDocument/2006/relationships/image" Target="../media/image8.png"/><Relationship Id="rId10" Type="http://schemas.openxmlformats.org/officeDocument/2006/relationships/image" Target="../media/image17.wmf"/><Relationship Id="rId11" Type="http://schemas.openxmlformats.org/officeDocument/2006/relationships/image" Target="../media/image8.png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wmf"/><Relationship Id="rId3" Type="http://schemas.openxmlformats.org/officeDocument/2006/relationships/image" Target="../media/image8.png"/><Relationship Id="rId4" Type="http://schemas.openxmlformats.org/officeDocument/2006/relationships/image" Target="../media/image17.wmf"/><Relationship Id="rId5" Type="http://schemas.openxmlformats.org/officeDocument/2006/relationships/image" Target="../media/image8.png"/><Relationship Id="rId6" Type="http://schemas.openxmlformats.org/officeDocument/2006/relationships/image" Target="../media/image17.wmf"/><Relationship Id="rId7" Type="http://schemas.openxmlformats.org/officeDocument/2006/relationships/image" Target="../media/image8.png"/><Relationship Id="rId8" Type="http://schemas.openxmlformats.org/officeDocument/2006/relationships/image" Target="../media/image17.wmf"/><Relationship Id="rId9" Type="http://schemas.openxmlformats.org/officeDocument/2006/relationships/image" Target="../media/image8.png"/><Relationship Id="rId10" Type="http://schemas.openxmlformats.org/officeDocument/2006/relationships/image" Target="../media/image17.wmf"/><Relationship Id="rId11" Type="http://schemas.openxmlformats.org/officeDocument/2006/relationships/image" Target="../media/image8.png"/><Relationship Id="rId12" Type="http://schemas.openxmlformats.org/officeDocument/2006/relationships/image" Target="../media/image17.wmf"/><Relationship Id="rId13" Type="http://schemas.openxmlformats.org/officeDocument/2006/relationships/image" Target="../media/image8.png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16.png"/><Relationship Id="rId5" Type="http://schemas.openxmlformats.org/officeDocument/2006/relationships/image" Target="../media/image8.png"/><Relationship Id="rId6" Type="http://schemas.openxmlformats.org/officeDocument/2006/relationships/image" Target="../media/image17.wmf"/><Relationship Id="rId7" Type="http://schemas.openxmlformats.org/officeDocument/2006/relationships/image" Target="../media/image16.png"/><Relationship Id="rId8" Type="http://schemas.openxmlformats.org/officeDocument/2006/relationships/image" Target="../media/image8.png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6.png"/><Relationship Id="rId12" Type="http://schemas.openxmlformats.org/officeDocument/2006/relationships/image" Target="../media/image8.png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81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308720" y="2924280"/>
            <a:ext cx="1268640" cy="1307880"/>
            <a:chOff x="7308720" y="2924280"/>
            <a:chExt cx="1268640" cy="1307880"/>
          </a:xfrm>
        </p:grpSpPr>
        <p:sp>
          <p:nvSpPr>
            <p:cNvPr id="321" name=""/>
            <p:cNvSpPr/>
            <p:nvPr/>
          </p:nvSpPr>
          <p:spPr>
            <a:xfrm>
              <a:off x="7308720" y="292428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08720" y="2924280"/>
              <a:ext cx="1268640" cy="1307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92240" y="3009240"/>
              <a:ext cx="110088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92240" y="3012120"/>
              <a:ext cx="110088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46960" y="3066840"/>
              <a:ext cx="99180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7462440" y="3082680"/>
              <a:ext cx="960840" cy="992160"/>
              <a:chOff x="7462440" y="3082680"/>
              <a:chExt cx="960840" cy="992160"/>
            </a:xfrm>
          </p:grpSpPr>
          <p:sp>
            <p:nvSpPr>
              <p:cNvPr id="327" name=""/>
              <p:cNvSpPr/>
              <p:nvPr/>
            </p:nvSpPr>
            <p:spPr>
              <a:xfrm>
                <a:off x="7462440" y="3082680"/>
                <a:ext cx="96084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474320" y="3088080"/>
                <a:ext cx="93780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484400" y="3097440"/>
                <a:ext cx="89172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536600" y="3123000"/>
                <a:ext cx="79272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5724360" y="1052280"/>
            <a:ext cx="2273400" cy="858960"/>
            <a:chOff x="5724360" y="1052280"/>
            <a:chExt cx="2273400" cy="858960"/>
          </a:xfrm>
        </p:grpSpPr>
        <p:grpSp>
          <p:nvGrpSpPr>
            <p:cNvPr id="332" name=""/>
            <p:cNvGrpSpPr/>
            <p:nvPr/>
          </p:nvGrpSpPr>
          <p:grpSpPr>
            <a:xfrm>
              <a:off x="5724360" y="1419840"/>
              <a:ext cx="2273400" cy="491400"/>
              <a:chOff x="5724360" y="1419840"/>
              <a:chExt cx="2273400" cy="491400"/>
            </a:xfrm>
          </p:grpSpPr>
          <p:sp>
            <p:nvSpPr>
              <p:cNvPr id="333" name=""/>
              <p:cNvSpPr/>
              <p:nvPr/>
            </p:nvSpPr>
            <p:spPr>
              <a:xfrm>
                <a:off x="5724360" y="141984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610400" y="14536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724360" y="1052280"/>
              <a:ext cx="1744560" cy="376920"/>
              <a:chOff x="5724360" y="1052280"/>
              <a:chExt cx="1744560" cy="376920"/>
            </a:xfrm>
          </p:grpSpPr>
          <p:sp>
            <p:nvSpPr>
              <p:cNvPr id="336" name=""/>
              <p:cNvSpPr/>
              <p:nvPr/>
            </p:nvSpPr>
            <p:spPr>
              <a:xfrm flipV="1">
                <a:off x="5724360" y="105156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7171560" y="109440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5867280" y="3284640"/>
            <a:ext cx="960480" cy="992160"/>
            <a:chOff x="5867280" y="3284640"/>
            <a:chExt cx="960480" cy="992160"/>
          </a:xfrm>
        </p:grpSpPr>
        <p:sp>
          <p:nvSpPr>
            <p:cNvPr id="339" name=""/>
            <p:cNvSpPr/>
            <p:nvPr/>
          </p:nvSpPr>
          <p:spPr>
            <a:xfrm>
              <a:off x="5867280" y="3284640"/>
              <a:ext cx="960480" cy="9921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79160" y="3290040"/>
              <a:ext cx="937440" cy="96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89240" y="3299400"/>
              <a:ext cx="891360" cy="9039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41440" y="3324960"/>
              <a:ext cx="792360" cy="73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940360" y="1844280"/>
            <a:ext cx="2273400" cy="858960"/>
            <a:chOff x="5940360" y="1844280"/>
            <a:chExt cx="2273400" cy="858960"/>
          </a:xfrm>
        </p:grpSpPr>
        <p:grpSp>
          <p:nvGrpSpPr>
            <p:cNvPr id="344" name=""/>
            <p:cNvGrpSpPr/>
            <p:nvPr/>
          </p:nvGrpSpPr>
          <p:grpSpPr>
            <a:xfrm>
              <a:off x="5940360" y="2211840"/>
              <a:ext cx="2273400" cy="491400"/>
              <a:chOff x="5940360" y="2211840"/>
              <a:chExt cx="2273400" cy="491400"/>
            </a:xfrm>
          </p:grpSpPr>
          <p:sp>
            <p:nvSpPr>
              <p:cNvPr id="345" name=""/>
              <p:cNvSpPr/>
              <p:nvPr/>
            </p:nvSpPr>
            <p:spPr>
              <a:xfrm>
                <a:off x="5940360" y="221184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26400" y="22456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940360" y="1844280"/>
              <a:ext cx="1744560" cy="376920"/>
              <a:chOff x="5940360" y="1844280"/>
              <a:chExt cx="1744560" cy="376920"/>
            </a:xfrm>
          </p:grpSpPr>
          <p:sp>
            <p:nvSpPr>
              <p:cNvPr id="348" name=""/>
              <p:cNvSpPr/>
              <p:nvPr/>
            </p:nvSpPr>
            <p:spPr>
              <a:xfrm flipV="1">
                <a:off x="5940360" y="18439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7387560" y="188640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2627280" y="404640"/>
            <a:ext cx="2170080" cy="4035600"/>
            <a:chOff x="2627280" y="404640"/>
            <a:chExt cx="2170080" cy="4035600"/>
          </a:xfrm>
        </p:grpSpPr>
        <p:sp>
          <p:nvSpPr>
            <p:cNvPr id="351" name=""/>
            <p:cNvSpPr/>
            <p:nvPr/>
          </p:nvSpPr>
          <p:spPr>
            <a:xfrm>
              <a:off x="2627280" y="712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60760" y="720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78040" y="2784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78040" y="742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33760" y="357012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78040" y="359388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3371760" y="404640"/>
              <a:ext cx="642960" cy="642960"/>
              <a:chOff x="3371760" y="404640"/>
              <a:chExt cx="642960" cy="642960"/>
            </a:xfrm>
          </p:grpSpPr>
          <p:sp>
            <p:nvSpPr>
              <p:cNvPr id="358" name=""/>
              <p:cNvSpPr/>
              <p:nvPr/>
            </p:nvSpPr>
            <p:spPr>
              <a:xfrm>
                <a:off x="3371760" y="404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378240" y="409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86160" y="4132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92640" y="419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426480" y="434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3511800" y="49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03600" y="1166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50920" y="333360"/>
            <a:ext cx="2166840" cy="4035600"/>
            <a:chOff x="250920" y="333360"/>
            <a:chExt cx="2166840" cy="4035600"/>
          </a:xfrm>
        </p:grpSpPr>
        <p:sp>
          <p:nvSpPr>
            <p:cNvPr id="366" name=""/>
            <p:cNvSpPr/>
            <p:nvPr/>
          </p:nvSpPr>
          <p:spPr>
            <a:xfrm>
              <a:off x="250920" y="6411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4040" y="64944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1680" y="27129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680" y="6714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95400" y="3333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01520" y="33804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09800" y="34128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15920" y="34776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50840" y="36360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35440" y="42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6880" y="10954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3800" y="349884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8440" y="352260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79280" y="4149720"/>
            <a:ext cx="2170080" cy="4035600"/>
            <a:chOff x="179280" y="4149720"/>
            <a:chExt cx="2170080" cy="4035600"/>
          </a:xfrm>
        </p:grpSpPr>
        <p:sp>
          <p:nvSpPr>
            <p:cNvPr id="380" name=""/>
            <p:cNvSpPr/>
            <p:nvPr/>
          </p:nvSpPr>
          <p:spPr>
            <a:xfrm>
              <a:off x="185400" y="445752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8880" y="44658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160" y="652932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6160" y="448776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929880" y="4149720"/>
              <a:ext cx="642960" cy="642960"/>
              <a:chOff x="929880" y="4149720"/>
              <a:chExt cx="642960" cy="642960"/>
            </a:xfrm>
          </p:grpSpPr>
          <p:sp>
            <p:nvSpPr>
              <p:cNvPr id="385" name=""/>
              <p:cNvSpPr/>
              <p:nvPr/>
            </p:nvSpPr>
            <p:spPr>
              <a:xfrm>
                <a:off x="929880" y="4149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936360" y="4154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44280" y="415836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950760" y="4164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984600" y="4179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1070280" y="4241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1720" y="4911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9280" y="73152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3560" y="73389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5364000" y="429264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028000" y="4292640"/>
            <a:ext cx="490680" cy="195408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808080"/>
              </a:gs>
              <a:gs pos="100000">
                <a:srgbClr val="3b3b3b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93080" y="4292640"/>
            <a:ext cx="1689120" cy="2968560"/>
          </a:xfrm>
          <a:custGeom>
            <a:avLst/>
            <a:gdLst>
              <a:gd name="textAreaLeft" fmla="*/ 82440 w 1689120"/>
              <a:gd name="textAreaRight" fmla="*/ 1606680 w 1689120"/>
              <a:gd name="textAreaTop" fmla="*/ 82440 h 2968560"/>
              <a:gd name="textAreaBottom" fmla="*/ 2886120 h 2968560"/>
            </a:gdLst>
            <a:ahLst/>
            <a:rect l="textAreaLeft" t="textAreaTop" r="textAreaRight" b="textAreaBottom"/>
            <a:pathLst>
              <a:path w="21600" h="37958">
                <a:moveTo>
                  <a:pt x="3600" y="0"/>
                </a:moveTo>
                <a:arcTo wR="3600" hR="3600" stAng="16200000" swAng="-5400000"/>
                <a:lnTo>
                  <a:pt x="0" y="34358"/>
                </a:lnTo>
                <a:arcTo wR="3600" hR="3600" stAng="10800000" swAng="-5400000"/>
                <a:lnTo>
                  <a:pt x="18000" y="379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700360" y="4005360"/>
            <a:ext cx="2166840" cy="4034880"/>
            <a:chOff x="2700360" y="4005360"/>
            <a:chExt cx="2166840" cy="4034880"/>
          </a:xfrm>
        </p:grpSpPr>
        <p:sp>
          <p:nvSpPr>
            <p:cNvPr id="398" name=""/>
            <p:cNvSpPr/>
            <p:nvPr/>
          </p:nvSpPr>
          <p:spPr>
            <a:xfrm>
              <a:off x="2700360" y="431280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a440a6"/>
                </a:gs>
                <a:gs pos="100000">
                  <a:srgbClr val="cc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33480" y="432108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51120" y="638460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e2aa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51120" y="434304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cbfe"/>
                </a:gs>
                <a:gs pos="100000">
                  <a:srgbClr val="cc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4840" y="400536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50960" y="400968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59240" y="401292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65360" y="401940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00280" y="403524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84880" y="4097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76320" y="4767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03240" y="717048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47880" y="719424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50920" y="994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22760" y="3933720"/>
            <a:ext cx="1549440" cy="579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722760" y="3427560"/>
            <a:ext cx="1549440" cy="579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22760" y="2921040"/>
            <a:ext cx="1549440" cy="579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186440" y="3139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186440" y="3646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86440" y="4152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89160" y="2703600"/>
            <a:ext cx="492120" cy="195408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3b3b3b">
                  <a:alpha val="12156"/>
                </a:srgbClr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58920" y="2197080"/>
            <a:ext cx="1689120" cy="2968560"/>
          </a:xfrm>
          <a:custGeom>
            <a:avLst/>
            <a:gdLst>
              <a:gd name="textAreaLeft" fmla="*/ 82440 w 1689120"/>
              <a:gd name="textAreaRight" fmla="*/ 1606680 w 1689120"/>
              <a:gd name="textAreaTop" fmla="*/ 82440 h 2968560"/>
              <a:gd name="textAreaBottom" fmla="*/ 2886120 h 2968560"/>
            </a:gdLst>
            <a:ahLst/>
            <a:rect l="textAreaLeft" t="textAreaTop" r="textAreaRight" b="textAreaBottom"/>
            <a:pathLst>
              <a:path w="21600" h="37958">
                <a:moveTo>
                  <a:pt x="3600" y="0"/>
                </a:moveTo>
                <a:arcTo wR="3600" hR="3600" stAng="16200000" swAng="-5400000"/>
                <a:lnTo>
                  <a:pt x="0" y="34358"/>
                </a:lnTo>
                <a:arcTo wR="3600" hR="3600" stAng="10800000" swAng="-5400000"/>
                <a:lnTo>
                  <a:pt x="18000" y="379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28760" y="2414520"/>
            <a:ext cx="154944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46920" y="2197080"/>
            <a:ext cx="1689120" cy="2968560"/>
          </a:xfrm>
          <a:custGeom>
            <a:avLst/>
            <a:gdLst>
              <a:gd name="textAreaLeft" fmla="*/ 82440 w 1689120"/>
              <a:gd name="textAreaRight" fmla="*/ 1606680 w 1689120"/>
              <a:gd name="textAreaTop" fmla="*/ 82440 h 2968560"/>
              <a:gd name="textAreaBottom" fmla="*/ 2886120 h 2968560"/>
            </a:gdLst>
            <a:ahLst/>
            <a:rect l="textAreaLeft" t="textAreaTop" r="textAreaRight" b="textAreaBottom"/>
            <a:pathLst>
              <a:path w="21600" h="37958">
                <a:moveTo>
                  <a:pt x="3600" y="0"/>
                </a:moveTo>
                <a:arcTo wR="3600" hR="3600" stAng="16200000" swAng="-5400000"/>
                <a:lnTo>
                  <a:pt x="0" y="34358"/>
                </a:lnTo>
                <a:arcTo wR="3600" hR="3600" stAng="10800000" swAng="-5400000"/>
                <a:lnTo>
                  <a:pt x="18000" y="379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16760" y="2414520"/>
            <a:ext cx="154944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415120" y="2703600"/>
            <a:ext cx="490320" cy="195408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808080"/>
              </a:gs>
              <a:gs pos="100000">
                <a:srgbClr val="3b3b3b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59280" y="1700280"/>
            <a:ext cx="2815920" cy="5792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92520" y="2341440"/>
            <a:ext cx="1619280" cy="506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808080"/>
              </a:gs>
              <a:gs pos="100000">
                <a:srgbClr val="adadad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64120" y="18399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89160" y="5165640"/>
            <a:ext cx="2816280" cy="57780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64120" y="5386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672000" y="4586400"/>
            <a:ext cx="1622160" cy="498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adadad">
                  <a:alpha val="12156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523880" y="1752480"/>
            <a:ext cx="1752840" cy="4267440"/>
            <a:chOff x="1523880" y="1752480"/>
            <a:chExt cx="1752840" cy="4267440"/>
          </a:xfrm>
        </p:grpSpPr>
        <p:sp>
          <p:nvSpPr>
            <p:cNvPr id="433" name=""/>
            <p:cNvSpPr/>
            <p:nvPr/>
          </p:nvSpPr>
          <p:spPr>
            <a:xfrm>
              <a:off x="1600200" y="3352680"/>
              <a:ext cx="1600200" cy="26672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7240"/>
                <a:gd name="textAreaBottom" fmla="*/ 2630160 h 2667240"/>
              </a:gdLst>
              <a:ahLst/>
              <a:rect l="textAreaLeft" t="textAreaTop" r="textAreaRight" b="textAreaBottom"/>
              <a:pathLst>
                <a:path w="21600" h="36000">
                  <a:moveTo>
                    <a:pt x="1714" y="0"/>
                  </a:moveTo>
                  <a:arcTo wR="1714" hR="1714" stAng="16200000" swAng="-5400000"/>
                  <a:lnTo>
                    <a:pt x="0" y="34286"/>
                  </a:lnTo>
                  <a:arcTo wR="1714" hR="1714" stAng="10800000" swAng="-5400000"/>
                  <a:lnTo>
                    <a:pt x="19886" y="3600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a5792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1800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23880" y="1752480"/>
              <a:ext cx="1752840" cy="205740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2">
                  <a:moveTo>
                    <a:pt x="3782" y="0"/>
                  </a:moveTo>
                  <a:arcTo wR="3782" hR="3782" stAng="16200000" swAng="-5400000"/>
                  <a:lnTo>
                    <a:pt x="0" y="21570"/>
                  </a:lnTo>
                  <a:arcTo wR="3782" hR="3782" stAng="10800000" swAng="-5400000"/>
                  <a:lnTo>
                    <a:pt x="17818" y="2535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65280" y="3244680"/>
              <a:ext cx="167652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2bb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65280" y="1774800"/>
              <a:ext cx="1676520" cy="50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ddff2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83240" y="208764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1709640" y="568584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8cffe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441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35440" y="2057400"/>
              <a:ext cx="1727280" cy="198108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1080"/>
                <a:gd name="textAreaBottom" fmla="*/ 1892520 h 1981080"/>
              </a:gdLst>
              <a:ahLst/>
              <a:rect l="textAreaLeft" t="textAreaTop" r="textAreaRight" b="textAreaBottom"/>
              <a:pathLst>
                <a:path w="21600" h="24773">
                  <a:moveTo>
                    <a:pt x="3782" y="0"/>
                  </a:moveTo>
                  <a:arcTo wR="3782" hR="3782" stAng="16200000" swAng="-5400000"/>
                  <a:lnTo>
                    <a:pt x="0" y="20991"/>
                  </a:lnTo>
                  <a:arcTo wR="3782" hR="3782" stAng="10800000" swAng="-5400000"/>
                  <a:lnTo>
                    <a:pt x="17818" y="2477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6840" y="3495600"/>
              <a:ext cx="165096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2da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76840" y="2081160"/>
              <a:ext cx="1650960" cy="49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ff1df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ceda9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059520" y="2438280"/>
            <a:ext cx="1712880" cy="3581640"/>
            <a:chOff x="6059520" y="2438280"/>
            <a:chExt cx="1712880" cy="3581640"/>
          </a:xfrm>
        </p:grpSpPr>
        <p:sp>
          <p:nvSpPr>
            <p:cNvPr id="449" name=""/>
            <p:cNvSpPr/>
            <p:nvPr/>
          </p:nvSpPr>
          <p:spPr>
            <a:xfrm>
              <a:off x="6121440" y="3809880"/>
              <a:ext cx="1600200" cy="22100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10040"/>
                <a:gd name="textAreaBottom" fmla="*/ 2172960 h 2210040"/>
              </a:gdLst>
              <a:ahLst/>
              <a:rect l="textAreaLeft" t="textAreaTop" r="textAreaRight" b="textAreaBottom"/>
              <a:pathLst>
                <a:path w="21600" h="29830">
                  <a:moveTo>
                    <a:pt x="1714" y="0"/>
                  </a:moveTo>
                  <a:arcTo wR="1714" hR="1714" stAng="16200000" swAng="-5400000"/>
                  <a:lnTo>
                    <a:pt x="0" y="28116"/>
                  </a:lnTo>
                  <a:arcTo wR="1714" hR="1714" stAng="10800000" swAng="-5400000"/>
                  <a:lnTo>
                    <a:pt x="19886" y="2983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a5a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59520" y="2438280"/>
              <a:ext cx="1712880" cy="190188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880"/>
                <a:gd name="textAreaBottom" fmla="*/ 1814040 h 1901880"/>
              </a:gdLst>
              <a:ahLst/>
              <a:rect l="textAreaLeft" t="textAreaTop" r="textAreaRight" b="textAreaBottom"/>
              <a:pathLst>
                <a:path w="21600" h="23983">
                  <a:moveTo>
                    <a:pt x="3782" y="0"/>
                  </a:moveTo>
                  <a:arcTo wR="3782" hR="3782" stAng="16200000" swAng="-5400000"/>
                  <a:lnTo>
                    <a:pt x="0" y="20201"/>
                  </a:lnTo>
                  <a:arcTo wR="3782" hR="3782" stAng="10800000" swAng="-5400000"/>
                  <a:lnTo>
                    <a:pt x="17818" y="2398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99120" y="3817800"/>
              <a:ext cx="1639800" cy="47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acf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99120" y="2459160"/>
              <a:ext cx="1639800" cy="46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ce6d0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3d4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484360" y="2421000"/>
            <a:ext cx="3809880" cy="3504600"/>
            <a:chOff x="2484360" y="2421000"/>
            <a:chExt cx="3809880" cy="3504600"/>
          </a:xfrm>
        </p:grpSpPr>
        <p:grpSp>
          <p:nvGrpSpPr>
            <p:cNvPr id="459" name=""/>
            <p:cNvGrpSpPr/>
            <p:nvPr/>
          </p:nvGrpSpPr>
          <p:grpSpPr>
            <a:xfrm>
              <a:off x="2484360" y="2421000"/>
              <a:ext cx="3809880" cy="609120"/>
              <a:chOff x="2484360" y="2421000"/>
              <a:chExt cx="3809880" cy="60912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2484360" y="2421000"/>
                <a:ext cx="533160" cy="609120"/>
                <a:chOff x="2484360" y="2421000"/>
                <a:chExt cx="533160" cy="6091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2647440" y="2421000"/>
                  <a:ext cx="210240" cy="303120"/>
                </a:xfrm>
                <a:custGeom>
                  <a:avLst/>
                  <a:gdLst/>
                  <a:ahLst/>
                  <a:rect l="l" t="t" r="r" b="b"/>
                  <a:pathLst>
                    <a:path w="299" h="434">
                      <a:moveTo>
                        <a:pt x="174" y="121"/>
                      </a:moveTo>
                      <a:lnTo>
                        <a:pt x="174" y="23"/>
                      </a:lnTo>
                      <a:lnTo>
                        <a:pt x="170" y="9"/>
                      </a:lnTo>
                      <a:lnTo>
                        <a:pt x="165" y="5"/>
                      </a:lnTo>
                      <a:lnTo>
                        <a:pt x="156" y="0"/>
                      </a:lnTo>
                      <a:lnTo>
                        <a:pt x="152" y="0"/>
                      </a:lnTo>
                      <a:lnTo>
                        <a:pt x="143" y="0"/>
                      </a:lnTo>
                      <a:lnTo>
                        <a:pt x="134" y="5"/>
                      </a:lnTo>
                      <a:lnTo>
                        <a:pt x="125" y="9"/>
                      </a:lnTo>
                      <a:lnTo>
                        <a:pt x="125" y="23"/>
                      </a:lnTo>
                      <a:lnTo>
                        <a:pt x="125" y="126"/>
                      </a:lnTo>
                      <a:lnTo>
                        <a:pt x="76" y="99"/>
                      </a:lnTo>
                      <a:lnTo>
                        <a:pt x="67" y="94"/>
                      </a:lnTo>
                      <a:lnTo>
                        <a:pt x="58" y="94"/>
                      </a:lnTo>
                      <a:lnTo>
                        <a:pt x="49" y="99"/>
                      </a:lnTo>
                      <a:lnTo>
                        <a:pt x="45" y="103"/>
                      </a:lnTo>
                      <a:lnTo>
                        <a:pt x="40" y="112"/>
                      </a:lnTo>
                      <a:lnTo>
                        <a:pt x="45" y="117"/>
                      </a:lnTo>
                      <a:lnTo>
                        <a:pt x="45" y="126"/>
                      </a:lnTo>
                      <a:lnTo>
                        <a:pt x="54" y="134"/>
                      </a:lnTo>
                      <a:lnTo>
                        <a:pt x="121" y="170"/>
                      </a:lnTo>
                      <a:lnTo>
                        <a:pt x="121" y="242"/>
                      </a:lnTo>
                      <a:lnTo>
                        <a:pt x="36" y="188"/>
                      </a:lnTo>
                      <a:lnTo>
                        <a:pt x="27" y="184"/>
                      </a:lnTo>
                      <a:lnTo>
                        <a:pt x="18" y="184"/>
                      </a:lnTo>
                      <a:lnTo>
                        <a:pt x="9" y="188"/>
                      </a:lnTo>
                      <a:lnTo>
                        <a:pt x="5" y="193"/>
                      </a:lnTo>
                      <a:lnTo>
                        <a:pt x="0" y="202"/>
                      </a:lnTo>
                      <a:lnTo>
                        <a:pt x="0" y="210"/>
                      </a:lnTo>
                      <a:lnTo>
                        <a:pt x="5" y="219"/>
                      </a:lnTo>
                      <a:lnTo>
                        <a:pt x="14" y="224"/>
                      </a:lnTo>
                      <a:lnTo>
                        <a:pt x="121" y="291"/>
                      </a:lnTo>
                      <a:lnTo>
                        <a:pt x="121" y="434"/>
                      </a:lnTo>
                      <a:lnTo>
                        <a:pt x="174" y="434"/>
                      </a:lnTo>
                      <a:lnTo>
                        <a:pt x="174" y="291"/>
                      </a:lnTo>
                      <a:lnTo>
                        <a:pt x="290" y="224"/>
                      </a:lnTo>
                      <a:lnTo>
                        <a:pt x="295" y="219"/>
                      </a:lnTo>
                      <a:lnTo>
                        <a:pt x="299" y="210"/>
                      </a:lnTo>
                      <a:lnTo>
                        <a:pt x="299" y="202"/>
                      </a:lnTo>
                      <a:lnTo>
                        <a:pt x="299" y="197"/>
                      </a:lnTo>
                      <a:lnTo>
                        <a:pt x="295" y="188"/>
                      </a:lnTo>
                      <a:lnTo>
                        <a:pt x="286" y="184"/>
                      </a:lnTo>
                      <a:lnTo>
                        <a:pt x="277" y="184"/>
                      </a:lnTo>
                      <a:lnTo>
                        <a:pt x="268" y="188"/>
                      </a:lnTo>
                      <a:lnTo>
                        <a:pt x="174" y="237"/>
                      </a:lnTo>
                      <a:lnTo>
                        <a:pt x="174" y="170"/>
                      </a:lnTo>
                      <a:lnTo>
                        <a:pt x="246" y="134"/>
                      </a:lnTo>
                      <a:lnTo>
                        <a:pt x="250" y="130"/>
                      </a:lnTo>
                      <a:lnTo>
                        <a:pt x="255" y="121"/>
                      </a:lnTo>
                      <a:lnTo>
                        <a:pt x="255" y="112"/>
                      </a:lnTo>
                      <a:lnTo>
                        <a:pt x="250" y="108"/>
                      </a:lnTo>
                      <a:lnTo>
                        <a:pt x="246" y="103"/>
                      </a:lnTo>
                      <a:lnTo>
                        <a:pt x="237" y="99"/>
                      </a:lnTo>
                      <a:lnTo>
                        <a:pt x="232" y="99"/>
                      </a:lnTo>
                      <a:lnTo>
                        <a:pt x="223" y="99"/>
                      </a:lnTo>
                      <a:lnTo>
                        <a:pt x="174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484360" y="254952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121" y="71"/>
                      </a:moveTo>
                      <a:lnTo>
                        <a:pt x="36" y="22"/>
                      </a:lnTo>
                      <a:lnTo>
                        <a:pt x="27" y="18"/>
                      </a:lnTo>
                      <a:lnTo>
                        <a:pt x="18" y="18"/>
                      </a:lnTo>
                      <a:lnTo>
                        <a:pt x="9" y="22"/>
                      </a:lnTo>
                      <a:lnTo>
                        <a:pt x="5" y="31"/>
                      </a:lnTo>
                      <a:lnTo>
                        <a:pt x="0" y="40"/>
                      </a:lnTo>
                      <a:lnTo>
                        <a:pt x="0" y="49"/>
                      </a:lnTo>
                      <a:lnTo>
                        <a:pt x="5" y="58"/>
                      </a:lnTo>
                      <a:lnTo>
                        <a:pt x="9" y="62"/>
                      </a:lnTo>
                      <a:lnTo>
                        <a:pt x="98" y="116"/>
                      </a:lnTo>
                      <a:lnTo>
                        <a:pt x="54" y="143"/>
                      </a:lnTo>
                      <a:lnTo>
                        <a:pt x="45" y="147"/>
                      </a:lnTo>
                      <a:lnTo>
                        <a:pt x="40" y="156"/>
                      </a:lnTo>
                      <a:lnTo>
                        <a:pt x="40" y="165"/>
                      </a:lnTo>
                      <a:lnTo>
                        <a:pt x="40" y="174"/>
                      </a:lnTo>
                      <a:lnTo>
                        <a:pt x="49" y="178"/>
                      </a:lnTo>
                      <a:lnTo>
                        <a:pt x="54" y="183"/>
                      </a:lnTo>
                      <a:lnTo>
                        <a:pt x="63" y="183"/>
                      </a:lnTo>
                      <a:lnTo>
                        <a:pt x="72" y="183"/>
                      </a:lnTo>
                      <a:lnTo>
                        <a:pt x="139" y="143"/>
                      </a:lnTo>
                      <a:lnTo>
                        <a:pt x="197" y="178"/>
                      </a:lnTo>
                      <a:lnTo>
                        <a:pt x="112" y="223"/>
                      </a:lnTo>
                      <a:lnTo>
                        <a:pt x="103" y="232"/>
                      </a:lnTo>
                      <a:lnTo>
                        <a:pt x="98" y="241"/>
                      </a:lnTo>
                      <a:lnTo>
                        <a:pt x="98" y="246"/>
                      </a:lnTo>
                      <a:lnTo>
                        <a:pt x="98" y="254"/>
                      </a:lnTo>
                      <a:lnTo>
                        <a:pt x="103" y="263"/>
                      </a:lnTo>
                      <a:lnTo>
                        <a:pt x="112" y="268"/>
                      </a:lnTo>
                      <a:lnTo>
                        <a:pt x="121" y="268"/>
                      </a:lnTo>
                      <a:lnTo>
                        <a:pt x="130" y="263"/>
                      </a:lnTo>
                      <a:lnTo>
                        <a:pt x="241" y="201"/>
                      </a:lnTo>
                      <a:lnTo>
                        <a:pt x="366" y="272"/>
                      </a:lnTo>
                      <a:lnTo>
                        <a:pt x="393" y="228"/>
                      </a:lnTo>
                      <a:lnTo>
                        <a:pt x="268" y="156"/>
                      </a:lnTo>
                      <a:lnTo>
                        <a:pt x="268" y="22"/>
                      </a:lnTo>
                      <a:lnTo>
                        <a:pt x="268" y="13"/>
                      </a:lnTo>
                      <a:lnTo>
                        <a:pt x="264" y="9"/>
                      </a:lnTo>
                      <a:lnTo>
                        <a:pt x="255" y="4"/>
                      </a:lnTo>
                      <a:lnTo>
                        <a:pt x="250" y="0"/>
                      </a:lnTo>
                      <a:lnTo>
                        <a:pt x="241" y="0"/>
                      </a:lnTo>
                      <a:lnTo>
                        <a:pt x="232" y="4"/>
                      </a:lnTo>
                      <a:lnTo>
                        <a:pt x="228" y="13"/>
                      </a:lnTo>
                      <a:lnTo>
                        <a:pt x="228" y="22"/>
                      </a:lnTo>
                      <a:lnTo>
                        <a:pt x="223" y="129"/>
                      </a:lnTo>
                      <a:lnTo>
                        <a:pt x="165" y="94"/>
                      </a:lnTo>
                      <a:lnTo>
                        <a:pt x="170" y="18"/>
                      </a:lnTo>
                      <a:lnTo>
                        <a:pt x="165" y="9"/>
                      </a:lnTo>
                      <a:lnTo>
                        <a:pt x="161" y="4"/>
                      </a:lnTo>
                      <a:lnTo>
                        <a:pt x="156" y="0"/>
                      </a:lnTo>
                      <a:lnTo>
                        <a:pt x="148" y="0"/>
                      </a:lnTo>
                      <a:lnTo>
                        <a:pt x="139" y="0"/>
                      </a:lnTo>
                      <a:lnTo>
                        <a:pt x="134" y="4"/>
                      </a:lnTo>
                      <a:lnTo>
                        <a:pt x="130" y="9"/>
                      </a:lnTo>
                      <a:lnTo>
                        <a:pt x="125" y="18"/>
                      </a:lnTo>
                      <a:lnTo>
                        <a:pt x="121" y="7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484360" y="2708640"/>
                  <a:ext cx="276120" cy="19332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98" y="156"/>
                      </a:moveTo>
                      <a:lnTo>
                        <a:pt x="9" y="205"/>
                      </a:lnTo>
                      <a:lnTo>
                        <a:pt x="0" y="214"/>
                      </a:lnTo>
                      <a:lnTo>
                        <a:pt x="0" y="223"/>
                      </a:lnTo>
                      <a:lnTo>
                        <a:pt x="0" y="228"/>
                      </a:lnTo>
                      <a:lnTo>
                        <a:pt x="0" y="237"/>
                      </a:lnTo>
                      <a:lnTo>
                        <a:pt x="9" y="246"/>
                      </a:lnTo>
                      <a:lnTo>
                        <a:pt x="14" y="250"/>
                      </a:lnTo>
                      <a:lnTo>
                        <a:pt x="23" y="250"/>
                      </a:lnTo>
                      <a:lnTo>
                        <a:pt x="36" y="250"/>
                      </a:lnTo>
                      <a:lnTo>
                        <a:pt x="125" y="196"/>
                      </a:lnTo>
                      <a:lnTo>
                        <a:pt x="125" y="250"/>
                      </a:lnTo>
                      <a:lnTo>
                        <a:pt x="125" y="263"/>
                      </a:lnTo>
                      <a:lnTo>
                        <a:pt x="130" y="268"/>
                      </a:lnTo>
                      <a:lnTo>
                        <a:pt x="139" y="272"/>
                      </a:lnTo>
                      <a:lnTo>
                        <a:pt x="143" y="277"/>
                      </a:lnTo>
                      <a:lnTo>
                        <a:pt x="152" y="277"/>
                      </a:lnTo>
                      <a:lnTo>
                        <a:pt x="161" y="272"/>
                      </a:lnTo>
                      <a:lnTo>
                        <a:pt x="165" y="263"/>
                      </a:lnTo>
                      <a:lnTo>
                        <a:pt x="165" y="254"/>
                      </a:lnTo>
                      <a:lnTo>
                        <a:pt x="165" y="178"/>
                      </a:lnTo>
                      <a:lnTo>
                        <a:pt x="223" y="143"/>
                      </a:lnTo>
                      <a:lnTo>
                        <a:pt x="223" y="241"/>
                      </a:lnTo>
                      <a:lnTo>
                        <a:pt x="223" y="250"/>
                      </a:lnTo>
                      <a:lnTo>
                        <a:pt x="228" y="259"/>
                      </a:lnTo>
                      <a:lnTo>
                        <a:pt x="237" y="263"/>
                      </a:lnTo>
                      <a:lnTo>
                        <a:pt x="246" y="268"/>
                      </a:lnTo>
                      <a:lnTo>
                        <a:pt x="255" y="268"/>
                      </a:lnTo>
                      <a:lnTo>
                        <a:pt x="259" y="263"/>
                      </a:lnTo>
                      <a:lnTo>
                        <a:pt x="264" y="254"/>
                      </a:lnTo>
                      <a:lnTo>
                        <a:pt x="268" y="246"/>
                      </a:lnTo>
                      <a:lnTo>
                        <a:pt x="268" y="116"/>
                      </a:lnTo>
                      <a:lnTo>
                        <a:pt x="393" y="44"/>
                      </a:lnTo>
                      <a:lnTo>
                        <a:pt x="366" y="0"/>
                      </a:lnTo>
                      <a:lnTo>
                        <a:pt x="241" y="71"/>
                      </a:lnTo>
                      <a:lnTo>
                        <a:pt x="125" y="4"/>
                      </a:lnTo>
                      <a:lnTo>
                        <a:pt x="121" y="0"/>
                      </a:lnTo>
                      <a:lnTo>
                        <a:pt x="112" y="0"/>
                      </a:lnTo>
                      <a:lnTo>
                        <a:pt x="103" y="4"/>
                      </a:lnTo>
                      <a:lnTo>
                        <a:pt x="98" y="9"/>
                      </a:lnTo>
                      <a:lnTo>
                        <a:pt x="94" y="18"/>
                      </a:lnTo>
                      <a:lnTo>
                        <a:pt x="94" y="26"/>
                      </a:lnTo>
                      <a:lnTo>
                        <a:pt x="98" y="35"/>
                      </a:lnTo>
                      <a:lnTo>
                        <a:pt x="107" y="40"/>
                      </a:lnTo>
                      <a:lnTo>
                        <a:pt x="197" y="98"/>
                      </a:lnTo>
                      <a:lnTo>
                        <a:pt x="139" y="129"/>
                      </a:lnTo>
                      <a:lnTo>
                        <a:pt x="72" y="89"/>
                      </a:lnTo>
                      <a:lnTo>
                        <a:pt x="63" y="85"/>
                      </a:lnTo>
                      <a:lnTo>
                        <a:pt x="58" y="85"/>
                      </a:lnTo>
                      <a:lnTo>
                        <a:pt x="49" y="89"/>
                      </a:lnTo>
                      <a:lnTo>
                        <a:pt x="45" y="98"/>
                      </a:lnTo>
                      <a:lnTo>
                        <a:pt x="45" y="102"/>
                      </a:lnTo>
                      <a:lnTo>
                        <a:pt x="45" y="111"/>
                      </a:lnTo>
                      <a:lnTo>
                        <a:pt x="45" y="120"/>
                      </a:lnTo>
                      <a:lnTo>
                        <a:pt x="54" y="125"/>
                      </a:lnTo>
                      <a:lnTo>
                        <a:pt x="98" y="1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644560" y="2724120"/>
                  <a:ext cx="209880" cy="306000"/>
                </a:xfrm>
                <a:custGeom>
                  <a:avLst/>
                  <a:gdLst/>
                  <a:ahLst/>
                  <a:rect l="l" t="t" r="r" b="b"/>
                  <a:pathLst>
                    <a:path w="299" h="438">
                      <a:moveTo>
                        <a:pt x="125" y="313"/>
                      </a:moveTo>
                      <a:lnTo>
                        <a:pt x="125" y="411"/>
                      </a:lnTo>
                      <a:lnTo>
                        <a:pt x="129" y="425"/>
                      </a:lnTo>
                      <a:lnTo>
                        <a:pt x="134" y="429"/>
                      </a:lnTo>
                      <a:lnTo>
                        <a:pt x="143" y="434"/>
                      </a:lnTo>
                      <a:lnTo>
                        <a:pt x="147" y="438"/>
                      </a:lnTo>
                      <a:lnTo>
                        <a:pt x="156" y="434"/>
                      </a:lnTo>
                      <a:lnTo>
                        <a:pt x="165" y="429"/>
                      </a:lnTo>
                      <a:lnTo>
                        <a:pt x="174" y="425"/>
                      </a:lnTo>
                      <a:lnTo>
                        <a:pt x="174" y="411"/>
                      </a:lnTo>
                      <a:lnTo>
                        <a:pt x="174" y="308"/>
                      </a:lnTo>
                      <a:lnTo>
                        <a:pt x="223" y="335"/>
                      </a:lnTo>
                      <a:lnTo>
                        <a:pt x="232" y="340"/>
                      </a:lnTo>
                      <a:lnTo>
                        <a:pt x="241" y="340"/>
                      </a:lnTo>
                      <a:lnTo>
                        <a:pt x="250" y="335"/>
                      </a:lnTo>
                      <a:lnTo>
                        <a:pt x="254" y="331"/>
                      </a:lnTo>
                      <a:lnTo>
                        <a:pt x="254" y="322"/>
                      </a:lnTo>
                      <a:lnTo>
                        <a:pt x="254" y="317"/>
                      </a:lnTo>
                      <a:lnTo>
                        <a:pt x="254" y="308"/>
                      </a:lnTo>
                      <a:lnTo>
                        <a:pt x="245" y="300"/>
                      </a:lnTo>
                      <a:lnTo>
                        <a:pt x="178" y="264"/>
                      </a:lnTo>
                      <a:lnTo>
                        <a:pt x="178" y="192"/>
                      </a:lnTo>
                      <a:lnTo>
                        <a:pt x="263" y="246"/>
                      </a:lnTo>
                      <a:lnTo>
                        <a:pt x="272" y="250"/>
                      </a:lnTo>
                      <a:lnTo>
                        <a:pt x="281" y="250"/>
                      </a:lnTo>
                      <a:lnTo>
                        <a:pt x="290" y="246"/>
                      </a:lnTo>
                      <a:lnTo>
                        <a:pt x="294" y="241"/>
                      </a:lnTo>
                      <a:lnTo>
                        <a:pt x="299" y="232"/>
                      </a:lnTo>
                      <a:lnTo>
                        <a:pt x="299" y="224"/>
                      </a:lnTo>
                      <a:lnTo>
                        <a:pt x="294" y="215"/>
                      </a:lnTo>
                      <a:lnTo>
                        <a:pt x="285" y="210"/>
                      </a:lnTo>
                      <a:lnTo>
                        <a:pt x="178" y="143"/>
                      </a:lnTo>
                      <a:lnTo>
                        <a:pt x="178" y="0"/>
                      </a:lnTo>
                      <a:lnTo>
                        <a:pt x="125" y="0"/>
                      </a:lnTo>
                      <a:lnTo>
                        <a:pt x="125" y="143"/>
                      </a:lnTo>
                      <a:lnTo>
                        <a:pt x="9" y="210"/>
                      </a:lnTo>
                      <a:lnTo>
                        <a:pt x="4" y="215"/>
                      </a:lnTo>
                      <a:lnTo>
                        <a:pt x="0" y="224"/>
                      </a:lnTo>
                      <a:lnTo>
                        <a:pt x="0" y="232"/>
                      </a:lnTo>
                      <a:lnTo>
                        <a:pt x="0" y="237"/>
                      </a:lnTo>
                      <a:lnTo>
                        <a:pt x="4" y="246"/>
                      </a:lnTo>
                      <a:lnTo>
                        <a:pt x="13" y="250"/>
                      </a:lnTo>
                      <a:lnTo>
                        <a:pt x="22" y="250"/>
                      </a:lnTo>
                      <a:lnTo>
                        <a:pt x="31" y="246"/>
                      </a:lnTo>
                      <a:lnTo>
                        <a:pt x="125" y="197"/>
                      </a:lnTo>
                      <a:lnTo>
                        <a:pt x="125" y="264"/>
                      </a:lnTo>
                      <a:lnTo>
                        <a:pt x="53" y="300"/>
                      </a:lnTo>
                      <a:lnTo>
                        <a:pt x="49" y="304"/>
                      </a:lnTo>
                      <a:lnTo>
                        <a:pt x="44" y="313"/>
                      </a:lnTo>
                      <a:lnTo>
                        <a:pt x="44" y="322"/>
                      </a:lnTo>
                      <a:lnTo>
                        <a:pt x="49" y="326"/>
                      </a:lnTo>
                      <a:lnTo>
                        <a:pt x="53" y="331"/>
                      </a:lnTo>
                      <a:lnTo>
                        <a:pt x="62" y="335"/>
                      </a:lnTo>
                      <a:lnTo>
                        <a:pt x="67" y="335"/>
                      </a:lnTo>
                      <a:lnTo>
                        <a:pt x="76" y="335"/>
                      </a:lnTo>
                      <a:lnTo>
                        <a:pt x="125" y="3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741400" y="270864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272" y="201"/>
                      </a:moveTo>
                      <a:lnTo>
                        <a:pt x="357" y="250"/>
                      </a:lnTo>
                      <a:lnTo>
                        <a:pt x="366" y="254"/>
                      </a:lnTo>
                      <a:lnTo>
                        <a:pt x="375" y="254"/>
                      </a:lnTo>
                      <a:lnTo>
                        <a:pt x="384" y="250"/>
                      </a:lnTo>
                      <a:lnTo>
                        <a:pt x="388" y="241"/>
                      </a:lnTo>
                      <a:lnTo>
                        <a:pt x="393" y="232"/>
                      </a:lnTo>
                      <a:lnTo>
                        <a:pt x="393" y="223"/>
                      </a:lnTo>
                      <a:lnTo>
                        <a:pt x="388" y="214"/>
                      </a:lnTo>
                      <a:lnTo>
                        <a:pt x="384" y="210"/>
                      </a:lnTo>
                      <a:lnTo>
                        <a:pt x="295" y="156"/>
                      </a:lnTo>
                      <a:lnTo>
                        <a:pt x="339" y="129"/>
                      </a:lnTo>
                      <a:lnTo>
                        <a:pt x="348" y="125"/>
                      </a:lnTo>
                      <a:lnTo>
                        <a:pt x="353" y="116"/>
                      </a:lnTo>
                      <a:lnTo>
                        <a:pt x="353" y="107"/>
                      </a:lnTo>
                      <a:lnTo>
                        <a:pt x="353" y="98"/>
                      </a:lnTo>
                      <a:lnTo>
                        <a:pt x="344" y="94"/>
                      </a:lnTo>
                      <a:lnTo>
                        <a:pt x="339" y="89"/>
                      </a:lnTo>
                      <a:lnTo>
                        <a:pt x="330" y="89"/>
                      </a:lnTo>
                      <a:lnTo>
                        <a:pt x="321" y="89"/>
                      </a:lnTo>
                      <a:lnTo>
                        <a:pt x="254" y="129"/>
                      </a:lnTo>
                      <a:lnTo>
                        <a:pt x="196" y="94"/>
                      </a:lnTo>
                      <a:lnTo>
                        <a:pt x="281" y="49"/>
                      </a:lnTo>
                      <a:lnTo>
                        <a:pt x="290" y="40"/>
                      </a:lnTo>
                      <a:lnTo>
                        <a:pt x="295" y="31"/>
                      </a:lnTo>
                      <a:lnTo>
                        <a:pt x="295" y="26"/>
                      </a:lnTo>
                      <a:lnTo>
                        <a:pt x="295" y="18"/>
                      </a:lnTo>
                      <a:lnTo>
                        <a:pt x="290" y="9"/>
                      </a:lnTo>
                      <a:lnTo>
                        <a:pt x="281" y="4"/>
                      </a:lnTo>
                      <a:lnTo>
                        <a:pt x="272" y="4"/>
                      </a:lnTo>
                      <a:lnTo>
                        <a:pt x="263" y="9"/>
                      </a:lnTo>
                      <a:lnTo>
                        <a:pt x="152" y="71"/>
                      </a:lnTo>
                      <a:lnTo>
                        <a:pt x="27" y="0"/>
                      </a:lnTo>
                      <a:lnTo>
                        <a:pt x="0" y="44"/>
                      </a:lnTo>
                      <a:lnTo>
                        <a:pt x="125" y="116"/>
                      </a:lnTo>
                      <a:lnTo>
                        <a:pt x="125" y="250"/>
                      </a:lnTo>
                      <a:lnTo>
                        <a:pt x="125" y="259"/>
                      </a:lnTo>
                      <a:lnTo>
                        <a:pt x="129" y="263"/>
                      </a:lnTo>
                      <a:lnTo>
                        <a:pt x="138" y="268"/>
                      </a:lnTo>
                      <a:lnTo>
                        <a:pt x="143" y="272"/>
                      </a:lnTo>
                      <a:lnTo>
                        <a:pt x="152" y="272"/>
                      </a:lnTo>
                      <a:lnTo>
                        <a:pt x="161" y="268"/>
                      </a:lnTo>
                      <a:lnTo>
                        <a:pt x="165" y="259"/>
                      </a:lnTo>
                      <a:lnTo>
                        <a:pt x="165" y="250"/>
                      </a:lnTo>
                      <a:lnTo>
                        <a:pt x="170" y="143"/>
                      </a:lnTo>
                      <a:lnTo>
                        <a:pt x="228" y="178"/>
                      </a:lnTo>
                      <a:lnTo>
                        <a:pt x="223" y="254"/>
                      </a:lnTo>
                      <a:lnTo>
                        <a:pt x="228" y="263"/>
                      </a:lnTo>
                      <a:lnTo>
                        <a:pt x="232" y="268"/>
                      </a:lnTo>
                      <a:lnTo>
                        <a:pt x="237" y="272"/>
                      </a:lnTo>
                      <a:lnTo>
                        <a:pt x="245" y="272"/>
                      </a:lnTo>
                      <a:lnTo>
                        <a:pt x="254" y="272"/>
                      </a:lnTo>
                      <a:lnTo>
                        <a:pt x="259" y="268"/>
                      </a:lnTo>
                      <a:lnTo>
                        <a:pt x="263" y="263"/>
                      </a:lnTo>
                      <a:lnTo>
                        <a:pt x="268" y="254"/>
                      </a:lnTo>
                      <a:lnTo>
                        <a:pt x="272" y="2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741400" y="2545920"/>
                  <a:ext cx="276120" cy="19332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295" y="121"/>
                      </a:moveTo>
                      <a:lnTo>
                        <a:pt x="384" y="72"/>
                      </a:lnTo>
                      <a:lnTo>
                        <a:pt x="393" y="63"/>
                      </a:lnTo>
                      <a:lnTo>
                        <a:pt x="393" y="54"/>
                      </a:lnTo>
                      <a:lnTo>
                        <a:pt x="393" y="49"/>
                      </a:lnTo>
                      <a:lnTo>
                        <a:pt x="393" y="40"/>
                      </a:lnTo>
                      <a:lnTo>
                        <a:pt x="384" y="31"/>
                      </a:lnTo>
                      <a:lnTo>
                        <a:pt x="379" y="27"/>
                      </a:lnTo>
                      <a:lnTo>
                        <a:pt x="370" y="27"/>
                      </a:lnTo>
                      <a:lnTo>
                        <a:pt x="357" y="27"/>
                      </a:lnTo>
                      <a:lnTo>
                        <a:pt x="268" y="81"/>
                      </a:lnTo>
                      <a:lnTo>
                        <a:pt x="268" y="27"/>
                      </a:lnTo>
                      <a:lnTo>
                        <a:pt x="268" y="14"/>
                      </a:lnTo>
                      <a:lnTo>
                        <a:pt x="263" y="9"/>
                      </a:lnTo>
                      <a:lnTo>
                        <a:pt x="254" y="5"/>
                      </a:lnTo>
                      <a:lnTo>
                        <a:pt x="250" y="0"/>
                      </a:lnTo>
                      <a:lnTo>
                        <a:pt x="241" y="5"/>
                      </a:lnTo>
                      <a:lnTo>
                        <a:pt x="232" y="5"/>
                      </a:lnTo>
                      <a:lnTo>
                        <a:pt x="228" y="14"/>
                      </a:lnTo>
                      <a:lnTo>
                        <a:pt x="228" y="23"/>
                      </a:lnTo>
                      <a:lnTo>
                        <a:pt x="228" y="99"/>
                      </a:lnTo>
                      <a:lnTo>
                        <a:pt x="170" y="134"/>
                      </a:lnTo>
                      <a:lnTo>
                        <a:pt x="170" y="36"/>
                      </a:lnTo>
                      <a:lnTo>
                        <a:pt x="170" y="27"/>
                      </a:lnTo>
                      <a:lnTo>
                        <a:pt x="165" y="18"/>
                      </a:lnTo>
                      <a:lnTo>
                        <a:pt x="156" y="14"/>
                      </a:lnTo>
                      <a:lnTo>
                        <a:pt x="147" y="9"/>
                      </a:lnTo>
                      <a:lnTo>
                        <a:pt x="138" y="9"/>
                      </a:lnTo>
                      <a:lnTo>
                        <a:pt x="134" y="14"/>
                      </a:lnTo>
                      <a:lnTo>
                        <a:pt x="129" y="23"/>
                      </a:lnTo>
                      <a:lnTo>
                        <a:pt x="125" y="31"/>
                      </a:lnTo>
                      <a:lnTo>
                        <a:pt x="125" y="161"/>
                      </a:lnTo>
                      <a:lnTo>
                        <a:pt x="0" y="233"/>
                      </a:lnTo>
                      <a:lnTo>
                        <a:pt x="27" y="277"/>
                      </a:lnTo>
                      <a:lnTo>
                        <a:pt x="152" y="206"/>
                      </a:lnTo>
                      <a:lnTo>
                        <a:pt x="268" y="273"/>
                      </a:lnTo>
                      <a:lnTo>
                        <a:pt x="272" y="277"/>
                      </a:lnTo>
                      <a:lnTo>
                        <a:pt x="281" y="277"/>
                      </a:lnTo>
                      <a:lnTo>
                        <a:pt x="290" y="273"/>
                      </a:lnTo>
                      <a:lnTo>
                        <a:pt x="295" y="268"/>
                      </a:lnTo>
                      <a:lnTo>
                        <a:pt x="299" y="259"/>
                      </a:lnTo>
                      <a:lnTo>
                        <a:pt x="299" y="251"/>
                      </a:lnTo>
                      <a:lnTo>
                        <a:pt x="295" y="242"/>
                      </a:lnTo>
                      <a:lnTo>
                        <a:pt x="286" y="237"/>
                      </a:lnTo>
                      <a:lnTo>
                        <a:pt x="196" y="179"/>
                      </a:lnTo>
                      <a:lnTo>
                        <a:pt x="254" y="148"/>
                      </a:lnTo>
                      <a:lnTo>
                        <a:pt x="321" y="188"/>
                      </a:lnTo>
                      <a:lnTo>
                        <a:pt x="330" y="192"/>
                      </a:lnTo>
                      <a:lnTo>
                        <a:pt x="335" y="192"/>
                      </a:lnTo>
                      <a:lnTo>
                        <a:pt x="344" y="188"/>
                      </a:lnTo>
                      <a:lnTo>
                        <a:pt x="348" y="179"/>
                      </a:lnTo>
                      <a:lnTo>
                        <a:pt x="348" y="175"/>
                      </a:lnTo>
                      <a:lnTo>
                        <a:pt x="348" y="166"/>
                      </a:lnTo>
                      <a:lnTo>
                        <a:pt x="348" y="157"/>
                      </a:lnTo>
                      <a:lnTo>
                        <a:pt x="339" y="152"/>
                      </a:lnTo>
                      <a:lnTo>
                        <a:pt x="295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60040" y="2646000"/>
                  <a:ext cx="184680" cy="159120"/>
                </a:xfrm>
                <a:custGeom>
                  <a:avLst/>
                  <a:gdLst/>
                  <a:ahLst/>
                  <a:rect l="l" t="t" r="r" b="b"/>
                  <a:pathLst>
                    <a:path w="263" h="228">
                      <a:moveTo>
                        <a:pt x="0" y="116"/>
                      </a:moveTo>
                      <a:lnTo>
                        <a:pt x="49" y="67"/>
                      </a:lnTo>
                      <a:lnTo>
                        <a:pt x="67" y="0"/>
                      </a:lnTo>
                      <a:lnTo>
                        <a:pt x="134" y="23"/>
                      </a:lnTo>
                      <a:lnTo>
                        <a:pt x="201" y="0"/>
                      </a:lnTo>
                      <a:lnTo>
                        <a:pt x="214" y="67"/>
                      </a:lnTo>
                      <a:lnTo>
                        <a:pt x="263" y="116"/>
                      </a:lnTo>
                      <a:lnTo>
                        <a:pt x="214" y="161"/>
                      </a:lnTo>
                      <a:lnTo>
                        <a:pt x="201" y="228"/>
                      </a:lnTo>
                      <a:lnTo>
                        <a:pt x="134" y="210"/>
                      </a:lnTo>
                      <a:lnTo>
                        <a:pt x="67" y="228"/>
                      </a:lnTo>
                      <a:lnTo>
                        <a:pt x="49" y="16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3323160" y="2421000"/>
                <a:ext cx="2676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lick to add 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17880" y="2877840"/>
                <a:ext cx="327636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2484360" y="3106440"/>
              <a:ext cx="3809880" cy="609120"/>
              <a:chOff x="2484360" y="3106440"/>
              <a:chExt cx="3809880" cy="60912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2484360" y="3106440"/>
                <a:ext cx="533160" cy="609120"/>
                <a:chOff x="2484360" y="3106440"/>
                <a:chExt cx="533160" cy="6091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2647440" y="3106440"/>
                  <a:ext cx="210240" cy="303120"/>
                </a:xfrm>
                <a:custGeom>
                  <a:avLst/>
                  <a:gdLst/>
                  <a:ahLst/>
                  <a:rect l="l" t="t" r="r" b="b"/>
                  <a:pathLst>
                    <a:path w="299" h="434">
                      <a:moveTo>
                        <a:pt x="174" y="121"/>
                      </a:moveTo>
                      <a:lnTo>
                        <a:pt x="174" y="23"/>
                      </a:lnTo>
                      <a:lnTo>
                        <a:pt x="170" y="9"/>
                      </a:lnTo>
                      <a:lnTo>
                        <a:pt x="165" y="5"/>
                      </a:lnTo>
                      <a:lnTo>
                        <a:pt x="156" y="0"/>
                      </a:lnTo>
                      <a:lnTo>
                        <a:pt x="152" y="0"/>
                      </a:lnTo>
                      <a:lnTo>
                        <a:pt x="143" y="0"/>
                      </a:lnTo>
                      <a:lnTo>
                        <a:pt x="134" y="5"/>
                      </a:lnTo>
                      <a:lnTo>
                        <a:pt x="125" y="9"/>
                      </a:lnTo>
                      <a:lnTo>
                        <a:pt x="125" y="23"/>
                      </a:lnTo>
                      <a:lnTo>
                        <a:pt x="125" y="126"/>
                      </a:lnTo>
                      <a:lnTo>
                        <a:pt x="76" y="99"/>
                      </a:lnTo>
                      <a:lnTo>
                        <a:pt x="67" y="94"/>
                      </a:lnTo>
                      <a:lnTo>
                        <a:pt x="58" y="94"/>
                      </a:lnTo>
                      <a:lnTo>
                        <a:pt x="49" y="99"/>
                      </a:lnTo>
                      <a:lnTo>
                        <a:pt x="45" y="103"/>
                      </a:lnTo>
                      <a:lnTo>
                        <a:pt x="40" y="112"/>
                      </a:lnTo>
                      <a:lnTo>
                        <a:pt x="45" y="117"/>
                      </a:lnTo>
                      <a:lnTo>
                        <a:pt x="45" y="126"/>
                      </a:lnTo>
                      <a:lnTo>
                        <a:pt x="54" y="134"/>
                      </a:lnTo>
                      <a:lnTo>
                        <a:pt x="121" y="170"/>
                      </a:lnTo>
                      <a:lnTo>
                        <a:pt x="121" y="242"/>
                      </a:lnTo>
                      <a:lnTo>
                        <a:pt x="36" y="188"/>
                      </a:lnTo>
                      <a:lnTo>
                        <a:pt x="27" y="184"/>
                      </a:lnTo>
                      <a:lnTo>
                        <a:pt x="18" y="184"/>
                      </a:lnTo>
                      <a:lnTo>
                        <a:pt x="9" y="188"/>
                      </a:lnTo>
                      <a:lnTo>
                        <a:pt x="5" y="193"/>
                      </a:lnTo>
                      <a:lnTo>
                        <a:pt x="0" y="202"/>
                      </a:lnTo>
                      <a:lnTo>
                        <a:pt x="0" y="210"/>
                      </a:lnTo>
                      <a:lnTo>
                        <a:pt x="5" y="219"/>
                      </a:lnTo>
                      <a:lnTo>
                        <a:pt x="14" y="224"/>
                      </a:lnTo>
                      <a:lnTo>
                        <a:pt x="121" y="291"/>
                      </a:lnTo>
                      <a:lnTo>
                        <a:pt x="121" y="434"/>
                      </a:lnTo>
                      <a:lnTo>
                        <a:pt x="174" y="434"/>
                      </a:lnTo>
                      <a:lnTo>
                        <a:pt x="174" y="291"/>
                      </a:lnTo>
                      <a:lnTo>
                        <a:pt x="290" y="224"/>
                      </a:lnTo>
                      <a:lnTo>
                        <a:pt x="295" y="219"/>
                      </a:lnTo>
                      <a:lnTo>
                        <a:pt x="299" y="210"/>
                      </a:lnTo>
                      <a:lnTo>
                        <a:pt x="299" y="202"/>
                      </a:lnTo>
                      <a:lnTo>
                        <a:pt x="299" y="197"/>
                      </a:lnTo>
                      <a:lnTo>
                        <a:pt x="295" y="188"/>
                      </a:lnTo>
                      <a:lnTo>
                        <a:pt x="286" y="184"/>
                      </a:lnTo>
                      <a:lnTo>
                        <a:pt x="277" y="184"/>
                      </a:lnTo>
                      <a:lnTo>
                        <a:pt x="268" y="188"/>
                      </a:lnTo>
                      <a:lnTo>
                        <a:pt x="174" y="237"/>
                      </a:lnTo>
                      <a:lnTo>
                        <a:pt x="174" y="170"/>
                      </a:lnTo>
                      <a:lnTo>
                        <a:pt x="246" y="134"/>
                      </a:lnTo>
                      <a:lnTo>
                        <a:pt x="250" y="130"/>
                      </a:lnTo>
                      <a:lnTo>
                        <a:pt x="255" y="121"/>
                      </a:lnTo>
                      <a:lnTo>
                        <a:pt x="255" y="112"/>
                      </a:lnTo>
                      <a:lnTo>
                        <a:pt x="250" y="108"/>
                      </a:lnTo>
                      <a:lnTo>
                        <a:pt x="246" y="103"/>
                      </a:lnTo>
                      <a:lnTo>
                        <a:pt x="237" y="99"/>
                      </a:lnTo>
                      <a:lnTo>
                        <a:pt x="232" y="99"/>
                      </a:lnTo>
                      <a:lnTo>
                        <a:pt x="223" y="99"/>
                      </a:lnTo>
                      <a:lnTo>
                        <a:pt x="174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84360" y="323496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121" y="71"/>
                      </a:moveTo>
                      <a:lnTo>
                        <a:pt x="36" y="22"/>
                      </a:lnTo>
                      <a:lnTo>
                        <a:pt x="27" y="18"/>
                      </a:lnTo>
                      <a:lnTo>
                        <a:pt x="18" y="18"/>
                      </a:lnTo>
                      <a:lnTo>
                        <a:pt x="9" y="22"/>
                      </a:lnTo>
                      <a:lnTo>
                        <a:pt x="5" y="31"/>
                      </a:lnTo>
                      <a:lnTo>
                        <a:pt x="0" y="40"/>
                      </a:lnTo>
                      <a:lnTo>
                        <a:pt x="0" y="49"/>
                      </a:lnTo>
                      <a:lnTo>
                        <a:pt x="5" y="58"/>
                      </a:lnTo>
                      <a:lnTo>
                        <a:pt x="9" y="62"/>
                      </a:lnTo>
                      <a:lnTo>
                        <a:pt x="98" y="116"/>
                      </a:lnTo>
                      <a:lnTo>
                        <a:pt x="54" y="143"/>
                      </a:lnTo>
                      <a:lnTo>
                        <a:pt x="45" y="147"/>
                      </a:lnTo>
                      <a:lnTo>
                        <a:pt x="40" y="156"/>
                      </a:lnTo>
                      <a:lnTo>
                        <a:pt x="40" y="165"/>
                      </a:lnTo>
                      <a:lnTo>
                        <a:pt x="40" y="174"/>
                      </a:lnTo>
                      <a:lnTo>
                        <a:pt x="49" y="178"/>
                      </a:lnTo>
                      <a:lnTo>
                        <a:pt x="54" y="183"/>
                      </a:lnTo>
                      <a:lnTo>
                        <a:pt x="63" y="183"/>
                      </a:lnTo>
                      <a:lnTo>
                        <a:pt x="72" y="183"/>
                      </a:lnTo>
                      <a:lnTo>
                        <a:pt x="139" y="143"/>
                      </a:lnTo>
                      <a:lnTo>
                        <a:pt x="197" y="178"/>
                      </a:lnTo>
                      <a:lnTo>
                        <a:pt x="112" y="223"/>
                      </a:lnTo>
                      <a:lnTo>
                        <a:pt x="103" y="232"/>
                      </a:lnTo>
                      <a:lnTo>
                        <a:pt x="98" y="241"/>
                      </a:lnTo>
                      <a:lnTo>
                        <a:pt x="98" y="246"/>
                      </a:lnTo>
                      <a:lnTo>
                        <a:pt x="98" y="254"/>
                      </a:lnTo>
                      <a:lnTo>
                        <a:pt x="103" y="263"/>
                      </a:lnTo>
                      <a:lnTo>
                        <a:pt x="112" y="268"/>
                      </a:lnTo>
                      <a:lnTo>
                        <a:pt x="121" y="268"/>
                      </a:lnTo>
                      <a:lnTo>
                        <a:pt x="130" y="263"/>
                      </a:lnTo>
                      <a:lnTo>
                        <a:pt x="241" y="201"/>
                      </a:lnTo>
                      <a:lnTo>
                        <a:pt x="366" y="272"/>
                      </a:lnTo>
                      <a:lnTo>
                        <a:pt x="393" y="228"/>
                      </a:lnTo>
                      <a:lnTo>
                        <a:pt x="268" y="156"/>
                      </a:lnTo>
                      <a:lnTo>
                        <a:pt x="268" y="22"/>
                      </a:lnTo>
                      <a:lnTo>
                        <a:pt x="268" y="13"/>
                      </a:lnTo>
                      <a:lnTo>
                        <a:pt x="264" y="9"/>
                      </a:lnTo>
                      <a:lnTo>
                        <a:pt x="255" y="4"/>
                      </a:lnTo>
                      <a:lnTo>
                        <a:pt x="250" y="0"/>
                      </a:lnTo>
                      <a:lnTo>
                        <a:pt x="241" y="0"/>
                      </a:lnTo>
                      <a:lnTo>
                        <a:pt x="232" y="4"/>
                      </a:lnTo>
                      <a:lnTo>
                        <a:pt x="228" y="13"/>
                      </a:lnTo>
                      <a:lnTo>
                        <a:pt x="228" y="22"/>
                      </a:lnTo>
                      <a:lnTo>
                        <a:pt x="223" y="129"/>
                      </a:lnTo>
                      <a:lnTo>
                        <a:pt x="165" y="94"/>
                      </a:lnTo>
                      <a:lnTo>
                        <a:pt x="170" y="18"/>
                      </a:lnTo>
                      <a:lnTo>
                        <a:pt x="165" y="9"/>
                      </a:lnTo>
                      <a:lnTo>
                        <a:pt x="161" y="4"/>
                      </a:lnTo>
                      <a:lnTo>
                        <a:pt x="156" y="0"/>
                      </a:lnTo>
                      <a:lnTo>
                        <a:pt x="148" y="0"/>
                      </a:lnTo>
                      <a:lnTo>
                        <a:pt x="139" y="0"/>
                      </a:lnTo>
                      <a:lnTo>
                        <a:pt x="134" y="4"/>
                      </a:lnTo>
                      <a:lnTo>
                        <a:pt x="130" y="9"/>
                      </a:lnTo>
                      <a:lnTo>
                        <a:pt x="125" y="18"/>
                      </a:lnTo>
                      <a:lnTo>
                        <a:pt x="121" y="7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484360" y="3394080"/>
                  <a:ext cx="276120" cy="19332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98" y="156"/>
                      </a:moveTo>
                      <a:lnTo>
                        <a:pt x="9" y="205"/>
                      </a:lnTo>
                      <a:lnTo>
                        <a:pt x="0" y="214"/>
                      </a:lnTo>
                      <a:lnTo>
                        <a:pt x="0" y="223"/>
                      </a:lnTo>
                      <a:lnTo>
                        <a:pt x="0" y="228"/>
                      </a:lnTo>
                      <a:lnTo>
                        <a:pt x="0" y="237"/>
                      </a:lnTo>
                      <a:lnTo>
                        <a:pt x="9" y="246"/>
                      </a:lnTo>
                      <a:lnTo>
                        <a:pt x="14" y="250"/>
                      </a:lnTo>
                      <a:lnTo>
                        <a:pt x="23" y="250"/>
                      </a:lnTo>
                      <a:lnTo>
                        <a:pt x="36" y="250"/>
                      </a:lnTo>
                      <a:lnTo>
                        <a:pt x="125" y="196"/>
                      </a:lnTo>
                      <a:lnTo>
                        <a:pt x="125" y="250"/>
                      </a:lnTo>
                      <a:lnTo>
                        <a:pt x="125" y="263"/>
                      </a:lnTo>
                      <a:lnTo>
                        <a:pt x="130" y="268"/>
                      </a:lnTo>
                      <a:lnTo>
                        <a:pt x="139" y="272"/>
                      </a:lnTo>
                      <a:lnTo>
                        <a:pt x="143" y="277"/>
                      </a:lnTo>
                      <a:lnTo>
                        <a:pt x="152" y="277"/>
                      </a:lnTo>
                      <a:lnTo>
                        <a:pt x="161" y="272"/>
                      </a:lnTo>
                      <a:lnTo>
                        <a:pt x="165" y="263"/>
                      </a:lnTo>
                      <a:lnTo>
                        <a:pt x="165" y="254"/>
                      </a:lnTo>
                      <a:lnTo>
                        <a:pt x="165" y="178"/>
                      </a:lnTo>
                      <a:lnTo>
                        <a:pt x="223" y="143"/>
                      </a:lnTo>
                      <a:lnTo>
                        <a:pt x="223" y="241"/>
                      </a:lnTo>
                      <a:lnTo>
                        <a:pt x="223" y="250"/>
                      </a:lnTo>
                      <a:lnTo>
                        <a:pt x="228" y="259"/>
                      </a:lnTo>
                      <a:lnTo>
                        <a:pt x="237" y="263"/>
                      </a:lnTo>
                      <a:lnTo>
                        <a:pt x="246" y="268"/>
                      </a:lnTo>
                      <a:lnTo>
                        <a:pt x="255" y="268"/>
                      </a:lnTo>
                      <a:lnTo>
                        <a:pt x="259" y="263"/>
                      </a:lnTo>
                      <a:lnTo>
                        <a:pt x="264" y="254"/>
                      </a:lnTo>
                      <a:lnTo>
                        <a:pt x="268" y="246"/>
                      </a:lnTo>
                      <a:lnTo>
                        <a:pt x="268" y="116"/>
                      </a:lnTo>
                      <a:lnTo>
                        <a:pt x="393" y="44"/>
                      </a:lnTo>
                      <a:lnTo>
                        <a:pt x="366" y="0"/>
                      </a:lnTo>
                      <a:lnTo>
                        <a:pt x="241" y="71"/>
                      </a:lnTo>
                      <a:lnTo>
                        <a:pt x="125" y="4"/>
                      </a:lnTo>
                      <a:lnTo>
                        <a:pt x="121" y="0"/>
                      </a:lnTo>
                      <a:lnTo>
                        <a:pt x="112" y="0"/>
                      </a:lnTo>
                      <a:lnTo>
                        <a:pt x="103" y="4"/>
                      </a:lnTo>
                      <a:lnTo>
                        <a:pt x="98" y="9"/>
                      </a:lnTo>
                      <a:lnTo>
                        <a:pt x="94" y="18"/>
                      </a:lnTo>
                      <a:lnTo>
                        <a:pt x="94" y="26"/>
                      </a:lnTo>
                      <a:lnTo>
                        <a:pt x="98" y="35"/>
                      </a:lnTo>
                      <a:lnTo>
                        <a:pt x="107" y="40"/>
                      </a:lnTo>
                      <a:lnTo>
                        <a:pt x="197" y="98"/>
                      </a:lnTo>
                      <a:lnTo>
                        <a:pt x="139" y="129"/>
                      </a:lnTo>
                      <a:lnTo>
                        <a:pt x="72" y="89"/>
                      </a:lnTo>
                      <a:lnTo>
                        <a:pt x="63" y="85"/>
                      </a:lnTo>
                      <a:lnTo>
                        <a:pt x="58" y="85"/>
                      </a:lnTo>
                      <a:lnTo>
                        <a:pt x="49" y="89"/>
                      </a:lnTo>
                      <a:lnTo>
                        <a:pt x="45" y="98"/>
                      </a:lnTo>
                      <a:lnTo>
                        <a:pt x="45" y="102"/>
                      </a:lnTo>
                      <a:lnTo>
                        <a:pt x="45" y="111"/>
                      </a:lnTo>
                      <a:lnTo>
                        <a:pt x="45" y="120"/>
                      </a:lnTo>
                      <a:lnTo>
                        <a:pt x="54" y="125"/>
                      </a:lnTo>
                      <a:lnTo>
                        <a:pt x="98" y="1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644560" y="3409560"/>
                  <a:ext cx="209880" cy="306000"/>
                </a:xfrm>
                <a:custGeom>
                  <a:avLst/>
                  <a:gdLst/>
                  <a:ahLst/>
                  <a:rect l="l" t="t" r="r" b="b"/>
                  <a:pathLst>
                    <a:path w="299" h="438">
                      <a:moveTo>
                        <a:pt x="125" y="313"/>
                      </a:moveTo>
                      <a:lnTo>
                        <a:pt x="125" y="411"/>
                      </a:lnTo>
                      <a:lnTo>
                        <a:pt x="129" y="425"/>
                      </a:lnTo>
                      <a:lnTo>
                        <a:pt x="134" y="429"/>
                      </a:lnTo>
                      <a:lnTo>
                        <a:pt x="143" y="434"/>
                      </a:lnTo>
                      <a:lnTo>
                        <a:pt x="147" y="438"/>
                      </a:lnTo>
                      <a:lnTo>
                        <a:pt x="156" y="434"/>
                      </a:lnTo>
                      <a:lnTo>
                        <a:pt x="165" y="429"/>
                      </a:lnTo>
                      <a:lnTo>
                        <a:pt x="174" y="425"/>
                      </a:lnTo>
                      <a:lnTo>
                        <a:pt x="174" y="411"/>
                      </a:lnTo>
                      <a:lnTo>
                        <a:pt x="174" y="308"/>
                      </a:lnTo>
                      <a:lnTo>
                        <a:pt x="223" y="335"/>
                      </a:lnTo>
                      <a:lnTo>
                        <a:pt x="232" y="340"/>
                      </a:lnTo>
                      <a:lnTo>
                        <a:pt x="241" y="340"/>
                      </a:lnTo>
                      <a:lnTo>
                        <a:pt x="250" y="335"/>
                      </a:lnTo>
                      <a:lnTo>
                        <a:pt x="254" y="331"/>
                      </a:lnTo>
                      <a:lnTo>
                        <a:pt x="254" y="322"/>
                      </a:lnTo>
                      <a:lnTo>
                        <a:pt x="254" y="317"/>
                      </a:lnTo>
                      <a:lnTo>
                        <a:pt x="254" y="308"/>
                      </a:lnTo>
                      <a:lnTo>
                        <a:pt x="245" y="300"/>
                      </a:lnTo>
                      <a:lnTo>
                        <a:pt x="178" y="264"/>
                      </a:lnTo>
                      <a:lnTo>
                        <a:pt x="178" y="192"/>
                      </a:lnTo>
                      <a:lnTo>
                        <a:pt x="263" y="246"/>
                      </a:lnTo>
                      <a:lnTo>
                        <a:pt x="272" y="250"/>
                      </a:lnTo>
                      <a:lnTo>
                        <a:pt x="281" y="250"/>
                      </a:lnTo>
                      <a:lnTo>
                        <a:pt x="290" y="246"/>
                      </a:lnTo>
                      <a:lnTo>
                        <a:pt x="294" y="241"/>
                      </a:lnTo>
                      <a:lnTo>
                        <a:pt x="299" y="232"/>
                      </a:lnTo>
                      <a:lnTo>
                        <a:pt x="299" y="224"/>
                      </a:lnTo>
                      <a:lnTo>
                        <a:pt x="294" y="215"/>
                      </a:lnTo>
                      <a:lnTo>
                        <a:pt x="285" y="210"/>
                      </a:lnTo>
                      <a:lnTo>
                        <a:pt x="178" y="143"/>
                      </a:lnTo>
                      <a:lnTo>
                        <a:pt x="178" y="0"/>
                      </a:lnTo>
                      <a:lnTo>
                        <a:pt x="125" y="0"/>
                      </a:lnTo>
                      <a:lnTo>
                        <a:pt x="125" y="143"/>
                      </a:lnTo>
                      <a:lnTo>
                        <a:pt x="9" y="210"/>
                      </a:lnTo>
                      <a:lnTo>
                        <a:pt x="4" y="215"/>
                      </a:lnTo>
                      <a:lnTo>
                        <a:pt x="0" y="224"/>
                      </a:lnTo>
                      <a:lnTo>
                        <a:pt x="0" y="232"/>
                      </a:lnTo>
                      <a:lnTo>
                        <a:pt x="0" y="237"/>
                      </a:lnTo>
                      <a:lnTo>
                        <a:pt x="4" y="246"/>
                      </a:lnTo>
                      <a:lnTo>
                        <a:pt x="13" y="250"/>
                      </a:lnTo>
                      <a:lnTo>
                        <a:pt x="22" y="250"/>
                      </a:lnTo>
                      <a:lnTo>
                        <a:pt x="31" y="246"/>
                      </a:lnTo>
                      <a:lnTo>
                        <a:pt x="125" y="197"/>
                      </a:lnTo>
                      <a:lnTo>
                        <a:pt x="125" y="264"/>
                      </a:lnTo>
                      <a:lnTo>
                        <a:pt x="53" y="300"/>
                      </a:lnTo>
                      <a:lnTo>
                        <a:pt x="49" y="304"/>
                      </a:lnTo>
                      <a:lnTo>
                        <a:pt x="44" y="313"/>
                      </a:lnTo>
                      <a:lnTo>
                        <a:pt x="44" y="322"/>
                      </a:lnTo>
                      <a:lnTo>
                        <a:pt x="49" y="326"/>
                      </a:lnTo>
                      <a:lnTo>
                        <a:pt x="53" y="331"/>
                      </a:lnTo>
                      <a:lnTo>
                        <a:pt x="62" y="335"/>
                      </a:lnTo>
                      <a:lnTo>
                        <a:pt x="67" y="335"/>
                      </a:lnTo>
                      <a:lnTo>
                        <a:pt x="76" y="335"/>
                      </a:lnTo>
                      <a:lnTo>
                        <a:pt x="125" y="3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741400" y="339408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272" y="201"/>
                      </a:moveTo>
                      <a:lnTo>
                        <a:pt x="357" y="250"/>
                      </a:lnTo>
                      <a:lnTo>
                        <a:pt x="366" y="254"/>
                      </a:lnTo>
                      <a:lnTo>
                        <a:pt x="375" y="254"/>
                      </a:lnTo>
                      <a:lnTo>
                        <a:pt x="384" y="250"/>
                      </a:lnTo>
                      <a:lnTo>
                        <a:pt x="388" y="241"/>
                      </a:lnTo>
                      <a:lnTo>
                        <a:pt x="393" y="232"/>
                      </a:lnTo>
                      <a:lnTo>
                        <a:pt x="393" y="223"/>
                      </a:lnTo>
                      <a:lnTo>
                        <a:pt x="388" y="214"/>
                      </a:lnTo>
                      <a:lnTo>
                        <a:pt x="384" y="210"/>
                      </a:lnTo>
                      <a:lnTo>
                        <a:pt x="295" y="156"/>
                      </a:lnTo>
                      <a:lnTo>
                        <a:pt x="339" y="129"/>
                      </a:lnTo>
                      <a:lnTo>
                        <a:pt x="348" y="125"/>
                      </a:lnTo>
                      <a:lnTo>
                        <a:pt x="353" y="116"/>
                      </a:lnTo>
                      <a:lnTo>
                        <a:pt x="353" y="107"/>
                      </a:lnTo>
                      <a:lnTo>
                        <a:pt x="353" y="98"/>
                      </a:lnTo>
                      <a:lnTo>
                        <a:pt x="344" y="94"/>
                      </a:lnTo>
                      <a:lnTo>
                        <a:pt x="339" y="89"/>
                      </a:lnTo>
                      <a:lnTo>
                        <a:pt x="330" y="89"/>
                      </a:lnTo>
                      <a:lnTo>
                        <a:pt x="321" y="89"/>
                      </a:lnTo>
                      <a:lnTo>
                        <a:pt x="254" y="129"/>
                      </a:lnTo>
                      <a:lnTo>
                        <a:pt x="196" y="94"/>
                      </a:lnTo>
                      <a:lnTo>
                        <a:pt x="281" y="49"/>
                      </a:lnTo>
                      <a:lnTo>
                        <a:pt x="290" y="40"/>
                      </a:lnTo>
                      <a:lnTo>
                        <a:pt x="295" y="31"/>
                      </a:lnTo>
                      <a:lnTo>
                        <a:pt x="295" y="26"/>
                      </a:lnTo>
                      <a:lnTo>
                        <a:pt x="295" y="18"/>
                      </a:lnTo>
                      <a:lnTo>
                        <a:pt x="290" y="9"/>
                      </a:lnTo>
                      <a:lnTo>
                        <a:pt x="281" y="4"/>
                      </a:lnTo>
                      <a:lnTo>
                        <a:pt x="272" y="4"/>
                      </a:lnTo>
                      <a:lnTo>
                        <a:pt x="263" y="9"/>
                      </a:lnTo>
                      <a:lnTo>
                        <a:pt x="152" y="71"/>
                      </a:lnTo>
                      <a:lnTo>
                        <a:pt x="27" y="0"/>
                      </a:lnTo>
                      <a:lnTo>
                        <a:pt x="0" y="44"/>
                      </a:lnTo>
                      <a:lnTo>
                        <a:pt x="125" y="116"/>
                      </a:lnTo>
                      <a:lnTo>
                        <a:pt x="125" y="250"/>
                      </a:lnTo>
                      <a:lnTo>
                        <a:pt x="125" y="259"/>
                      </a:lnTo>
                      <a:lnTo>
                        <a:pt x="129" y="263"/>
                      </a:lnTo>
                      <a:lnTo>
                        <a:pt x="138" y="268"/>
                      </a:lnTo>
                      <a:lnTo>
                        <a:pt x="143" y="272"/>
                      </a:lnTo>
                      <a:lnTo>
                        <a:pt x="152" y="272"/>
                      </a:lnTo>
                      <a:lnTo>
                        <a:pt x="161" y="268"/>
                      </a:lnTo>
                      <a:lnTo>
                        <a:pt x="165" y="259"/>
                      </a:lnTo>
                      <a:lnTo>
                        <a:pt x="165" y="250"/>
                      </a:lnTo>
                      <a:lnTo>
                        <a:pt x="170" y="143"/>
                      </a:lnTo>
                      <a:lnTo>
                        <a:pt x="228" y="178"/>
                      </a:lnTo>
                      <a:lnTo>
                        <a:pt x="223" y="254"/>
                      </a:lnTo>
                      <a:lnTo>
                        <a:pt x="228" y="263"/>
                      </a:lnTo>
                      <a:lnTo>
                        <a:pt x="232" y="268"/>
                      </a:lnTo>
                      <a:lnTo>
                        <a:pt x="237" y="272"/>
                      </a:lnTo>
                      <a:lnTo>
                        <a:pt x="245" y="272"/>
                      </a:lnTo>
                      <a:lnTo>
                        <a:pt x="254" y="272"/>
                      </a:lnTo>
                      <a:lnTo>
                        <a:pt x="259" y="268"/>
                      </a:lnTo>
                      <a:lnTo>
                        <a:pt x="263" y="263"/>
                      </a:lnTo>
                      <a:lnTo>
                        <a:pt x="268" y="254"/>
                      </a:lnTo>
                      <a:lnTo>
                        <a:pt x="272" y="2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741400" y="3231360"/>
                  <a:ext cx="276120" cy="19332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295" y="121"/>
                      </a:moveTo>
                      <a:lnTo>
                        <a:pt x="384" y="72"/>
                      </a:lnTo>
                      <a:lnTo>
                        <a:pt x="393" y="63"/>
                      </a:lnTo>
                      <a:lnTo>
                        <a:pt x="393" y="54"/>
                      </a:lnTo>
                      <a:lnTo>
                        <a:pt x="393" y="49"/>
                      </a:lnTo>
                      <a:lnTo>
                        <a:pt x="393" y="40"/>
                      </a:lnTo>
                      <a:lnTo>
                        <a:pt x="384" y="31"/>
                      </a:lnTo>
                      <a:lnTo>
                        <a:pt x="379" y="27"/>
                      </a:lnTo>
                      <a:lnTo>
                        <a:pt x="370" y="27"/>
                      </a:lnTo>
                      <a:lnTo>
                        <a:pt x="357" y="27"/>
                      </a:lnTo>
                      <a:lnTo>
                        <a:pt x="268" y="81"/>
                      </a:lnTo>
                      <a:lnTo>
                        <a:pt x="268" y="27"/>
                      </a:lnTo>
                      <a:lnTo>
                        <a:pt x="268" y="14"/>
                      </a:lnTo>
                      <a:lnTo>
                        <a:pt x="263" y="9"/>
                      </a:lnTo>
                      <a:lnTo>
                        <a:pt x="254" y="5"/>
                      </a:lnTo>
                      <a:lnTo>
                        <a:pt x="250" y="0"/>
                      </a:lnTo>
                      <a:lnTo>
                        <a:pt x="241" y="5"/>
                      </a:lnTo>
                      <a:lnTo>
                        <a:pt x="232" y="5"/>
                      </a:lnTo>
                      <a:lnTo>
                        <a:pt x="228" y="14"/>
                      </a:lnTo>
                      <a:lnTo>
                        <a:pt x="228" y="23"/>
                      </a:lnTo>
                      <a:lnTo>
                        <a:pt x="228" y="99"/>
                      </a:lnTo>
                      <a:lnTo>
                        <a:pt x="170" y="134"/>
                      </a:lnTo>
                      <a:lnTo>
                        <a:pt x="170" y="36"/>
                      </a:lnTo>
                      <a:lnTo>
                        <a:pt x="170" y="27"/>
                      </a:lnTo>
                      <a:lnTo>
                        <a:pt x="165" y="18"/>
                      </a:lnTo>
                      <a:lnTo>
                        <a:pt x="156" y="14"/>
                      </a:lnTo>
                      <a:lnTo>
                        <a:pt x="147" y="9"/>
                      </a:lnTo>
                      <a:lnTo>
                        <a:pt x="138" y="9"/>
                      </a:lnTo>
                      <a:lnTo>
                        <a:pt x="134" y="14"/>
                      </a:lnTo>
                      <a:lnTo>
                        <a:pt x="129" y="23"/>
                      </a:lnTo>
                      <a:lnTo>
                        <a:pt x="125" y="31"/>
                      </a:lnTo>
                      <a:lnTo>
                        <a:pt x="125" y="161"/>
                      </a:lnTo>
                      <a:lnTo>
                        <a:pt x="0" y="233"/>
                      </a:lnTo>
                      <a:lnTo>
                        <a:pt x="27" y="277"/>
                      </a:lnTo>
                      <a:lnTo>
                        <a:pt x="152" y="206"/>
                      </a:lnTo>
                      <a:lnTo>
                        <a:pt x="268" y="273"/>
                      </a:lnTo>
                      <a:lnTo>
                        <a:pt x="272" y="277"/>
                      </a:lnTo>
                      <a:lnTo>
                        <a:pt x="281" y="277"/>
                      </a:lnTo>
                      <a:lnTo>
                        <a:pt x="290" y="273"/>
                      </a:lnTo>
                      <a:lnTo>
                        <a:pt x="295" y="268"/>
                      </a:lnTo>
                      <a:lnTo>
                        <a:pt x="299" y="259"/>
                      </a:lnTo>
                      <a:lnTo>
                        <a:pt x="299" y="251"/>
                      </a:lnTo>
                      <a:lnTo>
                        <a:pt x="295" y="242"/>
                      </a:lnTo>
                      <a:lnTo>
                        <a:pt x="286" y="237"/>
                      </a:lnTo>
                      <a:lnTo>
                        <a:pt x="196" y="179"/>
                      </a:lnTo>
                      <a:lnTo>
                        <a:pt x="254" y="148"/>
                      </a:lnTo>
                      <a:lnTo>
                        <a:pt x="321" y="188"/>
                      </a:lnTo>
                      <a:lnTo>
                        <a:pt x="330" y="192"/>
                      </a:lnTo>
                      <a:lnTo>
                        <a:pt x="335" y="192"/>
                      </a:lnTo>
                      <a:lnTo>
                        <a:pt x="344" y="188"/>
                      </a:lnTo>
                      <a:lnTo>
                        <a:pt x="348" y="179"/>
                      </a:lnTo>
                      <a:lnTo>
                        <a:pt x="348" y="175"/>
                      </a:lnTo>
                      <a:lnTo>
                        <a:pt x="348" y="166"/>
                      </a:lnTo>
                      <a:lnTo>
                        <a:pt x="348" y="157"/>
                      </a:lnTo>
                      <a:lnTo>
                        <a:pt x="339" y="152"/>
                      </a:lnTo>
                      <a:lnTo>
                        <a:pt x="295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660040" y="3331440"/>
                  <a:ext cx="184680" cy="159120"/>
                </a:xfrm>
                <a:custGeom>
                  <a:avLst/>
                  <a:gdLst/>
                  <a:ahLst/>
                  <a:rect l="l" t="t" r="r" b="b"/>
                  <a:pathLst>
                    <a:path w="263" h="228">
                      <a:moveTo>
                        <a:pt x="0" y="116"/>
                      </a:moveTo>
                      <a:lnTo>
                        <a:pt x="49" y="67"/>
                      </a:lnTo>
                      <a:lnTo>
                        <a:pt x="67" y="0"/>
                      </a:lnTo>
                      <a:lnTo>
                        <a:pt x="134" y="23"/>
                      </a:lnTo>
                      <a:lnTo>
                        <a:pt x="201" y="0"/>
                      </a:lnTo>
                      <a:lnTo>
                        <a:pt x="214" y="67"/>
                      </a:lnTo>
                      <a:lnTo>
                        <a:pt x="263" y="116"/>
                      </a:lnTo>
                      <a:lnTo>
                        <a:pt x="214" y="161"/>
                      </a:lnTo>
                      <a:lnTo>
                        <a:pt x="201" y="228"/>
                      </a:lnTo>
                      <a:lnTo>
                        <a:pt x="134" y="210"/>
                      </a:lnTo>
                      <a:lnTo>
                        <a:pt x="67" y="228"/>
                      </a:lnTo>
                      <a:lnTo>
                        <a:pt x="49" y="16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3323160" y="3106440"/>
                <a:ext cx="2676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lick to add 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017880" y="3563280"/>
                <a:ext cx="3276360" cy="0"/>
              </a:xfrm>
              <a:prstGeom prst="line">
                <a:avLst/>
              </a:prstGeom>
              <a:ln w="9360">
                <a:solidFill>
                  <a:srgbClr val="7ba6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2484360" y="3868560"/>
              <a:ext cx="3809880" cy="609120"/>
              <a:chOff x="2484360" y="3868560"/>
              <a:chExt cx="3809880" cy="60912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2484360" y="3868560"/>
                <a:ext cx="533160" cy="609120"/>
                <a:chOff x="2484360" y="3868560"/>
                <a:chExt cx="533160" cy="6091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2647440" y="3868560"/>
                  <a:ext cx="210240" cy="303120"/>
                </a:xfrm>
                <a:custGeom>
                  <a:avLst/>
                  <a:gdLst/>
                  <a:ahLst/>
                  <a:rect l="l" t="t" r="r" b="b"/>
                  <a:pathLst>
                    <a:path w="299" h="434">
                      <a:moveTo>
                        <a:pt x="174" y="121"/>
                      </a:moveTo>
                      <a:lnTo>
                        <a:pt x="174" y="23"/>
                      </a:lnTo>
                      <a:lnTo>
                        <a:pt x="170" y="9"/>
                      </a:lnTo>
                      <a:lnTo>
                        <a:pt x="165" y="5"/>
                      </a:lnTo>
                      <a:lnTo>
                        <a:pt x="156" y="0"/>
                      </a:lnTo>
                      <a:lnTo>
                        <a:pt x="152" y="0"/>
                      </a:lnTo>
                      <a:lnTo>
                        <a:pt x="143" y="0"/>
                      </a:lnTo>
                      <a:lnTo>
                        <a:pt x="134" y="5"/>
                      </a:lnTo>
                      <a:lnTo>
                        <a:pt x="125" y="9"/>
                      </a:lnTo>
                      <a:lnTo>
                        <a:pt x="125" y="23"/>
                      </a:lnTo>
                      <a:lnTo>
                        <a:pt x="125" y="126"/>
                      </a:lnTo>
                      <a:lnTo>
                        <a:pt x="76" y="99"/>
                      </a:lnTo>
                      <a:lnTo>
                        <a:pt x="67" y="94"/>
                      </a:lnTo>
                      <a:lnTo>
                        <a:pt x="58" y="94"/>
                      </a:lnTo>
                      <a:lnTo>
                        <a:pt x="49" y="99"/>
                      </a:lnTo>
                      <a:lnTo>
                        <a:pt x="45" y="103"/>
                      </a:lnTo>
                      <a:lnTo>
                        <a:pt x="40" y="112"/>
                      </a:lnTo>
                      <a:lnTo>
                        <a:pt x="45" y="117"/>
                      </a:lnTo>
                      <a:lnTo>
                        <a:pt x="45" y="126"/>
                      </a:lnTo>
                      <a:lnTo>
                        <a:pt x="54" y="134"/>
                      </a:lnTo>
                      <a:lnTo>
                        <a:pt x="121" y="170"/>
                      </a:lnTo>
                      <a:lnTo>
                        <a:pt x="121" y="242"/>
                      </a:lnTo>
                      <a:lnTo>
                        <a:pt x="36" y="188"/>
                      </a:lnTo>
                      <a:lnTo>
                        <a:pt x="27" y="184"/>
                      </a:lnTo>
                      <a:lnTo>
                        <a:pt x="18" y="184"/>
                      </a:lnTo>
                      <a:lnTo>
                        <a:pt x="9" y="188"/>
                      </a:lnTo>
                      <a:lnTo>
                        <a:pt x="5" y="193"/>
                      </a:lnTo>
                      <a:lnTo>
                        <a:pt x="0" y="202"/>
                      </a:lnTo>
                      <a:lnTo>
                        <a:pt x="0" y="210"/>
                      </a:lnTo>
                      <a:lnTo>
                        <a:pt x="5" y="219"/>
                      </a:lnTo>
                      <a:lnTo>
                        <a:pt x="14" y="224"/>
                      </a:lnTo>
                      <a:lnTo>
                        <a:pt x="121" y="291"/>
                      </a:lnTo>
                      <a:lnTo>
                        <a:pt x="121" y="434"/>
                      </a:lnTo>
                      <a:lnTo>
                        <a:pt x="174" y="434"/>
                      </a:lnTo>
                      <a:lnTo>
                        <a:pt x="174" y="291"/>
                      </a:lnTo>
                      <a:lnTo>
                        <a:pt x="290" y="224"/>
                      </a:lnTo>
                      <a:lnTo>
                        <a:pt x="295" y="219"/>
                      </a:lnTo>
                      <a:lnTo>
                        <a:pt x="299" y="210"/>
                      </a:lnTo>
                      <a:lnTo>
                        <a:pt x="299" y="202"/>
                      </a:lnTo>
                      <a:lnTo>
                        <a:pt x="299" y="197"/>
                      </a:lnTo>
                      <a:lnTo>
                        <a:pt x="295" y="188"/>
                      </a:lnTo>
                      <a:lnTo>
                        <a:pt x="286" y="184"/>
                      </a:lnTo>
                      <a:lnTo>
                        <a:pt x="277" y="184"/>
                      </a:lnTo>
                      <a:lnTo>
                        <a:pt x="268" y="188"/>
                      </a:lnTo>
                      <a:lnTo>
                        <a:pt x="174" y="237"/>
                      </a:lnTo>
                      <a:lnTo>
                        <a:pt x="174" y="170"/>
                      </a:lnTo>
                      <a:lnTo>
                        <a:pt x="246" y="134"/>
                      </a:lnTo>
                      <a:lnTo>
                        <a:pt x="250" y="130"/>
                      </a:lnTo>
                      <a:lnTo>
                        <a:pt x="255" y="121"/>
                      </a:lnTo>
                      <a:lnTo>
                        <a:pt x="255" y="112"/>
                      </a:lnTo>
                      <a:lnTo>
                        <a:pt x="250" y="108"/>
                      </a:lnTo>
                      <a:lnTo>
                        <a:pt x="246" y="103"/>
                      </a:lnTo>
                      <a:lnTo>
                        <a:pt x="237" y="99"/>
                      </a:lnTo>
                      <a:lnTo>
                        <a:pt x="232" y="99"/>
                      </a:lnTo>
                      <a:lnTo>
                        <a:pt x="223" y="99"/>
                      </a:lnTo>
                      <a:lnTo>
                        <a:pt x="174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8f3c8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484360" y="399708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121" y="71"/>
                      </a:moveTo>
                      <a:lnTo>
                        <a:pt x="36" y="22"/>
                      </a:lnTo>
                      <a:lnTo>
                        <a:pt x="27" y="18"/>
                      </a:lnTo>
                      <a:lnTo>
                        <a:pt x="18" y="18"/>
                      </a:lnTo>
                      <a:lnTo>
                        <a:pt x="9" y="22"/>
                      </a:lnTo>
                      <a:lnTo>
                        <a:pt x="5" y="31"/>
                      </a:lnTo>
                      <a:lnTo>
                        <a:pt x="0" y="40"/>
                      </a:lnTo>
                      <a:lnTo>
                        <a:pt x="0" y="49"/>
                      </a:lnTo>
                      <a:lnTo>
                        <a:pt x="5" y="58"/>
                      </a:lnTo>
                      <a:lnTo>
                        <a:pt x="9" y="62"/>
                      </a:lnTo>
                      <a:lnTo>
                        <a:pt x="98" y="116"/>
                      </a:lnTo>
                      <a:lnTo>
                        <a:pt x="54" y="143"/>
                      </a:lnTo>
                      <a:lnTo>
                        <a:pt x="45" y="147"/>
                      </a:lnTo>
                      <a:lnTo>
                        <a:pt x="40" y="156"/>
                      </a:lnTo>
                      <a:lnTo>
                        <a:pt x="40" y="165"/>
                      </a:lnTo>
                      <a:lnTo>
                        <a:pt x="40" y="174"/>
                      </a:lnTo>
                      <a:lnTo>
                        <a:pt x="49" y="178"/>
                      </a:lnTo>
                      <a:lnTo>
                        <a:pt x="54" y="183"/>
                      </a:lnTo>
                      <a:lnTo>
                        <a:pt x="63" y="183"/>
                      </a:lnTo>
                      <a:lnTo>
                        <a:pt x="72" y="183"/>
                      </a:lnTo>
                      <a:lnTo>
                        <a:pt x="139" y="143"/>
                      </a:lnTo>
                      <a:lnTo>
                        <a:pt x="197" y="178"/>
                      </a:lnTo>
                      <a:lnTo>
                        <a:pt x="112" y="223"/>
                      </a:lnTo>
                      <a:lnTo>
                        <a:pt x="103" y="232"/>
                      </a:lnTo>
                      <a:lnTo>
                        <a:pt x="98" y="241"/>
                      </a:lnTo>
                      <a:lnTo>
                        <a:pt x="98" y="246"/>
                      </a:lnTo>
                      <a:lnTo>
                        <a:pt x="98" y="254"/>
                      </a:lnTo>
                      <a:lnTo>
                        <a:pt x="103" y="263"/>
                      </a:lnTo>
                      <a:lnTo>
                        <a:pt x="112" y="268"/>
                      </a:lnTo>
                      <a:lnTo>
                        <a:pt x="121" y="268"/>
                      </a:lnTo>
                      <a:lnTo>
                        <a:pt x="130" y="263"/>
                      </a:lnTo>
                      <a:lnTo>
                        <a:pt x="241" y="201"/>
                      </a:lnTo>
                      <a:lnTo>
                        <a:pt x="366" y="272"/>
                      </a:lnTo>
                      <a:lnTo>
                        <a:pt x="393" y="228"/>
                      </a:lnTo>
                      <a:lnTo>
                        <a:pt x="268" y="156"/>
                      </a:lnTo>
                      <a:lnTo>
                        <a:pt x="268" y="22"/>
                      </a:lnTo>
                      <a:lnTo>
                        <a:pt x="268" y="13"/>
                      </a:lnTo>
                      <a:lnTo>
                        <a:pt x="264" y="9"/>
                      </a:lnTo>
                      <a:lnTo>
                        <a:pt x="255" y="4"/>
                      </a:lnTo>
                      <a:lnTo>
                        <a:pt x="250" y="0"/>
                      </a:lnTo>
                      <a:lnTo>
                        <a:pt x="241" y="0"/>
                      </a:lnTo>
                      <a:lnTo>
                        <a:pt x="232" y="4"/>
                      </a:lnTo>
                      <a:lnTo>
                        <a:pt x="228" y="13"/>
                      </a:lnTo>
                      <a:lnTo>
                        <a:pt x="228" y="22"/>
                      </a:lnTo>
                      <a:lnTo>
                        <a:pt x="223" y="129"/>
                      </a:lnTo>
                      <a:lnTo>
                        <a:pt x="165" y="94"/>
                      </a:lnTo>
                      <a:lnTo>
                        <a:pt x="170" y="18"/>
                      </a:lnTo>
                      <a:lnTo>
                        <a:pt x="165" y="9"/>
                      </a:lnTo>
                      <a:lnTo>
                        <a:pt x="161" y="4"/>
                      </a:lnTo>
                      <a:lnTo>
                        <a:pt x="156" y="0"/>
                      </a:lnTo>
                      <a:lnTo>
                        <a:pt x="148" y="0"/>
                      </a:lnTo>
                      <a:lnTo>
                        <a:pt x="139" y="0"/>
                      </a:lnTo>
                      <a:lnTo>
                        <a:pt x="134" y="4"/>
                      </a:lnTo>
                      <a:lnTo>
                        <a:pt x="130" y="9"/>
                      </a:lnTo>
                      <a:lnTo>
                        <a:pt x="125" y="18"/>
                      </a:lnTo>
                      <a:lnTo>
                        <a:pt x="121" y="7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8f3c8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484360" y="4156200"/>
                  <a:ext cx="276120" cy="19332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98" y="156"/>
                      </a:moveTo>
                      <a:lnTo>
                        <a:pt x="9" y="205"/>
                      </a:lnTo>
                      <a:lnTo>
                        <a:pt x="0" y="214"/>
                      </a:lnTo>
                      <a:lnTo>
                        <a:pt x="0" y="223"/>
                      </a:lnTo>
                      <a:lnTo>
                        <a:pt x="0" y="228"/>
                      </a:lnTo>
                      <a:lnTo>
                        <a:pt x="0" y="237"/>
                      </a:lnTo>
                      <a:lnTo>
                        <a:pt x="9" y="246"/>
                      </a:lnTo>
                      <a:lnTo>
                        <a:pt x="14" y="250"/>
                      </a:lnTo>
                      <a:lnTo>
                        <a:pt x="23" y="250"/>
                      </a:lnTo>
                      <a:lnTo>
                        <a:pt x="36" y="250"/>
                      </a:lnTo>
                      <a:lnTo>
                        <a:pt x="125" y="196"/>
                      </a:lnTo>
                      <a:lnTo>
                        <a:pt x="125" y="250"/>
                      </a:lnTo>
                      <a:lnTo>
                        <a:pt x="125" y="263"/>
                      </a:lnTo>
                      <a:lnTo>
                        <a:pt x="130" y="268"/>
                      </a:lnTo>
                      <a:lnTo>
                        <a:pt x="139" y="272"/>
                      </a:lnTo>
                      <a:lnTo>
                        <a:pt x="143" y="277"/>
                      </a:lnTo>
                      <a:lnTo>
                        <a:pt x="152" y="277"/>
                      </a:lnTo>
                      <a:lnTo>
                        <a:pt x="161" y="272"/>
                      </a:lnTo>
                      <a:lnTo>
                        <a:pt x="165" y="263"/>
                      </a:lnTo>
                      <a:lnTo>
                        <a:pt x="165" y="254"/>
                      </a:lnTo>
                      <a:lnTo>
                        <a:pt x="165" y="178"/>
                      </a:lnTo>
                      <a:lnTo>
                        <a:pt x="223" y="143"/>
                      </a:lnTo>
                      <a:lnTo>
                        <a:pt x="223" y="241"/>
                      </a:lnTo>
                      <a:lnTo>
                        <a:pt x="223" y="250"/>
                      </a:lnTo>
                      <a:lnTo>
                        <a:pt x="228" y="259"/>
                      </a:lnTo>
                      <a:lnTo>
                        <a:pt x="237" y="263"/>
                      </a:lnTo>
                      <a:lnTo>
                        <a:pt x="246" y="268"/>
                      </a:lnTo>
                      <a:lnTo>
                        <a:pt x="255" y="268"/>
                      </a:lnTo>
                      <a:lnTo>
                        <a:pt x="259" y="263"/>
                      </a:lnTo>
                      <a:lnTo>
                        <a:pt x="264" y="254"/>
                      </a:lnTo>
                      <a:lnTo>
                        <a:pt x="268" y="246"/>
                      </a:lnTo>
                      <a:lnTo>
                        <a:pt x="268" y="116"/>
                      </a:lnTo>
                      <a:lnTo>
                        <a:pt x="393" y="44"/>
                      </a:lnTo>
                      <a:lnTo>
                        <a:pt x="366" y="0"/>
                      </a:lnTo>
                      <a:lnTo>
                        <a:pt x="241" y="71"/>
                      </a:lnTo>
                      <a:lnTo>
                        <a:pt x="125" y="4"/>
                      </a:lnTo>
                      <a:lnTo>
                        <a:pt x="121" y="0"/>
                      </a:lnTo>
                      <a:lnTo>
                        <a:pt x="112" y="0"/>
                      </a:lnTo>
                      <a:lnTo>
                        <a:pt x="103" y="4"/>
                      </a:lnTo>
                      <a:lnTo>
                        <a:pt x="98" y="9"/>
                      </a:lnTo>
                      <a:lnTo>
                        <a:pt x="94" y="18"/>
                      </a:lnTo>
                      <a:lnTo>
                        <a:pt x="94" y="26"/>
                      </a:lnTo>
                      <a:lnTo>
                        <a:pt x="98" y="35"/>
                      </a:lnTo>
                      <a:lnTo>
                        <a:pt x="107" y="40"/>
                      </a:lnTo>
                      <a:lnTo>
                        <a:pt x="197" y="98"/>
                      </a:lnTo>
                      <a:lnTo>
                        <a:pt x="139" y="129"/>
                      </a:lnTo>
                      <a:lnTo>
                        <a:pt x="72" y="89"/>
                      </a:lnTo>
                      <a:lnTo>
                        <a:pt x="63" y="85"/>
                      </a:lnTo>
                      <a:lnTo>
                        <a:pt x="58" y="85"/>
                      </a:lnTo>
                      <a:lnTo>
                        <a:pt x="49" y="89"/>
                      </a:lnTo>
                      <a:lnTo>
                        <a:pt x="45" y="98"/>
                      </a:lnTo>
                      <a:lnTo>
                        <a:pt x="45" y="102"/>
                      </a:lnTo>
                      <a:lnTo>
                        <a:pt x="45" y="111"/>
                      </a:lnTo>
                      <a:lnTo>
                        <a:pt x="45" y="120"/>
                      </a:lnTo>
                      <a:lnTo>
                        <a:pt x="54" y="125"/>
                      </a:lnTo>
                      <a:lnTo>
                        <a:pt x="98" y="1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8f3c8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644560" y="4171680"/>
                  <a:ext cx="209880" cy="306000"/>
                </a:xfrm>
                <a:custGeom>
                  <a:avLst/>
                  <a:gdLst/>
                  <a:ahLst/>
                  <a:rect l="l" t="t" r="r" b="b"/>
                  <a:pathLst>
                    <a:path w="299" h="438">
                      <a:moveTo>
                        <a:pt x="125" y="313"/>
                      </a:moveTo>
                      <a:lnTo>
                        <a:pt x="125" y="411"/>
                      </a:lnTo>
                      <a:lnTo>
                        <a:pt x="129" y="425"/>
                      </a:lnTo>
                      <a:lnTo>
                        <a:pt x="134" y="429"/>
                      </a:lnTo>
                      <a:lnTo>
                        <a:pt x="143" y="434"/>
                      </a:lnTo>
                      <a:lnTo>
                        <a:pt x="147" y="438"/>
                      </a:lnTo>
                      <a:lnTo>
                        <a:pt x="156" y="434"/>
                      </a:lnTo>
                      <a:lnTo>
                        <a:pt x="165" y="429"/>
                      </a:lnTo>
                      <a:lnTo>
                        <a:pt x="174" y="425"/>
                      </a:lnTo>
                      <a:lnTo>
                        <a:pt x="174" y="411"/>
                      </a:lnTo>
                      <a:lnTo>
                        <a:pt x="174" y="308"/>
                      </a:lnTo>
                      <a:lnTo>
                        <a:pt x="223" y="335"/>
                      </a:lnTo>
                      <a:lnTo>
                        <a:pt x="232" y="340"/>
                      </a:lnTo>
                      <a:lnTo>
                        <a:pt x="241" y="340"/>
                      </a:lnTo>
                      <a:lnTo>
                        <a:pt x="250" y="335"/>
                      </a:lnTo>
                      <a:lnTo>
                        <a:pt x="254" y="331"/>
                      </a:lnTo>
                      <a:lnTo>
                        <a:pt x="254" y="322"/>
                      </a:lnTo>
                      <a:lnTo>
                        <a:pt x="254" y="317"/>
                      </a:lnTo>
                      <a:lnTo>
                        <a:pt x="254" y="308"/>
                      </a:lnTo>
                      <a:lnTo>
                        <a:pt x="245" y="300"/>
                      </a:lnTo>
                      <a:lnTo>
                        <a:pt x="178" y="264"/>
                      </a:lnTo>
                      <a:lnTo>
                        <a:pt x="178" y="192"/>
                      </a:lnTo>
                      <a:lnTo>
                        <a:pt x="263" y="246"/>
                      </a:lnTo>
                      <a:lnTo>
                        <a:pt x="272" y="250"/>
                      </a:lnTo>
                      <a:lnTo>
                        <a:pt x="281" y="250"/>
                      </a:lnTo>
                      <a:lnTo>
                        <a:pt x="290" y="246"/>
                      </a:lnTo>
                      <a:lnTo>
                        <a:pt x="294" y="241"/>
                      </a:lnTo>
                      <a:lnTo>
                        <a:pt x="299" y="232"/>
                      </a:lnTo>
                      <a:lnTo>
                        <a:pt x="299" y="224"/>
                      </a:lnTo>
                      <a:lnTo>
                        <a:pt x="294" y="215"/>
                      </a:lnTo>
                      <a:lnTo>
                        <a:pt x="285" y="210"/>
                      </a:lnTo>
                      <a:lnTo>
                        <a:pt x="178" y="143"/>
                      </a:lnTo>
                      <a:lnTo>
                        <a:pt x="178" y="0"/>
                      </a:lnTo>
                      <a:lnTo>
                        <a:pt x="125" y="0"/>
                      </a:lnTo>
                      <a:lnTo>
                        <a:pt x="125" y="143"/>
                      </a:lnTo>
                      <a:lnTo>
                        <a:pt x="9" y="210"/>
                      </a:lnTo>
                      <a:lnTo>
                        <a:pt x="4" y="215"/>
                      </a:lnTo>
                      <a:lnTo>
                        <a:pt x="0" y="224"/>
                      </a:lnTo>
                      <a:lnTo>
                        <a:pt x="0" y="232"/>
                      </a:lnTo>
                      <a:lnTo>
                        <a:pt x="0" y="237"/>
                      </a:lnTo>
                      <a:lnTo>
                        <a:pt x="4" y="246"/>
                      </a:lnTo>
                      <a:lnTo>
                        <a:pt x="13" y="250"/>
                      </a:lnTo>
                      <a:lnTo>
                        <a:pt x="22" y="250"/>
                      </a:lnTo>
                      <a:lnTo>
                        <a:pt x="31" y="246"/>
                      </a:lnTo>
                      <a:lnTo>
                        <a:pt x="125" y="197"/>
                      </a:lnTo>
                      <a:lnTo>
                        <a:pt x="125" y="264"/>
                      </a:lnTo>
                      <a:lnTo>
                        <a:pt x="53" y="300"/>
                      </a:lnTo>
                      <a:lnTo>
                        <a:pt x="49" y="304"/>
                      </a:lnTo>
                      <a:lnTo>
                        <a:pt x="44" y="313"/>
                      </a:lnTo>
                      <a:lnTo>
                        <a:pt x="44" y="322"/>
                      </a:lnTo>
                      <a:lnTo>
                        <a:pt x="49" y="326"/>
                      </a:lnTo>
                      <a:lnTo>
                        <a:pt x="53" y="331"/>
                      </a:lnTo>
                      <a:lnTo>
                        <a:pt x="62" y="335"/>
                      </a:lnTo>
                      <a:lnTo>
                        <a:pt x="67" y="335"/>
                      </a:lnTo>
                      <a:lnTo>
                        <a:pt x="76" y="335"/>
                      </a:lnTo>
                      <a:lnTo>
                        <a:pt x="125" y="3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8f3c8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741400" y="415620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272" y="201"/>
                      </a:moveTo>
                      <a:lnTo>
                        <a:pt x="357" y="250"/>
                      </a:lnTo>
                      <a:lnTo>
                        <a:pt x="366" y="254"/>
                      </a:lnTo>
                      <a:lnTo>
                        <a:pt x="375" y="254"/>
                      </a:lnTo>
                      <a:lnTo>
                        <a:pt x="384" y="250"/>
                      </a:lnTo>
                      <a:lnTo>
                        <a:pt x="388" y="241"/>
                      </a:lnTo>
                      <a:lnTo>
                        <a:pt x="393" y="232"/>
                      </a:lnTo>
                      <a:lnTo>
                        <a:pt x="393" y="223"/>
                      </a:lnTo>
                      <a:lnTo>
                        <a:pt x="388" y="214"/>
                      </a:lnTo>
                      <a:lnTo>
                        <a:pt x="384" y="210"/>
                      </a:lnTo>
                      <a:lnTo>
                        <a:pt x="295" y="156"/>
                      </a:lnTo>
                      <a:lnTo>
                        <a:pt x="339" y="129"/>
                      </a:lnTo>
                      <a:lnTo>
                        <a:pt x="348" y="125"/>
                      </a:lnTo>
                      <a:lnTo>
                        <a:pt x="353" y="116"/>
                      </a:lnTo>
                      <a:lnTo>
                        <a:pt x="353" y="107"/>
                      </a:lnTo>
                      <a:lnTo>
                        <a:pt x="353" y="98"/>
                      </a:lnTo>
                      <a:lnTo>
                        <a:pt x="344" y="94"/>
                      </a:lnTo>
                      <a:lnTo>
                        <a:pt x="339" y="89"/>
                      </a:lnTo>
                      <a:lnTo>
                        <a:pt x="330" y="89"/>
                      </a:lnTo>
                      <a:lnTo>
                        <a:pt x="321" y="89"/>
                      </a:lnTo>
                      <a:lnTo>
                        <a:pt x="254" y="129"/>
                      </a:lnTo>
                      <a:lnTo>
                        <a:pt x="196" y="94"/>
                      </a:lnTo>
                      <a:lnTo>
                        <a:pt x="281" y="49"/>
                      </a:lnTo>
                      <a:lnTo>
                        <a:pt x="290" y="40"/>
                      </a:lnTo>
                      <a:lnTo>
                        <a:pt x="295" y="31"/>
                      </a:lnTo>
                      <a:lnTo>
                        <a:pt x="295" y="26"/>
                      </a:lnTo>
                      <a:lnTo>
                        <a:pt x="295" y="18"/>
                      </a:lnTo>
                      <a:lnTo>
                        <a:pt x="290" y="9"/>
                      </a:lnTo>
                      <a:lnTo>
                        <a:pt x="281" y="4"/>
                      </a:lnTo>
                      <a:lnTo>
                        <a:pt x="272" y="4"/>
                      </a:lnTo>
                      <a:lnTo>
                        <a:pt x="263" y="9"/>
                      </a:lnTo>
                      <a:lnTo>
                        <a:pt x="152" y="71"/>
                      </a:lnTo>
                      <a:lnTo>
                        <a:pt x="27" y="0"/>
                      </a:lnTo>
                      <a:lnTo>
                        <a:pt x="0" y="44"/>
                      </a:lnTo>
                      <a:lnTo>
                        <a:pt x="125" y="116"/>
                      </a:lnTo>
                      <a:lnTo>
                        <a:pt x="125" y="250"/>
                      </a:lnTo>
                      <a:lnTo>
                        <a:pt x="125" y="259"/>
                      </a:lnTo>
                      <a:lnTo>
                        <a:pt x="129" y="263"/>
                      </a:lnTo>
                      <a:lnTo>
                        <a:pt x="138" y="268"/>
                      </a:lnTo>
                      <a:lnTo>
                        <a:pt x="143" y="272"/>
                      </a:lnTo>
                      <a:lnTo>
                        <a:pt x="152" y="272"/>
                      </a:lnTo>
                      <a:lnTo>
                        <a:pt x="161" y="268"/>
                      </a:lnTo>
                      <a:lnTo>
                        <a:pt x="165" y="259"/>
                      </a:lnTo>
                      <a:lnTo>
                        <a:pt x="165" y="250"/>
                      </a:lnTo>
                      <a:lnTo>
                        <a:pt x="170" y="143"/>
                      </a:lnTo>
                      <a:lnTo>
                        <a:pt x="228" y="178"/>
                      </a:lnTo>
                      <a:lnTo>
                        <a:pt x="223" y="254"/>
                      </a:lnTo>
                      <a:lnTo>
                        <a:pt x="228" y="263"/>
                      </a:lnTo>
                      <a:lnTo>
                        <a:pt x="232" y="268"/>
                      </a:lnTo>
                      <a:lnTo>
                        <a:pt x="237" y="272"/>
                      </a:lnTo>
                      <a:lnTo>
                        <a:pt x="245" y="272"/>
                      </a:lnTo>
                      <a:lnTo>
                        <a:pt x="254" y="272"/>
                      </a:lnTo>
                      <a:lnTo>
                        <a:pt x="259" y="268"/>
                      </a:lnTo>
                      <a:lnTo>
                        <a:pt x="263" y="263"/>
                      </a:lnTo>
                      <a:lnTo>
                        <a:pt x="268" y="254"/>
                      </a:lnTo>
                      <a:lnTo>
                        <a:pt x="272" y="2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8f3c8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741400" y="3993480"/>
                  <a:ext cx="276120" cy="19332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295" y="121"/>
                      </a:moveTo>
                      <a:lnTo>
                        <a:pt x="384" y="72"/>
                      </a:lnTo>
                      <a:lnTo>
                        <a:pt x="393" y="63"/>
                      </a:lnTo>
                      <a:lnTo>
                        <a:pt x="393" y="54"/>
                      </a:lnTo>
                      <a:lnTo>
                        <a:pt x="393" y="49"/>
                      </a:lnTo>
                      <a:lnTo>
                        <a:pt x="393" y="40"/>
                      </a:lnTo>
                      <a:lnTo>
                        <a:pt x="384" y="31"/>
                      </a:lnTo>
                      <a:lnTo>
                        <a:pt x="379" y="27"/>
                      </a:lnTo>
                      <a:lnTo>
                        <a:pt x="370" y="27"/>
                      </a:lnTo>
                      <a:lnTo>
                        <a:pt x="357" y="27"/>
                      </a:lnTo>
                      <a:lnTo>
                        <a:pt x="268" y="81"/>
                      </a:lnTo>
                      <a:lnTo>
                        <a:pt x="268" y="27"/>
                      </a:lnTo>
                      <a:lnTo>
                        <a:pt x="268" y="14"/>
                      </a:lnTo>
                      <a:lnTo>
                        <a:pt x="263" y="9"/>
                      </a:lnTo>
                      <a:lnTo>
                        <a:pt x="254" y="5"/>
                      </a:lnTo>
                      <a:lnTo>
                        <a:pt x="250" y="0"/>
                      </a:lnTo>
                      <a:lnTo>
                        <a:pt x="241" y="5"/>
                      </a:lnTo>
                      <a:lnTo>
                        <a:pt x="232" y="5"/>
                      </a:lnTo>
                      <a:lnTo>
                        <a:pt x="228" y="14"/>
                      </a:lnTo>
                      <a:lnTo>
                        <a:pt x="228" y="23"/>
                      </a:lnTo>
                      <a:lnTo>
                        <a:pt x="228" y="99"/>
                      </a:lnTo>
                      <a:lnTo>
                        <a:pt x="170" y="134"/>
                      </a:lnTo>
                      <a:lnTo>
                        <a:pt x="170" y="36"/>
                      </a:lnTo>
                      <a:lnTo>
                        <a:pt x="170" y="27"/>
                      </a:lnTo>
                      <a:lnTo>
                        <a:pt x="165" y="18"/>
                      </a:lnTo>
                      <a:lnTo>
                        <a:pt x="156" y="14"/>
                      </a:lnTo>
                      <a:lnTo>
                        <a:pt x="147" y="9"/>
                      </a:lnTo>
                      <a:lnTo>
                        <a:pt x="138" y="9"/>
                      </a:lnTo>
                      <a:lnTo>
                        <a:pt x="134" y="14"/>
                      </a:lnTo>
                      <a:lnTo>
                        <a:pt x="129" y="23"/>
                      </a:lnTo>
                      <a:lnTo>
                        <a:pt x="125" y="31"/>
                      </a:lnTo>
                      <a:lnTo>
                        <a:pt x="125" y="161"/>
                      </a:lnTo>
                      <a:lnTo>
                        <a:pt x="0" y="233"/>
                      </a:lnTo>
                      <a:lnTo>
                        <a:pt x="27" y="277"/>
                      </a:lnTo>
                      <a:lnTo>
                        <a:pt x="152" y="206"/>
                      </a:lnTo>
                      <a:lnTo>
                        <a:pt x="268" y="273"/>
                      </a:lnTo>
                      <a:lnTo>
                        <a:pt x="272" y="277"/>
                      </a:lnTo>
                      <a:lnTo>
                        <a:pt x="281" y="277"/>
                      </a:lnTo>
                      <a:lnTo>
                        <a:pt x="290" y="273"/>
                      </a:lnTo>
                      <a:lnTo>
                        <a:pt x="295" y="268"/>
                      </a:lnTo>
                      <a:lnTo>
                        <a:pt x="299" y="259"/>
                      </a:lnTo>
                      <a:lnTo>
                        <a:pt x="299" y="251"/>
                      </a:lnTo>
                      <a:lnTo>
                        <a:pt x="295" y="242"/>
                      </a:lnTo>
                      <a:lnTo>
                        <a:pt x="286" y="237"/>
                      </a:lnTo>
                      <a:lnTo>
                        <a:pt x="196" y="179"/>
                      </a:lnTo>
                      <a:lnTo>
                        <a:pt x="254" y="148"/>
                      </a:lnTo>
                      <a:lnTo>
                        <a:pt x="321" y="188"/>
                      </a:lnTo>
                      <a:lnTo>
                        <a:pt x="330" y="192"/>
                      </a:lnTo>
                      <a:lnTo>
                        <a:pt x="335" y="192"/>
                      </a:lnTo>
                      <a:lnTo>
                        <a:pt x="344" y="188"/>
                      </a:lnTo>
                      <a:lnTo>
                        <a:pt x="348" y="179"/>
                      </a:lnTo>
                      <a:lnTo>
                        <a:pt x="348" y="175"/>
                      </a:lnTo>
                      <a:lnTo>
                        <a:pt x="348" y="166"/>
                      </a:lnTo>
                      <a:lnTo>
                        <a:pt x="348" y="157"/>
                      </a:lnTo>
                      <a:lnTo>
                        <a:pt x="339" y="152"/>
                      </a:lnTo>
                      <a:lnTo>
                        <a:pt x="295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8f3c8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660040" y="4093560"/>
                  <a:ext cx="184680" cy="159120"/>
                </a:xfrm>
                <a:custGeom>
                  <a:avLst/>
                  <a:gdLst/>
                  <a:ahLst/>
                  <a:rect l="l" t="t" r="r" b="b"/>
                  <a:pathLst>
                    <a:path w="263" h="228">
                      <a:moveTo>
                        <a:pt x="0" y="116"/>
                      </a:moveTo>
                      <a:lnTo>
                        <a:pt x="49" y="67"/>
                      </a:lnTo>
                      <a:lnTo>
                        <a:pt x="67" y="0"/>
                      </a:lnTo>
                      <a:lnTo>
                        <a:pt x="134" y="23"/>
                      </a:lnTo>
                      <a:lnTo>
                        <a:pt x="201" y="0"/>
                      </a:lnTo>
                      <a:lnTo>
                        <a:pt x="214" y="67"/>
                      </a:lnTo>
                      <a:lnTo>
                        <a:pt x="263" y="116"/>
                      </a:lnTo>
                      <a:lnTo>
                        <a:pt x="214" y="161"/>
                      </a:lnTo>
                      <a:lnTo>
                        <a:pt x="201" y="228"/>
                      </a:lnTo>
                      <a:lnTo>
                        <a:pt x="134" y="210"/>
                      </a:lnTo>
                      <a:lnTo>
                        <a:pt x="67" y="228"/>
                      </a:lnTo>
                      <a:lnTo>
                        <a:pt x="49" y="16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8f3c8"/>
                    </a:gs>
                    <a:gs pos="100000">
                      <a:srgbClr val="99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"/>
              <p:cNvSpPr/>
              <p:nvPr/>
            </p:nvSpPr>
            <p:spPr>
              <a:xfrm>
                <a:off x="3323160" y="3868560"/>
                <a:ext cx="2676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lick to add 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017880" y="4325400"/>
                <a:ext cx="3276360" cy="0"/>
              </a:xfrm>
              <a:prstGeom prst="line">
                <a:avLst/>
              </a:prstGeom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484360" y="4630320"/>
              <a:ext cx="3809880" cy="609480"/>
              <a:chOff x="2484360" y="4630320"/>
              <a:chExt cx="3809880" cy="6094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2484360" y="4630320"/>
                <a:ext cx="533160" cy="609480"/>
                <a:chOff x="2484360" y="4630320"/>
                <a:chExt cx="533160" cy="6094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2647440" y="4630320"/>
                  <a:ext cx="210240" cy="303480"/>
                </a:xfrm>
                <a:custGeom>
                  <a:avLst/>
                  <a:gdLst/>
                  <a:ahLst/>
                  <a:rect l="l" t="t" r="r" b="b"/>
                  <a:pathLst>
                    <a:path w="299" h="434">
                      <a:moveTo>
                        <a:pt x="174" y="121"/>
                      </a:moveTo>
                      <a:lnTo>
                        <a:pt x="174" y="23"/>
                      </a:lnTo>
                      <a:lnTo>
                        <a:pt x="170" y="9"/>
                      </a:lnTo>
                      <a:lnTo>
                        <a:pt x="165" y="5"/>
                      </a:lnTo>
                      <a:lnTo>
                        <a:pt x="156" y="0"/>
                      </a:lnTo>
                      <a:lnTo>
                        <a:pt x="152" y="0"/>
                      </a:lnTo>
                      <a:lnTo>
                        <a:pt x="143" y="0"/>
                      </a:lnTo>
                      <a:lnTo>
                        <a:pt x="134" y="5"/>
                      </a:lnTo>
                      <a:lnTo>
                        <a:pt x="125" y="9"/>
                      </a:lnTo>
                      <a:lnTo>
                        <a:pt x="125" y="23"/>
                      </a:lnTo>
                      <a:lnTo>
                        <a:pt x="125" y="126"/>
                      </a:lnTo>
                      <a:lnTo>
                        <a:pt x="76" y="99"/>
                      </a:lnTo>
                      <a:lnTo>
                        <a:pt x="67" y="94"/>
                      </a:lnTo>
                      <a:lnTo>
                        <a:pt x="58" y="94"/>
                      </a:lnTo>
                      <a:lnTo>
                        <a:pt x="49" y="99"/>
                      </a:lnTo>
                      <a:lnTo>
                        <a:pt x="45" y="103"/>
                      </a:lnTo>
                      <a:lnTo>
                        <a:pt x="40" y="112"/>
                      </a:lnTo>
                      <a:lnTo>
                        <a:pt x="45" y="117"/>
                      </a:lnTo>
                      <a:lnTo>
                        <a:pt x="45" y="126"/>
                      </a:lnTo>
                      <a:lnTo>
                        <a:pt x="54" y="134"/>
                      </a:lnTo>
                      <a:lnTo>
                        <a:pt x="121" y="170"/>
                      </a:lnTo>
                      <a:lnTo>
                        <a:pt x="121" y="242"/>
                      </a:lnTo>
                      <a:lnTo>
                        <a:pt x="36" y="188"/>
                      </a:lnTo>
                      <a:lnTo>
                        <a:pt x="27" y="184"/>
                      </a:lnTo>
                      <a:lnTo>
                        <a:pt x="18" y="184"/>
                      </a:lnTo>
                      <a:lnTo>
                        <a:pt x="9" y="188"/>
                      </a:lnTo>
                      <a:lnTo>
                        <a:pt x="5" y="193"/>
                      </a:lnTo>
                      <a:lnTo>
                        <a:pt x="0" y="202"/>
                      </a:lnTo>
                      <a:lnTo>
                        <a:pt x="0" y="210"/>
                      </a:lnTo>
                      <a:lnTo>
                        <a:pt x="5" y="219"/>
                      </a:lnTo>
                      <a:lnTo>
                        <a:pt x="14" y="224"/>
                      </a:lnTo>
                      <a:lnTo>
                        <a:pt x="121" y="291"/>
                      </a:lnTo>
                      <a:lnTo>
                        <a:pt x="121" y="434"/>
                      </a:lnTo>
                      <a:lnTo>
                        <a:pt x="174" y="434"/>
                      </a:lnTo>
                      <a:lnTo>
                        <a:pt x="174" y="291"/>
                      </a:lnTo>
                      <a:lnTo>
                        <a:pt x="290" y="224"/>
                      </a:lnTo>
                      <a:lnTo>
                        <a:pt x="295" y="219"/>
                      </a:lnTo>
                      <a:lnTo>
                        <a:pt x="299" y="210"/>
                      </a:lnTo>
                      <a:lnTo>
                        <a:pt x="299" y="202"/>
                      </a:lnTo>
                      <a:lnTo>
                        <a:pt x="299" y="197"/>
                      </a:lnTo>
                      <a:lnTo>
                        <a:pt x="295" y="188"/>
                      </a:lnTo>
                      <a:lnTo>
                        <a:pt x="286" y="184"/>
                      </a:lnTo>
                      <a:lnTo>
                        <a:pt x="277" y="184"/>
                      </a:lnTo>
                      <a:lnTo>
                        <a:pt x="268" y="188"/>
                      </a:lnTo>
                      <a:lnTo>
                        <a:pt x="174" y="237"/>
                      </a:lnTo>
                      <a:lnTo>
                        <a:pt x="174" y="170"/>
                      </a:lnTo>
                      <a:lnTo>
                        <a:pt x="246" y="134"/>
                      </a:lnTo>
                      <a:lnTo>
                        <a:pt x="250" y="130"/>
                      </a:lnTo>
                      <a:lnTo>
                        <a:pt x="255" y="121"/>
                      </a:lnTo>
                      <a:lnTo>
                        <a:pt x="255" y="112"/>
                      </a:lnTo>
                      <a:lnTo>
                        <a:pt x="250" y="108"/>
                      </a:lnTo>
                      <a:lnTo>
                        <a:pt x="246" y="103"/>
                      </a:lnTo>
                      <a:lnTo>
                        <a:pt x="237" y="99"/>
                      </a:lnTo>
                      <a:lnTo>
                        <a:pt x="232" y="99"/>
                      </a:lnTo>
                      <a:lnTo>
                        <a:pt x="223" y="99"/>
                      </a:lnTo>
                      <a:lnTo>
                        <a:pt x="174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484360" y="475884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121" y="71"/>
                      </a:moveTo>
                      <a:lnTo>
                        <a:pt x="36" y="22"/>
                      </a:lnTo>
                      <a:lnTo>
                        <a:pt x="27" y="18"/>
                      </a:lnTo>
                      <a:lnTo>
                        <a:pt x="18" y="18"/>
                      </a:lnTo>
                      <a:lnTo>
                        <a:pt x="9" y="22"/>
                      </a:lnTo>
                      <a:lnTo>
                        <a:pt x="5" y="31"/>
                      </a:lnTo>
                      <a:lnTo>
                        <a:pt x="0" y="40"/>
                      </a:lnTo>
                      <a:lnTo>
                        <a:pt x="0" y="49"/>
                      </a:lnTo>
                      <a:lnTo>
                        <a:pt x="5" y="58"/>
                      </a:lnTo>
                      <a:lnTo>
                        <a:pt x="9" y="62"/>
                      </a:lnTo>
                      <a:lnTo>
                        <a:pt x="98" y="116"/>
                      </a:lnTo>
                      <a:lnTo>
                        <a:pt x="54" y="143"/>
                      </a:lnTo>
                      <a:lnTo>
                        <a:pt x="45" y="147"/>
                      </a:lnTo>
                      <a:lnTo>
                        <a:pt x="40" y="156"/>
                      </a:lnTo>
                      <a:lnTo>
                        <a:pt x="40" y="165"/>
                      </a:lnTo>
                      <a:lnTo>
                        <a:pt x="40" y="174"/>
                      </a:lnTo>
                      <a:lnTo>
                        <a:pt x="49" y="178"/>
                      </a:lnTo>
                      <a:lnTo>
                        <a:pt x="54" y="183"/>
                      </a:lnTo>
                      <a:lnTo>
                        <a:pt x="63" y="183"/>
                      </a:lnTo>
                      <a:lnTo>
                        <a:pt x="72" y="183"/>
                      </a:lnTo>
                      <a:lnTo>
                        <a:pt x="139" y="143"/>
                      </a:lnTo>
                      <a:lnTo>
                        <a:pt x="197" y="178"/>
                      </a:lnTo>
                      <a:lnTo>
                        <a:pt x="112" y="223"/>
                      </a:lnTo>
                      <a:lnTo>
                        <a:pt x="103" y="232"/>
                      </a:lnTo>
                      <a:lnTo>
                        <a:pt x="98" y="241"/>
                      </a:lnTo>
                      <a:lnTo>
                        <a:pt x="98" y="246"/>
                      </a:lnTo>
                      <a:lnTo>
                        <a:pt x="98" y="254"/>
                      </a:lnTo>
                      <a:lnTo>
                        <a:pt x="103" y="263"/>
                      </a:lnTo>
                      <a:lnTo>
                        <a:pt x="112" y="268"/>
                      </a:lnTo>
                      <a:lnTo>
                        <a:pt x="121" y="268"/>
                      </a:lnTo>
                      <a:lnTo>
                        <a:pt x="130" y="263"/>
                      </a:lnTo>
                      <a:lnTo>
                        <a:pt x="241" y="201"/>
                      </a:lnTo>
                      <a:lnTo>
                        <a:pt x="366" y="272"/>
                      </a:lnTo>
                      <a:lnTo>
                        <a:pt x="393" y="228"/>
                      </a:lnTo>
                      <a:lnTo>
                        <a:pt x="268" y="156"/>
                      </a:lnTo>
                      <a:lnTo>
                        <a:pt x="268" y="22"/>
                      </a:lnTo>
                      <a:lnTo>
                        <a:pt x="268" y="13"/>
                      </a:lnTo>
                      <a:lnTo>
                        <a:pt x="264" y="9"/>
                      </a:lnTo>
                      <a:lnTo>
                        <a:pt x="255" y="4"/>
                      </a:lnTo>
                      <a:lnTo>
                        <a:pt x="250" y="0"/>
                      </a:lnTo>
                      <a:lnTo>
                        <a:pt x="241" y="0"/>
                      </a:lnTo>
                      <a:lnTo>
                        <a:pt x="232" y="4"/>
                      </a:lnTo>
                      <a:lnTo>
                        <a:pt x="228" y="13"/>
                      </a:lnTo>
                      <a:lnTo>
                        <a:pt x="228" y="22"/>
                      </a:lnTo>
                      <a:lnTo>
                        <a:pt x="223" y="129"/>
                      </a:lnTo>
                      <a:lnTo>
                        <a:pt x="165" y="94"/>
                      </a:lnTo>
                      <a:lnTo>
                        <a:pt x="170" y="18"/>
                      </a:lnTo>
                      <a:lnTo>
                        <a:pt x="165" y="9"/>
                      </a:lnTo>
                      <a:lnTo>
                        <a:pt x="161" y="4"/>
                      </a:lnTo>
                      <a:lnTo>
                        <a:pt x="156" y="0"/>
                      </a:lnTo>
                      <a:lnTo>
                        <a:pt x="148" y="0"/>
                      </a:lnTo>
                      <a:lnTo>
                        <a:pt x="139" y="0"/>
                      </a:lnTo>
                      <a:lnTo>
                        <a:pt x="134" y="4"/>
                      </a:lnTo>
                      <a:lnTo>
                        <a:pt x="130" y="9"/>
                      </a:lnTo>
                      <a:lnTo>
                        <a:pt x="125" y="18"/>
                      </a:lnTo>
                      <a:lnTo>
                        <a:pt x="121" y="7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484360" y="4917960"/>
                  <a:ext cx="276120" cy="19368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98" y="156"/>
                      </a:moveTo>
                      <a:lnTo>
                        <a:pt x="9" y="205"/>
                      </a:lnTo>
                      <a:lnTo>
                        <a:pt x="0" y="214"/>
                      </a:lnTo>
                      <a:lnTo>
                        <a:pt x="0" y="223"/>
                      </a:lnTo>
                      <a:lnTo>
                        <a:pt x="0" y="228"/>
                      </a:lnTo>
                      <a:lnTo>
                        <a:pt x="0" y="237"/>
                      </a:lnTo>
                      <a:lnTo>
                        <a:pt x="9" y="246"/>
                      </a:lnTo>
                      <a:lnTo>
                        <a:pt x="14" y="250"/>
                      </a:lnTo>
                      <a:lnTo>
                        <a:pt x="23" y="250"/>
                      </a:lnTo>
                      <a:lnTo>
                        <a:pt x="36" y="250"/>
                      </a:lnTo>
                      <a:lnTo>
                        <a:pt x="125" y="196"/>
                      </a:lnTo>
                      <a:lnTo>
                        <a:pt x="125" y="250"/>
                      </a:lnTo>
                      <a:lnTo>
                        <a:pt x="125" y="263"/>
                      </a:lnTo>
                      <a:lnTo>
                        <a:pt x="130" y="268"/>
                      </a:lnTo>
                      <a:lnTo>
                        <a:pt x="139" y="272"/>
                      </a:lnTo>
                      <a:lnTo>
                        <a:pt x="143" y="277"/>
                      </a:lnTo>
                      <a:lnTo>
                        <a:pt x="152" y="277"/>
                      </a:lnTo>
                      <a:lnTo>
                        <a:pt x="161" y="272"/>
                      </a:lnTo>
                      <a:lnTo>
                        <a:pt x="165" y="263"/>
                      </a:lnTo>
                      <a:lnTo>
                        <a:pt x="165" y="254"/>
                      </a:lnTo>
                      <a:lnTo>
                        <a:pt x="165" y="178"/>
                      </a:lnTo>
                      <a:lnTo>
                        <a:pt x="223" y="143"/>
                      </a:lnTo>
                      <a:lnTo>
                        <a:pt x="223" y="241"/>
                      </a:lnTo>
                      <a:lnTo>
                        <a:pt x="223" y="250"/>
                      </a:lnTo>
                      <a:lnTo>
                        <a:pt x="228" y="259"/>
                      </a:lnTo>
                      <a:lnTo>
                        <a:pt x="237" y="263"/>
                      </a:lnTo>
                      <a:lnTo>
                        <a:pt x="246" y="268"/>
                      </a:lnTo>
                      <a:lnTo>
                        <a:pt x="255" y="268"/>
                      </a:lnTo>
                      <a:lnTo>
                        <a:pt x="259" y="263"/>
                      </a:lnTo>
                      <a:lnTo>
                        <a:pt x="264" y="254"/>
                      </a:lnTo>
                      <a:lnTo>
                        <a:pt x="268" y="246"/>
                      </a:lnTo>
                      <a:lnTo>
                        <a:pt x="268" y="116"/>
                      </a:lnTo>
                      <a:lnTo>
                        <a:pt x="393" y="44"/>
                      </a:lnTo>
                      <a:lnTo>
                        <a:pt x="366" y="0"/>
                      </a:lnTo>
                      <a:lnTo>
                        <a:pt x="241" y="71"/>
                      </a:lnTo>
                      <a:lnTo>
                        <a:pt x="125" y="4"/>
                      </a:lnTo>
                      <a:lnTo>
                        <a:pt x="121" y="0"/>
                      </a:lnTo>
                      <a:lnTo>
                        <a:pt x="112" y="0"/>
                      </a:lnTo>
                      <a:lnTo>
                        <a:pt x="103" y="4"/>
                      </a:lnTo>
                      <a:lnTo>
                        <a:pt x="98" y="9"/>
                      </a:lnTo>
                      <a:lnTo>
                        <a:pt x="94" y="18"/>
                      </a:lnTo>
                      <a:lnTo>
                        <a:pt x="94" y="26"/>
                      </a:lnTo>
                      <a:lnTo>
                        <a:pt x="98" y="35"/>
                      </a:lnTo>
                      <a:lnTo>
                        <a:pt x="107" y="40"/>
                      </a:lnTo>
                      <a:lnTo>
                        <a:pt x="197" y="98"/>
                      </a:lnTo>
                      <a:lnTo>
                        <a:pt x="139" y="129"/>
                      </a:lnTo>
                      <a:lnTo>
                        <a:pt x="72" y="89"/>
                      </a:lnTo>
                      <a:lnTo>
                        <a:pt x="63" y="85"/>
                      </a:lnTo>
                      <a:lnTo>
                        <a:pt x="58" y="85"/>
                      </a:lnTo>
                      <a:lnTo>
                        <a:pt x="49" y="89"/>
                      </a:lnTo>
                      <a:lnTo>
                        <a:pt x="45" y="98"/>
                      </a:lnTo>
                      <a:lnTo>
                        <a:pt x="45" y="102"/>
                      </a:lnTo>
                      <a:lnTo>
                        <a:pt x="45" y="111"/>
                      </a:lnTo>
                      <a:lnTo>
                        <a:pt x="45" y="120"/>
                      </a:lnTo>
                      <a:lnTo>
                        <a:pt x="54" y="125"/>
                      </a:lnTo>
                      <a:lnTo>
                        <a:pt x="98" y="1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644560" y="4933800"/>
                  <a:ext cx="209880" cy="306000"/>
                </a:xfrm>
                <a:custGeom>
                  <a:avLst/>
                  <a:gdLst/>
                  <a:ahLst/>
                  <a:rect l="l" t="t" r="r" b="b"/>
                  <a:pathLst>
                    <a:path w="299" h="438">
                      <a:moveTo>
                        <a:pt x="125" y="313"/>
                      </a:moveTo>
                      <a:lnTo>
                        <a:pt x="125" y="411"/>
                      </a:lnTo>
                      <a:lnTo>
                        <a:pt x="129" y="425"/>
                      </a:lnTo>
                      <a:lnTo>
                        <a:pt x="134" y="429"/>
                      </a:lnTo>
                      <a:lnTo>
                        <a:pt x="143" y="434"/>
                      </a:lnTo>
                      <a:lnTo>
                        <a:pt x="147" y="438"/>
                      </a:lnTo>
                      <a:lnTo>
                        <a:pt x="156" y="434"/>
                      </a:lnTo>
                      <a:lnTo>
                        <a:pt x="165" y="429"/>
                      </a:lnTo>
                      <a:lnTo>
                        <a:pt x="174" y="425"/>
                      </a:lnTo>
                      <a:lnTo>
                        <a:pt x="174" y="411"/>
                      </a:lnTo>
                      <a:lnTo>
                        <a:pt x="174" y="308"/>
                      </a:lnTo>
                      <a:lnTo>
                        <a:pt x="223" y="335"/>
                      </a:lnTo>
                      <a:lnTo>
                        <a:pt x="232" y="340"/>
                      </a:lnTo>
                      <a:lnTo>
                        <a:pt x="241" y="340"/>
                      </a:lnTo>
                      <a:lnTo>
                        <a:pt x="250" y="335"/>
                      </a:lnTo>
                      <a:lnTo>
                        <a:pt x="254" y="331"/>
                      </a:lnTo>
                      <a:lnTo>
                        <a:pt x="254" y="322"/>
                      </a:lnTo>
                      <a:lnTo>
                        <a:pt x="254" y="317"/>
                      </a:lnTo>
                      <a:lnTo>
                        <a:pt x="254" y="308"/>
                      </a:lnTo>
                      <a:lnTo>
                        <a:pt x="245" y="300"/>
                      </a:lnTo>
                      <a:lnTo>
                        <a:pt x="178" y="264"/>
                      </a:lnTo>
                      <a:lnTo>
                        <a:pt x="178" y="192"/>
                      </a:lnTo>
                      <a:lnTo>
                        <a:pt x="263" y="246"/>
                      </a:lnTo>
                      <a:lnTo>
                        <a:pt x="272" y="250"/>
                      </a:lnTo>
                      <a:lnTo>
                        <a:pt x="281" y="250"/>
                      </a:lnTo>
                      <a:lnTo>
                        <a:pt x="290" y="246"/>
                      </a:lnTo>
                      <a:lnTo>
                        <a:pt x="294" y="241"/>
                      </a:lnTo>
                      <a:lnTo>
                        <a:pt x="299" y="232"/>
                      </a:lnTo>
                      <a:lnTo>
                        <a:pt x="299" y="224"/>
                      </a:lnTo>
                      <a:lnTo>
                        <a:pt x="294" y="215"/>
                      </a:lnTo>
                      <a:lnTo>
                        <a:pt x="285" y="210"/>
                      </a:lnTo>
                      <a:lnTo>
                        <a:pt x="178" y="143"/>
                      </a:lnTo>
                      <a:lnTo>
                        <a:pt x="178" y="0"/>
                      </a:lnTo>
                      <a:lnTo>
                        <a:pt x="125" y="0"/>
                      </a:lnTo>
                      <a:lnTo>
                        <a:pt x="125" y="143"/>
                      </a:lnTo>
                      <a:lnTo>
                        <a:pt x="9" y="210"/>
                      </a:lnTo>
                      <a:lnTo>
                        <a:pt x="4" y="215"/>
                      </a:lnTo>
                      <a:lnTo>
                        <a:pt x="0" y="224"/>
                      </a:lnTo>
                      <a:lnTo>
                        <a:pt x="0" y="232"/>
                      </a:lnTo>
                      <a:lnTo>
                        <a:pt x="0" y="237"/>
                      </a:lnTo>
                      <a:lnTo>
                        <a:pt x="4" y="246"/>
                      </a:lnTo>
                      <a:lnTo>
                        <a:pt x="13" y="250"/>
                      </a:lnTo>
                      <a:lnTo>
                        <a:pt x="22" y="250"/>
                      </a:lnTo>
                      <a:lnTo>
                        <a:pt x="31" y="246"/>
                      </a:lnTo>
                      <a:lnTo>
                        <a:pt x="125" y="197"/>
                      </a:lnTo>
                      <a:lnTo>
                        <a:pt x="125" y="264"/>
                      </a:lnTo>
                      <a:lnTo>
                        <a:pt x="53" y="300"/>
                      </a:lnTo>
                      <a:lnTo>
                        <a:pt x="49" y="304"/>
                      </a:lnTo>
                      <a:lnTo>
                        <a:pt x="44" y="313"/>
                      </a:lnTo>
                      <a:lnTo>
                        <a:pt x="44" y="322"/>
                      </a:lnTo>
                      <a:lnTo>
                        <a:pt x="49" y="326"/>
                      </a:lnTo>
                      <a:lnTo>
                        <a:pt x="53" y="331"/>
                      </a:lnTo>
                      <a:lnTo>
                        <a:pt x="62" y="335"/>
                      </a:lnTo>
                      <a:lnTo>
                        <a:pt x="67" y="335"/>
                      </a:lnTo>
                      <a:lnTo>
                        <a:pt x="76" y="335"/>
                      </a:lnTo>
                      <a:lnTo>
                        <a:pt x="125" y="3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741400" y="491796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272" y="201"/>
                      </a:moveTo>
                      <a:lnTo>
                        <a:pt x="357" y="250"/>
                      </a:lnTo>
                      <a:lnTo>
                        <a:pt x="366" y="254"/>
                      </a:lnTo>
                      <a:lnTo>
                        <a:pt x="375" y="254"/>
                      </a:lnTo>
                      <a:lnTo>
                        <a:pt x="384" y="250"/>
                      </a:lnTo>
                      <a:lnTo>
                        <a:pt x="388" y="241"/>
                      </a:lnTo>
                      <a:lnTo>
                        <a:pt x="393" y="232"/>
                      </a:lnTo>
                      <a:lnTo>
                        <a:pt x="393" y="223"/>
                      </a:lnTo>
                      <a:lnTo>
                        <a:pt x="388" y="214"/>
                      </a:lnTo>
                      <a:lnTo>
                        <a:pt x="384" y="210"/>
                      </a:lnTo>
                      <a:lnTo>
                        <a:pt x="295" y="156"/>
                      </a:lnTo>
                      <a:lnTo>
                        <a:pt x="339" y="129"/>
                      </a:lnTo>
                      <a:lnTo>
                        <a:pt x="348" y="125"/>
                      </a:lnTo>
                      <a:lnTo>
                        <a:pt x="353" y="116"/>
                      </a:lnTo>
                      <a:lnTo>
                        <a:pt x="353" y="107"/>
                      </a:lnTo>
                      <a:lnTo>
                        <a:pt x="353" y="98"/>
                      </a:lnTo>
                      <a:lnTo>
                        <a:pt x="344" y="94"/>
                      </a:lnTo>
                      <a:lnTo>
                        <a:pt x="339" y="89"/>
                      </a:lnTo>
                      <a:lnTo>
                        <a:pt x="330" y="89"/>
                      </a:lnTo>
                      <a:lnTo>
                        <a:pt x="321" y="89"/>
                      </a:lnTo>
                      <a:lnTo>
                        <a:pt x="254" y="129"/>
                      </a:lnTo>
                      <a:lnTo>
                        <a:pt x="196" y="94"/>
                      </a:lnTo>
                      <a:lnTo>
                        <a:pt x="281" y="49"/>
                      </a:lnTo>
                      <a:lnTo>
                        <a:pt x="290" y="40"/>
                      </a:lnTo>
                      <a:lnTo>
                        <a:pt x="295" y="31"/>
                      </a:lnTo>
                      <a:lnTo>
                        <a:pt x="295" y="26"/>
                      </a:lnTo>
                      <a:lnTo>
                        <a:pt x="295" y="18"/>
                      </a:lnTo>
                      <a:lnTo>
                        <a:pt x="290" y="9"/>
                      </a:lnTo>
                      <a:lnTo>
                        <a:pt x="281" y="4"/>
                      </a:lnTo>
                      <a:lnTo>
                        <a:pt x="272" y="4"/>
                      </a:lnTo>
                      <a:lnTo>
                        <a:pt x="263" y="9"/>
                      </a:lnTo>
                      <a:lnTo>
                        <a:pt x="152" y="71"/>
                      </a:lnTo>
                      <a:lnTo>
                        <a:pt x="27" y="0"/>
                      </a:lnTo>
                      <a:lnTo>
                        <a:pt x="0" y="44"/>
                      </a:lnTo>
                      <a:lnTo>
                        <a:pt x="125" y="116"/>
                      </a:lnTo>
                      <a:lnTo>
                        <a:pt x="125" y="250"/>
                      </a:lnTo>
                      <a:lnTo>
                        <a:pt x="125" y="259"/>
                      </a:lnTo>
                      <a:lnTo>
                        <a:pt x="129" y="263"/>
                      </a:lnTo>
                      <a:lnTo>
                        <a:pt x="138" y="268"/>
                      </a:lnTo>
                      <a:lnTo>
                        <a:pt x="143" y="272"/>
                      </a:lnTo>
                      <a:lnTo>
                        <a:pt x="152" y="272"/>
                      </a:lnTo>
                      <a:lnTo>
                        <a:pt x="161" y="268"/>
                      </a:lnTo>
                      <a:lnTo>
                        <a:pt x="165" y="259"/>
                      </a:lnTo>
                      <a:lnTo>
                        <a:pt x="165" y="250"/>
                      </a:lnTo>
                      <a:lnTo>
                        <a:pt x="170" y="143"/>
                      </a:lnTo>
                      <a:lnTo>
                        <a:pt x="228" y="178"/>
                      </a:lnTo>
                      <a:lnTo>
                        <a:pt x="223" y="254"/>
                      </a:lnTo>
                      <a:lnTo>
                        <a:pt x="228" y="263"/>
                      </a:lnTo>
                      <a:lnTo>
                        <a:pt x="232" y="268"/>
                      </a:lnTo>
                      <a:lnTo>
                        <a:pt x="237" y="272"/>
                      </a:lnTo>
                      <a:lnTo>
                        <a:pt x="245" y="272"/>
                      </a:lnTo>
                      <a:lnTo>
                        <a:pt x="254" y="272"/>
                      </a:lnTo>
                      <a:lnTo>
                        <a:pt x="259" y="268"/>
                      </a:lnTo>
                      <a:lnTo>
                        <a:pt x="263" y="263"/>
                      </a:lnTo>
                      <a:lnTo>
                        <a:pt x="268" y="254"/>
                      </a:lnTo>
                      <a:lnTo>
                        <a:pt x="272" y="2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741400" y="4755240"/>
                  <a:ext cx="276120" cy="19368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295" y="121"/>
                      </a:moveTo>
                      <a:lnTo>
                        <a:pt x="384" y="72"/>
                      </a:lnTo>
                      <a:lnTo>
                        <a:pt x="393" y="63"/>
                      </a:lnTo>
                      <a:lnTo>
                        <a:pt x="393" y="54"/>
                      </a:lnTo>
                      <a:lnTo>
                        <a:pt x="393" y="49"/>
                      </a:lnTo>
                      <a:lnTo>
                        <a:pt x="393" y="40"/>
                      </a:lnTo>
                      <a:lnTo>
                        <a:pt x="384" y="31"/>
                      </a:lnTo>
                      <a:lnTo>
                        <a:pt x="379" y="27"/>
                      </a:lnTo>
                      <a:lnTo>
                        <a:pt x="370" y="27"/>
                      </a:lnTo>
                      <a:lnTo>
                        <a:pt x="357" y="27"/>
                      </a:lnTo>
                      <a:lnTo>
                        <a:pt x="268" y="81"/>
                      </a:lnTo>
                      <a:lnTo>
                        <a:pt x="268" y="27"/>
                      </a:lnTo>
                      <a:lnTo>
                        <a:pt x="268" y="14"/>
                      </a:lnTo>
                      <a:lnTo>
                        <a:pt x="263" y="9"/>
                      </a:lnTo>
                      <a:lnTo>
                        <a:pt x="254" y="5"/>
                      </a:lnTo>
                      <a:lnTo>
                        <a:pt x="250" y="0"/>
                      </a:lnTo>
                      <a:lnTo>
                        <a:pt x="241" y="5"/>
                      </a:lnTo>
                      <a:lnTo>
                        <a:pt x="232" y="5"/>
                      </a:lnTo>
                      <a:lnTo>
                        <a:pt x="228" y="14"/>
                      </a:lnTo>
                      <a:lnTo>
                        <a:pt x="228" y="23"/>
                      </a:lnTo>
                      <a:lnTo>
                        <a:pt x="228" y="99"/>
                      </a:lnTo>
                      <a:lnTo>
                        <a:pt x="170" y="134"/>
                      </a:lnTo>
                      <a:lnTo>
                        <a:pt x="170" y="36"/>
                      </a:lnTo>
                      <a:lnTo>
                        <a:pt x="170" y="27"/>
                      </a:lnTo>
                      <a:lnTo>
                        <a:pt x="165" y="18"/>
                      </a:lnTo>
                      <a:lnTo>
                        <a:pt x="156" y="14"/>
                      </a:lnTo>
                      <a:lnTo>
                        <a:pt x="147" y="9"/>
                      </a:lnTo>
                      <a:lnTo>
                        <a:pt x="138" y="9"/>
                      </a:lnTo>
                      <a:lnTo>
                        <a:pt x="134" y="14"/>
                      </a:lnTo>
                      <a:lnTo>
                        <a:pt x="129" y="23"/>
                      </a:lnTo>
                      <a:lnTo>
                        <a:pt x="125" y="31"/>
                      </a:lnTo>
                      <a:lnTo>
                        <a:pt x="125" y="161"/>
                      </a:lnTo>
                      <a:lnTo>
                        <a:pt x="0" y="233"/>
                      </a:lnTo>
                      <a:lnTo>
                        <a:pt x="27" y="277"/>
                      </a:lnTo>
                      <a:lnTo>
                        <a:pt x="152" y="206"/>
                      </a:lnTo>
                      <a:lnTo>
                        <a:pt x="268" y="273"/>
                      </a:lnTo>
                      <a:lnTo>
                        <a:pt x="272" y="277"/>
                      </a:lnTo>
                      <a:lnTo>
                        <a:pt x="281" y="277"/>
                      </a:lnTo>
                      <a:lnTo>
                        <a:pt x="290" y="273"/>
                      </a:lnTo>
                      <a:lnTo>
                        <a:pt x="295" y="268"/>
                      </a:lnTo>
                      <a:lnTo>
                        <a:pt x="299" y="259"/>
                      </a:lnTo>
                      <a:lnTo>
                        <a:pt x="299" y="251"/>
                      </a:lnTo>
                      <a:lnTo>
                        <a:pt x="295" y="242"/>
                      </a:lnTo>
                      <a:lnTo>
                        <a:pt x="286" y="237"/>
                      </a:lnTo>
                      <a:lnTo>
                        <a:pt x="196" y="179"/>
                      </a:lnTo>
                      <a:lnTo>
                        <a:pt x="254" y="148"/>
                      </a:lnTo>
                      <a:lnTo>
                        <a:pt x="321" y="188"/>
                      </a:lnTo>
                      <a:lnTo>
                        <a:pt x="330" y="192"/>
                      </a:lnTo>
                      <a:lnTo>
                        <a:pt x="335" y="192"/>
                      </a:lnTo>
                      <a:lnTo>
                        <a:pt x="344" y="188"/>
                      </a:lnTo>
                      <a:lnTo>
                        <a:pt x="348" y="179"/>
                      </a:lnTo>
                      <a:lnTo>
                        <a:pt x="348" y="175"/>
                      </a:lnTo>
                      <a:lnTo>
                        <a:pt x="348" y="166"/>
                      </a:lnTo>
                      <a:lnTo>
                        <a:pt x="348" y="157"/>
                      </a:lnTo>
                      <a:lnTo>
                        <a:pt x="339" y="152"/>
                      </a:lnTo>
                      <a:lnTo>
                        <a:pt x="295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660040" y="4855320"/>
                  <a:ext cx="184680" cy="159120"/>
                </a:xfrm>
                <a:custGeom>
                  <a:avLst/>
                  <a:gdLst/>
                  <a:ahLst/>
                  <a:rect l="l" t="t" r="r" b="b"/>
                  <a:pathLst>
                    <a:path w="263" h="228">
                      <a:moveTo>
                        <a:pt x="0" y="116"/>
                      </a:moveTo>
                      <a:lnTo>
                        <a:pt x="49" y="67"/>
                      </a:lnTo>
                      <a:lnTo>
                        <a:pt x="67" y="0"/>
                      </a:lnTo>
                      <a:lnTo>
                        <a:pt x="134" y="23"/>
                      </a:lnTo>
                      <a:lnTo>
                        <a:pt x="201" y="0"/>
                      </a:lnTo>
                      <a:lnTo>
                        <a:pt x="214" y="67"/>
                      </a:lnTo>
                      <a:lnTo>
                        <a:pt x="263" y="116"/>
                      </a:lnTo>
                      <a:lnTo>
                        <a:pt x="214" y="161"/>
                      </a:lnTo>
                      <a:lnTo>
                        <a:pt x="201" y="228"/>
                      </a:lnTo>
                      <a:lnTo>
                        <a:pt x="134" y="210"/>
                      </a:lnTo>
                      <a:lnTo>
                        <a:pt x="67" y="228"/>
                      </a:lnTo>
                      <a:lnTo>
                        <a:pt x="49" y="16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2d2d2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3323160" y="4630320"/>
                <a:ext cx="2676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lick to add 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017880" y="5087520"/>
                <a:ext cx="327636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2484360" y="5316120"/>
              <a:ext cx="3809880" cy="609480"/>
              <a:chOff x="2484360" y="5316120"/>
              <a:chExt cx="3809880" cy="609480"/>
            </a:xfrm>
          </p:grpSpPr>
          <p:grpSp>
            <p:nvGrpSpPr>
              <p:cNvPr id="504" name=""/>
              <p:cNvGrpSpPr/>
              <p:nvPr/>
            </p:nvGrpSpPr>
            <p:grpSpPr>
              <a:xfrm>
                <a:off x="2484360" y="5316120"/>
                <a:ext cx="533160" cy="609480"/>
                <a:chOff x="2484360" y="5316120"/>
                <a:chExt cx="533160" cy="6094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2647440" y="5316120"/>
                  <a:ext cx="210240" cy="303480"/>
                </a:xfrm>
                <a:custGeom>
                  <a:avLst/>
                  <a:gdLst/>
                  <a:ahLst/>
                  <a:rect l="l" t="t" r="r" b="b"/>
                  <a:pathLst>
                    <a:path w="299" h="434">
                      <a:moveTo>
                        <a:pt x="174" y="121"/>
                      </a:moveTo>
                      <a:lnTo>
                        <a:pt x="174" y="23"/>
                      </a:lnTo>
                      <a:lnTo>
                        <a:pt x="170" y="9"/>
                      </a:lnTo>
                      <a:lnTo>
                        <a:pt x="165" y="5"/>
                      </a:lnTo>
                      <a:lnTo>
                        <a:pt x="156" y="0"/>
                      </a:lnTo>
                      <a:lnTo>
                        <a:pt x="152" y="0"/>
                      </a:lnTo>
                      <a:lnTo>
                        <a:pt x="143" y="0"/>
                      </a:lnTo>
                      <a:lnTo>
                        <a:pt x="134" y="5"/>
                      </a:lnTo>
                      <a:lnTo>
                        <a:pt x="125" y="9"/>
                      </a:lnTo>
                      <a:lnTo>
                        <a:pt x="125" y="23"/>
                      </a:lnTo>
                      <a:lnTo>
                        <a:pt x="125" y="126"/>
                      </a:lnTo>
                      <a:lnTo>
                        <a:pt x="76" y="99"/>
                      </a:lnTo>
                      <a:lnTo>
                        <a:pt x="67" y="94"/>
                      </a:lnTo>
                      <a:lnTo>
                        <a:pt x="58" y="94"/>
                      </a:lnTo>
                      <a:lnTo>
                        <a:pt x="49" y="99"/>
                      </a:lnTo>
                      <a:lnTo>
                        <a:pt x="45" y="103"/>
                      </a:lnTo>
                      <a:lnTo>
                        <a:pt x="40" y="112"/>
                      </a:lnTo>
                      <a:lnTo>
                        <a:pt x="45" y="117"/>
                      </a:lnTo>
                      <a:lnTo>
                        <a:pt x="45" y="126"/>
                      </a:lnTo>
                      <a:lnTo>
                        <a:pt x="54" y="134"/>
                      </a:lnTo>
                      <a:lnTo>
                        <a:pt x="121" y="170"/>
                      </a:lnTo>
                      <a:lnTo>
                        <a:pt x="121" y="242"/>
                      </a:lnTo>
                      <a:lnTo>
                        <a:pt x="36" y="188"/>
                      </a:lnTo>
                      <a:lnTo>
                        <a:pt x="27" y="184"/>
                      </a:lnTo>
                      <a:lnTo>
                        <a:pt x="18" y="184"/>
                      </a:lnTo>
                      <a:lnTo>
                        <a:pt x="9" y="188"/>
                      </a:lnTo>
                      <a:lnTo>
                        <a:pt x="5" y="193"/>
                      </a:lnTo>
                      <a:lnTo>
                        <a:pt x="0" y="202"/>
                      </a:lnTo>
                      <a:lnTo>
                        <a:pt x="0" y="210"/>
                      </a:lnTo>
                      <a:lnTo>
                        <a:pt x="5" y="219"/>
                      </a:lnTo>
                      <a:lnTo>
                        <a:pt x="14" y="224"/>
                      </a:lnTo>
                      <a:lnTo>
                        <a:pt x="121" y="291"/>
                      </a:lnTo>
                      <a:lnTo>
                        <a:pt x="121" y="434"/>
                      </a:lnTo>
                      <a:lnTo>
                        <a:pt x="174" y="434"/>
                      </a:lnTo>
                      <a:lnTo>
                        <a:pt x="174" y="291"/>
                      </a:lnTo>
                      <a:lnTo>
                        <a:pt x="290" y="224"/>
                      </a:lnTo>
                      <a:lnTo>
                        <a:pt x="295" y="219"/>
                      </a:lnTo>
                      <a:lnTo>
                        <a:pt x="299" y="210"/>
                      </a:lnTo>
                      <a:lnTo>
                        <a:pt x="299" y="202"/>
                      </a:lnTo>
                      <a:lnTo>
                        <a:pt x="299" y="197"/>
                      </a:lnTo>
                      <a:lnTo>
                        <a:pt x="295" y="188"/>
                      </a:lnTo>
                      <a:lnTo>
                        <a:pt x="286" y="184"/>
                      </a:lnTo>
                      <a:lnTo>
                        <a:pt x="277" y="184"/>
                      </a:lnTo>
                      <a:lnTo>
                        <a:pt x="268" y="188"/>
                      </a:lnTo>
                      <a:lnTo>
                        <a:pt x="174" y="237"/>
                      </a:lnTo>
                      <a:lnTo>
                        <a:pt x="174" y="170"/>
                      </a:lnTo>
                      <a:lnTo>
                        <a:pt x="246" y="134"/>
                      </a:lnTo>
                      <a:lnTo>
                        <a:pt x="250" y="130"/>
                      </a:lnTo>
                      <a:lnTo>
                        <a:pt x="255" y="121"/>
                      </a:lnTo>
                      <a:lnTo>
                        <a:pt x="255" y="112"/>
                      </a:lnTo>
                      <a:lnTo>
                        <a:pt x="250" y="108"/>
                      </a:lnTo>
                      <a:lnTo>
                        <a:pt x="246" y="103"/>
                      </a:lnTo>
                      <a:lnTo>
                        <a:pt x="237" y="99"/>
                      </a:lnTo>
                      <a:lnTo>
                        <a:pt x="232" y="99"/>
                      </a:lnTo>
                      <a:lnTo>
                        <a:pt x="223" y="99"/>
                      </a:lnTo>
                      <a:lnTo>
                        <a:pt x="174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484360" y="544464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121" y="71"/>
                      </a:moveTo>
                      <a:lnTo>
                        <a:pt x="36" y="22"/>
                      </a:lnTo>
                      <a:lnTo>
                        <a:pt x="27" y="18"/>
                      </a:lnTo>
                      <a:lnTo>
                        <a:pt x="18" y="18"/>
                      </a:lnTo>
                      <a:lnTo>
                        <a:pt x="9" y="22"/>
                      </a:lnTo>
                      <a:lnTo>
                        <a:pt x="5" y="31"/>
                      </a:lnTo>
                      <a:lnTo>
                        <a:pt x="0" y="40"/>
                      </a:lnTo>
                      <a:lnTo>
                        <a:pt x="0" y="49"/>
                      </a:lnTo>
                      <a:lnTo>
                        <a:pt x="5" y="58"/>
                      </a:lnTo>
                      <a:lnTo>
                        <a:pt x="9" y="62"/>
                      </a:lnTo>
                      <a:lnTo>
                        <a:pt x="98" y="116"/>
                      </a:lnTo>
                      <a:lnTo>
                        <a:pt x="54" y="143"/>
                      </a:lnTo>
                      <a:lnTo>
                        <a:pt x="45" y="147"/>
                      </a:lnTo>
                      <a:lnTo>
                        <a:pt x="40" y="156"/>
                      </a:lnTo>
                      <a:lnTo>
                        <a:pt x="40" y="165"/>
                      </a:lnTo>
                      <a:lnTo>
                        <a:pt x="40" y="174"/>
                      </a:lnTo>
                      <a:lnTo>
                        <a:pt x="49" y="178"/>
                      </a:lnTo>
                      <a:lnTo>
                        <a:pt x="54" y="183"/>
                      </a:lnTo>
                      <a:lnTo>
                        <a:pt x="63" y="183"/>
                      </a:lnTo>
                      <a:lnTo>
                        <a:pt x="72" y="183"/>
                      </a:lnTo>
                      <a:lnTo>
                        <a:pt x="139" y="143"/>
                      </a:lnTo>
                      <a:lnTo>
                        <a:pt x="197" y="178"/>
                      </a:lnTo>
                      <a:lnTo>
                        <a:pt x="112" y="223"/>
                      </a:lnTo>
                      <a:lnTo>
                        <a:pt x="103" y="232"/>
                      </a:lnTo>
                      <a:lnTo>
                        <a:pt x="98" y="241"/>
                      </a:lnTo>
                      <a:lnTo>
                        <a:pt x="98" y="246"/>
                      </a:lnTo>
                      <a:lnTo>
                        <a:pt x="98" y="254"/>
                      </a:lnTo>
                      <a:lnTo>
                        <a:pt x="103" y="263"/>
                      </a:lnTo>
                      <a:lnTo>
                        <a:pt x="112" y="268"/>
                      </a:lnTo>
                      <a:lnTo>
                        <a:pt x="121" y="268"/>
                      </a:lnTo>
                      <a:lnTo>
                        <a:pt x="130" y="263"/>
                      </a:lnTo>
                      <a:lnTo>
                        <a:pt x="241" y="201"/>
                      </a:lnTo>
                      <a:lnTo>
                        <a:pt x="366" y="272"/>
                      </a:lnTo>
                      <a:lnTo>
                        <a:pt x="393" y="228"/>
                      </a:lnTo>
                      <a:lnTo>
                        <a:pt x="268" y="156"/>
                      </a:lnTo>
                      <a:lnTo>
                        <a:pt x="268" y="22"/>
                      </a:lnTo>
                      <a:lnTo>
                        <a:pt x="268" y="13"/>
                      </a:lnTo>
                      <a:lnTo>
                        <a:pt x="264" y="9"/>
                      </a:lnTo>
                      <a:lnTo>
                        <a:pt x="255" y="4"/>
                      </a:lnTo>
                      <a:lnTo>
                        <a:pt x="250" y="0"/>
                      </a:lnTo>
                      <a:lnTo>
                        <a:pt x="241" y="0"/>
                      </a:lnTo>
                      <a:lnTo>
                        <a:pt x="232" y="4"/>
                      </a:lnTo>
                      <a:lnTo>
                        <a:pt x="228" y="13"/>
                      </a:lnTo>
                      <a:lnTo>
                        <a:pt x="228" y="22"/>
                      </a:lnTo>
                      <a:lnTo>
                        <a:pt x="223" y="129"/>
                      </a:lnTo>
                      <a:lnTo>
                        <a:pt x="165" y="94"/>
                      </a:lnTo>
                      <a:lnTo>
                        <a:pt x="170" y="18"/>
                      </a:lnTo>
                      <a:lnTo>
                        <a:pt x="165" y="9"/>
                      </a:lnTo>
                      <a:lnTo>
                        <a:pt x="161" y="4"/>
                      </a:lnTo>
                      <a:lnTo>
                        <a:pt x="156" y="0"/>
                      </a:lnTo>
                      <a:lnTo>
                        <a:pt x="148" y="0"/>
                      </a:lnTo>
                      <a:lnTo>
                        <a:pt x="139" y="0"/>
                      </a:lnTo>
                      <a:lnTo>
                        <a:pt x="134" y="4"/>
                      </a:lnTo>
                      <a:lnTo>
                        <a:pt x="130" y="9"/>
                      </a:lnTo>
                      <a:lnTo>
                        <a:pt x="125" y="18"/>
                      </a:lnTo>
                      <a:lnTo>
                        <a:pt x="121" y="7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484360" y="5603760"/>
                  <a:ext cx="276120" cy="19368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98" y="156"/>
                      </a:moveTo>
                      <a:lnTo>
                        <a:pt x="9" y="205"/>
                      </a:lnTo>
                      <a:lnTo>
                        <a:pt x="0" y="214"/>
                      </a:lnTo>
                      <a:lnTo>
                        <a:pt x="0" y="223"/>
                      </a:lnTo>
                      <a:lnTo>
                        <a:pt x="0" y="228"/>
                      </a:lnTo>
                      <a:lnTo>
                        <a:pt x="0" y="237"/>
                      </a:lnTo>
                      <a:lnTo>
                        <a:pt x="9" y="246"/>
                      </a:lnTo>
                      <a:lnTo>
                        <a:pt x="14" y="250"/>
                      </a:lnTo>
                      <a:lnTo>
                        <a:pt x="23" y="250"/>
                      </a:lnTo>
                      <a:lnTo>
                        <a:pt x="36" y="250"/>
                      </a:lnTo>
                      <a:lnTo>
                        <a:pt x="125" y="196"/>
                      </a:lnTo>
                      <a:lnTo>
                        <a:pt x="125" y="250"/>
                      </a:lnTo>
                      <a:lnTo>
                        <a:pt x="125" y="263"/>
                      </a:lnTo>
                      <a:lnTo>
                        <a:pt x="130" y="268"/>
                      </a:lnTo>
                      <a:lnTo>
                        <a:pt x="139" y="272"/>
                      </a:lnTo>
                      <a:lnTo>
                        <a:pt x="143" y="277"/>
                      </a:lnTo>
                      <a:lnTo>
                        <a:pt x="152" y="277"/>
                      </a:lnTo>
                      <a:lnTo>
                        <a:pt x="161" y="272"/>
                      </a:lnTo>
                      <a:lnTo>
                        <a:pt x="165" y="263"/>
                      </a:lnTo>
                      <a:lnTo>
                        <a:pt x="165" y="254"/>
                      </a:lnTo>
                      <a:lnTo>
                        <a:pt x="165" y="178"/>
                      </a:lnTo>
                      <a:lnTo>
                        <a:pt x="223" y="143"/>
                      </a:lnTo>
                      <a:lnTo>
                        <a:pt x="223" y="241"/>
                      </a:lnTo>
                      <a:lnTo>
                        <a:pt x="223" y="250"/>
                      </a:lnTo>
                      <a:lnTo>
                        <a:pt x="228" y="259"/>
                      </a:lnTo>
                      <a:lnTo>
                        <a:pt x="237" y="263"/>
                      </a:lnTo>
                      <a:lnTo>
                        <a:pt x="246" y="268"/>
                      </a:lnTo>
                      <a:lnTo>
                        <a:pt x="255" y="268"/>
                      </a:lnTo>
                      <a:lnTo>
                        <a:pt x="259" y="263"/>
                      </a:lnTo>
                      <a:lnTo>
                        <a:pt x="264" y="254"/>
                      </a:lnTo>
                      <a:lnTo>
                        <a:pt x="268" y="246"/>
                      </a:lnTo>
                      <a:lnTo>
                        <a:pt x="268" y="116"/>
                      </a:lnTo>
                      <a:lnTo>
                        <a:pt x="393" y="44"/>
                      </a:lnTo>
                      <a:lnTo>
                        <a:pt x="366" y="0"/>
                      </a:lnTo>
                      <a:lnTo>
                        <a:pt x="241" y="71"/>
                      </a:lnTo>
                      <a:lnTo>
                        <a:pt x="125" y="4"/>
                      </a:lnTo>
                      <a:lnTo>
                        <a:pt x="121" y="0"/>
                      </a:lnTo>
                      <a:lnTo>
                        <a:pt x="112" y="0"/>
                      </a:lnTo>
                      <a:lnTo>
                        <a:pt x="103" y="4"/>
                      </a:lnTo>
                      <a:lnTo>
                        <a:pt x="98" y="9"/>
                      </a:lnTo>
                      <a:lnTo>
                        <a:pt x="94" y="18"/>
                      </a:lnTo>
                      <a:lnTo>
                        <a:pt x="94" y="26"/>
                      </a:lnTo>
                      <a:lnTo>
                        <a:pt x="98" y="35"/>
                      </a:lnTo>
                      <a:lnTo>
                        <a:pt x="107" y="40"/>
                      </a:lnTo>
                      <a:lnTo>
                        <a:pt x="197" y="98"/>
                      </a:lnTo>
                      <a:lnTo>
                        <a:pt x="139" y="129"/>
                      </a:lnTo>
                      <a:lnTo>
                        <a:pt x="72" y="89"/>
                      </a:lnTo>
                      <a:lnTo>
                        <a:pt x="63" y="85"/>
                      </a:lnTo>
                      <a:lnTo>
                        <a:pt x="58" y="85"/>
                      </a:lnTo>
                      <a:lnTo>
                        <a:pt x="49" y="89"/>
                      </a:lnTo>
                      <a:lnTo>
                        <a:pt x="45" y="98"/>
                      </a:lnTo>
                      <a:lnTo>
                        <a:pt x="45" y="102"/>
                      </a:lnTo>
                      <a:lnTo>
                        <a:pt x="45" y="111"/>
                      </a:lnTo>
                      <a:lnTo>
                        <a:pt x="45" y="120"/>
                      </a:lnTo>
                      <a:lnTo>
                        <a:pt x="54" y="125"/>
                      </a:lnTo>
                      <a:lnTo>
                        <a:pt x="98" y="15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644560" y="5619600"/>
                  <a:ext cx="209880" cy="306000"/>
                </a:xfrm>
                <a:custGeom>
                  <a:avLst/>
                  <a:gdLst/>
                  <a:ahLst/>
                  <a:rect l="l" t="t" r="r" b="b"/>
                  <a:pathLst>
                    <a:path w="299" h="438">
                      <a:moveTo>
                        <a:pt x="125" y="313"/>
                      </a:moveTo>
                      <a:lnTo>
                        <a:pt x="125" y="411"/>
                      </a:lnTo>
                      <a:lnTo>
                        <a:pt x="129" y="425"/>
                      </a:lnTo>
                      <a:lnTo>
                        <a:pt x="134" y="429"/>
                      </a:lnTo>
                      <a:lnTo>
                        <a:pt x="143" y="434"/>
                      </a:lnTo>
                      <a:lnTo>
                        <a:pt x="147" y="438"/>
                      </a:lnTo>
                      <a:lnTo>
                        <a:pt x="156" y="434"/>
                      </a:lnTo>
                      <a:lnTo>
                        <a:pt x="165" y="429"/>
                      </a:lnTo>
                      <a:lnTo>
                        <a:pt x="174" y="425"/>
                      </a:lnTo>
                      <a:lnTo>
                        <a:pt x="174" y="411"/>
                      </a:lnTo>
                      <a:lnTo>
                        <a:pt x="174" y="308"/>
                      </a:lnTo>
                      <a:lnTo>
                        <a:pt x="223" y="335"/>
                      </a:lnTo>
                      <a:lnTo>
                        <a:pt x="232" y="340"/>
                      </a:lnTo>
                      <a:lnTo>
                        <a:pt x="241" y="340"/>
                      </a:lnTo>
                      <a:lnTo>
                        <a:pt x="250" y="335"/>
                      </a:lnTo>
                      <a:lnTo>
                        <a:pt x="254" y="331"/>
                      </a:lnTo>
                      <a:lnTo>
                        <a:pt x="254" y="322"/>
                      </a:lnTo>
                      <a:lnTo>
                        <a:pt x="254" y="317"/>
                      </a:lnTo>
                      <a:lnTo>
                        <a:pt x="254" y="308"/>
                      </a:lnTo>
                      <a:lnTo>
                        <a:pt x="245" y="300"/>
                      </a:lnTo>
                      <a:lnTo>
                        <a:pt x="178" y="264"/>
                      </a:lnTo>
                      <a:lnTo>
                        <a:pt x="178" y="192"/>
                      </a:lnTo>
                      <a:lnTo>
                        <a:pt x="263" y="246"/>
                      </a:lnTo>
                      <a:lnTo>
                        <a:pt x="272" y="250"/>
                      </a:lnTo>
                      <a:lnTo>
                        <a:pt x="281" y="250"/>
                      </a:lnTo>
                      <a:lnTo>
                        <a:pt x="290" y="246"/>
                      </a:lnTo>
                      <a:lnTo>
                        <a:pt x="294" y="241"/>
                      </a:lnTo>
                      <a:lnTo>
                        <a:pt x="299" y="232"/>
                      </a:lnTo>
                      <a:lnTo>
                        <a:pt x="299" y="224"/>
                      </a:lnTo>
                      <a:lnTo>
                        <a:pt x="294" y="215"/>
                      </a:lnTo>
                      <a:lnTo>
                        <a:pt x="285" y="210"/>
                      </a:lnTo>
                      <a:lnTo>
                        <a:pt x="178" y="143"/>
                      </a:lnTo>
                      <a:lnTo>
                        <a:pt x="178" y="0"/>
                      </a:lnTo>
                      <a:lnTo>
                        <a:pt x="125" y="0"/>
                      </a:lnTo>
                      <a:lnTo>
                        <a:pt x="125" y="143"/>
                      </a:lnTo>
                      <a:lnTo>
                        <a:pt x="9" y="210"/>
                      </a:lnTo>
                      <a:lnTo>
                        <a:pt x="4" y="215"/>
                      </a:lnTo>
                      <a:lnTo>
                        <a:pt x="0" y="224"/>
                      </a:lnTo>
                      <a:lnTo>
                        <a:pt x="0" y="232"/>
                      </a:lnTo>
                      <a:lnTo>
                        <a:pt x="0" y="237"/>
                      </a:lnTo>
                      <a:lnTo>
                        <a:pt x="4" y="246"/>
                      </a:lnTo>
                      <a:lnTo>
                        <a:pt x="13" y="250"/>
                      </a:lnTo>
                      <a:lnTo>
                        <a:pt x="22" y="250"/>
                      </a:lnTo>
                      <a:lnTo>
                        <a:pt x="31" y="246"/>
                      </a:lnTo>
                      <a:lnTo>
                        <a:pt x="125" y="197"/>
                      </a:lnTo>
                      <a:lnTo>
                        <a:pt x="125" y="264"/>
                      </a:lnTo>
                      <a:lnTo>
                        <a:pt x="53" y="300"/>
                      </a:lnTo>
                      <a:lnTo>
                        <a:pt x="49" y="304"/>
                      </a:lnTo>
                      <a:lnTo>
                        <a:pt x="44" y="313"/>
                      </a:lnTo>
                      <a:lnTo>
                        <a:pt x="44" y="322"/>
                      </a:lnTo>
                      <a:lnTo>
                        <a:pt x="49" y="326"/>
                      </a:lnTo>
                      <a:lnTo>
                        <a:pt x="53" y="331"/>
                      </a:lnTo>
                      <a:lnTo>
                        <a:pt x="62" y="335"/>
                      </a:lnTo>
                      <a:lnTo>
                        <a:pt x="67" y="335"/>
                      </a:lnTo>
                      <a:lnTo>
                        <a:pt x="76" y="335"/>
                      </a:lnTo>
                      <a:lnTo>
                        <a:pt x="125" y="3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741400" y="5603760"/>
                  <a:ext cx="27612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272" y="201"/>
                      </a:moveTo>
                      <a:lnTo>
                        <a:pt x="357" y="250"/>
                      </a:lnTo>
                      <a:lnTo>
                        <a:pt x="366" y="254"/>
                      </a:lnTo>
                      <a:lnTo>
                        <a:pt x="375" y="254"/>
                      </a:lnTo>
                      <a:lnTo>
                        <a:pt x="384" y="250"/>
                      </a:lnTo>
                      <a:lnTo>
                        <a:pt x="388" y="241"/>
                      </a:lnTo>
                      <a:lnTo>
                        <a:pt x="393" y="232"/>
                      </a:lnTo>
                      <a:lnTo>
                        <a:pt x="393" y="223"/>
                      </a:lnTo>
                      <a:lnTo>
                        <a:pt x="388" y="214"/>
                      </a:lnTo>
                      <a:lnTo>
                        <a:pt x="384" y="210"/>
                      </a:lnTo>
                      <a:lnTo>
                        <a:pt x="295" y="156"/>
                      </a:lnTo>
                      <a:lnTo>
                        <a:pt x="339" y="129"/>
                      </a:lnTo>
                      <a:lnTo>
                        <a:pt x="348" y="125"/>
                      </a:lnTo>
                      <a:lnTo>
                        <a:pt x="353" y="116"/>
                      </a:lnTo>
                      <a:lnTo>
                        <a:pt x="353" y="107"/>
                      </a:lnTo>
                      <a:lnTo>
                        <a:pt x="353" y="98"/>
                      </a:lnTo>
                      <a:lnTo>
                        <a:pt x="344" y="94"/>
                      </a:lnTo>
                      <a:lnTo>
                        <a:pt x="339" y="89"/>
                      </a:lnTo>
                      <a:lnTo>
                        <a:pt x="330" y="89"/>
                      </a:lnTo>
                      <a:lnTo>
                        <a:pt x="321" y="89"/>
                      </a:lnTo>
                      <a:lnTo>
                        <a:pt x="254" y="129"/>
                      </a:lnTo>
                      <a:lnTo>
                        <a:pt x="196" y="94"/>
                      </a:lnTo>
                      <a:lnTo>
                        <a:pt x="281" y="49"/>
                      </a:lnTo>
                      <a:lnTo>
                        <a:pt x="290" y="40"/>
                      </a:lnTo>
                      <a:lnTo>
                        <a:pt x="295" y="31"/>
                      </a:lnTo>
                      <a:lnTo>
                        <a:pt x="295" y="26"/>
                      </a:lnTo>
                      <a:lnTo>
                        <a:pt x="295" y="18"/>
                      </a:lnTo>
                      <a:lnTo>
                        <a:pt x="290" y="9"/>
                      </a:lnTo>
                      <a:lnTo>
                        <a:pt x="281" y="4"/>
                      </a:lnTo>
                      <a:lnTo>
                        <a:pt x="272" y="4"/>
                      </a:lnTo>
                      <a:lnTo>
                        <a:pt x="263" y="9"/>
                      </a:lnTo>
                      <a:lnTo>
                        <a:pt x="152" y="71"/>
                      </a:lnTo>
                      <a:lnTo>
                        <a:pt x="27" y="0"/>
                      </a:lnTo>
                      <a:lnTo>
                        <a:pt x="0" y="44"/>
                      </a:lnTo>
                      <a:lnTo>
                        <a:pt x="125" y="116"/>
                      </a:lnTo>
                      <a:lnTo>
                        <a:pt x="125" y="250"/>
                      </a:lnTo>
                      <a:lnTo>
                        <a:pt x="125" y="259"/>
                      </a:lnTo>
                      <a:lnTo>
                        <a:pt x="129" y="263"/>
                      </a:lnTo>
                      <a:lnTo>
                        <a:pt x="138" y="268"/>
                      </a:lnTo>
                      <a:lnTo>
                        <a:pt x="143" y="272"/>
                      </a:lnTo>
                      <a:lnTo>
                        <a:pt x="152" y="272"/>
                      </a:lnTo>
                      <a:lnTo>
                        <a:pt x="161" y="268"/>
                      </a:lnTo>
                      <a:lnTo>
                        <a:pt x="165" y="259"/>
                      </a:lnTo>
                      <a:lnTo>
                        <a:pt x="165" y="250"/>
                      </a:lnTo>
                      <a:lnTo>
                        <a:pt x="170" y="143"/>
                      </a:lnTo>
                      <a:lnTo>
                        <a:pt x="228" y="178"/>
                      </a:lnTo>
                      <a:lnTo>
                        <a:pt x="223" y="254"/>
                      </a:lnTo>
                      <a:lnTo>
                        <a:pt x="228" y="263"/>
                      </a:lnTo>
                      <a:lnTo>
                        <a:pt x="232" y="268"/>
                      </a:lnTo>
                      <a:lnTo>
                        <a:pt x="237" y="272"/>
                      </a:lnTo>
                      <a:lnTo>
                        <a:pt x="245" y="272"/>
                      </a:lnTo>
                      <a:lnTo>
                        <a:pt x="254" y="272"/>
                      </a:lnTo>
                      <a:lnTo>
                        <a:pt x="259" y="268"/>
                      </a:lnTo>
                      <a:lnTo>
                        <a:pt x="263" y="263"/>
                      </a:lnTo>
                      <a:lnTo>
                        <a:pt x="268" y="254"/>
                      </a:lnTo>
                      <a:lnTo>
                        <a:pt x="272" y="2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741400" y="5441040"/>
                  <a:ext cx="276120" cy="19368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295" y="121"/>
                      </a:moveTo>
                      <a:lnTo>
                        <a:pt x="384" y="72"/>
                      </a:lnTo>
                      <a:lnTo>
                        <a:pt x="393" y="63"/>
                      </a:lnTo>
                      <a:lnTo>
                        <a:pt x="393" y="54"/>
                      </a:lnTo>
                      <a:lnTo>
                        <a:pt x="393" y="49"/>
                      </a:lnTo>
                      <a:lnTo>
                        <a:pt x="393" y="40"/>
                      </a:lnTo>
                      <a:lnTo>
                        <a:pt x="384" y="31"/>
                      </a:lnTo>
                      <a:lnTo>
                        <a:pt x="379" y="27"/>
                      </a:lnTo>
                      <a:lnTo>
                        <a:pt x="370" y="27"/>
                      </a:lnTo>
                      <a:lnTo>
                        <a:pt x="357" y="27"/>
                      </a:lnTo>
                      <a:lnTo>
                        <a:pt x="268" y="81"/>
                      </a:lnTo>
                      <a:lnTo>
                        <a:pt x="268" y="27"/>
                      </a:lnTo>
                      <a:lnTo>
                        <a:pt x="268" y="14"/>
                      </a:lnTo>
                      <a:lnTo>
                        <a:pt x="263" y="9"/>
                      </a:lnTo>
                      <a:lnTo>
                        <a:pt x="254" y="5"/>
                      </a:lnTo>
                      <a:lnTo>
                        <a:pt x="250" y="0"/>
                      </a:lnTo>
                      <a:lnTo>
                        <a:pt x="241" y="5"/>
                      </a:lnTo>
                      <a:lnTo>
                        <a:pt x="232" y="5"/>
                      </a:lnTo>
                      <a:lnTo>
                        <a:pt x="228" y="14"/>
                      </a:lnTo>
                      <a:lnTo>
                        <a:pt x="228" y="23"/>
                      </a:lnTo>
                      <a:lnTo>
                        <a:pt x="228" y="99"/>
                      </a:lnTo>
                      <a:lnTo>
                        <a:pt x="170" y="134"/>
                      </a:lnTo>
                      <a:lnTo>
                        <a:pt x="170" y="36"/>
                      </a:lnTo>
                      <a:lnTo>
                        <a:pt x="170" y="27"/>
                      </a:lnTo>
                      <a:lnTo>
                        <a:pt x="165" y="18"/>
                      </a:lnTo>
                      <a:lnTo>
                        <a:pt x="156" y="14"/>
                      </a:lnTo>
                      <a:lnTo>
                        <a:pt x="147" y="9"/>
                      </a:lnTo>
                      <a:lnTo>
                        <a:pt x="138" y="9"/>
                      </a:lnTo>
                      <a:lnTo>
                        <a:pt x="134" y="14"/>
                      </a:lnTo>
                      <a:lnTo>
                        <a:pt x="129" y="23"/>
                      </a:lnTo>
                      <a:lnTo>
                        <a:pt x="125" y="31"/>
                      </a:lnTo>
                      <a:lnTo>
                        <a:pt x="125" y="161"/>
                      </a:lnTo>
                      <a:lnTo>
                        <a:pt x="0" y="233"/>
                      </a:lnTo>
                      <a:lnTo>
                        <a:pt x="27" y="277"/>
                      </a:lnTo>
                      <a:lnTo>
                        <a:pt x="152" y="206"/>
                      </a:lnTo>
                      <a:lnTo>
                        <a:pt x="268" y="273"/>
                      </a:lnTo>
                      <a:lnTo>
                        <a:pt x="272" y="277"/>
                      </a:lnTo>
                      <a:lnTo>
                        <a:pt x="281" y="277"/>
                      </a:lnTo>
                      <a:lnTo>
                        <a:pt x="290" y="273"/>
                      </a:lnTo>
                      <a:lnTo>
                        <a:pt x="295" y="268"/>
                      </a:lnTo>
                      <a:lnTo>
                        <a:pt x="299" y="259"/>
                      </a:lnTo>
                      <a:lnTo>
                        <a:pt x="299" y="251"/>
                      </a:lnTo>
                      <a:lnTo>
                        <a:pt x="295" y="242"/>
                      </a:lnTo>
                      <a:lnTo>
                        <a:pt x="286" y="237"/>
                      </a:lnTo>
                      <a:lnTo>
                        <a:pt x="196" y="179"/>
                      </a:lnTo>
                      <a:lnTo>
                        <a:pt x="254" y="148"/>
                      </a:lnTo>
                      <a:lnTo>
                        <a:pt x="321" y="188"/>
                      </a:lnTo>
                      <a:lnTo>
                        <a:pt x="330" y="192"/>
                      </a:lnTo>
                      <a:lnTo>
                        <a:pt x="335" y="192"/>
                      </a:lnTo>
                      <a:lnTo>
                        <a:pt x="344" y="188"/>
                      </a:lnTo>
                      <a:lnTo>
                        <a:pt x="348" y="179"/>
                      </a:lnTo>
                      <a:lnTo>
                        <a:pt x="348" y="175"/>
                      </a:lnTo>
                      <a:lnTo>
                        <a:pt x="348" y="166"/>
                      </a:lnTo>
                      <a:lnTo>
                        <a:pt x="348" y="157"/>
                      </a:lnTo>
                      <a:lnTo>
                        <a:pt x="339" y="152"/>
                      </a:lnTo>
                      <a:lnTo>
                        <a:pt x="295" y="1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660040" y="5541120"/>
                  <a:ext cx="184680" cy="159120"/>
                </a:xfrm>
                <a:custGeom>
                  <a:avLst/>
                  <a:gdLst/>
                  <a:ahLst/>
                  <a:rect l="l" t="t" r="r" b="b"/>
                  <a:pathLst>
                    <a:path w="263" h="228">
                      <a:moveTo>
                        <a:pt x="0" y="116"/>
                      </a:moveTo>
                      <a:lnTo>
                        <a:pt x="49" y="67"/>
                      </a:lnTo>
                      <a:lnTo>
                        <a:pt x="67" y="0"/>
                      </a:lnTo>
                      <a:lnTo>
                        <a:pt x="134" y="23"/>
                      </a:lnTo>
                      <a:lnTo>
                        <a:pt x="201" y="0"/>
                      </a:lnTo>
                      <a:lnTo>
                        <a:pt x="214" y="67"/>
                      </a:lnTo>
                      <a:lnTo>
                        <a:pt x="263" y="116"/>
                      </a:lnTo>
                      <a:lnTo>
                        <a:pt x="214" y="161"/>
                      </a:lnTo>
                      <a:lnTo>
                        <a:pt x="201" y="228"/>
                      </a:lnTo>
                      <a:lnTo>
                        <a:pt x="134" y="210"/>
                      </a:lnTo>
                      <a:lnTo>
                        <a:pt x="67" y="228"/>
                      </a:lnTo>
                      <a:lnTo>
                        <a:pt x="49" y="16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e5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" name=""/>
              <p:cNvSpPr/>
              <p:nvPr/>
            </p:nvSpPr>
            <p:spPr>
              <a:xfrm>
                <a:off x="3323160" y="5316120"/>
                <a:ext cx="2676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lick to add 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017880" y="5773320"/>
                <a:ext cx="3276360" cy="0"/>
              </a:xfrm>
              <a:prstGeom prst="line">
                <a:avLst/>
              </a:prstGeom>
              <a:ln w="9360">
                <a:solidFill>
                  <a:srgbClr val="7ba6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340000" y="2349360"/>
            <a:ext cx="4724280" cy="3276720"/>
            <a:chOff x="2340000" y="2349360"/>
            <a:chExt cx="4724280" cy="3276720"/>
          </a:xfrm>
        </p:grpSpPr>
        <p:grpSp>
          <p:nvGrpSpPr>
            <p:cNvPr id="517" name=""/>
            <p:cNvGrpSpPr/>
            <p:nvPr/>
          </p:nvGrpSpPr>
          <p:grpSpPr>
            <a:xfrm>
              <a:off x="2340000" y="2349360"/>
              <a:ext cx="4724280" cy="685800"/>
              <a:chOff x="2340000" y="2349360"/>
              <a:chExt cx="4724280" cy="685800"/>
            </a:xfrm>
          </p:grpSpPr>
          <p:sp>
            <p:nvSpPr>
              <p:cNvPr id="518" name=""/>
              <p:cNvSpPr/>
              <p:nvPr/>
            </p:nvSpPr>
            <p:spPr>
              <a:xfrm>
                <a:off x="2720880" y="2468520"/>
                <a:ext cx="4343400" cy="45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99"/>
                  </a:gs>
                  <a:gs pos="100000">
                    <a:srgbClr val="d2d2e8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99192" dir="2381944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340000" y="2349360"/>
                <a:ext cx="685800" cy="685800"/>
              </a:xfrm>
              <a:prstGeom prst="diamond">
                <a:avLst/>
              </a:prstGeom>
              <a:solidFill>
                <a:srgbClr val="333399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949480" y="2523960"/>
                <a:ext cx="342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495880" y="2448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340000" y="3187440"/>
              <a:ext cx="4724280" cy="685800"/>
              <a:chOff x="2340000" y="3187440"/>
              <a:chExt cx="4724280" cy="685800"/>
            </a:xfrm>
          </p:grpSpPr>
          <p:sp>
            <p:nvSpPr>
              <p:cNvPr id="523" name=""/>
              <p:cNvSpPr/>
              <p:nvPr/>
            </p:nvSpPr>
            <p:spPr>
              <a:xfrm>
                <a:off x="2720880" y="3306600"/>
                <a:ext cx="4343400" cy="45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eff7f8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99192" dir="2381944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340000" y="3187440"/>
                <a:ext cx="685800" cy="685800"/>
              </a:xfrm>
              <a:prstGeom prst="diamond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949480" y="3362040"/>
                <a:ext cx="342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95880" y="3286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2340000" y="4025880"/>
              <a:ext cx="4724280" cy="685800"/>
              <a:chOff x="2340000" y="4025880"/>
              <a:chExt cx="4724280" cy="685800"/>
            </a:xfrm>
          </p:grpSpPr>
          <p:sp>
            <p:nvSpPr>
              <p:cNvPr id="528" name=""/>
              <p:cNvSpPr/>
              <p:nvPr/>
            </p:nvSpPr>
            <p:spPr>
              <a:xfrm>
                <a:off x="2720880" y="4145040"/>
                <a:ext cx="4343400" cy="45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c8c8c8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99192" dir="2381944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340000" y="4025880"/>
                <a:ext cx="685800" cy="685800"/>
              </a:xfrm>
              <a:prstGeom prst="diamond">
                <a:avLst/>
              </a:prstGeom>
              <a:solidFill>
                <a:srgbClr val="009999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949480" y="4200480"/>
                <a:ext cx="342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495880" y="4124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2340000" y="4940280"/>
              <a:ext cx="4724280" cy="685800"/>
              <a:chOff x="2340000" y="4940280"/>
              <a:chExt cx="4724280" cy="685800"/>
            </a:xfrm>
          </p:grpSpPr>
          <p:sp>
            <p:nvSpPr>
              <p:cNvPr id="533" name=""/>
              <p:cNvSpPr/>
              <p:nvPr/>
            </p:nvSpPr>
            <p:spPr>
              <a:xfrm>
                <a:off x="2720880" y="5059440"/>
                <a:ext cx="4343400" cy="45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e8f3c8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  <a:effectLst>
                <a:outerShdw dist="99192" dir="2381944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40000" y="4940280"/>
                <a:ext cx="685800" cy="685800"/>
              </a:xfrm>
              <a:prstGeom prst="diamond">
                <a:avLst/>
              </a:prstGeom>
              <a:solidFill>
                <a:srgbClr val="99cc00"/>
              </a:solidFill>
              <a:ln w="2556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49480" y="5114880"/>
                <a:ext cx="3429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495880" y="5038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535720" y="356868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16000" y="356868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211400" y="3768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195720" y="347184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c7cbd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847400" y="347184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dddd"/>
              </a:gs>
              <a:gs pos="100000">
                <a:srgbClr val="00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021120" y="1844640"/>
            <a:ext cx="2998440" cy="1601640"/>
            <a:chOff x="3021120" y="1844640"/>
            <a:chExt cx="2998440" cy="1601640"/>
          </a:xfrm>
        </p:grpSpPr>
        <p:grpSp>
          <p:nvGrpSpPr>
            <p:cNvPr id="545" name=""/>
            <p:cNvGrpSpPr/>
            <p:nvPr/>
          </p:nvGrpSpPr>
          <p:grpSpPr>
            <a:xfrm>
              <a:off x="3021120" y="1987560"/>
              <a:ext cx="2998440" cy="1458720"/>
              <a:chOff x="3021120" y="1987560"/>
              <a:chExt cx="2998440" cy="1458720"/>
            </a:xfrm>
          </p:grpSpPr>
          <p:sp>
            <p:nvSpPr>
              <p:cNvPr id="546" name=""/>
              <p:cNvSpPr/>
              <p:nvPr/>
            </p:nvSpPr>
            <p:spPr>
              <a:xfrm>
                <a:off x="3053880" y="203400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5a6c6d"/>
                  </a:gs>
                  <a:gs pos="100000">
                    <a:srgbClr val="bbe0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021120" y="1987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dff0f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3162600" y="184464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97520" y="185256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a5dada"/>
                </a:gs>
                <a:gs pos="100000">
                  <a:srgbClr val="00999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24520" y="186552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48235"/>
                  </a:srgbClr>
                </a:gs>
                <a:gs pos="100000">
                  <a:srgbClr val="0078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56280" y="189252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3855960" y="2044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07080" y="3797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11280" y="1557360"/>
            <a:ext cx="7923240" cy="4968720"/>
            <a:chOff x="611280" y="1557360"/>
            <a:chExt cx="7923240" cy="4968720"/>
          </a:xfrm>
        </p:grpSpPr>
        <p:sp>
          <p:nvSpPr>
            <p:cNvPr id="557" name=""/>
            <p:cNvSpPr/>
            <p:nvPr/>
          </p:nvSpPr>
          <p:spPr>
            <a:xfrm>
              <a:off x="3346560" y="3430440"/>
              <a:ext cx="2450880" cy="3095640"/>
            </a:xfrm>
            <a:custGeom>
              <a:avLst/>
              <a:gdLst>
                <a:gd name="textAreaLeft" fmla="*/ 119520 w 2450880"/>
                <a:gd name="textAreaRight" fmla="*/ 2331360 w 2450880"/>
                <a:gd name="textAreaTop" fmla="*/ 119520 h 3095640"/>
                <a:gd name="textAreaBottom" fmla="*/ 2976120 h 3095640"/>
              </a:gdLst>
              <a:ahLst/>
              <a:rect l="textAreaLeft" t="textAreaTop" r="textAreaRight" b="textAreaBottom"/>
              <a:pathLst>
                <a:path w="21600" h="27282">
                  <a:moveTo>
                    <a:pt x="3600" y="0"/>
                  </a:moveTo>
                  <a:arcTo wR="3600" hR="3600" stAng="16200000" swAng="-5400000"/>
                  <a:lnTo>
                    <a:pt x="0" y="23682"/>
                  </a:lnTo>
                  <a:arcTo wR="3600" hR="3600" stAng="10800000" swAng="-5400000"/>
                  <a:lnTo>
                    <a:pt x="18000" y="272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be0e3"/>
                  </a:solidFill>
                  <a:latin typeface="Verdana"/>
                  <a:ea typeface="Gulim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280" y="3430440"/>
              <a:ext cx="2450880" cy="3095640"/>
            </a:xfrm>
            <a:custGeom>
              <a:avLst/>
              <a:gdLst>
                <a:gd name="textAreaLeft" fmla="*/ 119520 w 2450880"/>
                <a:gd name="textAreaRight" fmla="*/ 2331360 w 2450880"/>
                <a:gd name="textAreaTop" fmla="*/ 119520 h 3095640"/>
                <a:gd name="textAreaBottom" fmla="*/ 2976120 h 3095640"/>
              </a:gdLst>
              <a:ahLst/>
              <a:rect l="textAreaLeft" t="textAreaTop" r="textAreaRight" b="textAreaBottom"/>
              <a:pathLst>
                <a:path w="21600" h="27282">
                  <a:moveTo>
                    <a:pt x="3600" y="0"/>
                  </a:moveTo>
                  <a:arcTo wR="3600" hR="3600" stAng="16200000" swAng="-5400000"/>
                  <a:lnTo>
                    <a:pt x="0" y="23682"/>
                  </a:lnTo>
                  <a:arcTo wR="3600" hR="3600" stAng="10800000" swAng="-5400000"/>
                  <a:lnTo>
                    <a:pt x="18000" y="272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be0e3"/>
                  </a:solidFill>
                  <a:latin typeface="Verdana"/>
                  <a:ea typeface="Gulim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2701800" y="1701720"/>
              <a:ext cx="3597120" cy="933120"/>
              <a:chOff x="2701800" y="1701720"/>
              <a:chExt cx="3597120" cy="933120"/>
            </a:xfrm>
          </p:grpSpPr>
          <p:sp>
            <p:nvSpPr>
              <p:cNvPr id="560" name=""/>
              <p:cNvSpPr/>
              <p:nvPr/>
            </p:nvSpPr>
            <p:spPr>
              <a:xfrm>
                <a:off x="2741040" y="1731240"/>
                <a:ext cx="3557880" cy="90360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768d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701800" y="1701720"/>
                <a:ext cx="3557880" cy="9032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dff0f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2774880" y="1557360"/>
              <a:ext cx="3384360" cy="934920"/>
              <a:chOff x="2774880" y="1557360"/>
              <a:chExt cx="3384360" cy="934920"/>
            </a:xfrm>
          </p:grpSpPr>
          <p:sp>
            <p:nvSpPr>
              <p:cNvPr id="563" name=""/>
              <p:cNvSpPr/>
              <p:nvPr/>
            </p:nvSpPr>
            <p:spPr>
              <a:xfrm>
                <a:off x="2774880" y="1557360"/>
                <a:ext cx="3384360" cy="9349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817720" y="1562400"/>
                <a:ext cx="3303360" cy="911880"/>
              </a:xfrm>
              <a:prstGeom prst="ellipse">
                <a:avLst/>
              </a:prstGeom>
              <a:gradFill rotWithShape="0">
                <a:gsLst>
                  <a:gs pos="0">
                    <a:srgbClr val="daeca5"/>
                  </a:gs>
                  <a:gs pos="100000">
                    <a:srgbClr val="99cc00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853000" y="1571400"/>
                <a:ext cx="3141000" cy="85176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48235"/>
                    </a:srgbClr>
                  </a:gs>
                  <a:gs pos="100000">
                    <a:srgbClr val="78a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036960" y="1595160"/>
                <a:ext cx="2792160" cy="69120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3 Part Concep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6083280" y="3430440"/>
              <a:ext cx="2451240" cy="3095640"/>
            </a:xfrm>
            <a:custGeom>
              <a:avLst/>
              <a:gdLst>
                <a:gd name="textAreaLeft" fmla="*/ 119520 w 2451240"/>
                <a:gd name="textAreaRight" fmla="*/ 2331720 w 2451240"/>
                <a:gd name="textAreaTop" fmla="*/ 119520 h 3095640"/>
                <a:gd name="textAreaBottom" fmla="*/ 2976120 h 3095640"/>
              </a:gdLst>
              <a:ahLst/>
              <a:rect l="textAreaLeft" t="textAreaTop" r="textAreaRight" b="textAreaBottom"/>
              <a:pathLst>
                <a:path w="21600" h="27278">
                  <a:moveTo>
                    <a:pt x="3600" y="0"/>
                  </a:moveTo>
                  <a:arcTo wR="3600" hR="3600" stAng="16200000" swAng="-5400000"/>
                  <a:lnTo>
                    <a:pt x="0" y="23678"/>
                  </a:lnTo>
                  <a:arcTo wR="3600" hR="3600" stAng="10800000" swAng="-5400000"/>
                  <a:lnTo>
                    <a:pt x="18000" y="272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be0e3"/>
                  </a:solidFill>
                  <a:latin typeface="Verdana"/>
                  <a:ea typeface="Gulim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6229800">
              <a:off x="1837440" y="2133000"/>
              <a:ext cx="790560" cy="107964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e8f4f5"/>
                </a:gs>
                <a:gs pos="100000">
                  <a:srgbClr val="bbe0e3"/>
                </a:gs>
              </a:gsLst>
              <a:lin ang="170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 rot="3382800">
              <a:off x="6243840" y="2222280"/>
              <a:ext cx="1131840" cy="87156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d5d5d5"/>
                </a:gs>
                <a:gs pos="100000">
                  <a:srgbClr val="808080"/>
                </a:gs>
              </a:gsLst>
              <a:lin ang="741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286160" y="2638440"/>
              <a:ext cx="576360" cy="719280"/>
            </a:xfrm>
            <a:prstGeom prst="downArrow">
              <a:avLst>
                <a:gd name="adj1" fmla="val 30028"/>
                <a:gd name="adj2" fmla="val 72440"/>
              </a:avLst>
            </a:prstGeom>
            <a:gradFill rotWithShape="0">
              <a:gsLst>
                <a:gs pos="0">
                  <a:srgbClr val="44b3b3">
                    <a:alpha val="40000"/>
                  </a:srgbClr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574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7d7d7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0056200">
              <a:off x="43430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056200">
              <a:off x="70099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056200">
              <a:off x="28951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0056200">
              <a:off x="54860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0056200">
              <a:off x="20570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46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212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d2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34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2668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2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3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258920" y="1700280"/>
            <a:ext cx="6933960" cy="4476240"/>
            <a:chOff x="1258920" y="1700280"/>
            <a:chExt cx="6933960" cy="4476240"/>
          </a:xfrm>
        </p:grpSpPr>
        <p:sp>
          <p:nvSpPr>
            <p:cNvPr id="597" name=""/>
            <p:cNvSpPr/>
            <p:nvPr/>
          </p:nvSpPr>
          <p:spPr>
            <a:xfrm>
              <a:off x="1258920" y="21380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26000" y="350964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0876400">
              <a:off x="3355920" y="5128920"/>
              <a:ext cx="1438200" cy="6663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287520" y="3909960"/>
              <a:ext cx="1704960" cy="17060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308400" y="3919320"/>
              <a:ext cx="1665000" cy="1663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25680" y="393516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17840" y="3979800"/>
              <a:ext cx="1409760" cy="1261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05480" y="453672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0826600">
              <a:off x="1512720" y="4519080"/>
              <a:ext cx="1133640" cy="6091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1436760" y="3528720"/>
              <a:ext cx="1371240" cy="1440720"/>
              <a:chOff x="1436760" y="3528720"/>
              <a:chExt cx="1371240" cy="1440720"/>
            </a:xfrm>
          </p:grpSpPr>
          <p:sp>
            <p:nvSpPr>
              <p:cNvPr id="607" name=""/>
              <p:cNvSpPr/>
              <p:nvPr/>
            </p:nvSpPr>
            <p:spPr>
              <a:xfrm>
                <a:off x="1436760" y="3528720"/>
                <a:ext cx="1371240" cy="1440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454400" y="3537000"/>
                <a:ext cx="1337400" cy="1404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467720" y="3550680"/>
                <a:ext cx="1271880" cy="1313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539360" y="358740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717200" y="403452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1403280" y="2763720"/>
              <a:ext cx="914400" cy="5328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79600" y="215712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92200" y="216180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503360" y="2172960"/>
              <a:ext cx="950760" cy="933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557360" y="2198520"/>
              <a:ext cx="847440" cy="756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676520" y="2506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70120" y="2233440"/>
              <a:ext cx="685800" cy="22824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92160" y="1700280"/>
              <a:ext cx="682920" cy="682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01880" y="1703160"/>
              <a:ext cx="665280" cy="666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08360" y="1709640"/>
              <a:ext cx="633240" cy="6217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44720" y="1728720"/>
              <a:ext cx="563400" cy="502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862720" y="1923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627" name="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070b7"/>
                </a:gs>
                <a:gs pos="100000">
                  <a:srgbClr val="333399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cb7b7"/>
                </a:gs>
                <a:gs pos="100000">
                  <a:srgbClr val="009999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ee8ea"/>
                </a:gs>
                <a:gs pos="100000">
                  <a:srgbClr val="bbe0e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8ea"/>
                </a:gs>
                <a:gs pos="100000">
                  <a:srgbClr val="bbe0e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cb7b7"/>
                </a:gs>
                <a:gs pos="100000">
                  <a:srgbClr val="009999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070b7"/>
                </a:gs>
                <a:gs pos="100000">
                  <a:srgbClr val="333399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2395440" y="907920"/>
            <a:ext cx="9253440" cy="5257440"/>
            <a:chOff x="-2395440" y="907920"/>
            <a:chExt cx="9253440" cy="5257440"/>
          </a:xfrm>
        </p:grpSpPr>
        <p:sp>
          <p:nvSpPr>
            <p:cNvPr id="46" name=""/>
            <p:cNvSpPr/>
            <p:nvPr/>
          </p:nvSpPr>
          <p:spPr>
            <a:xfrm rot="5400000">
              <a:off x="-2422440" y="1367640"/>
              <a:ext cx="4824360" cy="4770360"/>
            </a:xfrm>
            <a:prstGeom prst="blockArc">
              <a:avLst>
                <a:gd name="adj1" fmla="val 10852167"/>
                <a:gd name="adj2" fmla="val 21547833"/>
                <a:gd name="adj3" fmla="val 1491"/>
              </a:avLst>
            </a:prstGeom>
            <a:gradFill rotWithShape="0">
              <a:gsLst>
                <a:gs pos="0">
                  <a:srgbClr val="c4c4c4"/>
                </a:gs>
                <a:gs pos="50000">
                  <a:srgbClr val="808080"/>
                </a:gs>
                <a:gs pos="100000">
                  <a:srgbClr val="c4c4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5400000">
              <a:off x="-2016360" y="1803960"/>
              <a:ext cx="4032360" cy="3929040"/>
            </a:xfrm>
            <a:prstGeom prst="blockArc">
              <a:avLst>
                <a:gd name="adj1" fmla="val 10800000"/>
                <a:gd name="adj2" fmla="val 0"/>
                <a:gd name="adj3" fmla="val 49741"/>
              </a:avLst>
            </a:prstGeom>
            <a:gradFill rotWithShape="0">
              <a:gsLst>
                <a:gs pos="0">
                  <a:srgbClr val="000000">
                    <a:alpha val="56078"/>
                  </a:srgbClr>
                </a:gs>
                <a:gs pos="100000">
                  <a:srgbClr val="ffff00">
                    <a:alpha val="48235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22320" y="4992840"/>
              <a:ext cx="441972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17680" y="4165560"/>
              <a:ext cx="441972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3352680"/>
              <a:ext cx="441972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0" y="2484360"/>
              <a:ext cx="441972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65440" y="1714680"/>
              <a:ext cx="4419360" cy="50796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447920" y="1803240"/>
              <a:ext cx="380880" cy="381240"/>
              <a:chOff x="1447920" y="1803240"/>
              <a:chExt cx="380880" cy="381240"/>
            </a:xfrm>
          </p:grpSpPr>
          <p:sp>
            <p:nvSpPr>
              <p:cNvPr id="54" name=""/>
              <p:cNvSpPr/>
              <p:nvPr/>
            </p:nvSpPr>
            <p:spPr>
              <a:xfrm>
                <a:off x="1447920" y="180324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469520" y="1824480"/>
                <a:ext cx="33732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489320" y="18446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99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89320" y="1844640"/>
                <a:ext cx="297720" cy="2984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08760" y="18640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005252"/>
                  </a:gs>
                  <a:gs pos="50000">
                    <a:srgbClr val="009999"/>
                  </a:gs>
                  <a:gs pos="100000">
                    <a:srgbClr val="0052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08760" y="1864080"/>
                <a:ext cx="258480" cy="25920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1981080" y="2590920"/>
              <a:ext cx="381240" cy="380880"/>
              <a:chOff x="1981080" y="2590920"/>
              <a:chExt cx="381240" cy="380880"/>
            </a:xfrm>
          </p:grpSpPr>
          <p:sp>
            <p:nvSpPr>
              <p:cNvPr id="61" name=""/>
              <p:cNvSpPr/>
              <p:nvPr/>
            </p:nvSpPr>
            <p:spPr>
              <a:xfrm>
                <a:off x="1981080" y="2590920"/>
                <a:ext cx="38124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002680" y="2612160"/>
                <a:ext cx="33768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022480" y="2632320"/>
                <a:ext cx="29808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99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22480" y="2632320"/>
                <a:ext cx="298080" cy="298080"/>
              </a:xfrm>
              <a:prstGeom prst="ellipse">
                <a:avLst/>
              </a:prstGeom>
              <a:gradFill rotWithShape="0">
                <a:gsLst>
                  <a:gs pos="0">
                    <a:srgbClr val="48be67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042280" y="2651760"/>
                <a:ext cx="258840" cy="258840"/>
              </a:xfrm>
              <a:prstGeom prst="ellipse">
                <a:avLst/>
              </a:prstGeom>
              <a:gradFill rotWithShape="0">
                <a:gsLst>
                  <a:gs pos="0">
                    <a:srgbClr val="005252"/>
                  </a:gs>
                  <a:gs pos="50000">
                    <a:srgbClr val="009999"/>
                  </a:gs>
                  <a:gs pos="100000">
                    <a:srgbClr val="0052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42280" y="2651760"/>
                <a:ext cx="258840" cy="258840"/>
              </a:xfrm>
              <a:prstGeom prst="ellipse">
                <a:avLst/>
              </a:prstGeom>
              <a:gradFill rotWithShape="0">
                <a:gsLst>
                  <a:gs pos="0">
                    <a:srgbClr val="225c31"/>
                  </a:gs>
                  <a:gs pos="100000">
                    <a:srgbClr val="48be6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133720" y="3429000"/>
              <a:ext cx="380880" cy="380880"/>
              <a:chOff x="2133720" y="3429000"/>
              <a:chExt cx="380880" cy="380880"/>
            </a:xfrm>
          </p:grpSpPr>
          <p:sp>
            <p:nvSpPr>
              <p:cNvPr id="68" name=""/>
              <p:cNvSpPr/>
              <p:nvPr/>
            </p:nvSpPr>
            <p:spPr>
              <a:xfrm>
                <a:off x="2133720" y="3429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55320" y="3450240"/>
                <a:ext cx="337320" cy="33732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75120" y="347040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99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75120" y="3470400"/>
                <a:ext cx="297720" cy="298080"/>
              </a:xfrm>
              <a:prstGeom prst="ellipse">
                <a:avLst/>
              </a:prstGeom>
              <a:gradFill rotWithShape="0">
                <a:gsLst>
                  <a:gs pos="0">
                    <a:srgbClr val="21b3e1"/>
                  </a:gs>
                  <a:gs pos="100000">
                    <a:srgbClr val="0f526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4560" y="348984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005252"/>
                  </a:gs>
                  <a:gs pos="50000">
                    <a:srgbClr val="009999"/>
                  </a:gs>
                  <a:gs pos="100000">
                    <a:srgbClr val="0052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4560" y="3489840"/>
                <a:ext cx="258480" cy="258840"/>
              </a:xfrm>
              <a:prstGeom prst="ellipse">
                <a:avLst/>
              </a:prstGeom>
              <a:gradFill rotWithShape="0">
                <a:gsLst>
                  <a:gs pos="0">
                    <a:srgbClr val="0f566c"/>
                  </a:gs>
                  <a:gs pos="100000">
                    <a:srgbClr val="21b3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1981080" y="4267080"/>
              <a:ext cx="381240" cy="381240"/>
              <a:chOff x="1981080" y="4267080"/>
              <a:chExt cx="381240" cy="381240"/>
            </a:xfrm>
          </p:grpSpPr>
          <p:sp>
            <p:nvSpPr>
              <p:cNvPr id="75" name=""/>
              <p:cNvSpPr/>
              <p:nvPr/>
            </p:nvSpPr>
            <p:spPr>
              <a:xfrm>
                <a:off x="1981080" y="42670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02680" y="4288320"/>
                <a:ext cx="33768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022480" y="4308480"/>
                <a:ext cx="29808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99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022480" y="4308480"/>
                <a:ext cx="298080" cy="298440"/>
              </a:xfrm>
              <a:prstGeom prst="ellipse">
                <a:avLst/>
              </a:prstGeom>
              <a:gradFill rotWithShape="0">
                <a:gsLst>
                  <a:gs pos="0">
                    <a:srgbClr val="8d67e1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042280" y="4327920"/>
                <a:ext cx="258840" cy="259200"/>
              </a:xfrm>
              <a:prstGeom prst="ellipse">
                <a:avLst/>
              </a:prstGeom>
              <a:gradFill rotWithShape="0">
                <a:gsLst>
                  <a:gs pos="0">
                    <a:srgbClr val="005252"/>
                  </a:gs>
                  <a:gs pos="50000">
                    <a:srgbClr val="009999"/>
                  </a:gs>
                  <a:gs pos="100000">
                    <a:srgbClr val="0052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042280" y="4327920"/>
                <a:ext cx="258840" cy="259200"/>
              </a:xfrm>
              <a:prstGeom prst="ellipse">
                <a:avLst/>
              </a:prstGeom>
              <a:gradFill rotWithShape="0">
                <a:gsLst>
                  <a:gs pos="0">
                    <a:srgbClr val="44316c"/>
                  </a:gs>
                  <a:gs pos="100000">
                    <a:srgbClr val="8d67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523880" y="5041800"/>
              <a:ext cx="355680" cy="381240"/>
              <a:chOff x="1523880" y="5041800"/>
              <a:chExt cx="355680" cy="381240"/>
            </a:xfrm>
          </p:grpSpPr>
          <p:sp>
            <p:nvSpPr>
              <p:cNvPr id="82" name=""/>
              <p:cNvSpPr/>
              <p:nvPr/>
            </p:nvSpPr>
            <p:spPr>
              <a:xfrm>
                <a:off x="1523880" y="5041800"/>
                <a:ext cx="355680" cy="38124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544040" y="5063040"/>
                <a:ext cx="315000" cy="3376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562400" y="5083200"/>
                <a:ext cx="277920" cy="298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99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562400" y="5083200"/>
                <a:ext cx="277920" cy="298440"/>
              </a:xfrm>
              <a:prstGeom prst="ellipse">
                <a:avLst/>
              </a:prstGeom>
              <a:gradFill rotWithShape="0">
                <a:gsLst>
                  <a:gs pos="0">
                    <a:srgbClr val="e35e23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80760" y="5102640"/>
                <a:ext cx="241560" cy="259200"/>
              </a:xfrm>
              <a:prstGeom prst="ellipse">
                <a:avLst/>
              </a:prstGeom>
              <a:gradFill rotWithShape="0">
                <a:gsLst>
                  <a:gs pos="0">
                    <a:srgbClr val="005252"/>
                  </a:gs>
                  <a:gs pos="50000">
                    <a:srgbClr val="009999"/>
                  </a:gs>
                  <a:gs pos="100000">
                    <a:srgbClr val="0052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580760" y="5102640"/>
                <a:ext cx="241560" cy="259200"/>
              </a:xfrm>
              <a:prstGeom prst="ellipse">
                <a:avLst/>
              </a:prstGeom>
              <a:gradFill rotWithShape="0">
                <a:gsLst>
                  <a:gs pos="0">
                    <a:srgbClr val="6d2d10"/>
                  </a:gs>
                  <a:gs pos="100000">
                    <a:srgbClr val="e35e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635280" y="90792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Arial"/>
                </a:rPr>
                <a:t>目 </a:t>
              </a: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ff0066"/>
                  </a:solidFill>
                  <a:latin typeface="Arial"/>
                </a:rPr>
                <a:t>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611280" y="1628640"/>
            <a:ext cx="7991280" cy="4179240"/>
            <a:chOff x="611280" y="1628640"/>
            <a:chExt cx="7991280" cy="4179240"/>
          </a:xfrm>
        </p:grpSpPr>
        <p:sp>
          <p:nvSpPr>
            <p:cNvPr id="636" name=""/>
            <p:cNvSpPr/>
            <p:nvPr/>
          </p:nvSpPr>
          <p:spPr>
            <a:xfrm rot="5400000">
              <a:off x="2050560" y="2954160"/>
              <a:ext cx="574560" cy="431640"/>
            </a:xfrm>
            <a:prstGeom prst="upArrow">
              <a:avLst>
                <a:gd name="adj1" fmla="val 43389"/>
                <a:gd name="adj2" fmla="val 4375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5400000">
              <a:off x="4141800" y="2954160"/>
              <a:ext cx="574560" cy="432000"/>
            </a:xfrm>
            <a:prstGeom prst="upArrow">
              <a:avLst>
                <a:gd name="adj1" fmla="val 43389"/>
                <a:gd name="adj2" fmla="val 4375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5400000">
              <a:off x="6186600" y="2954160"/>
              <a:ext cx="574560" cy="432000"/>
            </a:xfrm>
            <a:prstGeom prst="upArrow">
              <a:avLst>
                <a:gd name="adj1" fmla="val 43389"/>
                <a:gd name="adj2" fmla="val 4375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03280" y="1628640"/>
              <a:ext cx="6193080" cy="50508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4 Part 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4916520" y="2494080"/>
              <a:ext cx="1332000" cy="1296720"/>
              <a:chOff x="4916520" y="2494080"/>
              <a:chExt cx="1332000" cy="1296720"/>
            </a:xfrm>
          </p:grpSpPr>
          <p:sp>
            <p:nvSpPr>
              <p:cNvPr id="641" name=""/>
              <p:cNvSpPr/>
              <p:nvPr/>
            </p:nvSpPr>
            <p:spPr>
              <a:xfrm>
                <a:off x="4916520" y="2494080"/>
                <a:ext cx="1332000" cy="1296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99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916520" y="2494080"/>
                <a:ext cx="1332000" cy="129672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003640" y="2578680"/>
                <a:ext cx="1157400" cy="1126800"/>
              </a:xfrm>
              <a:prstGeom prst="ellipse">
                <a:avLst/>
              </a:prstGeom>
              <a:gradFill rotWithShape="0">
                <a:gsLst>
                  <a:gs pos="0">
                    <a:srgbClr val="005252"/>
                  </a:gs>
                  <a:gs pos="50000">
                    <a:srgbClr val="009999"/>
                  </a:gs>
                  <a:gs pos="100000">
                    <a:srgbClr val="0052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03640" y="2578680"/>
                <a:ext cx="1157400" cy="1126800"/>
              </a:xfrm>
              <a:prstGeom prst="ellipse">
                <a:avLst/>
              </a:prstGeom>
              <a:gradFill rotWithShape="0">
                <a:gsLst>
                  <a:gs pos="0">
                    <a:srgbClr val="004a4a"/>
                  </a:gs>
                  <a:gs pos="100000">
                    <a:srgbClr val="0099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061600" y="2635200"/>
                <a:ext cx="1041840" cy="101412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826920" y="2494080"/>
              <a:ext cx="1332000" cy="1296720"/>
              <a:chOff x="826920" y="2494080"/>
              <a:chExt cx="1332000" cy="1296720"/>
            </a:xfrm>
          </p:grpSpPr>
          <p:sp>
            <p:nvSpPr>
              <p:cNvPr id="647" name=""/>
              <p:cNvSpPr/>
              <p:nvPr/>
            </p:nvSpPr>
            <p:spPr>
              <a:xfrm>
                <a:off x="826920" y="2494080"/>
                <a:ext cx="1332000" cy="1296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33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26920" y="2494080"/>
                <a:ext cx="1332000" cy="12967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914040" y="2578680"/>
                <a:ext cx="1157400" cy="1126800"/>
              </a:xfrm>
              <a:prstGeom prst="ellipse">
                <a:avLst/>
              </a:prstGeom>
              <a:gradFill rotWithShape="0">
                <a:gsLst>
                  <a:gs pos="0">
                    <a:srgbClr val="1b1b52"/>
                  </a:gs>
                  <a:gs pos="50000">
                    <a:srgbClr val="333399"/>
                  </a:gs>
                  <a:gs pos="100000">
                    <a:srgbClr val="1b1b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14040" y="2578680"/>
                <a:ext cx="1157400" cy="1126800"/>
              </a:xfrm>
              <a:prstGeom prst="ellipse">
                <a:avLst/>
              </a:prstGeom>
              <a:gradFill rotWithShape="0">
                <a:gsLst>
                  <a:gs pos="0">
                    <a:srgbClr val="18184a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972000" y="2635200"/>
                <a:ext cx="1041840" cy="1014120"/>
              </a:xfrm>
              <a:prstGeom prst="ellipse">
                <a:avLst/>
              </a:prstGeom>
              <a:gradFill rotWithShape="0">
                <a:gsLst>
                  <a:gs pos="0">
                    <a:srgbClr val="171746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6983280" y="2494080"/>
              <a:ext cx="1332000" cy="1296720"/>
              <a:chOff x="6983280" y="2494080"/>
              <a:chExt cx="1332000" cy="1296720"/>
            </a:xfrm>
          </p:grpSpPr>
          <p:sp>
            <p:nvSpPr>
              <p:cNvPr id="653" name=""/>
              <p:cNvSpPr/>
              <p:nvPr/>
            </p:nvSpPr>
            <p:spPr>
              <a:xfrm>
                <a:off x="6983280" y="2494080"/>
                <a:ext cx="1332000" cy="1296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bbe0e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83280" y="2494080"/>
                <a:ext cx="1332000" cy="129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70400" y="2578680"/>
                <a:ext cx="1157400" cy="1126800"/>
              </a:xfrm>
              <a:prstGeom prst="ellipse">
                <a:avLst/>
              </a:prstGeom>
              <a:gradFill rotWithShape="0">
                <a:gsLst>
                  <a:gs pos="0">
                    <a:srgbClr val="64787a"/>
                  </a:gs>
                  <a:gs pos="50000">
                    <a:srgbClr val="bbe0e3"/>
                  </a:gs>
                  <a:gs pos="100000">
                    <a:srgbClr val="64787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70400" y="2578680"/>
                <a:ext cx="1157400" cy="1126800"/>
              </a:xfrm>
              <a:prstGeom prst="ellipse">
                <a:avLst/>
              </a:prstGeom>
              <a:gradFill rotWithShape="0">
                <a:gsLst>
                  <a:gs pos="0">
                    <a:srgbClr val="5a6c6d"/>
                  </a:gs>
                  <a:gs pos="100000">
                    <a:srgbClr val="bbe0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28360" y="2635200"/>
                <a:ext cx="1041840" cy="101412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844720" y="2494080"/>
              <a:ext cx="1332000" cy="1296720"/>
              <a:chOff x="2844720" y="2494080"/>
              <a:chExt cx="1332000" cy="1296720"/>
            </a:xfrm>
          </p:grpSpPr>
          <p:sp>
            <p:nvSpPr>
              <p:cNvPr id="659" name=""/>
              <p:cNvSpPr/>
              <p:nvPr/>
            </p:nvSpPr>
            <p:spPr>
              <a:xfrm>
                <a:off x="2844720" y="2494080"/>
                <a:ext cx="1332000" cy="1296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cc00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44720" y="2494080"/>
                <a:ext cx="1332000" cy="129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31840" y="2578680"/>
                <a:ext cx="1157400" cy="1126800"/>
              </a:xfrm>
              <a:prstGeom prst="ellipse">
                <a:avLst/>
              </a:prstGeom>
              <a:gradFill rotWithShape="0">
                <a:gsLst>
                  <a:gs pos="0">
                    <a:srgbClr val="526d00"/>
                  </a:gs>
                  <a:gs pos="50000">
                    <a:srgbClr val="99cc00"/>
                  </a:gs>
                  <a:gs pos="100000">
                    <a:srgbClr val="526d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931840" y="2578680"/>
                <a:ext cx="1157400" cy="1126800"/>
              </a:xfrm>
              <a:prstGeom prst="ellipse">
                <a:avLst/>
              </a:prstGeom>
              <a:gradFill rotWithShape="0">
                <a:gsLst>
                  <a:gs pos="0">
                    <a:srgbClr val="4a6200"/>
                  </a:gs>
                  <a:gs pos="100000">
                    <a:srgbClr val="99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989800" y="2635200"/>
                <a:ext cx="1041840" cy="1014120"/>
              </a:xfrm>
              <a:prstGeom prst="ellipse">
                <a:avLst/>
              </a:prstGeom>
              <a:gradFill rotWithShape="0">
                <a:gsLst>
                  <a:gs pos="0">
                    <a:srgbClr val="465e00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1042920" y="29923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87640" y="299232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33960" y="2992320"/>
              <a:ext cx="90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01080" y="299232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Titl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11280" y="4038480"/>
              <a:ext cx="187164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bbe0e3"/>
                  </a:solidFill>
                  <a:uFillTx/>
                  <a:latin typeface="Arial"/>
                  <a:ea typeface="Gulim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29080" y="4038480"/>
              <a:ext cx="187164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bbe0e3"/>
                  </a:solidFill>
                  <a:uFillTx/>
                  <a:latin typeface="Arial"/>
                  <a:ea typeface="Gulim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714920" y="4038480"/>
              <a:ext cx="187164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bbe0e3"/>
                  </a:solidFill>
                  <a:uFillTx/>
                  <a:latin typeface="Arial"/>
                  <a:ea typeface="Gulim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30920" y="4027320"/>
              <a:ext cx="1871640" cy="17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bbe0e3"/>
                  </a:solidFill>
                  <a:uFillTx/>
                  <a:latin typeface="Arial"/>
                  <a:ea typeface="Gulim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900000" y="1988640"/>
            <a:ext cx="7348680" cy="4032720"/>
            <a:chOff x="900000" y="1988640"/>
            <a:chExt cx="7348680" cy="4032720"/>
          </a:xfrm>
        </p:grpSpPr>
        <p:sp>
          <p:nvSpPr>
            <p:cNvPr id="675" name=""/>
            <p:cNvSpPr/>
            <p:nvPr/>
          </p:nvSpPr>
          <p:spPr>
            <a:xfrm>
              <a:off x="6087960" y="2671560"/>
              <a:ext cx="2160720" cy="50328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00000" y="2709720"/>
              <a:ext cx="2160720" cy="503280"/>
            </a:xfrm>
            <a:prstGeom prst="roundRect">
              <a:avLst>
                <a:gd name="adj" fmla="val 50000"/>
              </a:avLst>
            </a:prstGeom>
            <a:solidFill>
              <a:srgbClr val="6666ff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2582280" y="1988640"/>
              <a:ext cx="3979080" cy="3653640"/>
              <a:chOff x="2582280" y="1988640"/>
              <a:chExt cx="3979080" cy="3653640"/>
            </a:xfrm>
          </p:grpSpPr>
          <p:sp>
            <p:nvSpPr>
              <p:cNvPr id="678" name=""/>
              <p:cNvSpPr/>
              <p:nvPr/>
            </p:nvSpPr>
            <p:spPr>
              <a:xfrm>
                <a:off x="3143880" y="2289600"/>
                <a:ext cx="2918880" cy="2880000"/>
              </a:xfrm>
              <a:prstGeom prst="donut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e6e6e6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5400000">
                <a:off x="4582800" y="2216880"/>
                <a:ext cx="1436400" cy="146016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7200000">
                <a:off x="4851720" y="2675520"/>
                <a:ext cx="1436400" cy="14598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46"/>
                  </a:gs>
                  <a:gs pos="100000">
                    <a:srgbClr val="333399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800000">
                <a:off x="4909320" y="3754440"/>
                <a:ext cx="1232280" cy="78192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2" name=""/>
              <p:cNvGrpSpPr/>
              <p:nvPr/>
            </p:nvGrpSpPr>
            <p:grpSpPr>
              <a:xfrm>
                <a:off x="3308400" y="3665880"/>
                <a:ext cx="2515320" cy="1976400"/>
                <a:chOff x="3308400" y="3665880"/>
                <a:chExt cx="2515320" cy="1976400"/>
              </a:xfrm>
            </p:grpSpPr>
            <p:sp>
              <p:nvSpPr>
                <p:cNvPr id="683" name=""/>
                <p:cNvSpPr/>
                <p:nvPr/>
              </p:nvSpPr>
              <p:spPr>
                <a:xfrm rot="12600000">
                  <a:off x="4104360" y="3933360"/>
                  <a:ext cx="1456560" cy="143964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14400000">
                  <a:off x="3581280" y="3925080"/>
                  <a:ext cx="1436400" cy="146016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4646"/>
                    </a:gs>
                    <a:gs pos="100000">
                      <a:srgbClr val="009999"/>
                    </a:gs>
                  </a:gsLst>
                  <a:lin ang="126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 rot="9000000">
                <a:off x="3072960" y="3933360"/>
                <a:ext cx="1232280" cy="700920"/>
              </a:xfrm>
              <a:prstGeom prst="triangle">
                <a:avLst>
                  <a:gd name="adj" fmla="val 50000"/>
                </a:avLst>
              </a:prstGeom>
              <a:solidFill>
                <a:srgbClr val="908b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2582280" y="2226600"/>
                <a:ext cx="1985400" cy="2165760"/>
                <a:chOff x="2582280" y="2226600"/>
                <a:chExt cx="1985400" cy="2165760"/>
              </a:xfrm>
            </p:grpSpPr>
            <p:sp>
              <p:nvSpPr>
                <p:cNvPr id="687" name=""/>
                <p:cNvSpPr/>
                <p:nvPr/>
              </p:nvSpPr>
              <p:spPr>
                <a:xfrm rot="19800000">
                  <a:off x="2844720" y="2683800"/>
                  <a:ext cx="1456560" cy="144072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solidFill>
                  <a:srgbClr val="908b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111120" y="2226600"/>
                  <a:ext cx="1456560" cy="1440720"/>
                </a:xfrm>
                <a:custGeom>
                  <a:avLst/>
                  <a:gdLst/>
                  <a:ahLst/>
                  <a:rect l="l" t="t" r="r" b="b"/>
                  <a:pathLst>
                    <a:path w="1448" h="1452">
                      <a:moveTo>
                        <a:pt x="0" y="1452"/>
                      </a:moveTo>
                      <a:lnTo>
                        <a:pt x="6" y="1320"/>
                      </a:lnTo>
                      <a:lnTo>
                        <a:pt x="24" y="1190"/>
                      </a:lnTo>
                      <a:lnTo>
                        <a:pt x="52" y="1066"/>
                      </a:lnTo>
                      <a:lnTo>
                        <a:pt x="90" y="946"/>
                      </a:lnTo>
                      <a:lnTo>
                        <a:pt x="140" y="830"/>
                      </a:lnTo>
                      <a:lnTo>
                        <a:pt x="198" y="718"/>
                      </a:lnTo>
                      <a:lnTo>
                        <a:pt x="264" y="614"/>
                      </a:lnTo>
                      <a:lnTo>
                        <a:pt x="340" y="516"/>
                      </a:lnTo>
                      <a:lnTo>
                        <a:pt x="424" y="424"/>
                      </a:lnTo>
                      <a:lnTo>
                        <a:pt x="516" y="342"/>
                      </a:lnTo>
                      <a:lnTo>
                        <a:pt x="612" y="266"/>
                      </a:lnTo>
                      <a:lnTo>
                        <a:pt x="718" y="198"/>
                      </a:lnTo>
                      <a:lnTo>
                        <a:pt x="828" y="140"/>
                      </a:lnTo>
                      <a:lnTo>
                        <a:pt x="942" y="90"/>
                      </a:lnTo>
                      <a:lnTo>
                        <a:pt x="1064" y="52"/>
                      </a:lnTo>
                      <a:lnTo>
                        <a:pt x="1188" y="22"/>
                      </a:lnTo>
                      <a:lnTo>
                        <a:pt x="1316" y="6"/>
                      </a:lnTo>
                      <a:lnTo>
                        <a:pt x="1448" y="0"/>
                      </a:lnTo>
                      <a:lnTo>
                        <a:pt x="1448" y="726"/>
                      </a:lnTo>
                      <a:lnTo>
                        <a:pt x="1358" y="732"/>
                      </a:lnTo>
                      <a:lnTo>
                        <a:pt x="1270" y="748"/>
                      </a:lnTo>
                      <a:lnTo>
                        <a:pt x="1186" y="774"/>
                      </a:lnTo>
                      <a:lnTo>
                        <a:pt x="1108" y="810"/>
                      </a:lnTo>
                      <a:lnTo>
                        <a:pt x="1034" y="856"/>
                      </a:lnTo>
                      <a:lnTo>
                        <a:pt x="968" y="910"/>
                      </a:lnTo>
                      <a:lnTo>
                        <a:pt x="906" y="970"/>
                      </a:lnTo>
                      <a:lnTo>
                        <a:pt x="854" y="1038"/>
                      </a:lnTo>
                      <a:lnTo>
                        <a:pt x="808" y="1110"/>
                      </a:lnTo>
                      <a:lnTo>
                        <a:pt x="772" y="1190"/>
                      </a:lnTo>
                      <a:lnTo>
                        <a:pt x="746" y="1274"/>
                      </a:lnTo>
                      <a:lnTo>
                        <a:pt x="730" y="1360"/>
                      </a:lnTo>
                      <a:lnTo>
                        <a:pt x="724" y="1452"/>
                      </a:lnTo>
                      <a:lnTo>
                        <a:pt x="0" y="1452"/>
                      </a:lnTo>
                      <a:lnTo>
                        <a:pt x="0" y="14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2406e"/>
                    </a:gs>
                    <a:gs pos="100000">
                      <a:srgbClr val="908be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"/>
              <p:cNvSpPr/>
              <p:nvPr/>
            </p:nvSpPr>
            <p:spPr>
              <a:xfrm rot="16200000">
                <a:off x="3785760" y="2199240"/>
                <a:ext cx="1215720" cy="794160"/>
              </a:xfrm>
              <a:prstGeom prst="triangle">
                <a:avLst>
                  <a:gd name="adj" fmla="val 50000"/>
                </a:avLst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3490920" y="5518080"/>
              <a:ext cx="2160360" cy="503280"/>
            </a:xfrm>
            <a:prstGeom prst="roundRect">
              <a:avLst>
                <a:gd name="adj" fmla="val 50000"/>
              </a:avLst>
            </a:prstGeom>
            <a:solidFill>
              <a:srgbClr val="00999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1179720" y="2342520"/>
            <a:ext cx="7125840" cy="3931560"/>
            <a:chOff x="1179720" y="2342520"/>
            <a:chExt cx="7125840" cy="3931560"/>
          </a:xfrm>
        </p:grpSpPr>
        <p:sp>
          <p:nvSpPr>
            <p:cNvPr id="694" name=""/>
            <p:cNvSpPr/>
            <p:nvPr/>
          </p:nvSpPr>
          <p:spPr>
            <a:xfrm flipH="1">
              <a:off x="5136840" y="3051000"/>
              <a:ext cx="3168720" cy="2895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aecff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1179720" y="2342520"/>
              <a:ext cx="4125960" cy="3931560"/>
              <a:chOff x="1179720" y="2342520"/>
              <a:chExt cx="4125960" cy="3931560"/>
            </a:xfrm>
          </p:grpSpPr>
          <p:sp>
            <p:nvSpPr>
              <p:cNvPr id="696" name=""/>
              <p:cNvSpPr/>
              <p:nvPr/>
            </p:nvSpPr>
            <p:spPr>
              <a:xfrm rot="5433000">
                <a:off x="3814200" y="3533760"/>
                <a:ext cx="1527120" cy="1441440"/>
              </a:xfrm>
              <a:prstGeom prst="hexagon">
                <a:avLst>
                  <a:gd name="adj" fmla="val 26486"/>
                  <a:gd name="vf" fmla="val 115470"/>
                </a:avLst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5433000">
                <a:off x="3102480" y="2392200"/>
                <a:ext cx="1527120" cy="1441080"/>
              </a:xfrm>
              <a:prstGeom prst="hexagon">
                <a:avLst>
                  <a:gd name="adj" fmla="val 26493"/>
                  <a:gd name="vf" fmla="val 115470"/>
                </a:avLst>
              </a:prstGeom>
              <a:gradFill rotWithShape="0">
                <a:gsLst>
                  <a:gs pos="0">
                    <a:srgbClr val="171746"/>
                  </a:gs>
                  <a:gs pos="50000">
                    <a:srgbClr val="333399"/>
                  </a:gs>
                  <a:gs pos="100000">
                    <a:srgbClr val="171746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5433000">
                <a:off x="3178800" y="4726080"/>
                <a:ext cx="1527480" cy="144108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171746"/>
                  </a:gs>
                  <a:gs pos="50000">
                    <a:srgbClr val="333399"/>
                  </a:gs>
                  <a:gs pos="100000">
                    <a:srgbClr val="171746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5400000">
                <a:off x="2470680" y="3578040"/>
                <a:ext cx="1527120" cy="1441080"/>
              </a:xfrm>
              <a:prstGeom prst="hexagon">
                <a:avLst>
                  <a:gd name="adj" fmla="val 26493"/>
                  <a:gd name="vf" fmla="val 115470"/>
                </a:avLst>
              </a:prstGeom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5433000">
                <a:off x="1788120" y="2454120"/>
                <a:ext cx="1527120" cy="1441080"/>
              </a:xfrm>
              <a:prstGeom prst="hexagon">
                <a:avLst>
                  <a:gd name="adj" fmla="val 26493"/>
                  <a:gd name="vf" fmla="val 115470"/>
                </a:avLst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433000">
                <a:off x="1840320" y="4782960"/>
                <a:ext cx="1527120" cy="1441080"/>
              </a:xfrm>
              <a:prstGeom prst="hexagon">
                <a:avLst>
                  <a:gd name="adj" fmla="val 26493"/>
                  <a:gd name="vf" fmla="val 115470"/>
                </a:avLst>
              </a:prstGeom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5433000">
                <a:off x="1143720" y="3643200"/>
                <a:ext cx="1527120" cy="1441080"/>
              </a:xfrm>
              <a:prstGeom prst="hexagon">
                <a:avLst>
                  <a:gd name="adj" fmla="val 26493"/>
                  <a:gd name="vf" fmla="val 115470"/>
                </a:avLst>
              </a:prstGeom>
              <a:gradFill rotWithShape="0">
                <a:gsLst>
                  <a:gs pos="0">
                    <a:srgbClr val="171746"/>
                  </a:gs>
                  <a:gs pos="50000">
                    <a:srgbClr val="333399"/>
                  </a:gs>
                  <a:gs pos="100000">
                    <a:srgbClr val="171746"/>
                  </a:gs>
                </a:gsLst>
                <a:lin ang="807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5667120" y="24174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06560" y="2485800"/>
              <a:ext cx="260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066680" y="1600200"/>
            <a:ext cx="7010280" cy="4419000"/>
            <a:chOff x="1066680" y="1600200"/>
            <a:chExt cx="7010280" cy="4419000"/>
          </a:xfrm>
        </p:grpSpPr>
        <p:sp>
          <p:nvSpPr>
            <p:cNvPr id="708" name=""/>
            <p:cNvSpPr/>
            <p:nvPr/>
          </p:nvSpPr>
          <p:spPr>
            <a:xfrm>
              <a:off x="1999080" y="2315880"/>
              <a:ext cx="5206320" cy="2576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83800" y="1600200"/>
              <a:ext cx="5451480" cy="53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5abcbc"/>
                </a:gs>
                <a:gs pos="100000">
                  <a:srgbClr val="009999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94960" y="28897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1066680" y="4075200"/>
              <a:ext cx="1486800" cy="1944000"/>
              <a:chOff x="1066680" y="4075200"/>
              <a:chExt cx="1486800" cy="1944000"/>
            </a:xfrm>
          </p:grpSpPr>
          <p:grpSp>
            <p:nvGrpSpPr>
              <p:cNvPr id="712" name=""/>
              <p:cNvGrpSpPr/>
              <p:nvPr/>
            </p:nvGrpSpPr>
            <p:grpSpPr>
              <a:xfrm>
                <a:off x="1066680" y="4075200"/>
                <a:ext cx="1398600" cy="1422360"/>
                <a:chOff x="1066680" y="4075200"/>
                <a:chExt cx="1398600" cy="1422360"/>
              </a:xfrm>
            </p:grpSpPr>
            <p:grpSp>
              <p:nvGrpSpPr>
                <p:cNvPr id="713" name=""/>
                <p:cNvGrpSpPr/>
                <p:nvPr/>
              </p:nvGrpSpPr>
              <p:grpSpPr>
                <a:xfrm>
                  <a:off x="1066680" y="4075200"/>
                  <a:ext cx="1398600" cy="1422360"/>
                  <a:chOff x="1066680" y="4075200"/>
                  <a:chExt cx="1398600" cy="1422360"/>
                </a:xfrm>
              </p:grpSpPr>
              <p:sp>
                <p:nvSpPr>
                  <p:cNvPr id="714" name=""/>
                  <p:cNvSpPr/>
                  <p:nvPr/>
                </p:nvSpPr>
                <p:spPr>
                  <a:xfrm>
                    <a:off x="1066680" y="4075200"/>
                    <a:ext cx="1398600" cy="142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99"/>
                      </a:gs>
                      <a:gs pos="100000">
                        <a:srgbClr val="20206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1226520" y="4098600"/>
                    <a:ext cx="1078920" cy="53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333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6" name=""/>
                <p:cNvSpPr/>
                <p:nvPr/>
              </p:nvSpPr>
              <p:spPr>
                <a:xfrm>
                  <a:off x="1182960" y="479916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>
                <a:off x="1066680" y="56080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2859840" y="4075200"/>
              <a:ext cx="1522080" cy="1944000"/>
              <a:chOff x="2859840" y="4075200"/>
              <a:chExt cx="1522080" cy="1944000"/>
            </a:xfrm>
          </p:grpSpPr>
          <p:grpSp>
            <p:nvGrpSpPr>
              <p:cNvPr id="719" name=""/>
              <p:cNvGrpSpPr/>
              <p:nvPr/>
            </p:nvGrpSpPr>
            <p:grpSpPr>
              <a:xfrm>
                <a:off x="2859840" y="4075200"/>
                <a:ext cx="1434240" cy="1428120"/>
                <a:chOff x="2859840" y="4075200"/>
                <a:chExt cx="1434240" cy="14281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859840" y="407520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e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023640" y="409860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2" name=""/>
              <p:cNvSpPr/>
              <p:nvPr/>
            </p:nvSpPr>
            <p:spPr>
              <a:xfrm>
                <a:off x="2931120" y="476100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895480" y="5608080"/>
                <a:ext cx="148644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797000" y="4033800"/>
              <a:ext cx="1535760" cy="1985400"/>
              <a:chOff x="4797000" y="4033800"/>
              <a:chExt cx="1535760" cy="1985400"/>
            </a:xfrm>
          </p:grpSpPr>
          <p:grpSp>
            <p:nvGrpSpPr>
              <p:cNvPr id="725" name=""/>
              <p:cNvGrpSpPr/>
              <p:nvPr/>
            </p:nvGrpSpPr>
            <p:grpSpPr>
              <a:xfrm>
                <a:off x="4797000" y="4033800"/>
                <a:ext cx="1434240" cy="1428120"/>
                <a:chOff x="4797000" y="4033800"/>
                <a:chExt cx="1434240" cy="14281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4797000" y="403380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f727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960800" y="405720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bbe0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4868280" y="471924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845960" y="56080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6590160" y="4033800"/>
              <a:ext cx="1486800" cy="1985400"/>
              <a:chOff x="6590160" y="4033800"/>
              <a:chExt cx="1486800" cy="198540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6590160" y="4033800"/>
                <a:ext cx="1434600" cy="1438200"/>
                <a:chOff x="6590160" y="4033800"/>
                <a:chExt cx="1434600" cy="1438200"/>
              </a:xfrm>
            </p:grpSpPr>
            <p:grpSp>
              <p:nvGrpSpPr>
                <p:cNvPr id="732" name=""/>
                <p:cNvGrpSpPr/>
                <p:nvPr/>
              </p:nvGrpSpPr>
              <p:grpSpPr>
                <a:xfrm>
                  <a:off x="6590160" y="4033800"/>
                  <a:ext cx="1434600" cy="1438200"/>
                  <a:chOff x="6590160" y="4033800"/>
                  <a:chExt cx="1434600" cy="143820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>
                    <a:off x="6590160" y="4033800"/>
                    <a:ext cx="1434600" cy="143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2531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6753960" y="4057560"/>
                    <a:ext cx="110664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"/>
                <p:cNvSpPr/>
                <p:nvPr/>
              </p:nvSpPr>
              <p:spPr>
                <a:xfrm>
                  <a:off x="6690240" y="47041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"/>
              <p:cNvSpPr/>
              <p:nvPr/>
            </p:nvSpPr>
            <p:spPr>
              <a:xfrm>
                <a:off x="6590160" y="56080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736560" y="1573200"/>
            <a:ext cx="7950240" cy="4398840"/>
            <a:chOff x="736560" y="1573200"/>
            <a:chExt cx="7950240" cy="4398840"/>
          </a:xfrm>
        </p:grpSpPr>
        <p:sp>
          <p:nvSpPr>
            <p:cNvPr id="740" name=""/>
            <p:cNvSpPr/>
            <p:nvPr/>
          </p:nvSpPr>
          <p:spPr>
            <a:xfrm>
              <a:off x="739800" y="1847880"/>
              <a:ext cx="3567240" cy="719280"/>
            </a:xfrm>
            <a:prstGeom prst="rect">
              <a:avLst/>
            </a:prstGeom>
            <a:gradFill rotWithShape="0">
              <a:gsLst>
                <a:gs pos="0">
                  <a:srgbClr val="e98931"/>
                </a:gs>
                <a:gs pos="100000">
                  <a:srgbClr val="001773">
                    <a:alpha val="4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3838680" y="1573200"/>
              <a:ext cx="928080" cy="1001520"/>
              <a:chOff x="3838680" y="1573200"/>
              <a:chExt cx="928080" cy="1001520"/>
            </a:xfrm>
          </p:grpSpPr>
          <p:grpSp>
            <p:nvGrpSpPr>
              <p:cNvPr id="742" name=""/>
              <p:cNvGrpSpPr/>
              <p:nvPr/>
            </p:nvGrpSpPr>
            <p:grpSpPr>
              <a:xfrm>
                <a:off x="3838680" y="1573200"/>
                <a:ext cx="928080" cy="1001520"/>
                <a:chOff x="3838680" y="1573200"/>
                <a:chExt cx="928080" cy="10015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3838680" y="1573200"/>
                  <a:ext cx="928080" cy="100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633b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944520" y="1589760"/>
                  <a:ext cx="716040" cy="378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"/>
              <p:cNvSpPr/>
              <p:nvPr/>
            </p:nvSpPr>
            <p:spPr>
              <a:xfrm>
                <a:off x="4127400" y="16844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762120" y="2030400"/>
              <a:ext cx="29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6560" y="2979720"/>
              <a:ext cx="4022640" cy="719280"/>
            </a:xfrm>
            <a:prstGeom prst="rect">
              <a:avLst/>
            </a:prstGeom>
            <a:gradFill rotWithShape="0">
              <a:gsLst>
                <a:gs pos="0">
                  <a:srgbClr val="418aeb"/>
                </a:gs>
                <a:gs pos="100000">
                  <a:srgbClr val="013997">
                    <a:alpha val="4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4454640" y="2727360"/>
              <a:ext cx="948960" cy="1006200"/>
              <a:chOff x="4454640" y="2727360"/>
              <a:chExt cx="948960" cy="10062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4454640" y="2727360"/>
                <a:ext cx="948960" cy="1006200"/>
                <a:chOff x="4454640" y="2727360"/>
                <a:chExt cx="948960" cy="100620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4454640" y="2727360"/>
                  <a:ext cx="948960" cy="1006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96e3"/>
                    </a:gs>
                    <a:gs pos="100000">
                      <a:srgbClr val="152d4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563000" y="2743920"/>
                  <a:ext cx="732240" cy="379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a7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4728960" y="28656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762120" y="3184560"/>
              <a:ext cx="35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6560" y="4091040"/>
              <a:ext cx="4998960" cy="720720"/>
            </a:xfrm>
            <a:prstGeom prst="rect">
              <a:avLst/>
            </a:prstGeom>
            <a:gradFill rotWithShape="0">
              <a:gsLst>
                <a:gs pos="0">
                  <a:srgbClr val="9942e0"/>
                </a:gs>
                <a:gs pos="100000">
                  <a:srgbClr val="013997">
                    <a:alpha val="4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5145120" y="3809880"/>
              <a:ext cx="974160" cy="1012680"/>
              <a:chOff x="5145120" y="3809880"/>
              <a:chExt cx="974160" cy="101268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5145120" y="3809880"/>
                <a:ext cx="974160" cy="1012680"/>
                <a:chOff x="5145120" y="3809880"/>
                <a:chExt cx="974160" cy="101268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145120" y="3809880"/>
                  <a:ext cx="974160" cy="101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25183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256360" y="3826440"/>
                  <a:ext cx="751680" cy="381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5497920" y="38642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762120" y="4267080"/>
              <a:ext cx="42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36560" y="5214960"/>
              <a:ext cx="5700600" cy="719280"/>
            </a:xfrm>
            <a:prstGeom prst="rect">
              <a:avLst/>
            </a:prstGeom>
            <a:gradFill rotWithShape="0">
              <a:gsLst>
                <a:gs pos="0">
                  <a:srgbClr val="33ad8a"/>
                </a:gs>
                <a:gs pos="100000">
                  <a:srgbClr val="013997">
                    <a:alpha val="4431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5802480" y="4952880"/>
              <a:ext cx="979200" cy="1019160"/>
              <a:chOff x="5802480" y="4952880"/>
              <a:chExt cx="979200" cy="1019160"/>
            </a:xfrm>
          </p:grpSpPr>
          <p:sp>
            <p:nvSpPr>
              <p:cNvPr id="763" name=""/>
              <p:cNvSpPr/>
              <p:nvPr/>
            </p:nvSpPr>
            <p:spPr>
              <a:xfrm>
                <a:off x="5802480" y="4952880"/>
                <a:ext cx="979200" cy="101916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914440" y="4969800"/>
                <a:ext cx="755280" cy="384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6179400" y="501984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62120" y="5405400"/>
              <a:ext cx="48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172200" y="1676520"/>
              <a:ext cx="2514600" cy="198108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914400" y="1219320"/>
            <a:ext cx="7315200" cy="5019480"/>
            <a:chOff x="914400" y="1219320"/>
            <a:chExt cx="7315200" cy="5019480"/>
          </a:xfrm>
        </p:grpSpPr>
        <p:sp>
          <p:nvSpPr>
            <p:cNvPr id="771" name=""/>
            <p:cNvSpPr/>
            <p:nvPr/>
          </p:nvSpPr>
          <p:spPr>
            <a:xfrm>
              <a:off x="5073480" y="121932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16a1a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657600" y="25146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5333400" y="25909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742560" y="25812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149880" y="20080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492280" y="172080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c3e06b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913200" y="2486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914400" y="2914560"/>
              <a:ext cx="2295360" cy="3324240"/>
              <a:chOff x="914400" y="2914560"/>
              <a:chExt cx="2295360" cy="3324240"/>
            </a:xfrm>
          </p:grpSpPr>
          <p:sp>
            <p:nvSpPr>
              <p:cNvPr id="784" name=""/>
              <p:cNvSpPr/>
              <p:nvPr/>
            </p:nvSpPr>
            <p:spPr>
              <a:xfrm>
                <a:off x="914400" y="308304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130400" y="294012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b4e00"/>
                  </a:gs>
                  <a:gs pos="50000">
                    <a:srgbClr val="99cc00"/>
                  </a:gs>
                  <a:gs pos="100000">
                    <a:srgbClr val="3b4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2813760" y="3011400"/>
                <a:ext cx="7164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1231200" y="3011400"/>
                <a:ext cx="7308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990720" y="334332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3505320" y="28861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-1189440" y="1700280"/>
            <a:ext cx="9253080" cy="4824360"/>
            <a:chOff x="-1189440" y="1700280"/>
            <a:chExt cx="9253080" cy="4824360"/>
          </a:xfrm>
        </p:grpSpPr>
        <p:sp>
          <p:nvSpPr>
            <p:cNvPr id="795" name=""/>
            <p:cNvSpPr/>
            <p:nvPr/>
          </p:nvSpPr>
          <p:spPr>
            <a:xfrm rot="5400000">
              <a:off x="-1216440" y="1726920"/>
              <a:ext cx="4824360" cy="4770360"/>
            </a:xfrm>
            <a:prstGeom prst="blockArc">
              <a:avLst>
                <a:gd name="adj1" fmla="val 10852167"/>
                <a:gd name="adj2" fmla="val 21547833"/>
                <a:gd name="adj3" fmla="val 1491"/>
              </a:avLst>
            </a:prstGeom>
            <a:gradFill rotWithShape="0">
              <a:gsLst>
                <a:gs pos="0">
                  <a:srgbClr val="c4c4c4"/>
                </a:gs>
                <a:gs pos="50000">
                  <a:srgbClr val="808080"/>
                </a:gs>
                <a:gs pos="100000">
                  <a:srgbClr val="c4c4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rot="5400000">
              <a:off x="-811440" y="2162880"/>
              <a:ext cx="4032360" cy="3928680"/>
            </a:xfrm>
            <a:prstGeom prst="blockArc">
              <a:avLst>
                <a:gd name="adj1" fmla="val 10800000"/>
                <a:gd name="adj2" fmla="val 0"/>
                <a:gd name="adj3" fmla="val 49741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2653920" y="2073240"/>
              <a:ext cx="4736520" cy="507960"/>
              <a:chOff x="2653920" y="2073240"/>
              <a:chExt cx="4736520" cy="507960"/>
            </a:xfrm>
          </p:grpSpPr>
          <p:sp>
            <p:nvSpPr>
              <p:cNvPr id="798" name=""/>
              <p:cNvSpPr/>
              <p:nvPr/>
            </p:nvSpPr>
            <p:spPr>
              <a:xfrm>
                <a:off x="2971080" y="207324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9" name=""/>
              <p:cNvGrpSpPr/>
              <p:nvPr/>
            </p:nvGrpSpPr>
            <p:grpSpPr>
              <a:xfrm>
                <a:off x="2653920" y="2162160"/>
                <a:ext cx="380880" cy="381240"/>
                <a:chOff x="2653920" y="2162160"/>
                <a:chExt cx="380880" cy="38124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2653920" y="216216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675520" y="2183400"/>
                  <a:ext cx="337320" cy="33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695320" y="2203560"/>
                  <a:ext cx="29772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2695320" y="2203560"/>
                  <a:ext cx="29772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2714760" y="2223000"/>
                  <a:ext cx="25848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2714760" y="2223000"/>
                  <a:ext cx="25848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00"/>
                    </a:gs>
                    <a:gs pos="100000">
                      <a:srgbClr val="ffcc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6" name=""/>
            <p:cNvGrpSpPr/>
            <p:nvPr/>
          </p:nvGrpSpPr>
          <p:grpSpPr>
            <a:xfrm>
              <a:off x="3187440" y="2843280"/>
              <a:ext cx="4723560" cy="507960"/>
              <a:chOff x="3187440" y="2843280"/>
              <a:chExt cx="4723560" cy="507960"/>
            </a:xfrm>
          </p:grpSpPr>
          <p:sp>
            <p:nvSpPr>
              <p:cNvPr id="807" name=""/>
              <p:cNvSpPr/>
              <p:nvPr/>
            </p:nvSpPr>
            <p:spPr>
              <a:xfrm>
                <a:off x="3492000" y="2843280"/>
                <a:ext cx="441900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8" name=""/>
              <p:cNvGrpSpPr/>
              <p:nvPr/>
            </p:nvGrpSpPr>
            <p:grpSpPr>
              <a:xfrm>
                <a:off x="3187440" y="2949480"/>
                <a:ext cx="380520" cy="381240"/>
                <a:chOff x="3187440" y="2949480"/>
                <a:chExt cx="380520" cy="38124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3187440" y="2949480"/>
                  <a:ext cx="38052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209040" y="2970720"/>
                  <a:ext cx="336960" cy="33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228840" y="299088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3228840" y="299088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8be67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248280" y="301032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248280" y="301032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25c31"/>
                    </a:gs>
                    <a:gs pos="100000">
                      <a:srgbClr val="48be6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5" name=""/>
            <p:cNvGrpSpPr/>
            <p:nvPr/>
          </p:nvGrpSpPr>
          <p:grpSpPr>
            <a:xfrm>
              <a:off x="3339720" y="3711600"/>
              <a:ext cx="4723920" cy="507960"/>
              <a:chOff x="3339720" y="3711600"/>
              <a:chExt cx="4723920" cy="507960"/>
            </a:xfrm>
          </p:grpSpPr>
          <p:sp>
            <p:nvSpPr>
              <p:cNvPr id="816" name=""/>
              <p:cNvSpPr/>
              <p:nvPr/>
            </p:nvSpPr>
            <p:spPr>
              <a:xfrm>
                <a:off x="3644280" y="371160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"/>
              <p:cNvGrpSpPr/>
              <p:nvPr/>
            </p:nvGrpSpPr>
            <p:grpSpPr>
              <a:xfrm>
                <a:off x="3339720" y="3787920"/>
                <a:ext cx="380880" cy="380880"/>
                <a:chOff x="3339720" y="3787920"/>
                <a:chExt cx="380880" cy="38088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3339720" y="378792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361320" y="3809160"/>
                  <a:ext cx="33732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381120" y="3829320"/>
                  <a:ext cx="29772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381120" y="3829320"/>
                  <a:ext cx="29772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1b3e1"/>
                    </a:gs>
                    <a:gs pos="100000">
                      <a:srgbClr val="0f526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400560" y="3848760"/>
                  <a:ext cx="25848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400560" y="3848760"/>
                  <a:ext cx="25848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566c"/>
                    </a:gs>
                    <a:gs pos="100000">
                      <a:srgbClr val="21b3e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4" name=""/>
            <p:cNvGrpSpPr/>
            <p:nvPr/>
          </p:nvGrpSpPr>
          <p:grpSpPr>
            <a:xfrm>
              <a:off x="3187440" y="4524480"/>
              <a:ext cx="4755600" cy="507960"/>
              <a:chOff x="3187440" y="4524480"/>
              <a:chExt cx="4755600" cy="507960"/>
            </a:xfrm>
          </p:grpSpPr>
          <p:sp>
            <p:nvSpPr>
              <p:cNvPr id="825" name=""/>
              <p:cNvSpPr/>
              <p:nvPr/>
            </p:nvSpPr>
            <p:spPr>
              <a:xfrm>
                <a:off x="3523680" y="452448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"/>
              <p:cNvGrpSpPr/>
              <p:nvPr/>
            </p:nvGrpSpPr>
            <p:grpSpPr>
              <a:xfrm>
                <a:off x="3187440" y="4626000"/>
                <a:ext cx="380520" cy="380880"/>
                <a:chOff x="3187440" y="4626000"/>
                <a:chExt cx="380520" cy="38088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3187440" y="4626000"/>
                  <a:ext cx="38052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209040" y="4647240"/>
                  <a:ext cx="33696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228840" y="4667400"/>
                  <a:ext cx="2973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228840" y="4667400"/>
                  <a:ext cx="2973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67e1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248280" y="4686840"/>
                  <a:ext cx="25812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248280" y="4686840"/>
                  <a:ext cx="25812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4316c"/>
                    </a:gs>
                    <a:gs pos="100000">
                      <a:srgbClr val="8d67e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3" name=""/>
            <p:cNvGrpSpPr/>
            <p:nvPr/>
          </p:nvGrpSpPr>
          <p:grpSpPr>
            <a:xfrm>
              <a:off x="2730240" y="5351400"/>
              <a:ext cx="4717440" cy="507960"/>
              <a:chOff x="2730240" y="5351400"/>
              <a:chExt cx="4717440" cy="507960"/>
            </a:xfrm>
          </p:grpSpPr>
          <p:sp>
            <p:nvSpPr>
              <p:cNvPr id="834" name=""/>
              <p:cNvSpPr/>
              <p:nvPr/>
            </p:nvSpPr>
            <p:spPr>
              <a:xfrm>
                <a:off x="3028320" y="535140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lick to 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2730240" y="5400720"/>
                <a:ext cx="355320" cy="380880"/>
                <a:chOff x="2730240" y="5400720"/>
                <a:chExt cx="355320" cy="38088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2730240" y="5400720"/>
                  <a:ext cx="35532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750400" y="5421960"/>
                  <a:ext cx="31464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2768760" y="5442120"/>
                  <a:ext cx="2775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009999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2768760" y="5442120"/>
                  <a:ext cx="2775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5e23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2787120" y="5461560"/>
                  <a:ext cx="24120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252"/>
                    </a:gs>
                    <a:gs pos="50000">
                      <a:srgbClr val="009999"/>
                    </a:gs>
                    <a:gs pos="100000">
                      <a:srgbClr val="00525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2787120" y="5461560"/>
                  <a:ext cx="24120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2d10"/>
                    </a:gs>
                    <a:gs pos="100000">
                      <a:srgbClr val="e35e2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57200" y="1600200"/>
            <a:ext cx="8323200" cy="4440960"/>
            <a:chOff x="457200" y="1600200"/>
            <a:chExt cx="8323200" cy="4440960"/>
          </a:xfrm>
        </p:grpSpPr>
        <p:grpSp>
          <p:nvGrpSpPr>
            <p:cNvPr id="845" name=""/>
            <p:cNvGrpSpPr/>
            <p:nvPr/>
          </p:nvGrpSpPr>
          <p:grpSpPr>
            <a:xfrm>
              <a:off x="2698920" y="1785600"/>
              <a:ext cx="4014000" cy="4255560"/>
              <a:chOff x="2698920" y="1785600"/>
              <a:chExt cx="4014000" cy="4255560"/>
            </a:xfrm>
          </p:grpSpPr>
          <p:sp>
            <p:nvSpPr>
              <p:cNvPr id="846" name=""/>
              <p:cNvSpPr/>
              <p:nvPr/>
            </p:nvSpPr>
            <p:spPr>
              <a:xfrm>
                <a:off x="2706840" y="3122640"/>
                <a:ext cx="1447920" cy="1954080"/>
              </a:xfrm>
              <a:custGeom>
                <a:avLst/>
                <a:gdLst/>
                <a:ahLst/>
                <a:rect l="l" t="t" r="r" b="b"/>
                <a:pathLst>
                  <a:path w="1233" h="1764">
                    <a:moveTo>
                      <a:pt x="1233" y="343"/>
                    </a:moveTo>
                    <a:lnTo>
                      <a:pt x="413" y="1764"/>
                    </a:lnTo>
                    <a:lnTo>
                      <a:pt x="0" y="1226"/>
                    </a:lnTo>
                    <a:lnTo>
                      <a:pt x="6" y="1098"/>
                    </a:lnTo>
                    <a:lnTo>
                      <a:pt x="638" y="0"/>
                    </a:lnTo>
                    <a:lnTo>
                      <a:pt x="1233" y="343"/>
                    </a:lnTo>
                    <a:lnTo>
                      <a:pt x="1233" y="3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7200000">
                <a:off x="4398120" y="2042280"/>
                <a:ext cx="1365480" cy="2071440"/>
              </a:xfrm>
              <a:custGeom>
                <a:avLst/>
                <a:gdLst/>
                <a:ahLst/>
                <a:rect l="l" t="t" r="r" b="b"/>
                <a:pathLst>
                  <a:path w="1233" h="1764">
                    <a:moveTo>
                      <a:pt x="1233" y="343"/>
                    </a:moveTo>
                    <a:lnTo>
                      <a:pt x="413" y="1764"/>
                    </a:lnTo>
                    <a:lnTo>
                      <a:pt x="0" y="1226"/>
                    </a:lnTo>
                    <a:lnTo>
                      <a:pt x="6" y="1098"/>
                    </a:lnTo>
                    <a:lnTo>
                      <a:pt x="638" y="0"/>
                    </a:lnTo>
                    <a:lnTo>
                      <a:pt x="1233" y="343"/>
                    </a:lnTo>
                    <a:lnTo>
                      <a:pt x="1233" y="3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8" name=""/>
              <p:cNvGrpSpPr/>
              <p:nvPr/>
            </p:nvGrpSpPr>
            <p:grpSpPr>
              <a:xfrm>
                <a:off x="2734920" y="1785600"/>
                <a:ext cx="2483280" cy="2629440"/>
                <a:chOff x="2734920" y="1785600"/>
                <a:chExt cx="2483280" cy="2629440"/>
              </a:xfrm>
            </p:grpSpPr>
            <p:sp>
              <p:nvSpPr>
                <p:cNvPr id="849" name=""/>
                <p:cNvSpPr/>
                <p:nvPr/>
              </p:nvSpPr>
              <p:spPr>
                <a:xfrm rot="12600000">
                  <a:off x="2788920" y="3492000"/>
                  <a:ext cx="1441440" cy="603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rot="7200000">
                  <a:off x="3184920" y="2696400"/>
                  <a:ext cx="1504800" cy="806400"/>
                </a:xfrm>
                <a:custGeom>
                  <a:avLst/>
                  <a:gdLst/>
                  <a:ahLst/>
                  <a:rect l="l" t="t" r="r" b="b"/>
                  <a:pathLst>
                    <a:path w="750" h="378">
                      <a:moveTo>
                        <a:pt x="750" y="0"/>
                      </a:moveTo>
                      <a:lnTo>
                        <a:pt x="0" y="0"/>
                      </a:lnTo>
                      <a:lnTo>
                        <a:pt x="2" y="194"/>
                      </a:lnTo>
                      <a:lnTo>
                        <a:pt x="28" y="378"/>
                      </a:lnTo>
                      <a:lnTo>
                        <a:pt x="750" y="378"/>
                      </a:lnTo>
                      <a:lnTo>
                        <a:pt x="750" y="0"/>
                      </a:lnTo>
                      <a:lnTo>
                        <a:pt x="750" y="0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rot="7200000">
                  <a:off x="4258080" y="1769760"/>
                  <a:ext cx="622080" cy="1139760"/>
                </a:xfrm>
                <a:custGeom>
                  <a:avLst/>
                  <a:gdLst/>
                  <a:ahLst/>
                  <a:rect l="l" t="t" r="r" b="b"/>
                  <a:pathLst>
                    <a:path w="495" h="971">
                      <a:moveTo>
                        <a:pt x="495" y="285"/>
                      </a:moveTo>
                      <a:lnTo>
                        <a:pt x="495" y="971"/>
                      </a:lnTo>
                      <a:lnTo>
                        <a:pt x="462" y="964"/>
                      </a:lnTo>
                      <a:lnTo>
                        <a:pt x="430" y="953"/>
                      </a:lnTo>
                      <a:lnTo>
                        <a:pt x="401" y="931"/>
                      </a:lnTo>
                      <a:lnTo>
                        <a:pt x="372" y="898"/>
                      </a:lnTo>
                      <a:lnTo>
                        <a:pt x="339" y="855"/>
                      </a:lnTo>
                      <a:lnTo>
                        <a:pt x="306" y="801"/>
                      </a:lnTo>
                      <a:lnTo>
                        <a:pt x="270" y="732"/>
                      </a:lnTo>
                      <a:lnTo>
                        <a:pt x="227" y="648"/>
                      </a:lnTo>
                      <a:lnTo>
                        <a:pt x="183" y="554"/>
                      </a:lnTo>
                      <a:lnTo>
                        <a:pt x="129" y="438"/>
                      </a:lnTo>
                      <a:lnTo>
                        <a:pt x="96" y="369"/>
                      </a:lnTo>
                      <a:lnTo>
                        <a:pt x="29" y="211"/>
                      </a:lnTo>
                      <a:lnTo>
                        <a:pt x="2" y="127"/>
                      </a:lnTo>
                      <a:lnTo>
                        <a:pt x="0" y="60"/>
                      </a:lnTo>
                      <a:lnTo>
                        <a:pt x="15" y="0"/>
                      </a:lnTo>
                      <a:lnTo>
                        <a:pt x="15" y="43"/>
                      </a:lnTo>
                      <a:lnTo>
                        <a:pt x="15" y="72"/>
                      </a:lnTo>
                      <a:lnTo>
                        <a:pt x="15" y="99"/>
                      </a:lnTo>
                      <a:lnTo>
                        <a:pt x="18" y="126"/>
                      </a:lnTo>
                      <a:lnTo>
                        <a:pt x="29" y="162"/>
                      </a:lnTo>
                      <a:lnTo>
                        <a:pt x="53" y="198"/>
                      </a:lnTo>
                      <a:lnTo>
                        <a:pt x="85" y="231"/>
                      </a:lnTo>
                      <a:lnTo>
                        <a:pt x="125" y="260"/>
                      </a:lnTo>
                      <a:lnTo>
                        <a:pt x="180" y="278"/>
                      </a:lnTo>
                      <a:lnTo>
                        <a:pt x="245" y="282"/>
                      </a:lnTo>
                      <a:lnTo>
                        <a:pt x="495" y="285"/>
                      </a:lnTo>
                      <a:close/>
                    </a:path>
                  </a:pathLst>
                </a:cu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 rot="14400000">
                <a:off x="4512240" y="3895920"/>
                <a:ext cx="1365120" cy="2071800"/>
              </a:xfrm>
              <a:custGeom>
                <a:avLst/>
                <a:gdLst/>
                <a:ahLst/>
                <a:rect l="l" t="t" r="r" b="b"/>
                <a:pathLst>
                  <a:path w="1233" h="1764">
                    <a:moveTo>
                      <a:pt x="1233" y="343"/>
                    </a:moveTo>
                    <a:lnTo>
                      <a:pt x="413" y="1764"/>
                    </a:lnTo>
                    <a:lnTo>
                      <a:pt x="0" y="1226"/>
                    </a:lnTo>
                    <a:lnTo>
                      <a:pt x="6" y="1098"/>
                    </a:lnTo>
                    <a:lnTo>
                      <a:pt x="638" y="0"/>
                    </a:lnTo>
                    <a:lnTo>
                      <a:pt x="1233" y="343"/>
                    </a:lnTo>
                    <a:lnTo>
                      <a:pt x="1233" y="3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100000">
                    <a:srgbClr val="171746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3" name=""/>
              <p:cNvGrpSpPr/>
              <p:nvPr/>
            </p:nvGrpSpPr>
            <p:grpSpPr>
              <a:xfrm>
                <a:off x="4539960" y="2665080"/>
                <a:ext cx="2172960" cy="2759760"/>
                <a:chOff x="4539960" y="2665080"/>
                <a:chExt cx="2172960" cy="2759760"/>
              </a:xfrm>
            </p:grpSpPr>
            <p:sp>
              <p:nvSpPr>
                <p:cNvPr id="854" name=""/>
                <p:cNvSpPr/>
                <p:nvPr/>
              </p:nvSpPr>
              <p:spPr>
                <a:xfrm rot="19800000">
                  <a:off x="4594320" y="2984040"/>
                  <a:ext cx="1438560" cy="603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14400000">
                  <a:off x="4987080" y="3579840"/>
                  <a:ext cx="1505160" cy="804960"/>
                </a:xfrm>
                <a:custGeom>
                  <a:avLst/>
                  <a:gdLst/>
                  <a:ahLst/>
                  <a:rect l="l" t="t" r="r" b="b"/>
                  <a:pathLst>
                    <a:path w="750" h="378">
                      <a:moveTo>
                        <a:pt x="750" y="0"/>
                      </a:moveTo>
                      <a:lnTo>
                        <a:pt x="0" y="0"/>
                      </a:lnTo>
                      <a:lnTo>
                        <a:pt x="2" y="194"/>
                      </a:lnTo>
                      <a:lnTo>
                        <a:pt x="28" y="378"/>
                      </a:lnTo>
                      <a:lnTo>
                        <a:pt x="750" y="378"/>
                      </a:lnTo>
                      <a:lnTo>
                        <a:pt x="750" y="0"/>
                      </a:lnTo>
                      <a:lnTo>
                        <a:pt x="750" y="0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rot="14400000">
                  <a:off x="5807160" y="4331880"/>
                  <a:ext cx="549360" cy="1139760"/>
                </a:xfrm>
                <a:custGeom>
                  <a:avLst/>
                  <a:gdLst/>
                  <a:ahLst/>
                  <a:rect l="l" t="t" r="r" b="b"/>
                  <a:pathLst>
                    <a:path w="495" h="971">
                      <a:moveTo>
                        <a:pt x="495" y="285"/>
                      </a:moveTo>
                      <a:lnTo>
                        <a:pt x="495" y="971"/>
                      </a:lnTo>
                      <a:lnTo>
                        <a:pt x="462" y="964"/>
                      </a:lnTo>
                      <a:lnTo>
                        <a:pt x="430" y="953"/>
                      </a:lnTo>
                      <a:lnTo>
                        <a:pt x="401" y="931"/>
                      </a:lnTo>
                      <a:lnTo>
                        <a:pt x="372" y="898"/>
                      </a:lnTo>
                      <a:lnTo>
                        <a:pt x="339" y="855"/>
                      </a:lnTo>
                      <a:lnTo>
                        <a:pt x="306" y="801"/>
                      </a:lnTo>
                      <a:lnTo>
                        <a:pt x="270" y="732"/>
                      </a:lnTo>
                      <a:lnTo>
                        <a:pt x="227" y="648"/>
                      </a:lnTo>
                      <a:lnTo>
                        <a:pt x="183" y="554"/>
                      </a:lnTo>
                      <a:lnTo>
                        <a:pt x="129" y="438"/>
                      </a:lnTo>
                      <a:lnTo>
                        <a:pt x="96" y="369"/>
                      </a:lnTo>
                      <a:lnTo>
                        <a:pt x="29" y="211"/>
                      </a:lnTo>
                      <a:lnTo>
                        <a:pt x="2" y="127"/>
                      </a:lnTo>
                      <a:lnTo>
                        <a:pt x="0" y="60"/>
                      </a:lnTo>
                      <a:lnTo>
                        <a:pt x="15" y="0"/>
                      </a:lnTo>
                      <a:lnTo>
                        <a:pt x="15" y="43"/>
                      </a:lnTo>
                      <a:lnTo>
                        <a:pt x="15" y="72"/>
                      </a:lnTo>
                      <a:lnTo>
                        <a:pt x="15" y="99"/>
                      </a:lnTo>
                      <a:lnTo>
                        <a:pt x="18" y="126"/>
                      </a:lnTo>
                      <a:lnTo>
                        <a:pt x="29" y="162"/>
                      </a:lnTo>
                      <a:lnTo>
                        <a:pt x="53" y="198"/>
                      </a:lnTo>
                      <a:lnTo>
                        <a:pt x="85" y="231"/>
                      </a:lnTo>
                      <a:lnTo>
                        <a:pt x="125" y="260"/>
                      </a:lnTo>
                      <a:lnTo>
                        <a:pt x="180" y="278"/>
                      </a:lnTo>
                      <a:lnTo>
                        <a:pt x="245" y="282"/>
                      </a:lnTo>
                      <a:lnTo>
                        <a:pt x="495" y="285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7" name=""/>
              <p:cNvGrpSpPr/>
              <p:nvPr/>
            </p:nvGrpSpPr>
            <p:grpSpPr>
              <a:xfrm>
                <a:off x="2698920" y="4327560"/>
                <a:ext cx="2493720" cy="1395000"/>
                <a:chOff x="2698920" y="4327560"/>
                <a:chExt cx="2493720" cy="139500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2698920" y="4327560"/>
                  <a:ext cx="581040" cy="1098360"/>
                </a:xfrm>
                <a:custGeom>
                  <a:avLst/>
                  <a:gdLst/>
                  <a:ahLst/>
                  <a:rect l="l" t="t" r="r" b="b"/>
                  <a:pathLst>
                    <a:path w="495" h="971">
                      <a:moveTo>
                        <a:pt x="495" y="285"/>
                      </a:moveTo>
                      <a:lnTo>
                        <a:pt x="495" y="971"/>
                      </a:lnTo>
                      <a:lnTo>
                        <a:pt x="462" y="964"/>
                      </a:lnTo>
                      <a:lnTo>
                        <a:pt x="430" y="953"/>
                      </a:lnTo>
                      <a:lnTo>
                        <a:pt x="401" y="931"/>
                      </a:lnTo>
                      <a:lnTo>
                        <a:pt x="372" y="898"/>
                      </a:lnTo>
                      <a:lnTo>
                        <a:pt x="339" y="855"/>
                      </a:lnTo>
                      <a:lnTo>
                        <a:pt x="306" y="801"/>
                      </a:lnTo>
                      <a:lnTo>
                        <a:pt x="270" y="732"/>
                      </a:lnTo>
                      <a:lnTo>
                        <a:pt x="227" y="648"/>
                      </a:lnTo>
                      <a:lnTo>
                        <a:pt x="183" y="554"/>
                      </a:lnTo>
                      <a:lnTo>
                        <a:pt x="129" y="438"/>
                      </a:lnTo>
                      <a:lnTo>
                        <a:pt x="96" y="369"/>
                      </a:lnTo>
                      <a:lnTo>
                        <a:pt x="29" y="211"/>
                      </a:lnTo>
                      <a:lnTo>
                        <a:pt x="2" y="127"/>
                      </a:lnTo>
                      <a:lnTo>
                        <a:pt x="0" y="60"/>
                      </a:lnTo>
                      <a:lnTo>
                        <a:pt x="15" y="0"/>
                      </a:lnTo>
                      <a:lnTo>
                        <a:pt x="15" y="43"/>
                      </a:lnTo>
                      <a:lnTo>
                        <a:pt x="15" y="72"/>
                      </a:lnTo>
                      <a:lnTo>
                        <a:pt x="15" y="99"/>
                      </a:lnTo>
                      <a:lnTo>
                        <a:pt x="18" y="126"/>
                      </a:lnTo>
                      <a:lnTo>
                        <a:pt x="29" y="162"/>
                      </a:lnTo>
                      <a:lnTo>
                        <a:pt x="53" y="198"/>
                      </a:lnTo>
                      <a:lnTo>
                        <a:pt x="85" y="231"/>
                      </a:lnTo>
                      <a:lnTo>
                        <a:pt x="125" y="260"/>
                      </a:lnTo>
                      <a:lnTo>
                        <a:pt x="180" y="278"/>
                      </a:lnTo>
                      <a:lnTo>
                        <a:pt x="245" y="282"/>
                      </a:lnTo>
                      <a:lnTo>
                        <a:pt x="495" y="285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rot="5400000">
                  <a:off x="4180680" y="4710600"/>
                  <a:ext cx="1384200" cy="639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3222720" y="4649760"/>
                  <a:ext cx="1595520" cy="775800"/>
                </a:xfrm>
                <a:custGeom>
                  <a:avLst/>
                  <a:gdLst/>
                  <a:ahLst/>
                  <a:rect l="l" t="t" r="r" b="b"/>
                  <a:pathLst>
                    <a:path w="750" h="378">
                      <a:moveTo>
                        <a:pt x="750" y="0"/>
                      </a:moveTo>
                      <a:lnTo>
                        <a:pt x="0" y="0"/>
                      </a:lnTo>
                      <a:lnTo>
                        <a:pt x="2" y="194"/>
                      </a:lnTo>
                      <a:lnTo>
                        <a:pt x="28" y="378"/>
                      </a:lnTo>
                      <a:lnTo>
                        <a:pt x="750" y="378"/>
                      </a:lnTo>
                      <a:lnTo>
                        <a:pt x="750" y="0"/>
                      </a:lnTo>
                      <a:lnTo>
                        <a:pt x="750" y="0"/>
                      </a:lnTo>
                      <a:close/>
                    </a:path>
                  </a:pathLst>
                </a:cu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1" name=""/>
            <p:cNvSpPr/>
            <p:nvPr/>
          </p:nvSpPr>
          <p:spPr>
            <a:xfrm>
              <a:off x="457200" y="4800600"/>
              <a:ext cx="222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99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53080" y="4724280"/>
              <a:ext cx="222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1600200"/>
              <a:ext cx="326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826920" y="1844640"/>
            <a:ext cx="8013960" cy="4495680"/>
            <a:chOff x="826920" y="1844640"/>
            <a:chExt cx="8013960" cy="4495680"/>
          </a:xfrm>
        </p:grpSpPr>
        <p:sp>
          <p:nvSpPr>
            <p:cNvPr id="867" name=""/>
            <p:cNvSpPr/>
            <p:nvPr/>
          </p:nvSpPr>
          <p:spPr>
            <a:xfrm>
              <a:off x="826920" y="1844640"/>
              <a:ext cx="5880240" cy="4495680"/>
            </a:xfrm>
            <a:prstGeom prst="rightArrow">
              <a:avLst>
                <a:gd name="adj1" fmla="val 79306"/>
                <a:gd name="adj2" fmla="val 32396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208160" y="2454120"/>
              <a:ext cx="4038480" cy="99072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7070b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08160" y="3597120"/>
              <a:ext cx="4038480" cy="99072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699d5f"/>
                </a:gs>
                <a:gs pos="100000">
                  <a:srgbClr val="95b9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08160" y="4740120"/>
              <a:ext cx="4038480" cy="99072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4cb7b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26280" y="3521160"/>
              <a:ext cx="2514600" cy="1295280"/>
            </a:xfrm>
            <a:prstGeom prst="roundRect">
              <a:avLst>
                <a:gd name="adj" fmla="val 9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1189800" y="2133720"/>
            <a:ext cx="7107120" cy="3758760"/>
            <a:chOff x="1189800" y="2133720"/>
            <a:chExt cx="7107120" cy="3758760"/>
          </a:xfrm>
        </p:grpSpPr>
        <p:sp>
          <p:nvSpPr>
            <p:cNvPr id="875" name=""/>
            <p:cNvSpPr/>
            <p:nvPr/>
          </p:nvSpPr>
          <p:spPr>
            <a:xfrm rot="17973000">
              <a:off x="4965120" y="278784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144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3465600">
              <a:off x="4964760" y="495180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73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4368800">
              <a:off x="3745440" y="28641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180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7534800">
              <a:off x="3707280" y="49186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326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543280" y="3916440"/>
              <a:ext cx="792360" cy="288360"/>
            </a:xfrm>
            <a:prstGeom prst="rightArrow">
              <a:avLst>
                <a:gd name="adj1" fmla="val 35167"/>
                <a:gd name="adj2" fmla="val 111274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0800000">
              <a:off x="3133080" y="3909600"/>
              <a:ext cx="863640" cy="288360"/>
            </a:xfrm>
            <a:prstGeom prst="rightArrow">
              <a:avLst>
                <a:gd name="adj1" fmla="val 35167"/>
                <a:gd name="adj2" fmla="val 121284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0000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79640" y="21477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3616200" y="2206440"/>
              <a:ext cx="360360" cy="360000"/>
              <a:chOff x="3616200" y="2206440"/>
              <a:chExt cx="360360" cy="360000"/>
            </a:xfrm>
          </p:grpSpPr>
          <p:sp>
            <p:nvSpPr>
              <p:cNvPr id="883" name=""/>
              <p:cNvSpPr/>
              <p:nvPr/>
            </p:nvSpPr>
            <p:spPr>
              <a:xfrm>
                <a:off x="3616200" y="2206440"/>
                <a:ext cx="360360" cy="360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32040" y="2236320"/>
                <a:ext cx="223920" cy="225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2671560" y="3862440"/>
              <a:ext cx="360360" cy="360000"/>
              <a:chOff x="2671560" y="3862440"/>
              <a:chExt cx="360360" cy="360000"/>
            </a:xfrm>
          </p:grpSpPr>
          <p:sp>
            <p:nvSpPr>
              <p:cNvPr id="886" name=""/>
              <p:cNvSpPr/>
              <p:nvPr/>
            </p:nvSpPr>
            <p:spPr>
              <a:xfrm>
                <a:off x="2671560" y="3862440"/>
                <a:ext cx="360360" cy="360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687400" y="3892320"/>
                <a:ext cx="223920" cy="225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3535200" y="5405400"/>
              <a:ext cx="360360" cy="360000"/>
              <a:chOff x="3535200" y="5405400"/>
              <a:chExt cx="360360" cy="360000"/>
            </a:xfrm>
          </p:grpSpPr>
          <p:sp>
            <p:nvSpPr>
              <p:cNvPr id="889" name=""/>
              <p:cNvSpPr/>
              <p:nvPr/>
            </p:nvSpPr>
            <p:spPr>
              <a:xfrm>
                <a:off x="3535200" y="5405400"/>
                <a:ext cx="360360" cy="360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551040" y="5435280"/>
                <a:ext cx="223920" cy="225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5465520" y="2185920"/>
              <a:ext cx="360360" cy="360000"/>
              <a:chOff x="5465520" y="2185920"/>
              <a:chExt cx="360360" cy="360000"/>
            </a:xfrm>
          </p:grpSpPr>
          <p:sp>
            <p:nvSpPr>
              <p:cNvPr id="892" name=""/>
              <p:cNvSpPr/>
              <p:nvPr/>
            </p:nvSpPr>
            <p:spPr>
              <a:xfrm>
                <a:off x="5465520" y="2185920"/>
                <a:ext cx="360360" cy="360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81360" y="2215800"/>
                <a:ext cx="223920" cy="225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6414840" y="3862440"/>
              <a:ext cx="360360" cy="360000"/>
              <a:chOff x="6414840" y="3862440"/>
              <a:chExt cx="360360" cy="360000"/>
            </a:xfrm>
          </p:grpSpPr>
          <p:sp>
            <p:nvSpPr>
              <p:cNvPr id="895" name=""/>
              <p:cNvSpPr/>
              <p:nvPr/>
            </p:nvSpPr>
            <p:spPr>
              <a:xfrm>
                <a:off x="6414840" y="3862440"/>
                <a:ext cx="360360" cy="360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430680" y="3892320"/>
                <a:ext cx="223920" cy="225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5521320" y="5462640"/>
              <a:ext cx="360360" cy="360000"/>
              <a:chOff x="5521320" y="5462640"/>
              <a:chExt cx="360360" cy="360000"/>
            </a:xfrm>
          </p:grpSpPr>
          <p:sp>
            <p:nvSpPr>
              <p:cNvPr id="898" name=""/>
              <p:cNvSpPr/>
              <p:nvPr/>
            </p:nvSpPr>
            <p:spPr>
              <a:xfrm>
                <a:off x="5521320" y="5462640"/>
                <a:ext cx="360360" cy="36000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537160" y="5492160"/>
                <a:ext cx="223920" cy="225360"/>
              </a:xfrm>
              <a:prstGeom prst="ellipse">
                <a:avLst/>
              </a:prstGeom>
              <a:gradFill rotWithShape="0">
                <a:gsLst>
                  <a:gs pos="0">
                    <a:srgbClr val="e7f3f4"/>
                  </a:gs>
                  <a:gs pos="100000">
                    <a:srgbClr val="bbe0e3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>
              <a:off x="3811320" y="3100320"/>
              <a:ext cx="1944720" cy="1944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816360" y="3106800"/>
              <a:ext cx="1944720" cy="194436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938400" y="3227400"/>
              <a:ext cx="1690920" cy="1690200"/>
            </a:xfrm>
            <a:prstGeom prst="ellipse">
              <a:avLst/>
            </a:prstGeom>
            <a:gradFill rotWithShape="0">
              <a:gsLst>
                <a:gs pos="0">
                  <a:srgbClr val="005252"/>
                </a:gs>
                <a:gs pos="50000">
                  <a:srgbClr val="009999"/>
                </a:gs>
                <a:gs pos="100000">
                  <a:srgbClr val="00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921120" y="3200400"/>
              <a:ext cx="1690560" cy="169020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006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4022640" y="3311280"/>
              <a:ext cx="1522440" cy="1522080"/>
              <a:chOff x="4022640" y="3311280"/>
              <a:chExt cx="1522440" cy="1522080"/>
            </a:xfrm>
          </p:grpSpPr>
          <p:sp>
            <p:nvSpPr>
              <p:cNvPr id="905" name=""/>
              <p:cNvSpPr/>
              <p:nvPr/>
            </p:nvSpPr>
            <p:spPr>
              <a:xfrm>
                <a:off x="4022640" y="3311280"/>
                <a:ext cx="1522440" cy="1522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044960" y="3330000"/>
                <a:ext cx="1471320" cy="14731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062240" y="3339720"/>
                <a:ext cx="1438200" cy="1434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078080" y="3354120"/>
                <a:ext cx="1366920" cy="1341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159080" y="3390480"/>
                <a:ext cx="1214640" cy="1090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>
              <a:off x="4351680" y="38005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04720" y="2133720"/>
              <a:ext cx="147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4200" y="2133720"/>
              <a:ext cx="147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19120" y="3886200"/>
              <a:ext cx="147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904720" y="5486400"/>
              <a:ext cx="147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89800" y="3886200"/>
              <a:ext cx="147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27880" y="5424480"/>
              <a:ext cx="147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828800" y="1981080"/>
            <a:ext cx="5410080" cy="3386160"/>
            <a:chOff x="1828800" y="1981080"/>
            <a:chExt cx="5410080" cy="3386160"/>
          </a:xfrm>
        </p:grpSpPr>
        <p:grpSp>
          <p:nvGrpSpPr>
            <p:cNvPr id="92" name=""/>
            <p:cNvGrpSpPr/>
            <p:nvPr/>
          </p:nvGrpSpPr>
          <p:grpSpPr>
            <a:xfrm>
              <a:off x="1828800" y="1981080"/>
              <a:ext cx="762120" cy="665280"/>
              <a:chOff x="1828800" y="1981080"/>
              <a:chExt cx="762120" cy="665280"/>
            </a:xfrm>
          </p:grpSpPr>
          <p:sp>
            <p:nvSpPr>
              <p:cNvPr id="93" name=""/>
              <p:cNvSpPr/>
              <p:nvPr/>
            </p:nvSpPr>
            <p:spPr>
              <a:xfrm>
                <a:off x="1834920" y="1992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28800" y="1981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873080" y="202032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171746"/>
                  </a:gs>
                  <a:gs pos="50000">
                    <a:srgbClr val="333399"/>
                  </a:gs>
                  <a:gs pos="100000">
                    <a:srgbClr val="171746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1828800" y="2895480"/>
              <a:ext cx="761760" cy="665280"/>
              <a:chOff x="1828800" y="2895480"/>
              <a:chExt cx="761760" cy="665280"/>
            </a:xfrm>
          </p:grpSpPr>
          <p:sp>
            <p:nvSpPr>
              <p:cNvPr id="97" name=""/>
              <p:cNvSpPr/>
              <p:nvPr/>
            </p:nvSpPr>
            <p:spPr>
              <a:xfrm>
                <a:off x="1834920" y="2906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828800" y="2895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73080" y="293472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438280" y="25909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5480" y="20574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27520" y="207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38280" y="35053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95480" y="2971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27520" y="299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828800" y="3787920"/>
              <a:ext cx="762120" cy="664920"/>
              <a:chOff x="1828800" y="3787920"/>
              <a:chExt cx="762120" cy="664920"/>
            </a:xfrm>
          </p:grpSpPr>
          <p:sp>
            <p:nvSpPr>
              <p:cNvPr id="107" name=""/>
              <p:cNvSpPr/>
              <p:nvPr/>
            </p:nvSpPr>
            <p:spPr>
              <a:xfrm>
                <a:off x="1834920" y="37990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28800" y="3787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873080" y="3827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171746"/>
                  </a:gs>
                  <a:gs pos="50000">
                    <a:srgbClr val="333399"/>
                  </a:gs>
                  <a:gs pos="100000">
                    <a:srgbClr val="171746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1828800" y="4702320"/>
              <a:ext cx="761760" cy="664920"/>
              <a:chOff x="1828800" y="4702320"/>
              <a:chExt cx="761760" cy="664920"/>
            </a:xfrm>
          </p:grpSpPr>
          <p:sp>
            <p:nvSpPr>
              <p:cNvPr id="111" name=""/>
              <p:cNvSpPr/>
              <p:nvPr/>
            </p:nvSpPr>
            <p:spPr>
              <a:xfrm>
                <a:off x="1834920" y="47134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28800" y="4702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73080" y="4741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438280" y="439740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5480" y="3863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27520" y="3886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38280" y="531180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95480" y="47782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2752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1692360" y="1844640"/>
            <a:ext cx="5769000" cy="4575240"/>
            <a:chOff x="1692360" y="1844640"/>
            <a:chExt cx="5769000" cy="4575240"/>
          </a:xfrm>
        </p:grpSpPr>
        <p:sp>
          <p:nvSpPr>
            <p:cNvPr id="920" name=""/>
            <p:cNvSpPr/>
            <p:nvPr/>
          </p:nvSpPr>
          <p:spPr>
            <a:xfrm rot="13770000">
              <a:off x="5157360" y="4286160"/>
              <a:ext cx="96048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20856000">
              <a:off x="3168360" y="3833640"/>
              <a:ext cx="100944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4106880" y="2527560"/>
              <a:ext cx="1706400" cy="1836360"/>
              <a:chOff x="4106880" y="2527560"/>
              <a:chExt cx="1706400" cy="1836360"/>
            </a:xfrm>
          </p:grpSpPr>
          <p:sp>
            <p:nvSpPr>
              <p:cNvPr id="923" name=""/>
              <p:cNvSpPr/>
              <p:nvPr/>
            </p:nvSpPr>
            <p:spPr>
              <a:xfrm rot="18394200">
                <a:off x="5283720" y="2740680"/>
                <a:ext cx="59688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4" name=""/>
              <p:cNvGrpSpPr/>
              <p:nvPr/>
            </p:nvGrpSpPr>
            <p:grpSpPr>
              <a:xfrm>
                <a:off x="4106880" y="2773080"/>
                <a:ext cx="1609560" cy="1590840"/>
                <a:chOff x="4106880" y="2773080"/>
                <a:chExt cx="1609560" cy="159084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4106880" y="2773080"/>
                  <a:ext cx="1609560" cy="159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0c313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90840" y="2799360"/>
                  <a:ext cx="1241640" cy="600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7" name=""/>
              <p:cNvSpPr/>
              <p:nvPr/>
            </p:nvSpPr>
            <p:spPr>
              <a:xfrm>
                <a:off x="4193640" y="34653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516640" y="1844640"/>
              <a:ext cx="891720" cy="862200"/>
              <a:chOff x="5516640" y="1844640"/>
              <a:chExt cx="891720" cy="86220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5516640" y="1844640"/>
                <a:ext cx="871560" cy="862200"/>
                <a:chOff x="5516640" y="1844640"/>
                <a:chExt cx="871560" cy="86220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5516640" y="1844640"/>
                  <a:ext cx="871560" cy="86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3131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5616000" y="1858680"/>
                  <a:ext cx="672480" cy="3254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2" name=""/>
              <p:cNvSpPr/>
              <p:nvPr/>
            </p:nvSpPr>
            <p:spPr>
              <a:xfrm>
                <a:off x="5537160" y="217656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1692360" y="3170160"/>
              <a:ext cx="1744560" cy="1790640"/>
              <a:chOff x="1692360" y="3170160"/>
              <a:chExt cx="1744560" cy="1790640"/>
            </a:xfrm>
          </p:grpSpPr>
          <p:grpSp>
            <p:nvGrpSpPr>
              <p:cNvPr id="934" name=""/>
              <p:cNvGrpSpPr/>
              <p:nvPr/>
            </p:nvGrpSpPr>
            <p:grpSpPr>
              <a:xfrm>
                <a:off x="1692360" y="3170160"/>
                <a:ext cx="1744560" cy="1790640"/>
                <a:chOff x="1692360" y="3170160"/>
                <a:chExt cx="1744560" cy="179064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1692360" y="317016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3d311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1891800" y="319968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7" name=""/>
              <p:cNvSpPr/>
              <p:nvPr/>
            </p:nvSpPr>
            <p:spPr>
              <a:xfrm>
                <a:off x="1786320" y="39654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5448240" y="4430880"/>
              <a:ext cx="2013120" cy="1989000"/>
              <a:chOff x="5448240" y="4430880"/>
              <a:chExt cx="2013120" cy="1989000"/>
            </a:xfrm>
          </p:grpSpPr>
          <p:grpSp>
            <p:nvGrpSpPr>
              <p:cNvPr id="939" name=""/>
              <p:cNvGrpSpPr/>
              <p:nvPr/>
            </p:nvGrpSpPr>
            <p:grpSpPr>
              <a:xfrm>
                <a:off x="5448240" y="4430880"/>
                <a:ext cx="2013120" cy="1989000"/>
                <a:chOff x="5448240" y="4430880"/>
                <a:chExt cx="2013120" cy="198900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5448240" y="443088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42e0"/>
                    </a:gs>
                    <a:gs pos="100000">
                      <a:srgbClr val="461e6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5678280" y="446364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42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"/>
              <p:cNvSpPr/>
              <p:nvPr/>
            </p:nvSpPr>
            <p:spPr>
              <a:xfrm>
                <a:off x="5736600" y="529272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971640" y="1557360"/>
            <a:ext cx="8076600" cy="4404960"/>
            <a:chOff x="971640" y="1557360"/>
            <a:chExt cx="8076600" cy="4404960"/>
          </a:xfrm>
        </p:grpSpPr>
        <p:sp>
          <p:nvSpPr>
            <p:cNvPr id="946" name=""/>
            <p:cNvSpPr/>
            <p:nvPr/>
          </p:nvSpPr>
          <p:spPr>
            <a:xfrm>
              <a:off x="3027600" y="2256480"/>
              <a:ext cx="3891240" cy="370584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3981960" y="3182760"/>
              <a:ext cx="1982520" cy="1995480"/>
              <a:chOff x="3981960" y="3182760"/>
              <a:chExt cx="1982520" cy="1995480"/>
            </a:xfrm>
          </p:grpSpPr>
          <p:sp>
            <p:nvSpPr>
              <p:cNvPr id="948" name=""/>
              <p:cNvSpPr/>
              <p:nvPr/>
            </p:nvSpPr>
            <p:spPr>
              <a:xfrm>
                <a:off x="3981960" y="3182760"/>
                <a:ext cx="1982520" cy="19954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208400" y="3215880"/>
                <a:ext cx="1529280" cy="7531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4313520" y="39672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4569480" y="1900080"/>
              <a:ext cx="660600" cy="615960"/>
              <a:chOff x="4569480" y="1900080"/>
              <a:chExt cx="660600" cy="615960"/>
            </a:xfrm>
          </p:grpSpPr>
          <p:grpSp>
            <p:nvGrpSpPr>
              <p:cNvPr id="952" name=""/>
              <p:cNvGrpSpPr/>
              <p:nvPr/>
            </p:nvGrpSpPr>
            <p:grpSpPr>
              <a:xfrm>
                <a:off x="4569480" y="1900080"/>
                <a:ext cx="660600" cy="615960"/>
                <a:chOff x="4569480" y="1900080"/>
                <a:chExt cx="660600" cy="61596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4569480" y="1900080"/>
                  <a:ext cx="6606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/>
                    </a:gs>
                    <a:gs pos="100000">
                      <a:srgbClr val="15154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644720" y="1910160"/>
                  <a:ext cx="50976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5" name=""/>
              <p:cNvSpPr/>
              <p:nvPr/>
            </p:nvSpPr>
            <p:spPr>
              <a:xfrm>
                <a:off x="4722120" y="19947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3928680" y="4972320"/>
              <a:ext cx="352080" cy="314280"/>
              <a:chOff x="3928680" y="4972320"/>
              <a:chExt cx="352080" cy="314280"/>
            </a:xfrm>
          </p:grpSpPr>
          <p:sp>
            <p:nvSpPr>
              <p:cNvPr id="957" name=""/>
              <p:cNvSpPr/>
              <p:nvPr/>
            </p:nvSpPr>
            <p:spPr>
              <a:xfrm rot="18226800">
                <a:off x="3956760" y="5132520"/>
                <a:ext cx="121680" cy="13284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6587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8226800">
                <a:off x="4130640" y="4993200"/>
                <a:ext cx="121680" cy="13248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6587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3321000" y="5245200"/>
              <a:ext cx="660600" cy="641160"/>
              <a:chOff x="3321000" y="5245200"/>
              <a:chExt cx="660600" cy="641160"/>
            </a:xfrm>
          </p:grpSpPr>
          <p:grpSp>
            <p:nvGrpSpPr>
              <p:cNvPr id="960" name=""/>
              <p:cNvGrpSpPr/>
              <p:nvPr/>
            </p:nvGrpSpPr>
            <p:grpSpPr>
              <a:xfrm>
                <a:off x="3321000" y="5245200"/>
                <a:ext cx="660600" cy="641160"/>
                <a:chOff x="3321000" y="5245200"/>
                <a:chExt cx="660600" cy="6411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3321000" y="5245200"/>
                  <a:ext cx="66060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2531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3396240" y="5255640"/>
                  <a:ext cx="50976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3" name=""/>
              <p:cNvSpPr/>
              <p:nvPr/>
            </p:nvSpPr>
            <p:spPr>
              <a:xfrm>
                <a:off x="3468600" y="53654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6554880" y="3182760"/>
              <a:ext cx="657720" cy="648720"/>
              <a:chOff x="6554880" y="3182760"/>
              <a:chExt cx="657720" cy="648720"/>
            </a:xfrm>
          </p:grpSpPr>
          <p:grpSp>
            <p:nvGrpSpPr>
              <p:cNvPr id="965" name=""/>
              <p:cNvGrpSpPr/>
              <p:nvPr/>
            </p:nvGrpSpPr>
            <p:grpSpPr>
              <a:xfrm>
                <a:off x="6554880" y="3182760"/>
                <a:ext cx="657720" cy="648720"/>
                <a:chOff x="6554880" y="3182760"/>
                <a:chExt cx="657720" cy="64872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6554880" y="3182760"/>
                  <a:ext cx="65772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6bc3c3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629760" y="3193200"/>
                  <a:ext cx="507600" cy="244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8" name=""/>
              <p:cNvSpPr/>
              <p:nvPr/>
            </p:nvSpPr>
            <p:spPr>
              <a:xfrm>
                <a:off x="6688800" y="32716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5964480" y="5249880"/>
              <a:ext cx="630000" cy="581760"/>
              <a:chOff x="5964480" y="5249880"/>
              <a:chExt cx="630000" cy="581760"/>
            </a:xfrm>
          </p:grpSpPr>
          <p:grpSp>
            <p:nvGrpSpPr>
              <p:cNvPr id="970" name=""/>
              <p:cNvGrpSpPr/>
              <p:nvPr/>
            </p:nvGrpSpPr>
            <p:grpSpPr>
              <a:xfrm>
                <a:off x="5964480" y="5249880"/>
                <a:ext cx="630000" cy="581760"/>
                <a:chOff x="5964480" y="5249880"/>
                <a:chExt cx="630000" cy="58176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5964480" y="5249880"/>
                  <a:ext cx="630000" cy="58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3a3a3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036480" y="5259240"/>
                  <a:ext cx="48600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3" name=""/>
              <p:cNvSpPr/>
              <p:nvPr/>
            </p:nvSpPr>
            <p:spPr>
              <a:xfrm>
                <a:off x="6107400" y="52808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2807280" y="3182760"/>
              <a:ext cx="660600" cy="641160"/>
              <a:chOff x="2807280" y="3182760"/>
              <a:chExt cx="660600" cy="641160"/>
            </a:xfrm>
          </p:grpSpPr>
          <p:grpSp>
            <p:nvGrpSpPr>
              <p:cNvPr id="975" name=""/>
              <p:cNvGrpSpPr/>
              <p:nvPr/>
            </p:nvGrpSpPr>
            <p:grpSpPr>
              <a:xfrm>
                <a:off x="2807280" y="3182760"/>
                <a:ext cx="660600" cy="641160"/>
                <a:chOff x="2807280" y="3182760"/>
                <a:chExt cx="660600" cy="64116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2807280" y="3182760"/>
                  <a:ext cx="66060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4656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882520" y="3193200"/>
                  <a:ext cx="50976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be0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>
                <a:off x="2955960" y="32540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 rot="18226800">
              <a:off x="5896800" y="5101560"/>
              <a:ext cx="121680" cy="132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55555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18226800">
              <a:off x="5749560" y="4959000"/>
              <a:ext cx="121680" cy="1332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55555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3518640" y="3583800"/>
              <a:ext cx="398160" cy="245520"/>
              <a:chOff x="3518640" y="3583800"/>
              <a:chExt cx="398160" cy="245520"/>
            </a:xfrm>
          </p:grpSpPr>
          <p:sp>
            <p:nvSpPr>
              <p:cNvPr id="982" name=""/>
              <p:cNvSpPr/>
              <p:nvPr/>
            </p:nvSpPr>
            <p:spPr>
              <a:xfrm rot="18226800">
                <a:off x="3546720" y="3604680"/>
                <a:ext cx="121680" cy="132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6b808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18226800">
                <a:off x="3767040" y="3675600"/>
                <a:ext cx="121320" cy="132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a6c6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4840200" y="2627640"/>
              <a:ext cx="178200" cy="439200"/>
              <a:chOff x="4840200" y="2627640"/>
              <a:chExt cx="178200" cy="439200"/>
            </a:xfrm>
          </p:grpSpPr>
          <p:sp>
            <p:nvSpPr>
              <p:cNvPr id="985" name=""/>
              <p:cNvSpPr/>
              <p:nvPr/>
            </p:nvSpPr>
            <p:spPr>
              <a:xfrm rot="18226800">
                <a:off x="4868280" y="2648520"/>
                <a:ext cx="121680" cy="13320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717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8226800">
                <a:off x="4868280" y="2912400"/>
                <a:ext cx="121680" cy="13320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8184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 rot="18226800">
              <a:off x="6282360" y="3630960"/>
              <a:ext cx="121320" cy="133200"/>
            </a:xfrm>
            <a:prstGeom prst="ellipse">
              <a:avLst/>
            </a:prstGeom>
            <a:gradFill rotWithShape="0">
              <a:gsLst>
                <a:gs pos="0">
                  <a:srgbClr val="3db1b1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18226800">
              <a:off x="6043680" y="3746880"/>
              <a:ext cx="121320" cy="133200"/>
            </a:xfrm>
            <a:prstGeom prst="ellipse">
              <a:avLst/>
            </a:prstGeom>
            <a:gradFill rotWithShape="0">
              <a:gsLst>
                <a:gs pos="0">
                  <a:srgbClr val="3db1b1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71640" y="332568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981960" y="155736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12960" y="333864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338480" y="546372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625440" y="546372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194480" y="1309680"/>
            <a:ext cx="6879960" cy="4804920"/>
            <a:chOff x="1194480" y="1309680"/>
            <a:chExt cx="6879960" cy="4804920"/>
          </a:xfrm>
        </p:grpSpPr>
        <p:sp>
          <p:nvSpPr>
            <p:cNvPr id="997" name=""/>
            <p:cNvSpPr/>
            <p:nvPr/>
          </p:nvSpPr>
          <p:spPr>
            <a:xfrm rot="20601600">
              <a:off x="1536840" y="23360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20601600">
              <a:off x="1593360" y="21744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20601600">
              <a:off x="1508040" y="216036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rot="20602200">
              <a:off x="1486080" y="2191680"/>
              <a:ext cx="5753520" cy="288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20601600">
              <a:off x="1517760" y="217152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 rot="20602200">
              <a:off x="1500120" y="217908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20601600">
              <a:off x="3054240" y="28886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69880" y="3111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74640" y="2196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951160" y="2653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377040" y="318744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20539200">
              <a:off x="1511640" y="2189520"/>
              <a:ext cx="625824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51160" y="3644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198680" y="44067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293560" y="4254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853160" y="4063680"/>
              <a:ext cx="1309680" cy="1028880"/>
            </a:xfrm>
            <a:custGeom>
              <a:avLst/>
              <a:gdLst/>
              <a:ahLst/>
              <a:rect l="l" t="t" r="r" b="b"/>
              <a:pathLst>
                <a:path w="825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25" y="416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5297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76760" y="36684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rot="20601600">
              <a:off x="3156120" y="3141360"/>
              <a:ext cx="258588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547640" y="2060640"/>
            <a:ext cx="6915240" cy="3832200"/>
            <a:chOff x="1547640" y="2060640"/>
            <a:chExt cx="6915240" cy="3832200"/>
          </a:xfrm>
        </p:grpSpPr>
        <p:sp>
          <p:nvSpPr>
            <p:cNvPr id="1018" name=""/>
            <p:cNvSpPr/>
            <p:nvPr/>
          </p:nvSpPr>
          <p:spPr>
            <a:xfrm>
              <a:off x="2881080" y="2060640"/>
              <a:ext cx="4400640" cy="2122560"/>
            </a:xfrm>
            <a:prstGeom prst="ellipse">
              <a:avLst/>
            </a:prstGeom>
            <a:noFill/>
            <a:ln w="12600">
              <a:solidFill>
                <a:srgbClr val="bbe0e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833640" y="2806560"/>
              <a:ext cx="28954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sub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833640" y="5037120"/>
              <a:ext cx="2286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Diagra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sub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176880" y="4403880"/>
              <a:ext cx="2286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Diagram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sub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547640" y="4270320"/>
              <a:ext cx="2286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Diagra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sub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2827800">
              <a:off x="2747520" y="3794040"/>
              <a:ext cx="609480" cy="343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576680" y="4438800"/>
              <a:ext cx="609480" cy="3427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8767400">
              <a:off x="6595560" y="3927240"/>
              <a:ext cx="609840" cy="343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500720" y="2276640"/>
            <a:ext cx="4114800" cy="34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99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205000" y="1522440"/>
            <a:ext cx="6786720" cy="4560840"/>
            <a:chOff x="2205000" y="1522440"/>
            <a:chExt cx="6786720" cy="4560840"/>
          </a:xfrm>
        </p:grpSpPr>
        <p:sp>
          <p:nvSpPr>
            <p:cNvPr id="1031" name=""/>
            <p:cNvSpPr/>
            <p:nvPr/>
          </p:nvSpPr>
          <p:spPr>
            <a:xfrm>
              <a:off x="2770920" y="4273560"/>
              <a:ext cx="116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02480" y="1522440"/>
              <a:ext cx="28954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Diagra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sub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05000" y="5227560"/>
              <a:ext cx="2286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Diagra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sub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705720" y="5151600"/>
              <a:ext cx="22860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Diagram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sub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847240" y="4205160"/>
              <a:ext cx="116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033800" y="2666880"/>
              <a:ext cx="2362320" cy="2362320"/>
            </a:xfrm>
            <a:prstGeom prst="ellipse">
              <a:avLst/>
            </a:prstGeom>
            <a:noFill/>
            <a:ln w="5076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4491000" y="1905120"/>
              <a:ext cx="1447920" cy="1447560"/>
              <a:chOff x="4491000" y="1905120"/>
              <a:chExt cx="1447920" cy="1447560"/>
            </a:xfrm>
          </p:grpSpPr>
          <p:sp>
            <p:nvSpPr>
              <p:cNvPr id="1038" name=""/>
              <p:cNvSpPr/>
              <p:nvPr/>
            </p:nvSpPr>
            <p:spPr>
              <a:xfrm>
                <a:off x="4491000" y="1905120"/>
                <a:ext cx="1447920" cy="144756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667040" y="2376360"/>
                <a:ext cx="1112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Diagr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3443400" y="3481560"/>
              <a:ext cx="1447560" cy="1447560"/>
              <a:chOff x="3443400" y="3481560"/>
              <a:chExt cx="1447560" cy="1447560"/>
            </a:xfrm>
          </p:grpSpPr>
          <p:sp>
            <p:nvSpPr>
              <p:cNvPr id="1041" name=""/>
              <p:cNvSpPr/>
              <p:nvPr/>
            </p:nvSpPr>
            <p:spPr>
              <a:xfrm>
                <a:off x="3443400" y="3481560"/>
                <a:ext cx="1447560" cy="14475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618360" y="3952800"/>
                <a:ext cx="1112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Diagr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5672160" y="3505320"/>
              <a:ext cx="1447920" cy="1447560"/>
              <a:chOff x="5672160" y="3505320"/>
              <a:chExt cx="1447920" cy="1447560"/>
            </a:xfrm>
          </p:grpSpPr>
          <p:sp>
            <p:nvSpPr>
              <p:cNvPr id="1044" name=""/>
              <p:cNvSpPr/>
              <p:nvPr/>
            </p:nvSpPr>
            <p:spPr>
              <a:xfrm>
                <a:off x="5672160" y="3505320"/>
                <a:ext cx="1447920" cy="14475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847840" y="3976560"/>
                <a:ext cx="1112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Diagr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Gulim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1294920" y="1716120"/>
            <a:ext cx="7315200" cy="4467240"/>
            <a:chOff x="1294920" y="1716120"/>
            <a:chExt cx="7315200" cy="4467240"/>
          </a:xfrm>
        </p:grpSpPr>
        <p:grpSp>
          <p:nvGrpSpPr>
            <p:cNvPr id="1049" name=""/>
            <p:cNvGrpSpPr/>
            <p:nvPr/>
          </p:nvGrpSpPr>
          <p:grpSpPr>
            <a:xfrm>
              <a:off x="3335400" y="4875120"/>
              <a:ext cx="5274720" cy="1308240"/>
              <a:chOff x="3335400" y="4875120"/>
              <a:chExt cx="5274720" cy="1308240"/>
            </a:xfrm>
          </p:grpSpPr>
          <p:sp>
            <p:nvSpPr>
              <p:cNvPr id="1050" name=""/>
              <p:cNvSpPr/>
              <p:nvPr/>
            </p:nvSpPr>
            <p:spPr>
              <a:xfrm>
                <a:off x="7679880" y="4875120"/>
                <a:ext cx="930240" cy="130644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4646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756960" y="4875120"/>
                <a:ext cx="4334760" cy="55656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4040a1"/>
                  </a:gs>
                  <a:gs pos="100000">
                    <a:srgbClr val="66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35400" y="5428800"/>
                <a:ext cx="4785120" cy="75456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9898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3849840" y="4092480"/>
              <a:ext cx="4179240" cy="1181160"/>
              <a:chOff x="3849840" y="4092480"/>
              <a:chExt cx="4179240" cy="1181160"/>
            </a:xfrm>
          </p:grpSpPr>
          <p:sp>
            <p:nvSpPr>
              <p:cNvPr id="1054" name=""/>
              <p:cNvSpPr/>
              <p:nvPr/>
            </p:nvSpPr>
            <p:spPr>
              <a:xfrm>
                <a:off x="7206840" y="4092480"/>
                <a:ext cx="822240" cy="118116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94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261680" y="4092480"/>
                <a:ext cx="3256920" cy="41580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5a43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849840" y="4506480"/>
                <a:ext cx="3781440" cy="76680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85e5c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4343400" y="3313080"/>
              <a:ext cx="3108240" cy="1027080"/>
              <a:chOff x="4343400" y="3313080"/>
              <a:chExt cx="3108240" cy="1027080"/>
            </a:xfrm>
          </p:grpSpPr>
          <p:sp>
            <p:nvSpPr>
              <p:cNvPr id="1058" name=""/>
              <p:cNvSpPr/>
              <p:nvPr/>
            </p:nvSpPr>
            <p:spPr>
              <a:xfrm>
                <a:off x="6731640" y="3313080"/>
                <a:ext cx="720000" cy="102708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b1790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762080" y="3313080"/>
                <a:ext cx="2174400" cy="27720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734e05"/>
                  </a:gs>
                  <a:gs pos="100000">
                    <a:srgbClr val="f4a70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343400" y="3588840"/>
                <a:ext cx="2813760" cy="75096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f8d4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4844880" y="2525760"/>
              <a:ext cx="2025360" cy="893880"/>
              <a:chOff x="4844880" y="2525760"/>
              <a:chExt cx="2025360" cy="893880"/>
            </a:xfrm>
          </p:grpSpPr>
          <p:sp>
            <p:nvSpPr>
              <p:cNvPr id="1062" name=""/>
              <p:cNvSpPr/>
              <p:nvPr/>
            </p:nvSpPr>
            <p:spPr>
              <a:xfrm>
                <a:off x="6250680" y="2525760"/>
                <a:ext cx="619560" cy="89388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9938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271480" y="2525760"/>
                <a:ext cx="1084680" cy="13392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622481"/>
                  </a:gs>
                  <a:gs pos="100000">
                    <a:srgbClr val="c247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844880" y="2658240"/>
                <a:ext cx="1831320" cy="76104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dfa2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5342040" y="1738440"/>
              <a:ext cx="948960" cy="757080"/>
              <a:chOff x="5342040" y="1738440"/>
              <a:chExt cx="948960" cy="757080"/>
            </a:xfrm>
          </p:grpSpPr>
          <p:sp>
            <p:nvSpPr>
              <p:cNvPr id="1066" name=""/>
              <p:cNvSpPr/>
              <p:nvPr/>
            </p:nvSpPr>
            <p:spPr>
              <a:xfrm>
                <a:off x="5766480" y="1738440"/>
                <a:ext cx="524520" cy="75708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0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42040" y="1738440"/>
                <a:ext cx="850320" cy="75708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9dc4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1294920" y="1828800"/>
              <a:ext cx="4419720" cy="4328640"/>
              <a:chOff x="1294920" y="1828800"/>
              <a:chExt cx="4419720" cy="4328640"/>
            </a:xfrm>
          </p:grpSpPr>
          <p:sp>
            <p:nvSpPr>
              <p:cNvPr id="1069" name=""/>
              <p:cNvSpPr/>
              <p:nvPr/>
            </p:nvSpPr>
            <p:spPr>
              <a:xfrm flipH="1">
                <a:off x="1295280" y="6156360"/>
                <a:ext cx="19576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1294920" y="5283360"/>
                <a:ext cx="2526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1294920" y="4379040"/>
                <a:ext cx="29660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1294920" y="3489480"/>
                <a:ext cx="3472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>
                <a:off x="1294920" y="2594160"/>
                <a:ext cx="3976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1295280" y="1828800"/>
                <a:ext cx="4419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1582560" y="1716120"/>
              <a:ext cx="1800" cy="75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82560" y="2516040"/>
              <a:ext cx="180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582560" y="3451320"/>
              <a:ext cx="180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582560" y="4387680"/>
              <a:ext cx="1800" cy="88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82560" y="5319720"/>
              <a:ext cx="1800" cy="82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635840" y="1913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635840" y="28274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635840" y="3741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635840" y="4656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635840" y="557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482440" y="21128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482440" y="2951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482440" y="3865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482440" y="4780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482440" y="56944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533520" y="1676520"/>
            <a:ext cx="8153280" cy="4343400"/>
            <a:chOff x="533520" y="1676520"/>
            <a:chExt cx="8153280" cy="4343400"/>
          </a:xfrm>
        </p:grpSpPr>
        <p:grpSp>
          <p:nvGrpSpPr>
            <p:cNvPr id="1093" name=""/>
            <p:cNvGrpSpPr/>
            <p:nvPr/>
          </p:nvGrpSpPr>
          <p:grpSpPr>
            <a:xfrm>
              <a:off x="2737080" y="1884600"/>
              <a:ext cx="3690360" cy="3697200"/>
              <a:chOff x="2737080" y="1884600"/>
              <a:chExt cx="3690360" cy="3697200"/>
            </a:xfrm>
          </p:grpSpPr>
          <p:sp>
            <p:nvSpPr>
              <p:cNvPr id="1094" name=""/>
              <p:cNvSpPr/>
              <p:nvPr/>
            </p:nvSpPr>
            <p:spPr>
              <a:xfrm>
                <a:off x="2903040" y="2057400"/>
                <a:ext cx="3333240" cy="33220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27058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000000">
                      <a:alpha val="27058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95480" y="2057400"/>
                <a:ext cx="3346920" cy="33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6" name=""/>
              <p:cNvSpPr/>
              <p:nvPr/>
            </p:nvSpPr>
            <p:spPr>
              <a:xfrm>
                <a:off x="2917080" y="2061360"/>
                <a:ext cx="3329280" cy="334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4357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43579"/>
                  </a:path>
                </a:pathLst>
              </a:custGeom>
              <a:solidFill>
                <a:srgbClr val="99cc00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5400000">
                <a:off x="2907720" y="2058480"/>
                <a:ext cx="3342240" cy="333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95" y="2"/>
                    </a:moveTo>
                    <a:arcTo wR="10800" hR="10800" stAng="-5465392" swAng="54765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95" y="2"/>
                    </a:moveTo>
                    <a:arcTo wR="10800" hR="10800" stAng="-5465392" swAng="5476597"/>
                  </a:path>
                </a:pathLst>
              </a:custGeom>
              <a:solidFill>
                <a:srgbClr val="93c05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H="1" flipV="1" rot="5400000">
                <a:off x="2904480" y="2072880"/>
                <a:ext cx="3335400" cy="3326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013" y="2"/>
                    </a:moveTo>
                    <a:arcTo wR="10800" hR="10800" stAng="-5332190" swAng="53626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013" y="2"/>
                    </a:moveTo>
                    <a:arcTo wR="10800" hR="10800" stAng="-5332190" swAng="5362650"/>
                  </a:path>
                </a:pathLst>
              </a:custGeom>
              <a:solidFill>
                <a:srgbClr val="93c05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10419000">
                <a:off x="2912040" y="2058840"/>
                <a:ext cx="3340440" cy="334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987" y="65"/>
                    </a:moveTo>
                    <a:arcTo wR="10800" hR="10800" stAng="-5021536" swAng="547643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987" y="65"/>
                    </a:moveTo>
                    <a:arcTo wR="10800" hR="10800" stAng="-5021536" swAng="5476435"/>
                  </a:path>
                </a:pathLst>
              </a:cu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 txBox="1"/>
              <p:nvPr/>
            </p:nvSpPr>
            <p:spPr>
              <a:xfrm rot="18976800">
                <a:off x="3286440" y="2676240"/>
                <a:ext cx="1680840" cy="1234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262507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648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Verdana"/>
                  </a:rPr>
                  <a:t>Your Text Here</a:t>
                </a:r>
                <a:endPara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  <a:ea typeface="Verdana"/>
                </a:endParaRPr>
              </a:p>
            </p:txBody>
          </p:sp>
          <p:sp>
            <p:nvSpPr>
              <p:cNvPr id="1101" name=""/>
              <p:cNvSpPr txBox="1"/>
              <p:nvPr/>
            </p:nvSpPr>
            <p:spPr>
              <a:xfrm rot="2686800">
                <a:off x="4247640" y="2697120"/>
                <a:ext cx="1676880" cy="1234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2625074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1" strike="noStrike">
                    <a:ln w="648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Verdana"/>
                  </a:rPr>
                  <a:t>软件平台</a:t>
                </a:r>
                <a:endPara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  <a:ea typeface="Verdana"/>
                </a:endParaRPr>
              </a:p>
            </p:txBody>
          </p:sp>
          <p:sp>
            <p:nvSpPr>
              <p:cNvPr id="1102" name=""/>
              <p:cNvSpPr txBox="1"/>
              <p:nvPr/>
            </p:nvSpPr>
            <p:spPr>
              <a:xfrm rot="2760000">
                <a:off x="3165120" y="4060080"/>
                <a:ext cx="1551240" cy="6202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106077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648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Verdana"/>
                  </a:rPr>
                  <a:t>Your Text Here</a:t>
                </a:r>
                <a:endPara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  <a:ea typeface="Verdana"/>
                </a:endParaRPr>
              </a:p>
            </p:txBody>
          </p:sp>
          <p:sp>
            <p:nvSpPr>
              <p:cNvPr id="1103" name=""/>
              <p:cNvSpPr txBox="1"/>
              <p:nvPr/>
            </p:nvSpPr>
            <p:spPr>
              <a:xfrm rot="19083600">
                <a:off x="4456080" y="4031640"/>
                <a:ext cx="1545480" cy="6224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1060779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648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Verdana"/>
                  </a:rPr>
                  <a:t>Your Text Here</a:t>
                </a:r>
                <a:endParaRPr b="0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  <a:ea typeface="Verdana"/>
                </a:endParaRPr>
              </a:p>
            </p:txBody>
          </p:sp>
          <p:grpSp>
            <p:nvGrpSpPr>
              <p:cNvPr id="1104" name=""/>
              <p:cNvGrpSpPr/>
              <p:nvPr/>
            </p:nvGrpSpPr>
            <p:grpSpPr>
              <a:xfrm>
                <a:off x="3677040" y="2819880"/>
                <a:ext cx="1791360" cy="1841040"/>
                <a:chOff x="3677040" y="2819880"/>
                <a:chExt cx="1791360" cy="1841040"/>
              </a:xfrm>
            </p:grpSpPr>
            <p:pic>
              <p:nvPicPr>
                <p:cNvPr id="110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677040" y="2819880"/>
                  <a:ext cx="1791360" cy="175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3677040" y="2819880"/>
                  <a:ext cx="1779120" cy="175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04040">
                        <a:alpha val="90196"/>
                      </a:srgbClr>
                    </a:gs>
                    <a:gs pos="50000">
                      <a:srgbClr val="f8f8f8">
                        <a:alpha val="45098"/>
                      </a:srgbClr>
                    </a:gs>
                    <a:gs pos="100000">
                      <a:srgbClr val="404040">
                        <a:alpha val="9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861720" y="2855520"/>
                  <a:ext cx="1397880" cy="60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8" name=""/>
                <p:cNvGrpSpPr/>
                <p:nvPr/>
              </p:nvGrpSpPr>
              <p:grpSpPr>
                <a:xfrm>
                  <a:off x="3803400" y="4034160"/>
                  <a:ext cx="1572480" cy="626760"/>
                  <a:chOff x="3803400" y="4034160"/>
                  <a:chExt cx="1572480" cy="626760"/>
                </a:xfrm>
              </p:grpSpPr>
              <p:grpSp>
                <p:nvGrpSpPr>
                  <p:cNvPr id="1109" name=""/>
                  <p:cNvGrpSpPr/>
                  <p:nvPr/>
                </p:nvGrpSpPr>
                <p:grpSpPr>
                  <a:xfrm>
                    <a:off x="4078440" y="4034160"/>
                    <a:ext cx="1297440" cy="590040"/>
                    <a:chOff x="4078440" y="4034160"/>
                    <a:chExt cx="1297440" cy="590040"/>
                  </a:xfrm>
                </p:grpSpPr>
                <p:sp>
                  <p:nvSpPr>
                    <p:cNvPr id="1110" name=""/>
                    <p:cNvSpPr/>
                    <p:nvPr/>
                  </p:nvSpPr>
                  <p:spPr>
                    <a:xfrm flipH="1" flipV="1" rot="3964800">
                      <a:off x="4784760" y="3857040"/>
                      <a:ext cx="227160" cy="9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 flipH="1" flipV="1" rot="4780200">
                      <a:off x="4639320" y="3915000"/>
                      <a:ext cx="227160" cy="9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 flipH="1" flipV="1" rot="5076000">
                      <a:off x="4549680" y="3927600"/>
                      <a:ext cx="227160" cy="9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 flipH="1" flipV="1" rot="5608200">
                      <a:off x="4442040" y="3936960"/>
                      <a:ext cx="227160" cy="9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4" name=""/>
                  <p:cNvGrpSpPr/>
                  <p:nvPr/>
                </p:nvGrpSpPr>
                <p:grpSpPr>
                  <a:xfrm>
                    <a:off x="3803400" y="4042440"/>
                    <a:ext cx="1296000" cy="618480"/>
                    <a:chOff x="3803400" y="4042440"/>
                    <a:chExt cx="1296000" cy="618480"/>
                  </a:xfrm>
                </p:grpSpPr>
                <p:sp>
                  <p:nvSpPr>
                    <p:cNvPr id="1115" name=""/>
                    <p:cNvSpPr/>
                    <p:nvPr/>
                  </p:nvSpPr>
                  <p:spPr>
                    <a:xfrm flipH="1" flipV="1" rot="5317800">
                      <a:off x="4510800" y="3938040"/>
                      <a:ext cx="228240" cy="9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6" name=""/>
                    <p:cNvSpPr/>
                    <p:nvPr/>
                  </p:nvSpPr>
                  <p:spPr>
                    <a:xfrm flipH="1" flipV="1" rot="6133800">
                      <a:off x="4353480" y="3935520"/>
                      <a:ext cx="228240" cy="9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7" name=""/>
                    <p:cNvSpPr/>
                    <p:nvPr/>
                  </p:nvSpPr>
                  <p:spPr>
                    <a:xfrm flipH="1" flipV="1" rot="6429000">
                      <a:off x="4266000" y="3912120"/>
                      <a:ext cx="228240" cy="9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 flipH="1" flipV="1" rot="6961200">
                      <a:off x="4163040" y="3880080"/>
                      <a:ext cx="228240" cy="9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8f8f8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119" name=""/>
              <p:cNvSpPr/>
              <p:nvPr/>
            </p:nvSpPr>
            <p:spPr>
              <a:xfrm>
                <a:off x="4054680" y="3357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c1c1c"/>
                    </a:solidFill>
                    <a:latin typeface="Arial"/>
                  </a:rPr>
                  <a:t>研究现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6324480" y="1676520"/>
              <a:ext cx="2362320" cy="838080"/>
            </a:xfrm>
            <a:noFill/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cc00"/>
                  </a:solidFill>
                  <a:latin typeface="Arial"/>
                </a:rPr>
                <a:t>Add your title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48520" y="5181480"/>
              <a:ext cx="2361960" cy="838440"/>
            </a:xfrm>
            <a:noFill/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Add your title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566640" y="1684440"/>
              <a:ext cx="2286000" cy="838080"/>
            </a:xfrm>
            <a:noFill/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Add your title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33520" y="5216400"/>
              <a:ext cx="2361960" cy="803520"/>
            </a:xfrm>
            <a:noFill/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cc00"/>
                  </a:solidFill>
                  <a:latin typeface="Arial"/>
                </a:rPr>
                <a:t>Add your title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457200" y="1836720"/>
            <a:ext cx="8305920" cy="4106520"/>
            <a:chOff x="457200" y="1836720"/>
            <a:chExt cx="8305920" cy="4106520"/>
          </a:xfrm>
        </p:grpSpPr>
        <p:grpSp>
          <p:nvGrpSpPr>
            <p:cNvPr id="1127" name=""/>
            <p:cNvGrpSpPr/>
            <p:nvPr/>
          </p:nvGrpSpPr>
          <p:grpSpPr>
            <a:xfrm>
              <a:off x="1981080" y="3886200"/>
              <a:ext cx="5334120" cy="1371600"/>
              <a:chOff x="1981080" y="3886200"/>
              <a:chExt cx="5334120" cy="1371600"/>
            </a:xfrm>
          </p:grpSpPr>
          <p:grpSp>
            <p:nvGrpSpPr>
              <p:cNvPr id="1128" name=""/>
              <p:cNvGrpSpPr/>
              <p:nvPr/>
            </p:nvGrpSpPr>
            <p:grpSpPr>
              <a:xfrm>
                <a:off x="1981080" y="3886200"/>
                <a:ext cx="5334120" cy="1371600"/>
                <a:chOff x="1981080" y="3886200"/>
                <a:chExt cx="5334120" cy="1371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1981080" y="4190760"/>
                  <a:ext cx="5334120" cy="1067040"/>
                </a:xfrm>
                <a:custGeom>
                  <a:avLst/>
                  <a:gdLst/>
                  <a:ahLst/>
                  <a:rect l="l" t="t" r="r" b="b"/>
                  <a:pathLst>
                    <a:path w="2202" h="529">
                      <a:moveTo>
                        <a:pt x="0" y="528"/>
                      </a:moveTo>
                      <a:lnTo>
                        <a:pt x="717" y="1"/>
                      </a:lnTo>
                      <a:lnTo>
                        <a:pt x="1440" y="0"/>
                      </a:lnTo>
                      <a:lnTo>
                        <a:pt x="2202" y="529"/>
                      </a:lnTo>
                      <a:lnTo>
                        <a:pt x="48" y="528"/>
                      </a:lnTo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7cc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0" name=""/>
                <p:cNvGrpSpPr/>
                <p:nvPr/>
              </p:nvGrpSpPr>
              <p:grpSpPr>
                <a:xfrm>
                  <a:off x="3200400" y="3886200"/>
                  <a:ext cx="3123720" cy="1371600"/>
                  <a:chOff x="3200400" y="3886200"/>
                  <a:chExt cx="3123720" cy="137160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 flipV="1">
                    <a:off x="3200400" y="4114440"/>
                    <a:ext cx="838080" cy="114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 flipV="1">
                    <a:off x="4114800" y="3886200"/>
                    <a:ext cx="152280" cy="1371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V="1">
                    <a:off x="4800600" y="3961800"/>
                    <a:ext cx="0" cy="1295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 flipH="1" flipV="1">
                    <a:off x="5105520" y="4038120"/>
                    <a:ext cx="457200" cy="121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 flipV="1">
                    <a:off x="5333760" y="4114440"/>
                    <a:ext cx="990360" cy="114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6" name=""/>
              <p:cNvSpPr/>
              <p:nvPr/>
            </p:nvSpPr>
            <p:spPr>
              <a:xfrm>
                <a:off x="2590920" y="4876560"/>
                <a:ext cx="4114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048120" y="4572000"/>
                <a:ext cx="3200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352680" y="4343400"/>
                <a:ext cx="2590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457200" y="2141640"/>
              <a:ext cx="2556000" cy="2430000"/>
              <a:chOff x="457200" y="2141640"/>
              <a:chExt cx="2556000" cy="2430000"/>
            </a:xfrm>
          </p:grpSpPr>
          <p:pic>
            <p:nvPicPr>
              <p:cNvPr id="1140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462960" y="2141640"/>
                <a:ext cx="2539440" cy="243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1" name=""/>
              <p:cNvSpPr/>
              <p:nvPr/>
            </p:nvSpPr>
            <p:spPr>
              <a:xfrm>
                <a:off x="457200" y="2144880"/>
                <a:ext cx="2556000" cy="2421000"/>
              </a:xfrm>
              <a:custGeom>
                <a:avLst/>
                <a:gdLst/>
                <a:ahLst/>
                <a:rect l="l" t="t" r="r" b="b"/>
                <a:pathLst>
                  <a:path w="1722" h="1382">
                    <a:moveTo>
                      <a:pt x="6" y="79"/>
                    </a:moveTo>
                    <a:cubicBezTo>
                      <a:pt x="0" y="294"/>
                      <a:pt x="3" y="1087"/>
                      <a:pt x="6" y="1300"/>
                    </a:cubicBezTo>
                    <a:cubicBezTo>
                      <a:pt x="8" y="1336"/>
                      <a:pt x="36" y="1359"/>
                      <a:pt x="46" y="1367"/>
                    </a:cubicBezTo>
                    <a:cubicBezTo>
                      <a:pt x="60" y="1381"/>
                      <a:pt x="109" y="1382"/>
                      <a:pt x="121" y="1381"/>
                    </a:cubicBezTo>
                    <a:cubicBezTo>
                      <a:pt x="368" y="1362"/>
                      <a:pt x="1388" y="1336"/>
                      <a:pt x="1658" y="1312"/>
                    </a:cubicBezTo>
                    <a:cubicBezTo>
                      <a:pt x="1658" y="1315"/>
                      <a:pt x="1684" y="1300"/>
                      <a:pt x="1696" y="1286"/>
                    </a:cubicBezTo>
                    <a:cubicBezTo>
                      <a:pt x="1708" y="1272"/>
                      <a:pt x="1714" y="1250"/>
                      <a:pt x="1714" y="1247"/>
                    </a:cubicBezTo>
                    <a:cubicBezTo>
                      <a:pt x="1714" y="1065"/>
                      <a:pt x="1722" y="347"/>
                      <a:pt x="1715" y="157"/>
                    </a:cubicBezTo>
                    <a:cubicBezTo>
                      <a:pt x="1715" y="124"/>
                      <a:pt x="1711" y="104"/>
                      <a:pt x="1689" y="87"/>
                    </a:cubicBezTo>
                    <a:cubicBezTo>
                      <a:pt x="1667" y="70"/>
                      <a:pt x="1659" y="73"/>
                      <a:pt x="1637" y="67"/>
                    </a:cubicBezTo>
                    <a:cubicBezTo>
                      <a:pt x="1375" y="49"/>
                      <a:pt x="360" y="16"/>
                      <a:pt x="95" y="0"/>
                    </a:cubicBezTo>
                    <a:cubicBezTo>
                      <a:pt x="72" y="0"/>
                      <a:pt x="41" y="14"/>
                      <a:pt x="29" y="31"/>
                    </a:cubicBezTo>
                    <a:cubicBezTo>
                      <a:pt x="17" y="48"/>
                      <a:pt x="13" y="49"/>
                      <a:pt x="6" y="79"/>
                    </a:cubicBezTo>
                    <a:close/>
                  </a:path>
                </a:pathLst>
              </a:custGeom>
              <a:solidFill>
                <a:srgbClr val="bbe0e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1676520" y="5257800"/>
              <a:ext cx="6019200" cy="685440"/>
              <a:chOff x="1676520" y="5257800"/>
              <a:chExt cx="6019200" cy="685440"/>
            </a:xfrm>
          </p:grpSpPr>
          <p:sp>
            <p:nvSpPr>
              <p:cNvPr id="1143" name=""/>
              <p:cNvSpPr/>
              <p:nvPr/>
            </p:nvSpPr>
            <p:spPr>
              <a:xfrm>
                <a:off x="1676520" y="5257800"/>
                <a:ext cx="6019200" cy="685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7ccf3"/>
                  </a:gs>
                  <a:gs pos="50000">
                    <a:srgbClr val="7faccd"/>
                  </a:gs>
                  <a:gs pos="100000">
                    <a:srgbClr val="97ccf3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962000" y="5367960"/>
                <a:ext cx="5417280" cy="438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7ccf3"/>
                  </a:gs>
                  <a:gs pos="50000">
                    <a:srgbClr val="d5eaf9"/>
                  </a:gs>
                  <a:gs pos="100000">
                    <a:srgbClr val="97ccf3"/>
                  </a:gs>
                </a:gsLst>
                <a:lin ang="13500000"/>
              </a:gra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609480" y="2446200"/>
              <a:ext cx="21337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>
              <a:off x="3352680" y="1836720"/>
              <a:ext cx="2438640" cy="609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22709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1c1c1c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0">
                  <a:noFill/>
                </a:ln>
                <a:solidFill>
                  <a:srgbClr val="1c1c1c"/>
                </a:solidFill>
                <a:latin typeface="Verdana"/>
                <a:ea typeface="Verdana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6137280" y="2141640"/>
              <a:ext cx="2625840" cy="2353680"/>
              <a:chOff x="6137280" y="2141640"/>
              <a:chExt cx="2625840" cy="2353680"/>
            </a:xfrm>
          </p:grpSpPr>
          <p:pic>
            <p:nvPicPr>
              <p:cNvPr id="11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48440" y="2141640"/>
                <a:ext cx="2608560" cy="235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flipH="1">
                <a:off x="6137280" y="2144880"/>
                <a:ext cx="2625840" cy="2345040"/>
              </a:xfrm>
              <a:custGeom>
                <a:avLst/>
                <a:gdLst/>
                <a:ahLst/>
                <a:rect l="l" t="t" r="r" b="b"/>
                <a:pathLst>
                  <a:path w="1722" h="1382">
                    <a:moveTo>
                      <a:pt x="6" y="79"/>
                    </a:moveTo>
                    <a:cubicBezTo>
                      <a:pt x="0" y="294"/>
                      <a:pt x="3" y="1087"/>
                      <a:pt x="6" y="1300"/>
                    </a:cubicBezTo>
                    <a:cubicBezTo>
                      <a:pt x="8" y="1336"/>
                      <a:pt x="36" y="1359"/>
                      <a:pt x="46" y="1367"/>
                    </a:cubicBezTo>
                    <a:cubicBezTo>
                      <a:pt x="60" y="1381"/>
                      <a:pt x="109" y="1382"/>
                      <a:pt x="121" y="1381"/>
                    </a:cubicBezTo>
                    <a:cubicBezTo>
                      <a:pt x="368" y="1362"/>
                      <a:pt x="1388" y="1336"/>
                      <a:pt x="1658" y="1312"/>
                    </a:cubicBezTo>
                    <a:cubicBezTo>
                      <a:pt x="1658" y="1315"/>
                      <a:pt x="1684" y="1300"/>
                      <a:pt x="1696" y="1286"/>
                    </a:cubicBezTo>
                    <a:cubicBezTo>
                      <a:pt x="1708" y="1272"/>
                      <a:pt x="1714" y="1250"/>
                      <a:pt x="1714" y="1247"/>
                    </a:cubicBezTo>
                    <a:cubicBezTo>
                      <a:pt x="1714" y="1065"/>
                      <a:pt x="1722" y="347"/>
                      <a:pt x="1715" y="157"/>
                    </a:cubicBezTo>
                    <a:cubicBezTo>
                      <a:pt x="1715" y="124"/>
                      <a:pt x="1711" y="104"/>
                      <a:pt x="1689" y="87"/>
                    </a:cubicBezTo>
                    <a:cubicBezTo>
                      <a:pt x="1667" y="70"/>
                      <a:pt x="1659" y="73"/>
                      <a:pt x="1637" y="67"/>
                    </a:cubicBezTo>
                    <a:cubicBezTo>
                      <a:pt x="1375" y="49"/>
                      <a:pt x="360" y="16"/>
                      <a:pt x="95" y="0"/>
                    </a:cubicBezTo>
                    <a:cubicBezTo>
                      <a:pt x="72" y="0"/>
                      <a:pt x="41" y="14"/>
                      <a:pt x="29" y="31"/>
                    </a:cubicBezTo>
                    <a:cubicBezTo>
                      <a:pt x="17" y="48"/>
                      <a:pt x="13" y="49"/>
                      <a:pt x="6" y="79"/>
                    </a:cubicBezTo>
                    <a:close/>
                  </a:path>
                </a:pathLst>
              </a:custGeom>
              <a:solidFill>
                <a:srgbClr val="bbe0e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>
              <a:off x="6213600" y="2522520"/>
              <a:ext cx="21333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3124080" y="2446200"/>
              <a:ext cx="2895480" cy="1325520"/>
              <a:chOff x="3124080" y="2446200"/>
              <a:chExt cx="2895480" cy="1325520"/>
            </a:xfrm>
          </p:grpSpPr>
          <p:sp>
            <p:nvSpPr>
              <p:cNvPr id="1152" name=""/>
              <p:cNvSpPr/>
              <p:nvPr/>
            </p:nvSpPr>
            <p:spPr>
              <a:xfrm>
                <a:off x="3155760" y="2488320"/>
                <a:ext cx="2863800" cy="1283400"/>
              </a:xfrm>
              <a:prstGeom prst="ellips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124080" y="2446200"/>
                <a:ext cx="2863800" cy="1283040"/>
              </a:xfrm>
              <a:prstGeom prst="ellipse">
                <a:avLst/>
              </a:prstGeom>
              <a:gradFill rotWithShape="0">
                <a:gsLst>
                  <a:gs pos="0">
                    <a:srgbClr val="1d80e3"/>
                  </a:gs>
                  <a:gs pos="100000">
                    <a:srgbClr val="9ac5f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>
              <a:off x="3260880" y="2370240"/>
              <a:ext cx="2592360" cy="1149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294000" y="2376360"/>
              <a:ext cx="2529000" cy="1121040"/>
            </a:xfrm>
            <a:prstGeom prst="ellipse">
              <a:avLst/>
            </a:prstGeom>
            <a:gradFill rotWithShape="0">
              <a:gsLst>
                <a:gs pos="0">
                  <a:srgbClr val="feeca5"/>
                </a:gs>
                <a:gs pos="100000">
                  <a:srgbClr val="ffcc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21000" y="2387520"/>
              <a:ext cx="2406600" cy="104616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48235"/>
                  </a:srgbClr>
                </a:gs>
                <a:gs pos="100000">
                  <a:srgbClr val="c9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48080" y="2411280"/>
              <a:ext cx="2117520" cy="84780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959280" y="2522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4038480" y="3970440"/>
              <a:ext cx="457200" cy="1137600"/>
              <a:chOff x="4038480" y="3970440"/>
              <a:chExt cx="457200" cy="1137600"/>
            </a:xfrm>
          </p:grpSpPr>
          <p:sp>
            <p:nvSpPr>
              <p:cNvPr id="1160" name=""/>
              <p:cNvSpPr/>
              <p:nvPr/>
            </p:nvSpPr>
            <p:spPr>
              <a:xfrm>
                <a:off x="4149360" y="3970440"/>
                <a:ext cx="213840" cy="23184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038480" y="4227120"/>
                <a:ext cx="457200" cy="88092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4572000" y="3970440"/>
              <a:ext cx="457200" cy="1137600"/>
              <a:chOff x="4572000" y="3970440"/>
              <a:chExt cx="457200" cy="1137600"/>
            </a:xfrm>
          </p:grpSpPr>
          <p:sp>
            <p:nvSpPr>
              <p:cNvPr id="1163" name=""/>
              <p:cNvSpPr/>
              <p:nvPr/>
            </p:nvSpPr>
            <p:spPr>
              <a:xfrm>
                <a:off x="4682880" y="3970440"/>
                <a:ext cx="213840" cy="23184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572000" y="4227120"/>
                <a:ext cx="457200" cy="88092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457200" y="1874880"/>
            <a:ext cx="8305920" cy="3897000"/>
            <a:chOff x="457200" y="1874880"/>
            <a:chExt cx="8305920" cy="3897000"/>
          </a:xfrm>
        </p:grpSpPr>
        <p:grpSp>
          <p:nvGrpSpPr>
            <p:cNvPr id="1168" name=""/>
            <p:cNvGrpSpPr/>
            <p:nvPr/>
          </p:nvGrpSpPr>
          <p:grpSpPr>
            <a:xfrm>
              <a:off x="457200" y="1981080"/>
              <a:ext cx="2556000" cy="2430360"/>
              <a:chOff x="457200" y="1981080"/>
              <a:chExt cx="2556000" cy="2430360"/>
            </a:xfrm>
          </p:grpSpPr>
          <p:pic>
            <p:nvPicPr>
              <p:cNvPr id="1169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462960" y="1981080"/>
                <a:ext cx="2539440" cy="243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"/>
              <p:cNvSpPr/>
              <p:nvPr/>
            </p:nvSpPr>
            <p:spPr>
              <a:xfrm>
                <a:off x="457200" y="1984320"/>
                <a:ext cx="2556000" cy="2421360"/>
              </a:xfrm>
              <a:custGeom>
                <a:avLst/>
                <a:gdLst/>
                <a:ahLst/>
                <a:rect l="l" t="t" r="r" b="b"/>
                <a:pathLst>
                  <a:path w="1722" h="1382">
                    <a:moveTo>
                      <a:pt x="6" y="79"/>
                    </a:moveTo>
                    <a:cubicBezTo>
                      <a:pt x="0" y="294"/>
                      <a:pt x="3" y="1087"/>
                      <a:pt x="6" y="1300"/>
                    </a:cubicBezTo>
                    <a:cubicBezTo>
                      <a:pt x="8" y="1336"/>
                      <a:pt x="36" y="1359"/>
                      <a:pt x="46" y="1367"/>
                    </a:cubicBezTo>
                    <a:cubicBezTo>
                      <a:pt x="60" y="1381"/>
                      <a:pt x="109" y="1382"/>
                      <a:pt x="121" y="1381"/>
                    </a:cubicBezTo>
                    <a:cubicBezTo>
                      <a:pt x="368" y="1362"/>
                      <a:pt x="1388" y="1336"/>
                      <a:pt x="1658" y="1312"/>
                    </a:cubicBezTo>
                    <a:cubicBezTo>
                      <a:pt x="1658" y="1315"/>
                      <a:pt x="1684" y="1300"/>
                      <a:pt x="1696" y="1286"/>
                    </a:cubicBezTo>
                    <a:cubicBezTo>
                      <a:pt x="1708" y="1272"/>
                      <a:pt x="1714" y="1250"/>
                      <a:pt x="1714" y="1247"/>
                    </a:cubicBezTo>
                    <a:cubicBezTo>
                      <a:pt x="1714" y="1065"/>
                      <a:pt x="1722" y="347"/>
                      <a:pt x="1715" y="157"/>
                    </a:cubicBezTo>
                    <a:cubicBezTo>
                      <a:pt x="1715" y="124"/>
                      <a:pt x="1711" y="104"/>
                      <a:pt x="1689" y="87"/>
                    </a:cubicBezTo>
                    <a:cubicBezTo>
                      <a:pt x="1667" y="70"/>
                      <a:pt x="1659" y="73"/>
                      <a:pt x="1637" y="67"/>
                    </a:cubicBezTo>
                    <a:cubicBezTo>
                      <a:pt x="1375" y="49"/>
                      <a:pt x="360" y="16"/>
                      <a:pt x="95" y="0"/>
                    </a:cubicBezTo>
                    <a:cubicBezTo>
                      <a:pt x="72" y="0"/>
                      <a:pt x="41" y="14"/>
                      <a:pt x="29" y="31"/>
                    </a:cubicBezTo>
                    <a:cubicBezTo>
                      <a:pt x="17" y="48"/>
                      <a:pt x="13" y="49"/>
                      <a:pt x="6" y="79"/>
                    </a:cubicBezTo>
                    <a:close/>
                  </a:path>
                </a:pathLst>
              </a:custGeom>
              <a:solidFill>
                <a:srgbClr val="bbe0e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1600200" y="3733920"/>
              <a:ext cx="6019200" cy="2037960"/>
              <a:chOff x="1600200" y="3733920"/>
              <a:chExt cx="6019200" cy="2037960"/>
            </a:xfrm>
          </p:grpSpPr>
          <p:grpSp>
            <p:nvGrpSpPr>
              <p:cNvPr id="1172" name=""/>
              <p:cNvGrpSpPr/>
              <p:nvPr/>
            </p:nvGrpSpPr>
            <p:grpSpPr>
              <a:xfrm>
                <a:off x="1904760" y="3733920"/>
                <a:ext cx="5334120" cy="1371600"/>
                <a:chOff x="1904760" y="3733920"/>
                <a:chExt cx="5334120" cy="1371600"/>
              </a:xfrm>
            </p:grpSpPr>
            <p:grpSp>
              <p:nvGrpSpPr>
                <p:cNvPr id="1173" name=""/>
                <p:cNvGrpSpPr/>
                <p:nvPr/>
              </p:nvGrpSpPr>
              <p:grpSpPr>
                <a:xfrm>
                  <a:off x="1904760" y="3733920"/>
                  <a:ext cx="5334120" cy="1371600"/>
                  <a:chOff x="1904760" y="3733920"/>
                  <a:chExt cx="5334120" cy="137160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1904760" y="4038480"/>
                    <a:ext cx="5334120" cy="10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02" h="529">
                        <a:moveTo>
                          <a:pt x="0" y="528"/>
                        </a:moveTo>
                        <a:lnTo>
                          <a:pt x="717" y="1"/>
                        </a:lnTo>
                        <a:lnTo>
                          <a:pt x="1440" y="0"/>
                        </a:lnTo>
                        <a:lnTo>
                          <a:pt x="2202" y="529"/>
                        </a:lnTo>
                        <a:lnTo>
                          <a:pt x="48" y="52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97cc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3124080" y="3733920"/>
                    <a:ext cx="3123720" cy="1371600"/>
                    <a:chOff x="3124080" y="3733920"/>
                    <a:chExt cx="3123720" cy="137160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 flipV="1">
                      <a:off x="3124080" y="3962160"/>
                      <a:ext cx="838080" cy="1143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 flipV="1">
                      <a:off x="4038480" y="3733920"/>
                      <a:ext cx="152280" cy="13716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 flipV="1">
                      <a:off x="4724280" y="3809520"/>
                      <a:ext cx="0" cy="1295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 flipH="1" flipV="1">
                      <a:off x="5029200" y="3885840"/>
                      <a:ext cx="457200" cy="1219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 flipH="1" flipV="1">
                      <a:off x="5257440" y="3962160"/>
                      <a:ext cx="990360" cy="1143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81" name=""/>
                <p:cNvSpPr/>
                <p:nvPr/>
              </p:nvSpPr>
              <p:spPr>
                <a:xfrm>
                  <a:off x="2514600" y="4724280"/>
                  <a:ext cx="4114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971800" y="4419720"/>
                  <a:ext cx="320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3276360" y="4191120"/>
                  <a:ext cx="2590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1600200" y="5086440"/>
                <a:ext cx="6019200" cy="685440"/>
                <a:chOff x="1600200" y="5086440"/>
                <a:chExt cx="6019200" cy="68544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1600200" y="5086440"/>
                  <a:ext cx="6019200" cy="685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7ccf3"/>
                    </a:gs>
                    <a:gs pos="50000">
                      <a:srgbClr val="7faccd"/>
                    </a:gs>
                    <a:gs pos="100000">
                      <a:srgbClr val="97ccf3"/>
                    </a:gs>
                  </a:gsLst>
                  <a:lin ang="135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1885680" y="5196600"/>
                  <a:ext cx="5417280" cy="438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7ccf3"/>
                    </a:gs>
                    <a:gs pos="50000">
                      <a:srgbClr val="d5eaf9"/>
                    </a:gs>
                    <a:gs pos="100000">
                      <a:srgbClr val="97ccf3"/>
                    </a:gs>
                  </a:gsLst>
                  <a:lin ang="135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Add Your Tex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7" name=""/>
            <p:cNvSpPr/>
            <p:nvPr/>
          </p:nvSpPr>
          <p:spPr>
            <a:xfrm>
              <a:off x="609480" y="2286000"/>
              <a:ext cx="21337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 txBox="1"/>
            <p:nvPr/>
          </p:nvSpPr>
          <p:spPr>
            <a:xfrm>
              <a:off x="3352680" y="1874880"/>
              <a:ext cx="2438640" cy="609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122709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1c1c1c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0">
                  <a:noFill/>
                </a:ln>
                <a:solidFill>
                  <a:srgbClr val="1c1c1c"/>
                </a:solidFill>
                <a:latin typeface="Verdana"/>
                <a:ea typeface="Verdana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6137280" y="1981080"/>
              <a:ext cx="2625840" cy="2354040"/>
              <a:chOff x="6137280" y="1981080"/>
              <a:chExt cx="2625840" cy="2354040"/>
            </a:xfrm>
          </p:grpSpPr>
          <p:pic>
            <p:nvPicPr>
              <p:cNvPr id="11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48440" y="1981080"/>
                <a:ext cx="2608560" cy="235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1" name=""/>
              <p:cNvSpPr/>
              <p:nvPr/>
            </p:nvSpPr>
            <p:spPr>
              <a:xfrm flipH="1">
                <a:off x="6137280" y="1984320"/>
                <a:ext cx="2625840" cy="2345400"/>
              </a:xfrm>
              <a:custGeom>
                <a:avLst/>
                <a:gdLst/>
                <a:ahLst/>
                <a:rect l="l" t="t" r="r" b="b"/>
                <a:pathLst>
                  <a:path w="1722" h="1382">
                    <a:moveTo>
                      <a:pt x="6" y="79"/>
                    </a:moveTo>
                    <a:cubicBezTo>
                      <a:pt x="0" y="294"/>
                      <a:pt x="3" y="1087"/>
                      <a:pt x="6" y="1300"/>
                    </a:cubicBezTo>
                    <a:cubicBezTo>
                      <a:pt x="8" y="1336"/>
                      <a:pt x="36" y="1359"/>
                      <a:pt x="46" y="1367"/>
                    </a:cubicBezTo>
                    <a:cubicBezTo>
                      <a:pt x="60" y="1381"/>
                      <a:pt x="109" y="1382"/>
                      <a:pt x="121" y="1381"/>
                    </a:cubicBezTo>
                    <a:cubicBezTo>
                      <a:pt x="368" y="1362"/>
                      <a:pt x="1388" y="1336"/>
                      <a:pt x="1658" y="1312"/>
                    </a:cubicBezTo>
                    <a:cubicBezTo>
                      <a:pt x="1658" y="1315"/>
                      <a:pt x="1684" y="1300"/>
                      <a:pt x="1696" y="1286"/>
                    </a:cubicBezTo>
                    <a:cubicBezTo>
                      <a:pt x="1708" y="1272"/>
                      <a:pt x="1714" y="1250"/>
                      <a:pt x="1714" y="1247"/>
                    </a:cubicBezTo>
                    <a:cubicBezTo>
                      <a:pt x="1714" y="1065"/>
                      <a:pt x="1722" y="347"/>
                      <a:pt x="1715" y="157"/>
                    </a:cubicBezTo>
                    <a:cubicBezTo>
                      <a:pt x="1715" y="124"/>
                      <a:pt x="1711" y="104"/>
                      <a:pt x="1689" y="87"/>
                    </a:cubicBezTo>
                    <a:cubicBezTo>
                      <a:pt x="1667" y="70"/>
                      <a:pt x="1659" y="73"/>
                      <a:pt x="1637" y="67"/>
                    </a:cubicBezTo>
                    <a:cubicBezTo>
                      <a:pt x="1375" y="49"/>
                      <a:pt x="360" y="16"/>
                      <a:pt x="95" y="0"/>
                    </a:cubicBezTo>
                    <a:cubicBezTo>
                      <a:pt x="72" y="0"/>
                      <a:pt x="41" y="14"/>
                      <a:pt x="29" y="31"/>
                    </a:cubicBezTo>
                    <a:cubicBezTo>
                      <a:pt x="17" y="48"/>
                      <a:pt x="13" y="49"/>
                      <a:pt x="6" y="79"/>
                    </a:cubicBezTo>
                    <a:close/>
                  </a:path>
                </a:pathLst>
              </a:custGeom>
              <a:solidFill>
                <a:srgbClr val="bbe0e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6213600" y="2362320"/>
              <a:ext cx="21333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3124080" y="2484360"/>
              <a:ext cx="2895480" cy="1325160"/>
              <a:chOff x="3124080" y="2484360"/>
              <a:chExt cx="2895480" cy="1325160"/>
            </a:xfrm>
          </p:grpSpPr>
          <p:sp>
            <p:nvSpPr>
              <p:cNvPr id="1194" name=""/>
              <p:cNvSpPr/>
              <p:nvPr/>
            </p:nvSpPr>
            <p:spPr>
              <a:xfrm>
                <a:off x="3155760" y="2526480"/>
                <a:ext cx="2863800" cy="1283040"/>
              </a:xfrm>
              <a:prstGeom prst="ellips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081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124080" y="2484360"/>
                <a:ext cx="2863800" cy="1282680"/>
              </a:xfrm>
              <a:prstGeom prst="ellipse">
                <a:avLst/>
              </a:prstGeom>
              <a:gradFill rotWithShape="0">
                <a:gsLst>
                  <a:gs pos="0">
                    <a:srgbClr val="1d80e3"/>
                  </a:gs>
                  <a:gs pos="100000">
                    <a:srgbClr val="9ac5f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3260880" y="2408400"/>
              <a:ext cx="2592360" cy="1149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94000" y="2414520"/>
              <a:ext cx="2529000" cy="1120680"/>
            </a:xfrm>
            <a:prstGeom prst="ellipse">
              <a:avLst/>
            </a:prstGeom>
            <a:gradFill rotWithShape="0">
              <a:gsLst>
                <a:gs pos="0">
                  <a:srgbClr val="feeca5"/>
                </a:gs>
                <a:gs pos="100000">
                  <a:srgbClr val="ffcc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321000" y="2425680"/>
              <a:ext cx="2406600" cy="104616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48235"/>
                  </a:srgbClr>
                </a:gs>
                <a:gs pos="100000">
                  <a:srgbClr val="c9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48080" y="2449440"/>
              <a:ext cx="2117520" cy="84780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959280" y="25606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19280" y="2060640"/>
            <a:ext cx="5933880" cy="3276000"/>
            <a:chOff x="1619280" y="2060640"/>
            <a:chExt cx="5933880" cy="3276000"/>
          </a:xfrm>
        </p:grpSpPr>
        <p:sp>
          <p:nvSpPr>
            <p:cNvPr id="123" name=""/>
            <p:cNvSpPr/>
            <p:nvPr/>
          </p:nvSpPr>
          <p:spPr>
            <a:xfrm>
              <a:off x="2058840" y="2260440"/>
              <a:ext cx="5473800" cy="36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2b2b"/>
                </a:gs>
              </a:gsLst>
              <a:lin ang="10800000"/>
            </a:gra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73240" y="3117600"/>
              <a:ext cx="5473800" cy="36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8840" y="3968640"/>
              <a:ext cx="5473800" cy="36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10800000"/>
            </a:gra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8840" y="4846320"/>
              <a:ext cx="5473800" cy="36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70240" y="2199960"/>
              <a:ext cx="5095800" cy="466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Int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90760" y="3051000"/>
              <a:ext cx="5095800" cy="466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Strate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81400" y="3909960"/>
              <a:ext cx="5095800" cy="466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Challenges Forwa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57360" y="4781520"/>
              <a:ext cx="5095800" cy="466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Conclu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19280" y="2060640"/>
              <a:ext cx="685800" cy="685440"/>
            </a:xfrm>
            <a:prstGeom prst="diamond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19280" y="2898720"/>
              <a:ext cx="685800" cy="685440"/>
            </a:xfrm>
            <a:prstGeom prst="diamond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19280" y="3813120"/>
              <a:ext cx="685800" cy="685440"/>
            </a:xfrm>
            <a:prstGeom prst="diamond">
              <a:avLst/>
            </a:prstGeom>
            <a:gradFill rotWithShape="0">
              <a:gsLst>
                <a:gs pos="0">
                  <a:srgbClr val="171746"/>
                </a:gs>
                <a:gs pos="100000">
                  <a:srgbClr val="333399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19280" y="4651200"/>
              <a:ext cx="685800" cy="685440"/>
            </a:xfrm>
            <a:prstGeom prst="diamond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Gulim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457200" y="1599840"/>
            <a:ext cx="8247240" cy="4413240"/>
            <a:chOff x="457200" y="1599840"/>
            <a:chExt cx="8247240" cy="4413240"/>
          </a:xfrm>
        </p:grpSpPr>
        <p:sp>
          <p:nvSpPr>
            <p:cNvPr id="1204" name=""/>
            <p:cNvSpPr/>
            <p:nvPr/>
          </p:nvSpPr>
          <p:spPr>
            <a:xfrm>
              <a:off x="2457360" y="1969920"/>
              <a:ext cx="3956040" cy="388152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674800" y="2176560"/>
              <a:ext cx="3490920" cy="349092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890800" y="2503440"/>
              <a:ext cx="2973600" cy="297360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9043800">
              <a:off x="2133000" y="380160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16200000">
              <a:off x="3411720" y="160776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1788000">
              <a:off x="4679640" y="3814920"/>
              <a:ext cx="1871640" cy="185580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463" y="0"/>
                  </a:lnTo>
                  <a:lnTo>
                    <a:pt x="21600" y="10800"/>
                  </a:lnTo>
                  <a:lnTo>
                    <a:pt x="15463" y="21600"/>
                  </a:lnTo>
                  <a:lnTo>
                    <a:pt x="0" y="21600"/>
                  </a:lnTo>
                  <a:lnTo>
                    <a:pt x="6137" y="1080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19640" y="3468600"/>
              <a:ext cx="1855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c4a06"/>
                  </a:solidFill>
                  <a:latin typeface="Arial"/>
                </a:rPr>
                <a:t>ThemeGallery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is a Design Digital Content &amp; Content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mall develop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322800" y="2351160"/>
              <a:ext cx="20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bfc"/>
                  </a:solidFill>
                  <a:latin typeface="Arial"/>
                </a:rPr>
                <a:t>Your text 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455920" y="4535640"/>
              <a:ext cx="1160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bfc"/>
                  </a:solidFill>
                  <a:latin typeface="Arial"/>
                </a:rPr>
                <a:t>Your tex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bf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bfc"/>
                  </a:solidFill>
                  <a:latin typeface="Arial"/>
                </a:rPr>
                <a:t>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22800" y="4535640"/>
              <a:ext cx="116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bfc"/>
                  </a:solidFill>
                  <a:latin typeface="Arial"/>
                </a:rPr>
                <a:t>Your tex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bf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bfc"/>
                  </a:solidFill>
                  <a:latin typeface="Arial"/>
                </a:rPr>
                <a:t>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504040" y="2021040"/>
              <a:ext cx="2209680" cy="11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bbe0e3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bbe0e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7200" y="3765600"/>
              <a:ext cx="2209680" cy="11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494400" y="4078440"/>
              <a:ext cx="2210040" cy="11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762120" y="1676520"/>
            <a:ext cx="7696080" cy="3886200"/>
            <a:chOff x="762120" y="1676520"/>
            <a:chExt cx="7696080" cy="3886200"/>
          </a:xfrm>
        </p:grpSpPr>
        <p:sp>
          <p:nvSpPr>
            <p:cNvPr id="1220" name=""/>
            <p:cNvSpPr/>
            <p:nvPr/>
          </p:nvSpPr>
          <p:spPr>
            <a:xfrm>
              <a:off x="762120" y="2362320"/>
              <a:ext cx="7696080" cy="320040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2724120" y="4703760"/>
              <a:ext cx="4075200" cy="9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263680" y="3263760"/>
              <a:ext cx="4075200" cy="9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08840" y="3273480"/>
              <a:ext cx="1423800" cy="1423800"/>
            </a:xfrm>
            <a:prstGeom prst="ellipse">
              <a:avLst/>
            </a:prstGeom>
            <a:gradFill rotWithShape="0">
              <a:gsLst>
                <a:gs pos="0">
                  <a:srgbClr val="9b9bcc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612800" y="3273480"/>
              <a:ext cx="1424160" cy="1423800"/>
            </a:xfrm>
            <a:prstGeom prst="ellipse">
              <a:avLst/>
            </a:prstGeom>
            <a:gradFill rotWithShape="0">
              <a:gsLst>
                <a:gs pos="0">
                  <a:srgbClr val="d9e7f4"/>
                </a:gs>
                <a:gs pos="100000">
                  <a:srgbClr val="92bce2"/>
                </a:gs>
              </a:gsLst>
              <a:path path="rect">
                <a:fillToRect l="50000" t="50000" r="50000" b="50000"/>
              </a:path>
            </a:gradFill>
            <a:ln w="9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690640" y="2583000"/>
              <a:ext cx="1959120" cy="468000"/>
            </a:xfrm>
            <a:custGeom>
              <a:avLst/>
              <a:gdLst>
                <a:gd name="textAreaLeft" fmla="*/ 0 w 1959120"/>
                <a:gd name="textAreaRight" fmla="*/ 1959480 w 19591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68" y="0"/>
                  </a:lnTo>
                  <a:lnTo>
                    <a:pt x="21600" y="10800"/>
                  </a:lnTo>
                  <a:lnTo>
                    <a:pt x="19368" y="21600"/>
                  </a:lnTo>
                  <a:lnTo>
                    <a:pt x="0" y="21600"/>
                  </a:lnTo>
                  <a:lnTo>
                    <a:pt x="2232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649760" y="2583000"/>
              <a:ext cx="1959120" cy="468000"/>
            </a:xfrm>
            <a:custGeom>
              <a:avLst/>
              <a:gdLst>
                <a:gd name="textAreaLeft" fmla="*/ 0 w 1959120"/>
                <a:gd name="textAreaRight" fmla="*/ 1959480 w 19591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68" y="0"/>
                  </a:lnTo>
                  <a:lnTo>
                    <a:pt x="21600" y="10800"/>
                  </a:lnTo>
                  <a:lnTo>
                    <a:pt x="19368" y="21600"/>
                  </a:lnTo>
                  <a:lnTo>
                    <a:pt x="0" y="21600"/>
                  </a:lnTo>
                  <a:lnTo>
                    <a:pt x="2232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5764320" y="2583000"/>
              <a:ext cx="2458800" cy="2765160"/>
              <a:chOff x="5764320" y="2583000"/>
              <a:chExt cx="2458800" cy="2765160"/>
            </a:xfrm>
          </p:grpSpPr>
          <p:sp>
            <p:nvSpPr>
              <p:cNvPr id="1228" name=""/>
              <p:cNvSpPr/>
              <p:nvPr/>
            </p:nvSpPr>
            <p:spPr>
              <a:xfrm rot="5400000">
                <a:off x="5610960" y="2736000"/>
                <a:ext cx="2765160" cy="2458800"/>
              </a:xfrm>
              <a:prstGeom prst="blockArc">
                <a:avLst>
                  <a:gd name="adj1" fmla="val 10567623"/>
                  <a:gd name="adj2" fmla="val 232377"/>
                  <a:gd name="adj3" fmla="val 1703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08520" y="2585880"/>
                <a:ext cx="652320" cy="468000"/>
              </a:xfrm>
              <a:custGeom>
                <a:avLst/>
                <a:gdLst>
                  <a:gd name="textAreaLeft" fmla="*/ 0 w 652320"/>
                  <a:gd name="textAreaRight" fmla="*/ 652680 w 65232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63" y="0"/>
                    </a:lnTo>
                    <a:lnTo>
                      <a:pt x="21600" y="10800"/>
                    </a:lnTo>
                    <a:lnTo>
                      <a:pt x="14663" y="21600"/>
                    </a:lnTo>
                    <a:lnTo>
                      <a:pt x="0" y="21600"/>
                    </a:lnTo>
                    <a:lnTo>
                      <a:pt x="6937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10800000">
                <a:off x="6638760" y="4875120"/>
                <a:ext cx="498240" cy="468000"/>
              </a:xfrm>
              <a:custGeom>
                <a:avLst/>
                <a:gdLst>
                  <a:gd name="textAreaLeft" fmla="*/ 0 w 498240"/>
                  <a:gd name="textAreaRight" fmla="*/ 498600 w 49824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657" y="0"/>
                    </a:lnTo>
                    <a:lnTo>
                      <a:pt x="21600" y="10800"/>
                    </a:lnTo>
                    <a:lnTo>
                      <a:pt x="12657" y="21600"/>
                    </a:lnTo>
                    <a:lnTo>
                      <a:pt x="0" y="21600"/>
                    </a:lnTo>
                    <a:lnTo>
                      <a:pt x="8943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1" name=""/>
            <p:cNvSpPr/>
            <p:nvPr/>
          </p:nvSpPr>
          <p:spPr>
            <a:xfrm flipH="1">
              <a:off x="2792520" y="4878360"/>
              <a:ext cx="3889440" cy="468360"/>
            </a:xfrm>
            <a:custGeom>
              <a:avLst/>
              <a:gdLst>
                <a:gd name="textAreaLeft" fmla="*/ 360 w 3889440"/>
                <a:gd name="textAreaRight" fmla="*/ 3890160 w 388944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63" y="0"/>
                  </a:lnTo>
                  <a:lnTo>
                    <a:pt x="21600" y="10800"/>
                  </a:lnTo>
                  <a:lnTo>
                    <a:pt x="20363" y="21600"/>
                  </a:lnTo>
                  <a:lnTo>
                    <a:pt x="0" y="21600"/>
                  </a:lnTo>
                  <a:lnTo>
                    <a:pt x="1237" y="10800"/>
                  </a:lnTo>
                  <a:close/>
                </a:path>
              </a:pathLst>
            </a:custGeom>
            <a:solidFill>
              <a:srgbClr val="e8bd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2" name=""/>
            <p:cNvGrpSpPr/>
            <p:nvPr/>
          </p:nvGrpSpPr>
          <p:grpSpPr>
            <a:xfrm>
              <a:off x="923040" y="2585880"/>
              <a:ext cx="2459160" cy="2766960"/>
              <a:chOff x="923040" y="2585880"/>
              <a:chExt cx="2459160" cy="2766960"/>
            </a:xfrm>
          </p:grpSpPr>
          <p:sp>
            <p:nvSpPr>
              <p:cNvPr id="1233" name=""/>
              <p:cNvSpPr/>
              <p:nvPr/>
            </p:nvSpPr>
            <p:spPr>
              <a:xfrm flipH="1" rot="16200000">
                <a:off x="769320" y="2738880"/>
                <a:ext cx="2765520" cy="2459160"/>
              </a:xfrm>
              <a:prstGeom prst="blockArc">
                <a:avLst>
                  <a:gd name="adj1" fmla="val 10380659"/>
                  <a:gd name="adj2" fmla="val 419341"/>
                  <a:gd name="adj3" fmla="val 1686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038320" y="2589120"/>
                <a:ext cx="652320" cy="468360"/>
              </a:xfrm>
              <a:custGeom>
                <a:avLst/>
                <a:gdLst>
                  <a:gd name="textAreaLeft" fmla="*/ 0 w 652320"/>
                  <a:gd name="textAreaRight" fmla="*/ 652680 w 65232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63" y="0"/>
                    </a:lnTo>
                    <a:lnTo>
                      <a:pt x="21600" y="10800"/>
                    </a:lnTo>
                    <a:lnTo>
                      <a:pt x="14663" y="21600"/>
                    </a:lnTo>
                    <a:lnTo>
                      <a:pt x="0" y="21600"/>
                    </a:lnTo>
                    <a:lnTo>
                      <a:pt x="6937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10800000">
                <a:off x="2018880" y="4884480"/>
                <a:ext cx="792360" cy="468360"/>
              </a:xfrm>
              <a:custGeom>
                <a:avLst/>
                <a:gdLst>
                  <a:gd name="textAreaLeft" fmla="*/ 0 w 792360"/>
                  <a:gd name="textAreaRight" fmla="*/ 792720 w 79236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5626" y="0"/>
                    </a:lnTo>
                    <a:lnTo>
                      <a:pt x="21600" y="10800"/>
                    </a:lnTo>
                    <a:lnTo>
                      <a:pt x="15626" y="21600"/>
                    </a:lnTo>
                    <a:lnTo>
                      <a:pt x="0" y="21600"/>
                    </a:lnTo>
                    <a:lnTo>
                      <a:pt x="5974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"/>
            <p:cNvSpPr/>
            <p:nvPr/>
          </p:nvSpPr>
          <p:spPr>
            <a:xfrm>
              <a:off x="4013280" y="4933800"/>
              <a:ext cx="12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036960" y="2629080"/>
              <a:ext cx="12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998960" y="2629080"/>
              <a:ext cx="12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612800" y="379872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05600" y="3798720"/>
              <a:ext cx="142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164040" y="3657600"/>
              <a:ext cx="2819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209680" y="1676520"/>
              <a:ext cx="4724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685800" y="1787400"/>
            <a:ext cx="7804080" cy="4159440"/>
            <a:chOff x="685800" y="1787400"/>
            <a:chExt cx="7804080" cy="4159440"/>
          </a:xfrm>
        </p:grpSpPr>
        <p:sp>
          <p:nvSpPr>
            <p:cNvPr id="1246" name=""/>
            <p:cNvSpPr/>
            <p:nvPr/>
          </p:nvSpPr>
          <p:spPr>
            <a:xfrm rot="5400000">
              <a:off x="741240" y="3841560"/>
              <a:ext cx="2181240" cy="2028960"/>
            </a:xfrm>
            <a:prstGeom prst="roundRect">
              <a:avLst>
                <a:gd name="adj" fmla="val 19894"/>
              </a:avLst>
            </a:prstGeom>
            <a:gradFill rotWithShape="0">
              <a:gsLst>
                <a:gs pos="0">
                  <a:srgbClr val="c8c8c8">
                    <a:alpha val="98039"/>
                  </a:srgbClr>
                </a:gs>
                <a:gs pos="50000">
                  <a:srgbClr val="ffffff"/>
                </a:gs>
                <a:gs pos="100000">
                  <a:srgbClr val="c8c8c8">
                    <a:alpha val="98039"/>
                  </a:srgbClr>
                </a:gs>
              </a:gsLst>
              <a:lin ang="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28720" y="3763800"/>
              <a:ext cx="2006640" cy="481320"/>
            </a:xfrm>
            <a:custGeom>
              <a:avLst/>
              <a:gdLst/>
              <a:ahLst/>
              <a:rect l="l" t="t" r="r" b="b"/>
              <a:pathLst>
                <a:path w="1270" h="303">
                  <a:moveTo>
                    <a:pt x="5" y="303"/>
                  </a:moveTo>
                  <a:cubicBezTo>
                    <a:pt x="5" y="303"/>
                    <a:pt x="0" y="253"/>
                    <a:pt x="21" y="177"/>
                  </a:cubicBezTo>
                  <a:cubicBezTo>
                    <a:pt x="48" y="130"/>
                    <a:pt x="69" y="44"/>
                    <a:pt x="172" y="22"/>
                  </a:cubicBezTo>
                  <a:cubicBezTo>
                    <a:pt x="275" y="0"/>
                    <a:pt x="235" y="13"/>
                    <a:pt x="361" y="11"/>
                  </a:cubicBezTo>
                  <a:cubicBezTo>
                    <a:pt x="487" y="9"/>
                    <a:pt x="813" y="12"/>
                    <a:pt x="932" y="12"/>
                  </a:cubicBezTo>
                  <a:cubicBezTo>
                    <a:pt x="1050" y="12"/>
                    <a:pt x="998" y="2"/>
                    <a:pt x="1070" y="14"/>
                  </a:cubicBezTo>
                  <a:cubicBezTo>
                    <a:pt x="1143" y="26"/>
                    <a:pt x="1215" y="84"/>
                    <a:pt x="1260" y="189"/>
                  </a:cubicBezTo>
                  <a:cubicBezTo>
                    <a:pt x="1270" y="262"/>
                    <a:pt x="1266" y="302"/>
                    <a:pt x="1266" y="302"/>
                  </a:cubicBezTo>
                  <a:lnTo>
                    <a:pt x="5" y="303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094400" y="38512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7560" y="4441680"/>
              <a:ext cx="201132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c1c1c"/>
                  </a:solidFill>
                  <a:latin typeface="Arial"/>
                </a:rPr>
                <a:t>ThemeGallery</a:t>
              </a: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 i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a Design Digital Content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&amp; Contents mall develop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by Guild Design Inc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5400000">
              <a:off x="3484440" y="3841560"/>
              <a:ext cx="2181240" cy="2028960"/>
            </a:xfrm>
            <a:prstGeom prst="roundRect">
              <a:avLst>
                <a:gd name="adj" fmla="val 19894"/>
              </a:avLst>
            </a:prstGeom>
            <a:gradFill rotWithShape="0">
              <a:gsLst>
                <a:gs pos="0">
                  <a:srgbClr val="c8c8c8">
                    <a:alpha val="98039"/>
                  </a:srgbClr>
                </a:gs>
                <a:gs pos="50000">
                  <a:srgbClr val="ffffff"/>
                </a:gs>
                <a:gs pos="100000">
                  <a:srgbClr val="c8c8c8">
                    <a:alpha val="98039"/>
                  </a:srgbClr>
                </a:gs>
              </a:gsLst>
              <a:lin ang="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576600" y="3762360"/>
              <a:ext cx="2001960" cy="480960"/>
            </a:xfrm>
            <a:custGeom>
              <a:avLst/>
              <a:gdLst/>
              <a:ahLst/>
              <a:rect l="l" t="t" r="r" b="b"/>
              <a:pathLst>
                <a:path w="1261" h="303">
                  <a:moveTo>
                    <a:pt x="6" y="297"/>
                  </a:moveTo>
                  <a:cubicBezTo>
                    <a:pt x="6" y="297"/>
                    <a:pt x="0" y="225"/>
                    <a:pt x="18" y="174"/>
                  </a:cubicBezTo>
                  <a:cubicBezTo>
                    <a:pt x="36" y="123"/>
                    <a:pt x="105" y="45"/>
                    <a:pt x="171" y="30"/>
                  </a:cubicBezTo>
                  <a:cubicBezTo>
                    <a:pt x="237" y="15"/>
                    <a:pt x="227" y="16"/>
                    <a:pt x="352" y="13"/>
                  </a:cubicBezTo>
                  <a:cubicBezTo>
                    <a:pt x="477" y="10"/>
                    <a:pt x="804" y="10"/>
                    <a:pt x="922" y="10"/>
                  </a:cubicBezTo>
                  <a:cubicBezTo>
                    <a:pt x="1039" y="10"/>
                    <a:pt x="988" y="0"/>
                    <a:pt x="1061" y="12"/>
                  </a:cubicBezTo>
                  <a:cubicBezTo>
                    <a:pt x="1133" y="24"/>
                    <a:pt x="1206" y="83"/>
                    <a:pt x="1251" y="190"/>
                  </a:cubicBezTo>
                  <a:cubicBezTo>
                    <a:pt x="1261" y="263"/>
                    <a:pt x="1257" y="303"/>
                    <a:pt x="1257" y="303"/>
                  </a:cubicBezTo>
                  <a:lnTo>
                    <a:pt x="6" y="297"/>
                  </a:ln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837600" y="38512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560760" y="4441680"/>
              <a:ext cx="201132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c1c1c"/>
                  </a:solidFill>
                  <a:latin typeface="Arial"/>
                </a:rPr>
                <a:t>ThemeGallery</a:t>
              </a: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 i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a Design Digital Content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&amp; Contents mall develop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by Guild Design Inc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5400000">
              <a:off x="6189480" y="3841560"/>
              <a:ext cx="2181240" cy="2028960"/>
            </a:xfrm>
            <a:prstGeom prst="roundRect">
              <a:avLst>
                <a:gd name="adj" fmla="val 19894"/>
              </a:avLst>
            </a:prstGeom>
            <a:gradFill rotWithShape="0">
              <a:gsLst>
                <a:gs pos="0">
                  <a:srgbClr val="c8c8c8">
                    <a:alpha val="98039"/>
                  </a:srgbClr>
                </a:gs>
                <a:gs pos="50000">
                  <a:srgbClr val="ffffff"/>
                </a:gs>
                <a:gs pos="100000">
                  <a:srgbClr val="c8c8c8">
                    <a:alpha val="98039"/>
                  </a:srgbClr>
                </a:gs>
              </a:gsLst>
              <a:lin ang="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75520" y="3762360"/>
              <a:ext cx="2008080" cy="482760"/>
            </a:xfrm>
            <a:custGeom>
              <a:avLst/>
              <a:gdLst/>
              <a:ahLst/>
              <a:rect l="l" t="t" r="r" b="b"/>
              <a:pathLst>
                <a:path w="1259" h="298">
                  <a:moveTo>
                    <a:pt x="0" y="298"/>
                  </a:moveTo>
                  <a:lnTo>
                    <a:pt x="7" y="171"/>
                  </a:lnTo>
                  <a:cubicBezTo>
                    <a:pt x="35" y="124"/>
                    <a:pt x="108" y="40"/>
                    <a:pt x="166" y="14"/>
                  </a:cubicBezTo>
                  <a:lnTo>
                    <a:pt x="356" y="13"/>
                  </a:lnTo>
                  <a:cubicBezTo>
                    <a:pt x="482" y="12"/>
                    <a:pt x="805" y="10"/>
                    <a:pt x="922" y="10"/>
                  </a:cubicBezTo>
                  <a:cubicBezTo>
                    <a:pt x="1039" y="10"/>
                    <a:pt x="988" y="0"/>
                    <a:pt x="1060" y="12"/>
                  </a:cubicBezTo>
                  <a:cubicBezTo>
                    <a:pt x="1132" y="24"/>
                    <a:pt x="1204" y="81"/>
                    <a:pt x="1249" y="186"/>
                  </a:cubicBezTo>
                  <a:cubicBezTo>
                    <a:pt x="1259" y="258"/>
                    <a:pt x="1255" y="297"/>
                    <a:pt x="1255" y="297"/>
                  </a:cubicBezTo>
                  <a:lnTo>
                    <a:pt x="0" y="298"/>
                  </a:ln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542640" y="38512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265800" y="4441680"/>
              <a:ext cx="201132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1c1c1c"/>
                  </a:solidFill>
                  <a:latin typeface="Arial"/>
                </a:rPr>
                <a:t>ThemeGallery</a:t>
              </a: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 i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a Design Digital Content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&amp; Contents mall develop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1c1c1c"/>
                  </a:solidFill>
                  <a:latin typeface="Arial"/>
                </a:rPr>
                <a:t>by Guild Design Inc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"/>
            <p:cNvGrpSpPr/>
            <p:nvPr/>
          </p:nvGrpSpPr>
          <p:grpSpPr>
            <a:xfrm>
              <a:off x="3378240" y="1787400"/>
              <a:ext cx="2382840" cy="538200"/>
              <a:chOff x="3378240" y="1787400"/>
              <a:chExt cx="2382840" cy="538200"/>
            </a:xfrm>
          </p:grpSpPr>
          <p:sp>
            <p:nvSpPr>
              <p:cNvPr id="1259" name=""/>
              <p:cNvSpPr/>
              <p:nvPr/>
            </p:nvSpPr>
            <p:spPr>
              <a:xfrm>
                <a:off x="3378240" y="1787400"/>
                <a:ext cx="238284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407040" y="1817640"/>
                <a:ext cx="232560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be0e3">
                      <a:alpha val="90196"/>
                    </a:srgbClr>
                  </a:gs>
                  <a:gs pos="50000">
                    <a:srgbClr val="e7f3f4"/>
                  </a:gs>
                  <a:gs pos="100000">
                    <a:srgbClr val="bbe0e3">
                      <a:alpha val="9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3848760" y="185724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"/>
            <p:cNvGrpSpPr/>
            <p:nvPr/>
          </p:nvGrpSpPr>
          <p:grpSpPr>
            <a:xfrm>
              <a:off x="6105600" y="1787400"/>
              <a:ext cx="2384280" cy="538200"/>
              <a:chOff x="6105600" y="1787400"/>
              <a:chExt cx="2384280" cy="538200"/>
            </a:xfrm>
          </p:grpSpPr>
          <p:sp>
            <p:nvSpPr>
              <p:cNvPr id="1263" name=""/>
              <p:cNvSpPr/>
              <p:nvPr/>
            </p:nvSpPr>
            <p:spPr>
              <a:xfrm>
                <a:off x="6105600" y="1787400"/>
                <a:ext cx="238428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135480" y="1817640"/>
                <a:ext cx="232380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90196"/>
                    </a:srgbClr>
                  </a:gs>
                  <a:gs pos="50000">
                    <a:srgbClr val="a8dbdb"/>
                  </a:gs>
                  <a:gs pos="100000">
                    <a:srgbClr val="009999">
                      <a:alpha val="9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5" name=""/>
            <p:cNvSpPr/>
            <p:nvPr/>
          </p:nvSpPr>
          <p:spPr>
            <a:xfrm>
              <a:off x="6578280" y="185724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"/>
            <p:cNvGrpSpPr/>
            <p:nvPr/>
          </p:nvGrpSpPr>
          <p:grpSpPr>
            <a:xfrm>
              <a:off x="685800" y="1787400"/>
              <a:ext cx="2384280" cy="538200"/>
              <a:chOff x="685800" y="1787400"/>
              <a:chExt cx="2384280" cy="538200"/>
            </a:xfrm>
          </p:grpSpPr>
          <p:sp>
            <p:nvSpPr>
              <p:cNvPr id="1267" name=""/>
              <p:cNvSpPr/>
              <p:nvPr/>
            </p:nvSpPr>
            <p:spPr>
              <a:xfrm>
                <a:off x="685800" y="1787400"/>
                <a:ext cx="238428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21236"/>
                  </a:gs>
                  <a:gs pos="50000">
                    <a:srgbClr val="333399"/>
                  </a:gs>
                  <a:gs pos="100000">
                    <a:srgbClr val="121236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15680" y="1817640"/>
                <a:ext cx="232380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99">
                      <a:alpha val="90196"/>
                    </a:srgbClr>
                  </a:gs>
                  <a:gs pos="50000">
                    <a:srgbClr val="b9b9db"/>
                  </a:gs>
                  <a:gs pos="100000">
                    <a:srgbClr val="333399">
                      <a:alpha val="9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9" name=""/>
            <p:cNvSpPr/>
            <p:nvPr/>
          </p:nvSpPr>
          <p:spPr>
            <a:xfrm>
              <a:off x="1158840" y="185724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871560" y="2362320"/>
              <a:ext cx="198108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3538440" y="2362320"/>
              <a:ext cx="198144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6281640" y="2362320"/>
              <a:ext cx="1981440" cy="1371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449280" y="1523880"/>
            <a:ext cx="8165520" cy="4572000"/>
            <a:chOff x="449280" y="1523880"/>
            <a:chExt cx="8165520" cy="4572000"/>
          </a:xfrm>
        </p:grpSpPr>
        <p:grpSp>
          <p:nvGrpSpPr>
            <p:cNvPr id="1276" name=""/>
            <p:cNvGrpSpPr/>
            <p:nvPr/>
          </p:nvGrpSpPr>
          <p:grpSpPr>
            <a:xfrm>
              <a:off x="2477520" y="1933560"/>
              <a:ext cx="4218120" cy="4162320"/>
              <a:chOff x="2477520" y="1933560"/>
              <a:chExt cx="4218120" cy="4162320"/>
            </a:xfrm>
          </p:grpSpPr>
          <p:sp>
            <p:nvSpPr>
              <p:cNvPr id="1277" name=""/>
              <p:cNvSpPr/>
              <p:nvPr/>
            </p:nvSpPr>
            <p:spPr>
              <a:xfrm rot="10800000">
                <a:off x="3965760" y="5043240"/>
                <a:ext cx="1192320" cy="1052640"/>
              </a:xfrm>
              <a:prstGeom prst="triangle">
                <a:avLst>
                  <a:gd name="adj" fmla="val 50000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983400" y="1933560"/>
                <a:ext cx="1192320" cy="1052280"/>
              </a:xfrm>
              <a:prstGeom prst="triangle">
                <a:avLst>
                  <a:gd name="adj" fmla="val 50000"/>
                </a:avLst>
              </a:pr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7186200">
                <a:off x="5345280" y="4250160"/>
                <a:ext cx="1194120" cy="1052280"/>
              </a:xfrm>
              <a:prstGeom prst="triangle">
                <a:avLst>
                  <a:gd name="adj" fmla="val 50000"/>
                </a:avLst>
              </a:pr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3597000">
                <a:off x="5342760" y="2716920"/>
                <a:ext cx="1191960" cy="1050840"/>
              </a:xfrm>
              <a:prstGeom prst="triangle">
                <a:avLst>
                  <a:gd name="adj" fmla="val 50000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14374200">
                <a:off x="2636640" y="4258800"/>
                <a:ext cx="1192320" cy="1052640"/>
              </a:xfrm>
              <a:prstGeom prst="triangle">
                <a:avLst>
                  <a:gd name="adj" fmla="val 50000"/>
                </a:avLst>
              </a:pr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17985000">
                <a:off x="2640960" y="2711880"/>
                <a:ext cx="1194120" cy="1052280"/>
              </a:xfrm>
              <a:prstGeom prst="triangle">
                <a:avLst>
                  <a:gd name="adj" fmla="val 50000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308760" y="5429160"/>
                <a:ext cx="118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"/>
            <p:cNvSpPr/>
            <p:nvPr/>
          </p:nvSpPr>
          <p:spPr>
            <a:xfrm>
              <a:off x="1845000" y="528624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67160" y="313524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67160" y="455616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121880" y="313380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121880" y="450540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893200" y="228132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564000" y="3081240"/>
              <a:ext cx="2093760" cy="1811520"/>
            </a:xfrm>
            <a:prstGeom prst="hexagon">
              <a:avLst>
                <a:gd name="adj" fmla="val 28895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333600" y="5457960"/>
              <a:ext cx="122904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4668480" y="245124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525840" y="3819600"/>
              <a:ext cx="21128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55760" y="328608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55760" y="470520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5897160" y="33037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897160" y="4675320"/>
              <a:ext cx="12286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49280" y="1523880"/>
              <a:ext cx="3352680" cy="38124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99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49280" y="1981080"/>
              <a:ext cx="3352680" cy="38124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33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990720" y="1523880"/>
            <a:ext cx="6840360" cy="4343400"/>
            <a:chOff x="990720" y="1523880"/>
            <a:chExt cx="6840360" cy="4343400"/>
          </a:xfrm>
        </p:grpSpPr>
        <p:pic>
          <p:nvPicPr>
            <p:cNvPr id="1303" name="" descr=""/>
            <p:cNvPicPr/>
            <p:nvPr/>
          </p:nvPicPr>
          <p:blipFill>
            <a:blip r:embed="rId1"/>
            <a:stretch/>
          </p:blipFill>
          <p:spPr>
            <a:xfrm rot="18480600">
              <a:off x="1344960" y="3561120"/>
              <a:ext cx="325584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1887480" y="2736720"/>
              <a:ext cx="2097000" cy="2016360"/>
            </a:xfrm>
            <a:custGeom>
              <a:avLst/>
              <a:gdLst/>
              <a:ahLst/>
              <a:rect l="l" t="t" r="r" b="b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4979880" y="2782800"/>
              <a:ext cx="2097360" cy="2016360"/>
            </a:xfrm>
            <a:custGeom>
              <a:avLst/>
              <a:gdLst/>
              <a:ahLst/>
              <a:rect l="l" t="t" r="r" b="b"/>
              <a:pathLst>
                <a:path w="1335" h="1479">
                  <a:moveTo>
                    <a:pt x="763" y="102"/>
                  </a:moveTo>
                  <a:cubicBezTo>
                    <a:pt x="920" y="0"/>
                    <a:pt x="1137" y="178"/>
                    <a:pt x="1209" y="244"/>
                  </a:cubicBezTo>
                  <a:cubicBezTo>
                    <a:pt x="1281" y="310"/>
                    <a:pt x="1335" y="312"/>
                    <a:pt x="1325" y="314"/>
                  </a:cubicBezTo>
                  <a:cubicBezTo>
                    <a:pt x="1262" y="339"/>
                    <a:pt x="1010" y="74"/>
                    <a:pt x="843" y="267"/>
                  </a:cubicBezTo>
                  <a:cubicBezTo>
                    <a:pt x="554" y="534"/>
                    <a:pt x="389" y="1337"/>
                    <a:pt x="305" y="1479"/>
                  </a:cubicBezTo>
                  <a:lnTo>
                    <a:pt x="0" y="1303"/>
                  </a:lnTo>
                  <a:cubicBezTo>
                    <a:pt x="76" y="1074"/>
                    <a:pt x="398" y="270"/>
                    <a:pt x="763" y="10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6" name=""/>
            <p:cNvGrpSpPr/>
            <p:nvPr/>
          </p:nvGrpSpPr>
          <p:grpSpPr>
            <a:xfrm>
              <a:off x="4202280" y="2732040"/>
              <a:ext cx="625320" cy="2103480"/>
              <a:chOff x="4202280" y="2732040"/>
              <a:chExt cx="625320" cy="2103480"/>
            </a:xfrm>
          </p:grpSpPr>
          <p:sp>
            <p:nvSpPr>
              <p:cNvPr id="1307" name=""/>
              <p:cNvSpPr/>
              <p:nvPr/>
            </p:nvSpPr>
            <p:spPr>
              <a:xfrm>
                <a:off x="4202280" y="2732040"/>
                <a:ext cx="625320" cy="2103480"/>
              </a:xfrm>
              <a:custGeom>
                <a:avLst/>
                <a:gdLst/>
                <a:ahLst/>
                <a:rect l="l" t="t" r="r" b="b"/>
                <a:pathLst>
                  <a:path w="398" h="1542">
                    <a:moveTo>
                      <a:pt x="229" y="318"/>
                    </a:moveTo>
                    <a:cubicBezTo>
                      <a:pt x="169" y="114"/>
                      <a:pt x="110" y="0"/>
                      <a:pt x="80" y="240"/>
                    </a:cubicBezTo>
                    <a:cubicBezTo>
                      <a:pt x="50" y="480"/>
                      <a:pt x="0" y="1379"/>
                      <a:pt x="10" y="1542"/>
                    </a:cubicBezTo>
                    <a:lnTo>
                      <a:pt x="362" y="1525"/>
                    </a:lnTo>
                    <a:cubicBezTo>
                      <a:pt x="398" y="1321"/>
                      <a:pt x="289" y="522"/>
                      <a:pt x="229" y="3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4397040" y="3205080"/>
                <a:ext cx="53280" cy="766440"/>
              </a:xfrm>
              <a:custGeom>
                <a:avLst/>
                <a:gdLst/>
                <a:ahLst/>
                <a:rect l="l" t="t" r="r" b="b"/>
                <a:pathLst>
                  <a:path w="34" h="562">
                    <a:moveTo>
                      <a:pt x="9" y="1"/>
                    </a:moveTo>
                    <a:cubicBezTo>
                      <a:pt x="14" y="2"/>
                      <a:pt x="32" y="148"/>
                      <a:pt x="34" y="241"/>
                    </a:cubicBezTo>
                    <a:cubicBezTo>
                      <a:pt x="29" y="338"/>
                      <a:pt x="14" y="562"/>
                      <a:pt x="19" y="562"/>
                    </a:cubicBezTo>
                    <a:cubicBezTo>
                      <a:pt x="13" y="561"/>
                      <a:pt x="4" y="326"/>
                      <a:pt x="2" y="233"/>
                    </a:cubicBezTo>
                    <a:cubicBezTo>
                      <a:pt x="0" y="140"/>
                      <a:pt x="4" y="0"/>
                      <a:pt x="9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50000">
                    <a:srgbClr val="000000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2386080" y="2967120"/>
              <a:ext cx="587160" cy="741240"/>
            </a:xfrm>
            <a:custGeom>
              <a:avLst/>
              <a:gdLst/>
              <a:ahLst/>
              <a:rect l="l" t="t" r="r" b="b"/>
              <a:pathLst>
                <a:path w="368" h="543">
                  <a:moveTo>
                    <a:pt x="154" y="241"/>
                  </a:moveTo>
                  <a:cubicBezTo>
                    <a:pt x="224" y="129"/>
                    <a:pt x="364" y="0"/>
                    <a:pt x="366" y="9"/>
                  </a:cubicBezTo>
                  <a:cubicBezTo>
                    <a:pt x="368" y="18"/>
                    <a:pt x="216" y="210"/>
                    <a:pt x="165" y="293"/>
                  </a:cubicBezTo>
                  <a:cubicBezTo>
                    <a:pt x="103" y="394"/>
                    <a:pt x="97" y="449"/>
                    <a:pt x="60" y="507"/>
                  </a:cubicBezTo>
                  <a:lnTo>
                    <a:pt x="0" y="543"/>
                  </a:lnTo>
                  <a:cubicBezTo>
                    <a:pt x="16" y="499"/>
                    <a:pt x="122" y="304"/>
                    <a:pt x="154" y="2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>
                    <a:alpha val="7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5996160" y="3083040"/>
              <a:ext cx="529920" cy="560160"/>
            </a:xfrm>
            <a:custGeom>
              <a:avLst/>
              <a:gdLst/>
              <a:ahLst/>
              <a:rect l="l" t="t" r="r" b="b"/>
              <a:pathLst>
                <a:path w="368" h="543">
                  <a:moveTo>
                    <a:pt x="154" y="241"/>
                  </a:moveTo>
                  <a:cubicBezTo>
                    <a:pt x="224" y="129"/>
                    <a:pt x="364" y="0"/>
                    <a:pt x="366" y="9"/>
                  </a:cubicBezTo>
                  <a:cubicBezTo>
                    <a:pt x="368" y="18"/>
                    <a:pt x="216" y="210"/>
                    <a:pt x="165" y="293"/>
                  </a:cubicBezTo>
                  <a:cubicBezTo>
                    <a:pt x="103" y="394"/>
                    <a:pt x="97" y="449"/>
                    <a:pt x="60" y="507"/>
                  </a:cubicBezTo>
                  <a:lnTo>
                    <a:pt x="0" y="543"/>
                  </a:lnTo>
                  <a:cubicBezTo>
                    <a:pt x="16" y="499"/>
                    <a:pt x="122" y="304"/>
                    <a:pt x="154" y="2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990720" y="4133880"/>
              <a:ext cx="1749240" cy="1733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065240" y="4213080"/>
              <a:ext cx="1595520" cy="1582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3" name="" descr=""/>
            <p:cNvPicPr/>
            <p:nvPr/>
          </p:nvPicPr>
          <p:blipFill>
            <a:blip r:embed="rId2"/>
            <a:stretch/>
          </p:blipFill>
          <p:spPr>
            <a:xfrm>
              <a:off x="1122480" y="4270320"/>
              <a:ext cx="14922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4" name=""/>
            <p:cNvSpPr/>
            <p:nvPr/>
          </p:nvSpPr>
          <p:spPr>
            <a:xfrm>
              <a:off x="1122480" y="4270320"/>
              <a:ext cx="1482480" cy="1460520"/>
            </a:xfrm>
            <a:prstGeom prst="ellipse">
              <a:avLst/>
            </a:prstGeom>
            <a:gradFill rotWithShape="0">
              <a:gsLst>
                <a:gs pos="0">
                  <a:srgbClr val="424228">
                    <a:alpha val="90196"/>
                  </a:srgbClr>
                </a:gs>
                <a:gs pos="50000">
                  <a:srgbClr val="ffff99">
                    <a:alpha val="45098"/>
                  </a:srgbClr>
                </a:gs>
                <a:gs pos="100000">
                  <a:srgbClr val="424228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274760" y="4299120"/>
              <a:ext cx="1165320" cy="50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9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083280" y="4133880"/>
              <a:ext cx="1747800" cy="1733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156360" y="4213080"/>
              <a:ext cx="1596960" cy="1582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8" name="" descr=""/>
            <p:cNvPicPr/>
            <p:nvPr/>
          </p:nvPicPr>
          <p:blipFill>
            <a:blip r:embed="rId3"/>
            <a:stretch/>
          </p:blipFill>
          <p:spPr>
            <a:xfrm>
              <a:off x="6215040" y="4270320"/>
              <a:ext cx="14907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>
              <a:off x="6215040" y="4270320"/>
              <a:ext cx="1481040" cy="1460520"/>
            </a:xfrm>
            <a:prstGeom prst="ellipse">
              <a:avLst/>
            </a:prstGeom>
            <a:gradFill rotWithShape="0">
              <a:gsLst>
                <a:gs pos="0">
                  <a:srgbClr val="353542">
                    <a:alpha val="90196"/>
                  </a:srgbClr>
                </a:gs>
                <a:gs pos="50000">
                  <a:srgbClr val="ccccff">
                    <a:alpha val="45098"/>
                  </a:srgbClr>
                </a:gs>
                <a:gs pos="100000">
                  <a:srgbClr val="353542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67320" y="4299120"/>
              <a:ext cx="1163880" cy="50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1" name=""/>
            <p:cNvGrpSpPr/>
            <p:nvPr/>
          </p:nvGrpSpPr>
          <p:grpSpPr>
            <a:xfrm>
              <a:off x="6320880" y="5281560"/>
              <a:ext cx="1309680" cy="522720"/>
              <a:chOff x="6320880" y="5281560"/>
              <a:chExt cx="1309680" cy="522720"/>
            </a:xfrm>
          </p:grpSpPr>
          <p:grpSp>
            <p:nvGrpSpPr>
              <p:cNvPr id="1322" name=""/>
              <p:cNvGrpSpPr/>
              <p:nvPr/>
            </p:nvGrpSpPr>
            <p:grpSpPr>
              <a:xfrm>
                <a:off x="6549120" y="5281560"/>
                <a:ext cx="1081440" cy="491400"/>
                <a:chOff x="6549120" y="5281560"/>
                <a:chExt cx="1081440" cy="491400"/>
              </a:xfrm>
            </p:grpSpPr>
            <p:sp>
              <p:nvSpPr>
                <p:cNvPr id="1323" name=""/>
                <p:cNvSpPr/>
                <p:nvPr/>
              </p:nvSpPr>
              <p:spPr>
                <a:xfrm flipH="1" flipV="1" rot="3964800">
                  <a:off x="7138080" y="5133960"/>
                  <a:ext cx="18936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H="1" flipV="1" rot="4780200">
                  <a:off x="7017120" y="5182200"/>
                  <a:ext cx="18900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flipH="1" flipV="1" rot="5076000">
                  <a:off x="6941520" y="5191560"/>
                  <a:ext cx="189360" cy="78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 flipH="1" flipV="1" rot="5608200">
                  <a:off x="6852240" y="5201280"/>
                  <a:ext cx="18936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7" name=""/>
              <p:cNvGrpSpPr/>
              <p:nvPr/>
            </p:nvGrpSpPr>
            <p:grpSpPr>
              <a:xfrm>
                <a:off x="6320880" y="5288760"/>
                <a:ext cx="1078920" cy="515520"/>
                <a:chOff x="6320880" y="5288760"/>
                <a:chExt cx="1078920" cy="515520"/>
              </a:xfrm>
            </p:grpSpPr>
            <p:sp>
              <p:nvSpPr>
                <p:cNvPr id="1328" name=""/>
                <p:cNvSpPr/>
                <p:nvPr/>
              </p:nvSpPr>
              <p:spPr>
                <a:xfrm flipH="1" flipV="1" rot="5317800">
                  <a:off x="6908760" y="5199840"/>
                  <a:ext cx="190440" cy="78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 flipV="1" rot="6133800">
                  <a:off x="6779160" y="519912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 flipV="1" rot="6429000">
                  <a:off x="6706800" y="518004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 flipV="1" rot="6961200">
                  <a:off x="6620040" y="515376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2" name=""/>
            <p:cNvSpPr/>
            <p:nvPr/>
          </p:nvSpPr>
          <p:spPr>
            <a:xfrm>
              <a:off x="3611520" y="4133880"/>
              <a:ext cx="1747800" cy="1733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84600" y="4213080"/>
              <a:ext cx="1596960" cy="1582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4" name="" descr=""/>
            <p:cNvPicPr/>
            <p:nvPr/>
          </p:nvPicPr>
          <p:blipFill>
            <a:blip r:embed="rId4"/>
            <a:stretch/>
          </p:blipFill>
          <p:spPr>
            <a:xfrm>
              <a:off x="3743280" y="4270320"/>
              <a:ext cx="14907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5" name=""/>
            <p:cNvSpPr/>
            <p:nvPr/>
          </p:nvSpPr>
          <p:spPr>
            <a:xfrm>
              <a:off x="3743280" y="4270320"/>
              <a:ext cx="1481040" cy="1460520"/>
            </a:xfrm>
            <a:prstGeom prst="ellipse">
              <a:avLst/>
            </a:prstGeom>
            <a:gradFill rotWithShape="0">
              <a:gsLst>
                <a:gs pos="0">
                  <a:srgbClr val="284235">
                    <a:alpha val="90196"/>
                  </a:srgbClr>
                </a:gs>
                <a:gs pos="50000">
                  <a:srgbClr val="99ffcc">
                    <a:alpha val="45098"/>
                  </a:srgbClr>
                </a:gs>
                <a:gs pos="100000">
                  <a:srgbClr val="284235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895560" y="4299120"/>
              <a:ext cx="1163880" cy="50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ff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3849120" y="5281560"/>
              <a:ext cx="1309680" cy="522720"/>
              <a:chOff x="3849120" y="5281560"/>
              <a:chExt cx="1309680" cy="522720"/>
            </a:xfrm>
          </p:grpSpPr>
          <p:grpSp>
            <p:nvGrpSpPr>
              <p:cNvPr id="1338" name=""/>
              <p:cNvGrpSpPr/>
              <p:nvPr/>
            </p:nvGrpSpPr>
            <p:grpSpPr>
              <a:xfrm>
                <a:off x="4077360" y="5281560"/>
                <a:ext cx="1081440" cy="491400"/>
                <a:chOff x="4077360" y="5281560"/>
                <a:chExt cx="1081440" cy="491400"/>
              </a:xfrm>
            </p:grpSpPr>
            <p:sp>
              <p:nvSpPr>
                <p:cNvPr id="1339" name=""/>
                <p:cNvSpPr/>
                <p:nvPr/>
              </p:nvSpPr>
              <p:spPr>
                <a:xfrm flipH="1" flipV="1" rot="3964800">
                  <a:off x="4666320" y="5133960"/>
                  <a:ext cx="18936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 flipV="1" rot="4780200">
                  <a:off x="4545360" y="5182200"/>
                  <a:ext cx="18900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flipH="1" flipV="1" rot="5076000">
                  <a:off x="4469760" y="5191560"/>
                  <a:ext cx="189360" cy="78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 flipH="1" flipV="1" rot="5608200">
                  <a:off x="4380480" y="5201280"/>
                  <a:ext cx="18936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3849120" y="5288760"/>
                <a:ext cx="1078920" cy="515520"/>
                <a:chOff x="3849120" y="5288760"/>
                <a:chExt cx="1078920" cy="515520"/>
              </a:xfrm>
            </p:grpSpPr>
            <p:sp>
              <p:nvSpPr>
                <p:cNvPr id="1344" name=""/>
                <p:cNvSpPr/>
                <p:nvPr/>
              </p:nvSpPr>
              <p:spPr>
                <a:xfrm flipH="1" flipV="1" rot="5317800">
                  <a:off x="4437000" y="5199840"/>
                  <a:ext cx="190440" cy="78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 flipV="1" rot="6133800">
                  <a:off x="4307400" y="519912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flipH="1" flipV="1" rot="6429000">
                  <a:off x="4235040" y="518004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H="1" flipV="1" rot="6961200">
                  <a:off x="4148280" y="515376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48" name="" descr=""/>
            <p:cNvPicPr/>
            <p:nvPr/>
          </p:nvPicPr>
          <p:blipFill>
            <a:blip r:embed="rId5"/>
            <a:stretch/>
          </p:blipFill>
          <p:spPr>
            <a:xfrm rot="3050400">
              <a:off x="4367520" y="3561480"/>
              <a:ext cx="3255840" cy="44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9" name=""/>
            <p:cNvSpPr/>
            <p:nvPr/>
          </p:nvSpPr>
          <p:spPr>
            <a:xfrm>
              <a:off x="3958560" y="484992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310760" y="484992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435000" y="484992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2286000" y="1523880"/>
              <a:ext cx="4266720" cy="617400"/>
              <a:chOff x="2286000" y="1523880"/>
              <a:chExt cx="4266720" cy="61740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2286000" y="1523880"/>
                <a:ext cx="4266720" cy="617400"/>
                <a:chOff x="2286000" y="1523880"/>
                <a:chExt cx="4266720" cy="617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2286000" y="1523880"/>
                  <a:ext cx="4266720" cy="617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a8a8a8"/>
                    </a:gs>
                    <a:gs pos="50000">
                      <a:srgbClr val="000000">
                        <a:alpha val="90196"/>
                      </a:srgbClr>
                    </a:gs>
                    <a:gs pos="100000">
                      <a:srgbClr val="a8a8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348640" y="1576080"/>
                  <a:ext cx="4132440" cy="520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be0e3">
                        <a:alpha val="90196"/>
                      </a:srgbClr>
                    </a:gs>
                    <a:gs pos="50000">
                      <a:srgbClr val="ddeef0"/>
                    </a:gs>
                    <a:gs pos="100000">
                      <a:srgbClr val="bbe0e3">
                        <a:alpha val="9019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6" name=""/>
              <p:cNvSpPr/>
              <p:nvPr/>
            </p:nvSpPr>
            <p:spPr>
              <a:xfrm>
                <a:off x="3201120" y="1723680"/>
                <a:ext cx="2468160" cy="25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Add your text in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7" name=""/>
            <p:cNvSpPr/>
            <p:nvPr/>
          </p:nvSpPr>
          <p:spPr>
            <a:xfrm>
              <a:off x="2438280" y="2209680"/>
              <a:ext cx="4114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1217160" y="5281560"/>
              <a:ext cx="1309680" cy="522720"/>
              <a:chOff x="1217160" y="5281560"/>
              <a:chExt cx="1309680" cy="522720"/>
            </a:xfrm>
          </p:grpSpPr>
          <p:grpSp>
            <p:nvGrpSpPr>
              <p:cNvPr id="1359" name=""/>
              <p:cNvGrpSpPr/>
              <p:nvPr/>
            </p:nvGrpSpPr>
            <p:grpSpPr>
              <a:xfrm>
                <a:off x="1445400" y="5281560"/>
                <a:ext cx="1081440" cy="491400"/>
                <a:chOff x="1445400" y="5281560"/>
                <a:chExt cx="1081440" cy="491400"/>
              </a:xfrm>
            </p:grpSpPr>
            <p:sp>
              <p:nvSpPr>
                <p:cNvPr id="1360" name=""/>
                <p:cNvSpPr/>
                <p:nvPr/>
              </p:nvSpPr>
              <p:spPr>
                <a:xfrm flipH="1" flipV="1" rot="3964800">
                  <a:off x="2034360" y="5133960"/>
                  <a:ext cx="18936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H="1" flipV="1" rot="4780200">
                  <a:off x="1913400" y="5182200"/>
                  <a:ext cx="18900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H="1" flipV="1" rot="5076000">
                  <a:off x="1837800" y="5191560"/>
                  <a:ext cx="189360" cy="78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H="1" flipV="1" rot="5608200">
                  <a:off x="1748520" y="5201280"/>
                  <a:ext cx="189360" cy="785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1217160" y="5288760"/>
                <a:ext cx="1078920" cy="515520"/>
                <a:chOff x="1217160" y="5288760"/>
                <a:chExt cx="1078920" cy="515520"/>
              </a:xfrm>
            </p:grpSpPr>
            <p:sp>
              <p:nvSpPr>
                <p:cNvPr id="1365" name=""/>
                <p:cNvSpPr/>
                <p:nvPr/>
              </p:nvSpPr>
              <p:spPr>
                <a:xfrm flipH="1" flipV="1" rot="5317800">
                  <a:off x="1805040" y="5199840"/>
                  <a:ext cx="190440" cy="785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flipH="1" flipV="1" rot="6133800">
                  <a:off x="1675440" y="519912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flipH="1" flipV="1" rot="6429000">
                  <a:off x="1603080" y="518004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flipH="1" flipV="1" rot="6961200">
                  <a:off x="1516320" y="5153760"/>
                  <a:ext cx="190440" cy="78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609480" y="1066680"/>
            <a:ext cx="7743960" cy="5213520"/>
            <a:chOff x="609480" y="1066680"/>
            <a:chExt cx="7743960" cy="5213520"/>
          </a:xfrm>
        </p:grpSpPr>
        <p:sp>
          <p:nvSpPr>
            <p:cNvPr id="1372" name=""/>
            <p:cNvSpPr/>
            <p:nvPr/>
          </p:nvSpPr>
          <p:spPr>
            <a:xfrm>
              <a:off x="914400" y="3703680"/>
              <a:ext cx="4362480" cy="126504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16200000">
              <a:off x="2536920" y="1744920"/>
              <a:ext cx="1536120" cy="405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90" y="19853"/>
                  </a:moveTo>
                  <a:arcTo wR="10800" hR="10800" stAng="3417072" swAng="20509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90" y="19853"/>
                  </a:moveTo>
                  <a:arcTo wR="10800" hR="10800" stAng="3417072" swAng="2050982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16200000">
              <a:off x="2673360" y="1643400"/>
              <a:ext cx="1379160" cy="390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6" y="21001"/>
                  </a:moveTo>
                  <a:arcTo wR="10800" hR="10800" stAng="4249894" swAng="21115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6" y="21001"/>
                  </a:moveTo>
                  <a:arcTo wR="10800" hR="10800" stAng="4249894" swAng="21115163"/>
                </a:path>
              </a:pathLst>
            </a:custGeom>
            <a:gradFill rotWithShape="0">
              <a:gsLst>
                <a:gs pos="0">
                  <a:srgbClr val="92d2d2"/>
                </a:gs>
                <a:gs pos="100000">
                  <a:srgbClr val="0099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16200000">
              <a:off x="2610720" y="1743480"/>
              <a:ext cx="1379520" cy="385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13" y="21088"/>
                  </a:moveTo>
                  <a:arcTo wR="10800" hR="10800" stAng="6463041" swAng="18902017"/>
                  <a:lnTo>
                    <a:pt x="10800" y="10800"/>
                  </a:lnTo>
                  <a:close/>
                </a:path>
                <a:path fill="none" w="21600" h="21600">
                  <a:moveTo>
                    <a:pt x="7513" y="21088"/>
                  </a:moveTo>
                  <a:arcTo wR="10800" hR="10800" stAng="6463041" swAng="18902017"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cce5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16200000">
              <a:off x="2603160" y="1732320"/>
              <a:ext cx="1414080" cy="38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71" y="18733"/>
                  </a:moveTo>
                  <a:arcTo wR="10800" hR="10800" stAng="7963962" swAng="17401096"/>
                  <a:lnTo>
                    <a:pt x="10800" y="10800"/>
                  </a:lnTo>
                  <a:close/>
                </a:path>
                <a:path fill="none" w="21600" h="21600">
                  <a:moveTo>
                    <a:pt x="3471" y="18733"/>
                  </a:moveTo>
                  <a:arcTo wR="10800" hR="10800" stAng="7963962" swAng="17401096"/>
                </a:path>
              </a:pathLst>
            </a:custGeom>
            <a:gradFill rotWithShape="0">
              <a:gsLst>
                <a:gs pos="0">
                  <a:srgbClr val="ababd4"/>
                </a:gs>
                <a:gs pos="100000">
                  <a:srgbClr val="3333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214880" y="3751200"/>
              <a:ext cx="61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714920" y="344484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133960" y="388476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719600" y="414324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2476440" y="3635280"/>
              <a:ext cx="1014480" cy="8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16200000">
              <a:off x="2567160" y="1361520"/>
              <a:ext cx="1844640" cy="470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4" y="6497"/>
                  </a:moveTo>
                  <a:arcTo wR="10800" hR="10800" stAng="-9391229" swAng="13448554"/>
                  <a:lnTo>
                    <a:pt x="10800" y="10800"/>
                  </a:lnTo>
                  <a:close/>
                </a:path>
                <a:path fill="none" w="21600" h="21600">
                  <a:moveTo>
                    <a:pt x="894" y="6497"/>
                  </a:moveTo>
                  <a:arcTo wR="10800" hR="10800" stAng="-9391229" swAng="13448554"/>
                </a:path>
              </a:pathLst>
            </a:custGeom>
            <a:gradFill rotWithShape="0">
              <a:gsLst>
                <a:gs pos="0">
                  <a:srgbClr val="5f727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6400" y="3094200"/>
              <a:ext cx="223920" cy="29520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16200000">
              <a:off x="2577240" y="1197720"/>
              <a:ext cx="1845360" cy="47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3" y="6191"/>
                  </a:moveTo>
                  <a:arcTo wR="10800" hR="10800" stAng="-9284196" swAng="133415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3" y="6191"/>
                  </a:moveTo>
                  <a:arcTo wR="10800" hR="10800" stAng="-9284196" swAng="13341521"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e2f1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971800" y="28656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6" name=""/>
            <p:cNvCxnSpPr>
              <a:endCxn id="1385" idx="3"/>
            </p:cNvCxnSpPr>
            <p:nvPr/>
          </p:nvCxnSpPr>
          <p:spPr>
            <a:xfrm flipV="1" rot="10800000">
              <a:off x="3907800" y="2179440"/>
              <a:ext cx="2416680" cy="884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7" name=""/>
            <p:cNvCxnSpPr>
              <a:endCxn id="1378" idx="3"/>
            </p:cNvCxnSpPr>
            <p:nvPr/>
          </p:nvCxnSpPr>
          <p:spPr>
            <a:xfrm rot="10800000">
              <a:off x="5250600" y="3596400"/>
              <a:ext cx="1226520" cy="18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88" name=""/>
            <p:cNvSpPr/>
            <p:nvPr/>
          </p:nvSpPr>
          <p:spPr>
            <a:xfrm>
              <a:off x="3282840" y="3865680"/>
              <a:ext cx="66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Arial"/>
                </a:rPr>
                <a:t>2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09480" y="1066680"/>
              <a:ext cx="51055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0" name=""/>
            <p:cNvGrpSpPr/>
            <p:nvPr/>
          </p:nvGrpSpPr>
          <p:grpSpPr>
            <a:xfrm>
              <a:off x="6324480" y="1996920"/>
              <a:ext cx="2028960" cy="482400"/>
              <a:chOff x="6324480" y="1996920"/>
              <a:chExt cx="2028960" cy="482400"/>
            </a:xfrm>
          </p:grpSpPr>
          <p:sp>
            <p:nvSpPr>
              <p:cNvPr id="1391" name=""/>
              <p:cNvSpPr/>
              <p:nvPr/>
            </p:nvSpPr>
            <p:spPr>
              <a:xfrm>
                <a:off x="6444000" y="2274840"/>
                <a:ext cx="1789560" cy="204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324480" y="1996920"/>
                <a:ext cx="2028960" cy="423360"/>
              </a:xfrm>
              <a:prstGeom prst="rect">
                <a:avLst/>
              </a:prstGeom>
              <a:gradFill rotWithShape="0">
                <a:gsLst>
                  <a:gs pos="0">
                    <a:srgbClr val="92afb2"/>
                  </a:gs>
                  <a:gs pos="100000">
                    <a:srgbClr val="bbe0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 in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6324480" y="3551400"/>
              <a:ext cx="2028960" cy="482040"/>
              <a:chOff x="6324480" y="3551400"/>
              <a:chExt cx="2028960" cy="482040"/>
            </a:xfrm>
          </p:grpSpPr>
          <p:sp>
            <p:nvSpPr>
              <p:cNvPr id="1394" name=""/>
              <p:cNvSpPr/>
              <p:nvPr/>
            </p:nvSpPr>
            <p:spPr>
              <a:xfrm>
                <a:off x="6444000" y="3828960"/>
                <a:ext cx="1789560" cy="204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324480" y="3551400"/>
                <a:ext cx="2028960" cy="423000"/>
              </a:xfrm>
              <a:prstGeom prst="rect">
                <a:avLst/>
              </a:prstGeom>
              <a:gradFill rotWithShape="0">
                <a:gsLst>
                  <a:gs pos="0">
                    <a:srgbClr val="007878"/>
                  </a:gs>
                  <a:gs pos="100000">
                    <a:srgbClr val="0099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 in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6324480" y="4923000"/>
              <a:ext cx="2028960" cy="482040"/>
              <a:chOff x="6324480" y="4923000"/>
              <a:chExt cx="2028960" cy="482040"/>
            </a:xfrm>
          </p:grpSpPr>
          <p:sp>
            <p:nvSpPr>
              <p:cNvPr id="1397" name=""/>
              <p:cNvSpPr/>
              <p:nvPr/>
            </p:nvSpPr>
            <p:spPr>
              <a:xfrm>
                <a:off x="6444000" y="5200560"/>
                <a:ext cx="1789560" cy="204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24480" y="4923000"/>
                <a:ext cx="2028960" cy="423000"/>
              </a:xfrm>
              <a:prstGeom prst="rect">
                <a:avLst/>
              </a:prstGeom>
              <a:gradFill rotWithShape="0">
                <a:gsLst>
                  <a:gs pos="0">
                    <a:srgbClr val="78a000"/>
                  </a:gs>
                  <a:gs pos="100000">
                    <a:srgbClr val="99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 in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1143000" y="5151600"/>
              <a:ext cx="2028960" cy="482040"/>
              <a:chOff x="1143000" y="5151600"/>
              <a:chExt cx="2028960" cy="482040"/>
            </a:xfrm>
          </p:grpSpPr>
          <p:sp>
            <p:nvSpPr>
              <p:cNvPr id="1400" name=""/>
              <p:cNvSpPr/>
              <p:nvPr/>
            </p:nvSpPr>
            <p:spPr>
              <a:xfrm>
                <a:off x="1262520" y="5429160"/>
                <a:ext cx="1789560" cy="20448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1143000" y="5151600"/>
                <a:ext cx="2028960" cy="423000"/>
              </a:xfrm>
              <a:prstGeom prst="rect">
                <a:avLst/>
              </a:prstGeom>
              <a:gradFill rotWithShape="0">
                <a:gsLst>
                  <a:gs pos="0">
                    <a:srgbClr val="282878"/>
                  </a:gs>
                  <a:gs pos="100000">
                    <a:srgbClr val="33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Text in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02" name=""/>
            <p:cNvCxnSpPr/>
            <p:nvPr/>
          </p:nvCxnSpPr>
          <p:spPr>
            <a:xfrm rot="10800000">
              <a:off x="4799880" y="3931560"/>
              <a:ext cx="1524600" cy="1220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3" name=""/>
            <p:cNvCxnSpPr/>
            <p:nvPr/>
          </p:nvCxnSpPr>
          <p:spPr>
            <a:xfrm flipH="1" flipV="1" rot="5400000">
              <a:off x="2698560" y="4633560"/>
              <a:ext cx="1203840" cy="257760"/>
            </a:xfrm>
            <a:prstGeom prst="bentConnector3">
              <a:avLst>
                <a:gd name="adj1" fmla="val 4998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04" name=""/>
            <p:cNvSpPr/>
            <p:nvPr/>
          </p:nvSpPr>
          <p:spPr>
            <a:xfrm>
              <a:off x="6628320" y="4008600"/>
              <a:ext cx="1399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675840" y="2454120"/>
              <a:ext cx="1399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704280" y="5380200"/>
              <a:ext cx="1399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2051640" y="2149560"/>
              <a:ext cx="996120" cy="1294200"/>
              <a:chOff x="2051640" y="2149560"/>
              <a:chExt cx="996120" cy="1294200"/>
            </a:xfrm>
          </p:grpSpPr>
          <p:grpSp>
            <p:nvGrpSpPr>
              <p:cNvPr id="1408" name=""/>
              <p:cNvGrpSpPr/>
              <p:nvPr/>
            </p:nvGrpSpPr>
            <p:grpSpPr>
              <a:xfrm>
                <a:off x="2051640" y="2152080"/>
                <a:ext cx="991080" cy="1291680"/>
                <a:chOff x="2051640" y="2152080"/>
                <a:chExt cx="991080" cy="129168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2051640" y="2658600"/>
                  <a:ext cx="991080" cy="785160"/>
                </a:xfrm>
                <a:custGeom>
                  <a:avLst/>
                  <a:gdLst/>
                  <a:ahLst/>
                  <a:rect l="l" t="t" r="r" b="b"/>
                  <a:pathLst>
                    <a:path w="630" h="439">
                      <a:moveTo>
                        <a:pt x="327" y="12"/>
                      </a:moveTo>
                      <a:cubicBezTo>
                        <a:pt x="57" y="0"/>
                        <a:pt x="0" y="366"/>
                        <a:pt x="52" y="439"/>
                      </a:cubicBezTo>
                      <a:lnTo>
                        <a:pt x="584" y="439"/>
                      </a:lnTo>
                      <a:cubicBezTo>
                        <a:pt x="630" y="368"/>
                        <a:pt x="597" y="24"/>
                        <a:pt x="327" y="1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2319840" y="2152080"/>
                  <a:ext cx="480240" cy="57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1" name=""/>
              <p:cNvSpPr/>
              <p:nvPr/>
            </p:nvSpPr>
            <p:spPr>
              <a:xfrm>
                <a:off x="2057400" y="2653920"/>
                <a:ext cx="990360" cy="7876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abb4"/>
                  </a:gs>
                  <a:gs pos="100000">
                    <a:srgbClr val="002c2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251800" y="2703960"/>
                <a:ext cx="610560" cy="2502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009ca4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2324880" y="2149560"/>
                <a:ext cx="482400" cy="579600"/>
              </a:xfrm>
              <a:prstGeom prst="ellipse">
                <a:avLst/>
              </a:prstGeom>
              <a:gradFill rotWithShape="0">
                <a:gsLst>
                  <a:gs pos="0">
                    <a:srgbClr val="005b60"/>
                  </a:gs>
                  <a:gs pos="50000">
                    <a:srgbClr val="00a4ac"/>
                  </a:gs>
                  <a:gs pos="100000">
                    <a:srgbClr val="005b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373480" y="2158560"/>
                <a:ext cx="381960" cy="190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59d3d9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5" name=""/>
              <p:cNvGrpSpPr/>
              <p:nvPr/>
            </p:nvGrpSpPr>
            <p:grpSpPr>
              <a:xfrm>
                <a:off x="2305440" y="2155680"/>
                <a:ext cx="345240" cy="359640"/>
                <a:chOff x="2305440" y="2155680"/>
                <a:chExt cx="345240" cy="359640"/>
              </a:xfrm>
            </p:grpSpPr>
            <p:grpSp>
              <p:nvGrpSpPr>
                <p:cNvPr id="1416" name=""/>
                <p:cNvGrpSpPr/>
                <p:nvPr/>
              </p:nvGrpSpPr>
              <p:grpSpPr>
                <a:xfrm>
                  <a:off x="2314080" y="2155680"/>
                  <a:ext cx="336600" cy="273960"/>
                  <a:chOff x="2314080" y="2155680"/>
                  <a:chExt cx="336600" cy="273960"/>
                </a:xfrm>
              </p:grpSpPr>
              <p:sp>
                <p:nvSpPr>
                  <p:cNvPr id="1417" name=""/>
                  <p:cNvSpPr/>
                  <p:nvPr/>
                </p:nvSpPr>
                <p:spPr>
                  <a:xfrm flipH="1" rot="15040200">
                    <a:off x="2466720" y="2122560"/>
                    <a:ext cx="957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 flipH="1" rot="14224200">
                    <a:off x="2427480" y="2138040"/>
                    <a:ext cx="9576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 flipH="1" rot="13928400">
                    <a:off x="2409120" y="2154960"/>
                    <a:ext cx="9576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 flipH="1" rot="13396200">
                    <a:off x="2387520" y="2177280"/>
                    <a:ext cx="957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1" name=""/>
                <p:cNvGrpSpPr/>
                <p:nvPr/>
              </p:nvGrpSpPr>
              <p:grpSpPr>
                <a:xfrm>
                  <a:off x="2305440" y="2177640"/>
                  <a:ext cx="271800" cy="337680"/>
                  <a:chOff x="2305440" y="2177640"/>
                  <a:chExt cx="271800" cy="337680"/>
                </a:xfrm>
              </p:grpSpPr>
              <p:sp>
                <p:nvSpPr>
                  <p:cNvPr id="1422" name=""/>
                  <p:cNvSpPr/>
                  <p:nvPr/>
                </p:nvSpPr>
                <p:spPr>
                  <a:xfrm flipH="1" rot="13687200">
                    <a:off x="2401920" y="217116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 flipH="1" rot="12871200">
                    <a:off x="2371680" y="220032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 flipH="1" rot="12576000">
                    <a:off x="2361240" y="222300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 flipH="1" rot="12043800">
                    <a:off x="2349720" y="2252880"/>
                    <a:ext cx="964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6" name=""/>
              <p:cNvGrpSpPr/>
              <p:nvPr/>
            </p:nvGrpSpPr>
            <p:grpSpPr>
              <a:xfrm>
                <a:off x="2125440" y="2691360"/>
                <a:ext cx="429120" cy="517320"/>
                <a:chOff x="2125440" y="2691360"/>
                <a:chExt cx="429120" cy="517320"/>
              </a:xfrm>
            </p:grpSpPr>
            <p:grpSp>
              <p:nvGrpSpPr>
                <p:cNvPr id="1427" name=""/>
                <p:cNvGrpSpPr/>
                <p:nvPr/>
              </p:nvGrpSpPr>
              <p:grpSpPr>
                <a:xfrm>
                  <a:off x="2125440" y="2691360"/>
                  <a:ext cx="429120" cy="405000"/>
                  <a:chOff x="2125440" y="2691360"/>
                  <a:chExt cx="429120" cy="405000"/>
                </a:xfrm>
              </p:grpSpPr>
              <p:sp>
                <p:nvSpPr>
                  <p:cNvPr id="1428" name=""/>
                  <p:cNvSpPr/>
                  <p:nvPr/>
                </p:nvSpPr>
                <p:spPr>
                  <a:xfrm flipH="1" rot="14424600">
                    <a:off x="2321280" y="2639880"/>
                    <a:ext cx="9684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 flipH="1" rot="13608600">
                    <a:off x="2269080" y="2671920"/>
                    <a:ext cx="9684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 flipH="1" rot="13313400">
                    <a:off x="2245680" y="2698200"/>
                    <a:ext cx="9684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 flipH="1" rot="12781200">
                    <a:off x="2217600" y="273060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2" name=""/>
                <p:cNvGrpSpPr/>
                <p:nvPr/>
              </p:nvGrpSpPr>
              <p:grpSpPr>
                <a:xfrm>
                  <a:off x="2126520" y="2719800"/>
                  <a:ext cx="308160" cy="488880"/>
                  <a:chOff x="2126520" y="2719800"/>
                  <a:chExt cx="308160" cy="488880"/>
                </a:xfrm>
              </p:grpSpPr>
              <p:sp>
                <p:nvSpPr>
                  <p:cNvPr id="1433" name=""/>
                  <p:cNvSpPr/>
                  <p:nvPr/>
                </p:nvSpPr>
                <p:spPr>
                  <a:xfrm flipH="1" rot="13071600">
                    <a:off x="2234160" y="2710440"/>
                    <a:ext cx="9720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H="1" rot="12256200">
                    <a:off x="2198160" y="276012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 flipH="1" rot="11960400">
                    <a:off x="2184840" y="279288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 flipH="1" rot="11428200">
                    <a:off x="2172600" y="283356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37" name=""/>
            <p:cNvSpPr/>
            <p:nvPr/>
          </p:nvSpPr>
          <p:spPr>
            <a:xfrm>
              <a:off x="1596240" y="3444840"/>
              <a:ext cx="15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"/>
            <p:cNvGrpSpPr/>
            <p:nvPr/>
          </p:nvGrpSpPr>
          <p:grpSpPr>
            <a:xfrm>
              <a:off x="1518480" y="2149560"/>
              <a:ext cx="995760" cy="1294200"/>
              <a:chOff x="1518480" y="2149560"/>
              <a:chExt cx="995760" cy="1294200"/>
            </a:xfrm>
          </p:grpSpPr>
          <p:grpSp>
            <p:nvGrpSpPr>
              <p:cNvPr id="1439" name=""/>
              <p:cNvGrpSpPr/>
              <p:nvPr/>
            </p:nvGrpSpPr>
            <p:grpSpPr>
              <a:xfrm>
                <a:off x="1518480" y="2152080"/>
                <a:ext cx="990720" cy="1291680"/>
                <a:chOff x="1518480" y="2152080"/>
                <a:chExt cx="990720" cy="129168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1518480" y="2658600"/>
                  <a:ext cx="990720" cy="785160"/>
                </a:xfrm>
                <a:custGeom>
                  <a:avLst/>
                  <a:gdLst/>
                  <a:ahLst/>
                  <a:rect l="l" t="t" r="r" b="b"/>
                  <a:pathLst>
                    <a:path w="630" h="439">
                      <a:moveTo>
                        <a:pt x="327" y="12"/>
                      </a:moveTo>
                      <a:cubicBezTo>
                        <a:pt x="57" y="0"/>
                        <a:pt x="0" y="366"/>
                        <a:pt x="52" y="439"/>
                      </a:cubicBezTo>
                      <a:lnTo>
                        <a:pt x="584" y="439"/>
                      </a:lnTo>
                      <a:cubicBezTo>
                        <a:pt x="630" y="368"/>
                        <a:pt x="597" y="24"/>
                        <a:pt x="327" y="1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1786320" y="2152080"/>
                  <a:ext cx="480240" cy="57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3300"/>
                    </a:gs>
                    <a:gs pos="100000">
                      <a:srgbClr val="4617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2" name=""/>
              <p:cNvSpPr/>
              <p:nvPr/>
            </p:nvSpPr>
            <p:spPr>
              <a:xfrm>
                <a:off x="1524240" y="2653920"/>
                <a:ext cx="990000" cy="7876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100000">
                    <a:srgbClr val="0d0d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718280" y="2703960"/>
                <a:ext cx="610560" cy="2502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333399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791360" y="2149560"/>
                <a:ext cx="482400" cy="579600"/>
              </a:xfrm>
              <a:prstGeom prst="ellipse">
                <a:avLst/>
              </a:prstGeom>
              <a:gradFill rotWithShape="0">
                <a:gsLst>
                  <a:gs pos="0">
                    <a:srgbClr val="1c1c55"/>
                  </a:gs>
                  <a:gs pos="50000">
                    <a:srgbClr val="333399"/>
                  </a:gs>
                  <a:gs pos="100000">
                    <a:srgbClr val="1c1c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840320" y="2158560"/>
                <a:ext cx="381960" cy="190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333399">
                      <a:alpha val="1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6" name=""/>
              <p:cNvGrpSpPr/>
              <p:nvPr/>
            </p:nvGrpSpPr>
            <p:grpSpPr>
              <a:xfrm>
                <a:off x="1771920" y="2155680"/>
                <a:ext cx="345240" cy="359280"/>
                <a:chOff x="1771920" y="2155680"/>
                <a:chExt cx="345240" cy="359280"/>
              </a:xfrm>
            </p:grpSpPr>
            <p:grpSp>
              <p:nvGrpSpPr>
                <p:cNvPr id="1447" name=""/>
                <p:cNvGrpSpPr/>
                <p:nvPr/>
              </p:nvGrpSpPr>
              <p:grpSpPr>
                <a:xfrm>
                  <a:off x="1780920" y="2155680"/>
                  <a:ext cx="336240" cy="273960"/>
                  <a:chOff x="1780920" y="2155680"/>
                  <a:chExt cx="336240" cy="273960"/>
                </a:xfrm>
              </p:grpSpPr>
              <p:sp>
                <p:nvSpPr>
                  <p:cNvPr id="1448" name=""/>
                  <p:cNvSpPr/>
                  <p:nvPr/>
                </p:nvSpPr>
                <p:spPr>
                  <a:xfrm flipH="1" rot="15040200">
                    <a:off x="1933200" y="2122560"/>
                    <a:ext cx="957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 flipH="1" rot="14224200">
                    <a:off x="1893960" y="2138040"/>
                    <a:ext cx="9576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 flipH="1" rot="13928400">
                    <a:off x="1875240" y="2155680"/>
                    <a:ext cx="9576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 flipH="1" rot="13396200">
                    <a:off x="1854000" y="2178000"/>
                    <a:ext cx="9576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2" name=""/>
                <p:cNvGrpSpPr/>
                <p:nvPr/>
              </p:nvGrpSpPr>
              <p:grpSpPr>
                <a:xfrm>
                  <a:off x="1771920" y="2177640"/>
                  <a:ext cx="271800" cy="337320"/>
                  <a:chOff x="1771920" y="2177640"/>
                  <a:chExt cx="271800" cy="337320"/>
                </a:xfrm>
              </p:grpSpPr>
              <p:sp>
                <p:nvSpPr>
                  <p:cNvPr id="1453" name=""/>
                  <p:cNvSpPr/>
                  <p:nvPr/>
                </p:nvSpPr>
                <p:spPr>
                  <a:xfrm flipH="1" rot="13687200">
                    <a:off x="1868400" y="2171160"/>
                    <a:ext cx="964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 flipH="1" rot="12871200">
                    <a:off x="1838520" y="2200320"/>
                    <a:ext cx="964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 flipH="1" rot="12576000">
                    <a:off x="1827720" y="2223720"/>
                    <a:ext cx="964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 flipH="1" rot="12043800">
                    <a:off x="1816560" y="2252520"/>
                    <a:ext cx="964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7" name=""/>
              <p:cNvGrpSpPr/>
              <p:nvPr/>
            </p:nvGrpSpPr>
            <p:grpSpPr>
              <a:xfrm>
                <a:off x="1592280" y="2691360"/>
                <a:ext cx="429120" cy="517320"/>
                <a:chOff x="1592280" y="2691360"/>
                <a:chExt cx="429120" cy="517320"/>
              </a:xfrm>
            </p:grpSpPr>
            <p:grpSp>
              <p:nvGrpSpPr>
                <p:cNvPr id="1458" name=""/>
                <p:cNvGrpSpPr/>
                <p:nvPr/>
              </p:nvGrpSpPr>
              <p:grpSpPr>
                <a:xfrm>
                  <a:off x="1592280" y="2691360"/>
                  <a:ext cx="429120" cy="405000"/>
                  <a:chOff x="1592280" y="2691360"/>
                  <a:chExt cx="429120" cy="405000"/>
                </a:xfrm>
              </p:grpSpPr>
              <p:sp>
                <p:nvSpPr>
                  <p:cNvPr id="1459" name=""/>
                  <p:cNvSpPr/>
                  <p:nvPr/>
                </p:nvSpPr>
                <p:spPr>
                  <a:xfrm flipH="1" rot="14424600">
                    <a:off x="1788120" y="2639880"/>
                    <a:ext cx="9684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flipH="1" rot="13608600">
                    <a:off x="1735920" y="2671920"/>
                    <a:ext cx="9684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 flipH="1" rot="13313400">
                    <a:off x="1712520" y="2698200"/>
                    <a:ext cx="9684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 flipH="1" rot="12781200">
                    <a:off x="1684440" y="273060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3" name=""/>
                <p:cNvGrpSpPr/>
                <p:nvPr/>
              </p:nvGrpSpPr>
              <p:grpSpPr>
                <a:xfrm>
                  <a:off x="1593360" y="2719800"/>
                  <a:ext cx="308160" cy="488880"/>
                  <a:chOff x="1593360" y="2719800"/>
                  <a:chExt cx="308160" cy="488880"/>
                </a:xfrm>
              </p:grpSpPr>
              <p:sp>
                <p:nvSpPr>
                  <p:cNvPr id="1464" name=""/>
                  <p:cNvSpPr/>
                  <p:nvPr/>
                </p:nvSpPr>
                <p:spPr>
                  <a:xfrm flipH="1" rot="13071600">
                    <a:off x="1701000" y="2710440"/>
                    <a:ext cx="9720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 flipH="1" rot="12256200">
                    <a:off x="1665000" y="276012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 flipH="1" rot="11960400">
                    <a:off x="1651680" y="279288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 flipH="1" rot="11428200">
                    <a:off x="1639440" y="2833560"/>
                    <a:ext cx="9720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5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68" name=""/>
            <p:cNvSpPr/>
            <p:nvPr/>
          </p:nvSpPr>
          <p:spPr>
            <a:xfrm>
              <a:off x="1446480" y="5638680"/>
              <a:ext cx="1399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1" name=""/>
          <p:cNvGrpSpPr/>
          <p:nvPr/>
        </p:nvGrpSpPr>
        <p:grpSpPr>
          <a:xfrm>
            <a:off x="1332000" y="2637000"/>
            <a:ext cx="6359400" cy="1707120"/>
            <a:chOff x="1332000" y="2637000"/>
            <a:chExt cx="6359400" cy="1707120"/>
          </a:xfrm>
        </p:grpSpPr>
        <p:grpSp>
          <p:nvGrpSpPr>
            <p:cNvPr id="1472" name=""/>
            <p:cNvGrpSpPr/>
            <p:nvPr/>
          </p:nvGrpSpPr>
          <p:grpSpPr>
            <a:xfrm>
              <a:off x="1332000" y="2873160"/>
              <a:ext cx="6359400" cy="1470960"/>
              <a:chOff x="1332000" y="2873160"/>
              <a:chExt cx="6359400" cy="1470960"/>
            </a:xfrm>
          </p:grpSpPr>
          <p:sp>
            <p:nvSpPr>
              <p:cNvPr id="1473" name=""/>
              <p:cNvSpPr/>
              <p:nvPr/>
            </p:nvSpPr>
            <p:spPr>
              <a:xfrm>
                <a:off x="1332000" y="330300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332000" y="287604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00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465720" y="330300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465720" y="287604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825200" y="292212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958560" y="293148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332000" y="340308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465720" y="340308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580000" y="3299760"/>
                <a:ext cx="2111400" cy="104112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580000" y="2873160"/>
                <a:ext cx="2111400" cy="426600"/>
              </a:xfrm>
              <a:prstGeom prst="bevel">
                <a:avLst>
                  <a:gd name="adj" fmla="val 3718"/>
                </a:avLst>
              </a:pr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073200" y="292824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580000" y="3399840"/>
                <a:ext cx="2035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5" name=""/>
            <p:cNvSpPr/>
            <p:nvPr/>
          </p:nvSpPr>
          <p:spPr>
            <a:xfrm>
              <a:off x="1332000" y="2644560"/>
              <a:ext cx="6324480" cy="22824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dbdbd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3462120" y="2637000"/>
              <a:ext cx="187200" cy="205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 flipV="1">
              <a:off x="5379840" y="2640960"/>
              <a:ext cx="190080" cy="22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0" name=""/>
          <p:cNvGrpSpPr/>
          <p:nvPr/>
        </p:nvGrpSpPr>
        <p:grpSpPr>
          <a:xfrm>
            <a:off x="456840" y="1782720"/>
            <a:ext cx="8153640" cy="3957840"/>
            <a:chOff x="456840" y="1782720"/>
            <a:chExt cx="8153640" cy="3957840"/>
          </a:xfrm>
        </p:grpSpPr>
        <p:sp>
          <p:nvSpPr>
            <p:cNvPr id="1491" name=""/>
            <p:cNvSpPr/>
            <p:nvPr/>
          </p:nvSpPr>
          <p:spPr>
            <a:xfrm>
              <a:off x="708120" y="5334120"/>
              <a:ext cx="2340000" cy="406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4f4f4"/>
                </a:gs>
                <a:gs pos="100000">
                  <a:srgbClr val="c0c0c0"/>
                </a:gs>
              </a:gsLst>
              <a:lin ang="13500000"/>
            </a:gra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912960" y="5365800"/>
              <a:ext cx="193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Verdana"/>
                </a:rPr>
                <a:t>A.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39000" y="213372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353200" y="18288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5" name=""/>
            <p:cNvCxnSpPr>
              <a:stCxn id="1494" idx="1"/>
              <a:endCxn id="1496" idx="0"/>
            </p:cNvCxnSpPr>
            <p:nvPr/>
          </p:nvCxnSpPr>
          <p:spPr>
            <a:xfrm flipV="1" rot="10800000">
              <a:off x="5104800" y="1980000"/>
              <a:ext cx="248400" cy="381960"/>
            </a:xfrm>
            <a:prstGeom prst="bentConnector2">
              <a:avLst/>
            </a:prstGeom>
            <a:ln w="9360">
              <a:solidFill>
                <a:srgbClr val="292929"/>
              </a:solidFill>
              <a:miter/>
            </a:ln>
          </p:spPr>
        </p:cxnSp>
        <p:cxnSp>
          <p:nvCxnSpPr>
            <p:cNvPr id="1497" name=""/>
            <p:cNvCxnSpPr>
              <a:stCxn id="1493" idx="1"/>
              <a:endCxn id="1498" idx="0"/>
            </p:cNvCxnSpPr>
            <p:nvPr/>
          </p:nvCxnSpPr>
          <p:spPr>
            <a:xfrm flipV="1" rot="10800000">
              <a:off x="5601600" y="2284920"/>
              <a:ext cx="437400" cy="367560"/>
            </a:xfrm>
            <a:prstGeom prst="bentConnector2">
              <a:avLst/>
            </a:prstGeom>
            <a:ln w="9360">
              <a:solidFill>
                <a:srgbClr val="292929"/>
              </a:solidFill>
              <a:miter/>
            </a:ln>
          </p:spPr>
        </p:cxnSp>
        <p:grpSp>
          <p:nvGrpSpPr>
            <p:cNvPr id="1499" name=""/>
            <p:cNvGrpSpPr/>
            <p:nvPr/>
          </p:nvGrpSpPr>
          <p:grpSpPr>
            <a:xfrm>
              <a:off x="456840" y="2202120"/>
              <a:ext cx="2885040" cy="2878920"/>
              <a:chOff x="456840" y="2202120"/>
              <a:chExt cx="2885040" cy="2878920"/>
            </a:xfrm>
          </p:grpSpPr>
          <p:pic>
            <p:nvPicPr>
              <p:cNvPr id="15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2306520"/>
                <a:ext cx="2698560" cy="267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1" name=""/>
              <p:cNvSpPr/>
              <p:nvPr/>
            </p:nvSpPr>
            <p:spPr>
              <a:xfrm flipH="1" flipV="1" rot="5400000">
                <a:off x="564120" y="2282760"/>
                <a:ext cx="2663640" cy="2718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9" y="7224"/>
                    </a:moveTo>
                    <a:arcTo wR="10800" hR="10800" stAng="-9639693" swAng="96701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9" y="7224"/>
                    </a:moveTo>
                    <a:arcTo wR="10800" hR="10800" stAng="-9639693" swAng="9670153"/>
                  </a:path>
                </a:pathLst>
              </a:cu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 flipV="1" rot="16490400">
                <a:off x="565200" y="2309040"/>
                <a:ext cx="2663280" cy="266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3" y="11649"/>
                    </a:moveTo>
                    <a:arcTo wR="10800" hR="10800" stAng="10529578" swAng="119482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3" y="11649"/>
                    </a:moveTo>
                    <a:arcTo wR="10800" hR="10800" stAng="10529578" swAng="11948203"/>
                  </a:path>
                </a:pathLst>
              </a:custGeom>
              <a:solidFill>
                <a:srgbClr val="3333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62120" y="3139920"/>
                <a:ext cx="1066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dd your 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981080" y="3597120"/>
                <a:ext cx="1067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dd your 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5" name=""/>
              <p:cNvGrpSpPr/>
              <p:nvPr/>
            </p:nvGrpSpPr>
            <p:grpSpPr>
              <a:xfrm>
                <a:off x="1445760" y="3260880"/>
                <a:ext cx="1896120" cy="1729440"/>
                <a:chOff x="1445760" y="3260880"/>
                <a:chExt cx="1896120" cy="1729440"/>
              </a:xfrm>
            </p:grpSpPr>
            <p:grpSp>
              <p:nvGrpSpPr>
                <p:cNvPr id="1506" name=""/>
                <p:cNvGrpSpPr/>
                <p:nvPr/>
              </p:nvGrpSpPr>
              <p:grpSpPr>
                <a:xfrm>
                  <a:off x="1883160" y="3260880"/>
                  <a:ext cx="1458720" cy="1712160"/>
                  <a:chOff x="1883160" y="3260880"/>
                  <a:chExt cx="1458720" cy="1712160"/>
                </a:xfrm>
              </p:grpSpPr>
              <p:sp>
                <p:nvSpPr>
                  <p:cNvPr id="1507" name=""/>
                  <p:cNvSpPr/>
                  <p:nvPr/>
                </p:nvSpPr>
                <p:spPr>
                  <a:xfrm flipH="1" flipV="1" rot="1528800">
                    <a:off x="2695680" y="3265920"/>
                    <a:ext cx="347400" cy="14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 flipH="1" flipV="1" rot="2344200">
                    <a:off x="2584800" y="3475800"/>
                    <a:ext cx="3474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 flipH="1" flipV="1" rot="2640000">
                    <a:off x="2493720" y="3577680"/>
                    <a:ext cx="3474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 flipH="1" flipV="1" rot="3172200">
                    <a:off x="2380320" y="3694680"/>
                    <a:ext cx="347040" cy="142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1" name=""/>
                <p:cNvGrpSpPr/>
                <p:nvPr/>
              </p:nvGrpSpPr>
              <p:grpSpPr>
                <a:xfrm>
                  <a:off x="1445760" y="3731760"/>
                  <a:ext cx="1832400" cy="1258560"/>
                  <a:chOff x="1445760" y="3731760"/>
                  <a:chExt cx="1832400" cy="125856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 flipH="1" flipV="1" rot="2881800">
                    <a:off x="2458080" y="3625560"/>
                    <a:ext cx="349200" cy="142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 flipH="1" flipV="1" rot="3697200">
                    <a:off x="2275920" y="3777840"/>
                    <a:ext cx="3492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 flipH="1" flipV="1" rot="3993000">
                    <a:off x="2152440" y="3836160"/>
                    <a:ext cx="3492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 flipH="1" flipV="1" rot="4525200">
                    <a:off x="2002320" y="3901320"/>
                    <a:ext cx="3492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16" name=""/>
            <p:cNvGrpSpPr/>
            <p:nvPr/>
          </p:nvGrpSpPr>
          <p:grpSpPr>
            <a:xfrm>
              <a:off x="2837520" y="1782720"/>
              <a:ext cx="3743280" cy="3742200"/>
              <a:chOff x="2837520" y="1782720"/>
              <a:chExt cx="3743280" cy="3742200"/>
            </a:xfrm>
          </p:grpSpPr>
          <p:pic>
            <p:nvPicPr>
              <p:cNvPr id="15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2680" y="2306880"/>
                <a:ext cx="2698560" cy="267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8" name=""/>
              <p:cNvSpPr/>
              <p:nvPr/>
            </p:nvSpPr>
            <p:spPr>
              <a:xfrm flipH="1" flipV="1" rot="5400000">
                <a:off x="3383280" y="2283120"/>
                <a:ext cx="2663640" cy="2718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9" y="7224"/>
                    </a:moveTo>
                    <a:arcTo wR="10800" hR="10800" stAng="-9639693" swAng="96701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9" y="7224"/>
                    </a:moveTo>
                    <a:arcTo wR="10800" hR="10800" stAng="-9639693" swAng="9670153"/>
                  </a:path>
                </a:pathLst>
              </a:cu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 flipV="1" rot="16490400">
                <a:off x="3384360" y="2309760"/>
                <a:ext cx="2664720" cy="266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918" y="36"/>
                    </a:moveTo>
                    <a:arcTo wR="10800" hR="10800" stAng="-5681096" swAng="65588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918" y="36"/>
                    </a:moveTo>
                    <a:arcTo wR="10800" hR="10800" stAng="-5681096" swAng="6558877"/>
                  </a:path>
                </a:pathLst>
              </a:cu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 flipV="1" rot="11090400">
                <a:off x="3381120" y="2313360"/>
                <a:ext cx="2663640" cy="266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082" y="244"/>
                    </a:moveTo>
                    <a:arcTo wR="10800" hR="10800" stAng="-4667986" swAng="14880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082" y="244"/>
                    </a:moveTo>
                    <a:arcTo wR="10800" hR="10800" stAng="-4667986" swAng="1488023"/>
                  </a:path>
                </a:pathLst>
              </a:custGeom>
              <a:solidFill>
                <a:srgbClr val="3333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 flipV="1" rot="13924200">
                <a:off x="3377160" y="2318040"/>
                <a:ext cx="2663640" cy="267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881" y="172"/>
                    </a:moveTo>
                    <a:arcTo wR="10800" hR="10800" stAng="-6013970" swAng="2874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881" y="172"/>
                    </a:moveTo>
                    <a:arcTo wR="10800" hR="10800" stAng="-6013970" swAng="2874677"/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 flipV="1" rot="9746400">
                <a:off x="3384360" y="2304000"/>
                <a:ext cx="2665080" cy="266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116" y="522"/>
                    </a:moveTo>
                    <a:arcTo wR="10800" hR="10800" stAng="-4327303" swAng="9994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116" y="522"/>
                    </a:moveTo>
                    <a:arcTo wR="10800" hR="10800" stAng="-4327303" swAng="999462"/>
                  </a:path>
                </a:pathLst>
              </a:custGeom>
              <a:solidFill>
                <a:srgbClr val="00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3552480" y="3216600"/>
                <a:ext cx="1067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dd your 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695480" y="3902400"/>
                <a:ext cx="1067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dd your 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000400" y="3140280"/>
                <a:ext cx="1066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dd your 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4" name=""/>
              <p:cNvGrpSpPr/>
              <p:nvPr/>
            </p:nvGrpSpPr>
            <p:grpSpPr>
              <a:xfrm>
                <a:off x="4264920" y="3261240"/>
                <a:ext cx="1896120" cy="1729440"/>
                <a:chOff x="4264920" y="3261240"/>
                <a:chExt cx="1896120" cy="1729440"/>
              </a:xfrm>
            </p:grpSpPr>
            <p:grpSp>
              <p:nvGrpSpPr>
                <p:cNvPr id="1525" name=""/>
                <p:cNvGrpSpPr/>
                <p:nvPr/>
              </p:nvGrpSpPr>
              <p:grpSpPr>
                <a:xfrm>
                  <a:off x="4702320" y="3261240"/>
                  <a:ext cx="1458720" cy="1712160"/>
                  <a:chOff x="4702320" y="3261240"/>
                  <a:chExt cx="1458720" cy="1712160"/>
                </a:xfrm>
              </p:grpSpPr>
              <p:sp>
                <p:nvSpPr>
                  <p:cNvPr id="1526" name=""/>
                  <p:cNvSpPr/>
                  <p:nvPr/>
                </p:nvSpPr>
                <p:spPr>
                  <a:xfrm flipH="1" flipV="1" rot="1528800">
                    <a:off x="5514840" y="3266280"/>
                    <a:ext cx="347400" cy="14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H="1" flipV="1" rot="2344200">
                    <a:off x="5403960" y="3476160"/>
                    <a:ext cx="3474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 flipH="1" flipV="1" rot="2640000">
                    <a:off x="5312880" y="3578040"/>
                    <a:ext cx="3474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 flipH="1" flipV="1" rot="3172200">
                    <a:off x="5199480" y="3695040"/>
                    <a:ext cx="347040" cy="142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0" name=""/>
                <p:cNvGrpSpPr/>
                <p:nvPr/>
              </p:nvGrpSpPr>
              <p:grpSpPr>
                <a:xfrm>
                  <a:off x="4264920" y="3732120"/>
                  <a:ext cx="1832400" cy="1258560"/>
                  <a:chOff x="4264920" y="3732120"/>
                  <a:chExt cx="1832400" cy="1258560"/>
                </a:xfrm>
              </p:grpSpPr>
              <p:sp>
                <p:nvSpPr>
                  <p:cNvPr id="1531" name=""/>
                  <p:cNvSpPr/>
                  <p:nvPr/>
                </p:nvSpPr>
                <p:spPr>
                  <a:xfrm flipH="1" flipV="1" rot="2881800">
                    <a:off x="5277240" y="3625920"/>
                    <a:ext cx="349200" cy="142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 flipH="1" flipV="1" rot="3697200">
                    <a:off x="5095080" y="3778200"/>
                    <a:ext cx="3492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 flipH="1" flipV="1" rot="3993000">
                    <a:off x="4971600" y="3836520"/>
                    <a:ext cx="3492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 flipH="1" flipV="1" rot="4525200">
                    <a:off x="4821480" y="3901680"/>
                    <a:ext cx="349200" cy="142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535" name=""/>
            <p:cNvSpPr/>
            <p:nvPr/>
          </p:nvSpPr>
          <p:spPr>
            <a:xfrm>
              <a:off x="3581280" y="5334120"/>
              <a:ext cx="2340000" cy="406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50000">
                  <a:srgbClr val="f4f4f4"/>
                </a:gs>
                <a:gs pos="100000">
                  <a:srgbClr val="c0c0c0"/>
                </a:gs>
              </a:gsLst>
              <a:lin ang="13500000"/>
            </a:gra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786120" y="5365800"/>
              <a:ext cx="19368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Verdana"/>
                </a:rPr>
                <a:t>B.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400800" y="2743200"/>
              <a:ext cx="2209680" cy="38088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400800" y="3276720"/>
              <a:ext cx="2209680" cy="38088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bbe0e3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bbe0e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400800" y="3809880"/>
              <a:ext cx="2209680" cy="38124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3333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400800" y="4343400"/>
              <a:ext cx="2209680" cy="38088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99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400800" y="4876920"/>
              <a:ext cx="2209680" cy="380880"/>
            </a:xfrm>
            <a:prstGeom prst="roundRect">
              <a:avLst>
                <a:gd name="adj" fmla="val 7574"/>
              </a:avLst>
            </a:prstGeom>
            <a:solidFill>
              <a:srgbClr val="ffffff"/>
            </a:solidFill>
            <a:ln cap="rnd" w="284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99cc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99cc00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457200" y="1447920"/>
            <a:ext cx="8153280" cy="4572000"/>
            <a:chOff x="457200" y="1447920"/>
            <a:chExt cx="8153280" cy="4572000"/>
          </a:xfrm>
        </p:grpSpPr>
        <p:sp>
          <p:nvSpPr>
            <p:cNvPr id="1545" name=""/>
            <p:cNvSpPr/>
            <p:nvPr/>
          </p:nvSpPr>
          <p:spPr>
            <a:xfrm>
              <a:off x="3614760" y="3182760"/>
              <a:ext cx="342720" cy="10800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3733920" y="4800240"/>
              <a:ext cx="247680" cy="1904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4516560" y="5169240"/>
              <a:ext cx="40680" cy="30996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3458880" y="4165200"/>
              <a:ext cx="313200" cy="1260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688720" y="2475360"/>
              <a:ext cx="1080" cy="3596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 flipV="1">
              <a:off x="6271560" y="4479840"/>
              <a:ext cx="254520" cy="18144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6151320" y="2963520"/>
              <a:ext cx="254160" cy="18180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752480" y="2819520"/>
              <a:ext cx="18288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50000">
                  <a:srgbClr val="b3d8f5"/>
                </a:gs>
                <a:gs pos="100000">
                  <a:srgbClr val="4ea7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6430320" y="3799080"/>
              <a:ext cx="313560" cy="900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4" name=""/>
            <p:cNvGrpSpPr/>
            <p:nvPr/>
          </p:nvGrpSpPr>
          <p:grpSpPr>
            <a:xfrm>
              <a:off x="457200" y="1447920"/>
              <a:ext cx="4191120" cy="761760"/>
              <a:chOff x="457200" y="1447920"/>
              <a:chExt cx="4191120" cy="761760"/>
            </a:xfrm>
          </p:grpSpPr>
          <p:sp>
            <p:nvSpPr>
              <p:cNvPr id="1555" name=""/>
              <p:cNvSpPr/>
              <p:nvPr/>
            </p:nvSpPr>
            <p:spPr>
              <a:xfrm>
                <a:off x="457200" y="1447920"/>
                <a:ext cx="4191120" cy="761760"/>
              </a:xfrm>
              <a:prstGeom prst="wedgeRectCallout">
                <a:avLst>
                  <a:gd name="adj1" fmla="val 40907"/>
                  <a:gd name="adj2" fmla="val 111250"/>
                </a:avLst>
              </a:prstGeom>
              <a:noFill/>
              <a:ln w="38160">
                <a:solidFill>
                  <a:srgbClr val="333399"/>
                </a:solidFill>
                <a:miter/>
              </a:ln>
              <a:effectLst>
                <a:outerShdw dist="63504" dir="3183908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09480" y="1600200"/>
                <a:ext cx="4038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7" name=""/>
            <p:cNvSpPr/>
            <p:nvPr/>
          </p:nvSpPr>
          <p:spPr>
            <a:xfrm>
              <a:off x="3886200" y="2819520"/>
              <a:ext cx="2362320" cy="22860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905120" y="28954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600200" y="3886200"/>
              <a:ext cx="1828800" cy="53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50000">
                  <a:srgbClr val="b3d8f5"/>
                </a:gs>
                <a:gs pos="100000">
                  <a:srgbClr val="4ea7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752480" y="4800600"/>
              <a:ext cx="1828800" cy="53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50000">
                  <a:srgbClr val="b3d8f5"/>
                </a:gs>
                <a:gs pos="100000">
                  <a:srgbClr val="4ea7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971800" y="5486400"/>
              <a:ext cx="1828800" cy="53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50000">
                  <a:srgbClr val="b3d8f5"/>
                </a:gs>
                <a:gs pos="100000">
                  <a:srgbClr val="4ea7ea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828800" y="39625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905120" y="48769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124080" y="55627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334120" y="1828800"/>
              <a:ext cx="1828800" cy="53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92d2d2"/>
                </a:gs>
                <a:gs pos="100000">
                  <a:srgbClr val="009999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486400" y="19051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00800" y="2590920"/>
              <a:ext cx="18288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92d2d2"/>
                </a:gs>
                <a:gs pos="100000">
                  <a:srgbClr val="009999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553080" y="2666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781680" y="3505320"/>
              <a:ext cx="18288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92d2d2"/>
                </a:gs>
                <a:gs pos="100000">
                  <a:srgbClr val="009999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934320" y="35812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553080" y="4495680"/>
              <a:ext cx="1828800" cy="533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92d2d2"/>
                </a:gs>
                <a:gs pos="100000">
                  <a:srgbClr val="009999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705720" y="45720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809880" y="2743200"/>
              <a:ext cx="2519640" cy="2438280"/>
            </a:xfrm>
            <a:prstGeom prst="ellipse">
              <a:avLst/>
            </a:prstGeom>
            <a:noFill/>
            <a:ln cap="rnd" w="284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1523880" y="144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7" name=""/>
          <p:cNvGrpSpPr/>
          <p:nvPr/>
        </p:nvGrpSpPr>
        <p:grpSpPr>
          <a:xfrm>
            <a:off x="883080" y="2358720"/>
            <a:ext cx="7347960" cy="3819600"/>
            <a:chOff x="883080" y="2358720"/>
            <a:chExt cx="7347960" cy="3819600"/>
          </a:xfrm>
        </p:grpSpPr>
        <p:sp>
          <p:nvSpPr>
            <p:cNvPr id="1578" name=""/>
            <p:cNvSpPr/>
            <p:nvPr/>
          </p:nvSpPr>
          <p:spPr>
            <a:xfrm>
              <a:off x="2883960" y="3536280"/>
              <a:ext cx="3808440" cy="1524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4374360" y="2703960"/>
              <a:ext cx="1141200" cy="123300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4374000" y="3770640"/>
              <a:ext cx="3079080" cy="131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4407840" y="3902400"/>
              <a:ext cx="1314360" cy="143280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2574720" y="3902400"/>
              <a:ext cx="1833480" cy="16322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1502280" y="3902040"/>
              <a:ext cx="2905920" cy="100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rot="21182400">
              <a:off x="2608920" y="3036600"/>
              <a:ext cx="3425040" cy="164592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08080"/>
                </a:gs>
              </a:gsLst>
              <a:lin ang="139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 rot="21256800">
              <a:off x="1327320" y="2667960"/>
              <a:ext cx="6232680" cy="3034440"/>
            </a:xfrm>
            <a:prstGeom prst="ellipse">
              <a:avLst/>
            </a:pr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rot="21256800">
              <a:off x="1291680" y="2662560"/>
              <a:ext cx="6249960" cy="3004560"/>
            </a:xfrm>
            <a:prstGeom prst="ellips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338640" y="3363120"/>
              <a:ext cx="2139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ThemeGallery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is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Design Digital Content &amp; Contents mall develop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8" name=""/>
            <p:cNvGrpSpPr/>
            <p:nvPr/>
          </p:nvGrpSpPr>
          <p:grpSpPr>
            <a:xfrm>
              <a:off x="883080" y="3661560"/>
              <a:ext cx="1391400" cy="770040"/>
              <a:chOff x="883080" y="3661560"/>
              <a:chExt cx="1391400" cy="770040"/>
            </a:xfrm>
          </p:grpSpPr>
          <p:sp>
            <p:nvSpPr>
              <p:cNvPr id="1589" name=""/>
              <p:cNvSpPr/>
              <p:nvPr/>
            </p:nvSpPr>
            <p:spPr>
              <a:xfrm rot="21204600">
                <a:off x="917640" y="3783240"/>
                <a:ext cx="1328040" cy="574200"/>
              </a:xfrm>
              <a:prstGeom prst="ellipse">
                <a:avLst/>
              </a:prstGeom>
              <a:gradFill rotWithShape="0">
                <a:gsLst>
                  <a:gs pos="0">
                    <a:srgbClr val="6a6a6a"/>
                  </a:gs>
                  <a:gs pos="50000">
                    <a:srgbClr val="c0c0c0"/>
                  </a:gs>
                  <a:gs pos="100000">
                    <a:srgbClr val="6a6a6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rot="21204600">
                <a:off x="911520" y="3735720"/>
                <a:ext cx="1328760" cy="5742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1" name=""/>
            <p:cNvGrpSpPr/>
            <p:nvPr/>
          </p:nvGrpSpPr>
          <p:grpSpPr>
            <a:xfrm>
              <a:off x="2486880" y="2616480"/>
              <a:ext cx="1206720" cy="542160"/>
              <a:chOff x="2486880" y="2616480"/>
              <a:chExt cx="1206720" cy="542160"/>
            </a:xfrm>
          </p:grpSpPr>
          <p:sp>
            <p:nvSpPr>
              <p:cNvPr id="1592" name=""/>
              <p:cNvSpPr/>
              <p:nvPr/>
            </p:nvSpPr>
            <p:spPr>
              <a:xfrm rot="21274800">
                <a:off x="2506680" y="2703600"/>
                <a:ext cx="1170720" cy="400320"/>
              </a:xfrm>
              <a:prstGeom prst="ellipse">
                <a:avLst/>
              </a:prstGeom>
              <a:gradFill rotWithShape="0">
                <a:gsLst>
                  <a:gs pos="0">
                    <a:srgbClr val="6a6a6a"/>
                  </a:gs>
                  <a:gs pos="50000">
                    <a:srgbClr val="c0c0c0"/>
                  </a:gs>
                  <a:gs pos="100000">
                    <a:srgbClr val="6a6a6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rot="21274800">
                <a:off x="2503080" y="2670480"/>
                <a:ext cx="1171440" cy="400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"/>
            <p:cNvGrpSpPr/>
            <p:nvPr/>
          </p:nvGrpSpPr>
          <p:grpSpPr>
            <a:xfrm>
              <a:off x="4834440" y="2390040"/>
              <a:ext cx="1365840" cy="650880"/>
              <a:chOff x="4834440" y="2390040"/>
              <a:chExt cx="1365840" cy="650880"/>
            </a:xfrm>
          </p:grpSpPr>
          <p:sp>
            <p:nvSpPr>
              <p:cNvPr id="1595" name=""/>
              <p:cNvSpPr/>
              <p:nvPr/>
            </p:nvSpPr>
            <p:spPr>
              <a:xfrm rot="21345000">
                <a:off x="4855320" y="2480040"/>
                <a:ext cx="1327680" cy="51228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rot="21345000">
                <a:off x="4851360" y="2438280"/>
                <a:ext cx="1328400" cy="512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6459120" y="3285720"/>
              <a:ext cx="1771920" cy="1009800"/>
              <a:chOff x="6459120" y="3285720"/>
              <a:chExt cx="1771920" cy="1009800"/>
            </a:xfrm>
          </p:grpSpPr>
          <p:sp>
            <p:nvSpPr>
              <p:cNvPr id="1598" name=""/>
              <p:cNvSpPr/>
              <p:nvPr/>
            </p:nvSpPr>
            <p:spPr>
              <a:xfrm rot="21391800">
                <a:off x="6487920" y="3405600"/>
                <a:ext cx="1719360" cy="83844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21391800">
                <a:off x="6482880" y="3336840"/>
                <a:ext cx="1720440" cy="8384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4474080" y="4668120"/>
              <a:ext cx="2448360" cy="1497960"/>
              <a:chOff x="4474080" y="4668120"/>
              <a:chExt cx="2448360" cy="1497960"/>
            </a:xfrm>
          </p:grpSpPr>
          <p:sp>
            <p:nvSpPr>
              <p:cNvPr id="1601" name=""/>
              <p:cNvSpPr/>
              <p:nvPr/>
            </p:nvSpPr>
            <p:spPr>
              <a:xfrm rot="21401400">
                <a:off x="4515480" y="4839120"/>
                <a:ext cx="2372400" cy="125928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21401400">
                <a:off x="4508280" y="4735440"/>
                <a:ext cx="2373840" cy="1259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1599120" y="4957920"/>
              <a:ext cx="1954800" cy="1220400"/>
              <a:chOff x="1599120" y="4957920"/>
              <a:chExt cx="1954800" cy="1220400"/>
            </a:xfrm>
          </p:grpSpPr>
          <p:sp>
            <p:nvSpPr>
              <p:cNvPr id="1604" name=""/>
              <p:cNvSpPr/>
              <p:nvPr/>
            </p:nvSpPr>
            <p:spPr>
              <a:xfrm rot="21307200">
                <a:off x="1645560" y="5116680"/>
                <a:ext cx="1869480" cy="983520"/>
              </a:xfrm>
              <a:prstGeom prst="ellipse">
                <a:avLst/>
              </a:prstGeom>
              <a:gradFill rotWithShape="0">
                <a:gsLst>
                  <a:gs pos="0">
                    <a:srgbClr val="626262"/>
                  </a:gs>
                  <a:gs pos="50000">
                    <a:srgbClr val="b2b2b2"/>
                  </a:gs>
                  <a:gs pos="100000">
                    <a:srgbClr val="6262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21307200">
                <a:off x="1637280" y="5035680"/>
                <a:ext cx="1870560" cy="9835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2643480" y="267228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100840" y="250416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968520" y="353628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273640" y="516348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089800" y="533556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121760" y="3836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042920" y="2082960"/>
            <a:ext cx="6705720" cy="4308480"/>
            <a:chOff x="1042920" y="2082960"/>
            <a:chExt cx="6705720" cy="4308480"/>
          </a:xfrm>
        </p:grpSpPr>
        <p:sp>
          <p:nvSpPr>
            <p:cNvPr id="138" name=""/>
            <p:cNvSpPr/>
            <p:nvPr/>
          </p:nvSpPr>
          <p:spPr>
            <a:xfrm>
              <a:off x="6127920" y="3652920"/>
              <a:ext cx="1620720" cy="2738520"/>
            </a:xfrm>
            <a:custGeom>
              <a:avLst/>
              <a:gdLst>
                <a:gd name="textAreaLeft" fmla="*/ 65160 w 1620720"/>
                <a:gd name="textAreaRight" fmla="*/ 1555560 w 1620720"/>
                <a:gd name="textAreaTop" fmla="*/ 65160 h 2738520"/>
                <a:gd name="textAreaBottom" fmla="*/ 2673360 h 2738520"/>
              </a:gdLst>
              <a:ahLst/>
              <a:rect l="textAreaLeft" t="textAreaTop" r="textAreaRight" b="textAreaBottom"/>
              <a:pathLst>
                <a:path w="21600" h="36494">
                  <a:moveTo>
                    <a:pt x="2969" y="0"/>
                  </a:moveTo>
                  <a:arcTo wR="2969" hR="2969" stAng="16200000" swAng="-5400000"/>
                  <a:lnTo>
                    <a:pt x="0" y="33525"/>
                  </a:lnTo>
                  <a:arcTo wR="2969" hR="2969" stAng="10800000" swAng="-5400000"/>
                  <a:lnTo>
                    <a:pt x="18631" y="3649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32320" y="3652920"/>
              <a:ext cx="1611360" cy="2738520"/>
            </a:xfrm>
            <a:custGeom>
              <a:avLst/>
              <a:gdLst>
                <a:gd name="textAreaLeft" fmla="*/ 64800 w 1611360"/>
                <a:gd name="textAreaRight" fmla="*/ 1546560 w 1611360"/>
                <a:gd name="textAreaTop" fmla="*/ 64800 h 2738520"/>
                <a:gd name="textAreaBottom" fmla="*/ 2673720 h 2738520"/>
              </a:gdLst>
              <a:ahLst/>
              <a:rect l="textAreaLeft" t="textAreaTop" r="textAreaRight" b="textAreaBottom"/>
              <a:pathLst>
                <a:path w="21600" h="36706">
                  <a:moveTo>
                    <a:pt x="2969" y="0"/>
                  </a:moveTo>
                  <a:arcTo wR="2969" hR="2969" stAng="16200000" swAng="-5400000"/>
                  <a:lnTo>
                    <a:pt x="0" y="33737"/>
                  </a:lnTo>
                  <a:arcTo wR="2969" hR="2969" stAng="10800000" swAng="-5400000"/>
                  <a:lnTo>
                    <a:pt x="18631" y="36706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9680" y="3652920"/>
              <a:ext cx="1563480" cy="2738520"/>
            </a:xfrm>
            <a:custGeom>
              <a:avLst/>
              <a:gdLst>
                <a:gd name="textAreaLeft" fmla="*/ 62640 w 1563480"/>
                <a:gd name="textAreaRight" fmla="*/ 1500840 w 1563480"/>
                <a:gd name="textAreaTop" fmla="*/ 62640 h 2738520"/>
                <a:gd name="textAreaBottom" fmla="*/ 2675880 h 2738520"/>
              </a:gdLst>
              <a:ahLst/>
              <a:rect l="textAreaLeft" t="textAreaTop" r="textAreaRight" b="textAreaBottom"/>
              <a:pathLst>
                <a:path w="21600" h="37830">
                  <a:moveTo>
                    <a:pt x="2969" y="0"/>
                  </a:moveTo>
                  <a:arcTo wR="2969" hR="2969" stAng="16200000" swAng="-5400000"/>
                  <a:lnTo>
                    <a:pt x="0" y="34861"/>
                  </a:lnTo>
                  <a:arcTo wR="2969" hR="2969" stAng="10800000" swAng="-5400000"/>
                  <a:lnTo>
                    <a:pt x="18631" y="37830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42920" y="3652920"/>
              <a:ext cx="1621080" cy="2738520"/>
            </a:xfrm>
            <a:custGeom>
              <a:avLst/>
              <a:gdLst>
                <a:gd name="textAreaLeft" fmla="*/ 65160 w 1621080"/>
                <a:gd name="textAreaRight" fmla="*/ 1555920 w 1621080"/>
                <a:gd name="textAreaTop" fmla="*/ 65160 h 2738520"/>
                <a:gd name="textAreaBottom" fmla="*/ 2673360 h 2738520"/>
              </a:gdLst>
              <a:ahLst/>
              <a:rect l="textAreaLeft" t="textAreaTop" r="textAreaRight" b="textAreaBottom"/>
              <a:pathLst>
                <a:path w="21600" h="36486">
                  <a:moveTo>
                    <a:pt x="2969" y="0"/>
                  </a:moveTo>
                  <a:arcTo wR="2969" hR="2969" stAng="16200000" swAng="-5400000"/>
                  <a:lnTo>
                    <a:pt x="0" y="33517"/>
                  </a:lnTo>
                  <a:arcTo wR="2969" hR="2969" stAng="10800000" swAng="-5400000"/>
                  <a:lnTo>
                    <a:pt x="18631" y="36486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103760" y="2082960"/>
              <a:ext cx="6215040" cy="1324440"/>
              <a:chOff x="1103760" y="2082960"/>
              <a:chExt cx="6215040" cy="1324440"/>
            </a:xfrm>
          </p:grpSpPr>
          <p:sp>
            <p:nvSpPr>
              <p:cNvPr id="143" name=""/>
              <p:cNvSpPr/>
              <p:nvPr/>
            </p:nvSpPr>
            <p:spPr>
              <a:xfrm rot="3418800">
                <a:off x="1311480" y="2290680"/>
                <a:ext cx="874080" cy="97092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98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2234520" y="2463840"/>
                <a:ext cx="901440" cy="124200"/>
                <a:chOff x="2234520" y="2463840"/>
                <a:chExt cx="901440" cy="12420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234520" y="2463840"/>
                  <a:ext cx="151920" cy="12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320920" y="2464560"/>
                  <a:ext cx="747720" cy="12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999160" y="2465640"/>
                  <a:ext cx="136800" cy="11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072600" y="2504520"/>
                  <a:ext cx="38160" cy="3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 rot="3418800">
                <a:off x="2976120" y="2228400"/>
                <a:ext cx="874080" cy="970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3899160" y="2463840"/>
                <a:ext cx="901440" cy="124200"/>
                <a:chOff x="3899160" y="2463840"/>
                <a:chExt cx="901440" cy="1242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899160" y="2463840"/>
                  <a:ext cx="151920" cy="12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85560" y="2464560"/>
                  <a:ext cx="747720" cy="12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663800" y="2465640"/>
                  <a:ext cx="136800" cy="11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37240" y="2504520"/>
                  <a:ext cx="38160" cy="3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 rot="3418800">
                <a:off x="4571640" y="2228400"/>
                <a:ext cx="874080" cy="97092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98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5564160" y="2463840"/>
                <a:ext cx="1178280" cy="124200"/>
                <a:chOff x="5564160" y="2463840"/>
                <a:chExt cx="1178280" cy="1242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5564160" y="2463840"/>
                  <a:ext cx="198720" cy="123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677200" y="2464560"/>
                  <a:ext cx="977400" cy="12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563880" y="2465640"/>
                  <a:ext cx="178560" cy="11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660000" y="2504520"/>
                  <a:ext cx="50040" cy="3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 rot="3418800">
                <a:off x="6236280" y="2228400"/>
                <a:ext cx="874080" cy="970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418760" y="25783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14360" y="25783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60560" y="25783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55800" y="25783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25240" y="3870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19040" y="3870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14280" y="3870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09880" y="38703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380880" y="1523880"/>
            <a:ext cx="8305920" cy="4953240"/>
            <a:chOff x="380880" y="1523880"/>
            <a:chExt cx="8305920" cy="4953240"/>
          </a:xfrm>
        </p:grpSpPr>
        <p:sp>
          <p:nvSpPr>
            <p:cNvPr id="1615" name=""/>
            <p:cNvSpPr/>
            <p:nvPr/>
          </p:nvSpPr>
          <p:spPr>
            <a:xfrm>
              <a:off x="380880" y="3505320"/>
              <a:ext cx="8305920" cy="2971800"/>
            </a:xfrm>
            <a:custGeom>
              <a:avLst/>
              <a:gdLst/>
              <a:ahLst/>
              <a:rect l="l" t="t" r="r" b="b"/>
              <a:pathLst>
                <a:path w="5016" h="2256">
                  <a:moveTo>
                    <a:pt x="0" y="2240"/>
                  </a:moveTo>
                  <a:cubicBezTo>
                    <a:pt x="276" y="2109"/>
                    <a:pt x="1182" y="1474"/>
                    <a:pt x="1122" y="702"/>
                  </a:cubicBezTo>
                  <a:lnTo>
                    <a:pt x="972" y="744"/>
                  </a:lnTo>
                  <a:cubicBezTo>
                    <a:pt x="988" y="702"/>
                    <a:pt x="1140" y="436"/>
                    <a:pt x="1140" y="438"/>
                  </a:cubicBezTo>
                  <a:lnTo>
                    <a:pt x="1422" y="642"/>
                  </a:lnTo>
                  <a:cubicBezTo>
                    <a:pt x="1422" y="642"/>
                    <a:pt x="1260" y="672"/>
                    <a:pt x="1272" y="672"/>
                  </a:cubicBezTo>
                  <a:cubicBezTo>
                    <a:pt x="1428" y="1008"/>
                    <a:pt x="1620" y="1350"/>
                    <a:pt x="1968" y="1284"/>
                  </a:cubicBezTo>
                  <a:cubicBezTo>
                    <a:pt x="2316" y="1218"/>
                    <a:pt x="2460" y="576"/>
                    <a:pt x="2466" y="318"/>
                  </a:cubicBezTo>
                  <a:lnTo>
                    <a:pt x="2280" y="318"/>
                  </a:lnTo>
                  <a:lnTo>
                    <a:pt x="2598" y="0"/>
                  </a:lnTo>
                  <a:lnTo>
                    <a:pt x="2898" y="330"/>
                  </a:lnTo>
                  <a:lnTo>
                    <a:pt x="2724" y="324"/>
                  </a:lnTo>
                  <a:cubicBezTo>
                    <a:pt x="2724" y="325"/>
                    <a:pt x="2760" y="1284"/>
                    <a:pt x="3210" y="1302"/>
                  </a:cubicBezTo>
                  <a:cubicBezTo>
                    <a:pt x="3660" y="1320"/>
                    <a:pt x="3816" y="912"/>
                    <a:pt x="3870" y="654"/>
                  </a:cubicBezTo>
                  <a:lnTo>
                    <a:pt x="3702" y="642"/>
                  </a:lnTo>
                  <a:lnTo>
                    <a:pt x="3984" y="420"/>
                  </a:lnTo>
                  <a:lnTo>
                    <a:pt x="4182" y="678"/>
                  </a:lnTo>
                  <a:lnTo>
                    <a:pt x="4026" y="672"/>
                  </a:lnTo>
                  <a:cubicBezTo>
                    <a:pt x="4032" y="678"/>
                    <a:pt x="3960" y="1862"/>
                    <a:pt x="5016" y="2225"/>
                  </a:cubicBezTo>
                  <a:cubicBezTo>
                    <a:pt x="3438" y="2232"/>
                    <a:pt x="1092" y="2256"/>
                    <a:pt x="0" y="224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6" name="" descr=""/>
            <p:cNvPicPr/>
            <p:nvPr/>
          </p:nvPicPr>
          <p:blipFill>
            <a:blip r:embed="rId1"/>
            <a:stretch/>
          </p:blipFill>
          <p:spPr>
            <a:xfrm>
              <a:off x="3900600" y="1523880"/>
              <a:ext cx="149832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7" name=""/>
            <p:cNvSpPr/>
            <p:nvPr/>
          </p:nvSpPr>
          <p:spPr>
            <a:xfrm>
              <a:off x="3900600" y="1523880"/>
              <a:ext cx="1488960" cy="1487520"/>
            </a:xfrm>
            <a:prstGeom prst="ellipse">
              <a:avLst/>
            </a:prstGeom>
            <a:gradFill rotWithShape="0">
              <a:gsLst>
                <a:gs pos="0">
                  <a:srgbClr val="424228">
                    <a:alpha val="90196"/>
                  </a:srgbClr>
                </a:gs>
                <a:gs pos="50000">
                  <a:srgbClr val="ffff99">
                    <a:alpha val="45098"/>
                  </a:srgbClr>
                </a:gs>
                <a:gs pos="100000">
                  <a:srgbClr val="424228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054320" y="1554120"/>
              <a:ext cx="1170000" cy="515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9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"/>
            <p:cNvGrpSpPr/>
            <p:nvPr/>
          </p:nvGrpSpPr>
          <p:grpSpPr>
            <a:xfrm>
              <a:off x="4003560" y="2554920"/>
              <a:ext cx="1317960" cy="527760"/>
              <a:chOff x="4003560" y="2554920"/>
              <a:chExt cx="1317960" cy="527760"/>
            </a:xfrm>
          </p:grpSpPr>
          <p:grpSp>
            <p:nvGrpSpPr>
              <p:cNvPr id="1620" name=""/>
              <p:cNvGrpSpPr/>
              <p:nvPr/>
            </p:nvGrpSpPr>
            <p:grpSpPr>
              <a:xfrm>
                <a:off x="4234320" y="2554920"/>
                <a:ext cx="1087200" cy="496800"/>
                <a:chOff x="4234320" y="2554920"/>
                <a:chExt cx="1087200" cy="496800"/>
              </a:xfrm>
            </p:grpSpPr>
            <p:sp>
              <p:nvSpPr>
                <p:cNvPr id="1621" name=""/>
                <p:cNvSpPr/>
                <p:nvPr/>
              </p:nvSpPr>
              <p:spPr>
                <a:xfrm flipH="1" flipV="1" rot="3964800">
                  <a:off x="4824360" y="2408400"/>
                  <a:ext cx="193680" cy="78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H="1" flipV="1" rot="4780200">
                  <a:off x="4703040" y="2456280"/>
                  <a:ext cx="193680" cy="788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 flipV="1" rot="5076000">
                  <a:off x="4626720" y="2465640"/>
                  <a:ext cx="193680" cy="78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 flipV="1" rot="5608200">
                  <a:off x="4537080" y="2475360"/>
                  <a:ext cx="193680" cy="788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4003560" y="2561760"/>
                <a:ext cx="1084680" cy="520920"/>
                <a:chOff x="4003560" y="2561760"/>
                <a:chExt cx="1084680" cy="520920"/>
              </a:xfrm>
            </p:grpSpPr>
            <p:sp>
              <p:nvSpPr>
                <p:cNvPr id="1626" name=""/>
                <p:cNvSpPr/>
                <p:nvPr/>
              </p:nvSpPr>
              <p:spPr>
                <a:xfrm flipH="1" flipV="1" rot="5318400">
                  <a:off x="4593600" y="2475720"/>
                  <a:ext cx="194040" cy="789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 flipV="1" rot="6133800">
                  <a:off x="4462920" y="2473560"/>
                  <a:ext cx="194040" cy="788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H="1" flipV="1" rot="6429600">
                  <a:off x="4389480" y="2454120"/>
                  <a:ext cx="194040" cy="788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H="1" flipV="1" rot="6961800">
                  <a:off x="4303080" y="2427480"/>
                  <a:ext cx="194040" cy="788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0" name=""/>
            <p:cNvSpPr/>
            <p:nvPr/>
          </p:nvSpPr>
          <p:spPr>
            <a:xfrm>
              <a:off x="4038480" y="2139840"/>
              <a:ext cx="1320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1" name="" descr=""/>
            <p:cNvPicPr/>
            <p:nvPr/>
          </p:nvPicPr>
          <p:blipFill>
            <a:blip r:embed="rId2"/>
            <a:stretch/>
          </p:blipFill>
          <p:spPr>
            <a:xfrm>
              <a:off x="1495440" y="2133720"/>
              <a:ext cx="149868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2" name=""/>
            <p:cNvSpPr/>
            <p:nvPr/>
          </p:nvSpPr>
          <p:spPr>
            <a:xfrm>
              <a:off x="1495440" y="2133720"/>
              <a:ext cx="1488960" cy="1487520"/>
            </a:xfrm>
            <a:prstGeom prst="ellipse">
              <a:avLst/>
            </a:prstGeom>
            <a:gradFill rotWithShape="0">
              <a:gsLst>
                <a:gs pos="0">
                  <a:srgbClr val="422835">
                    <a:alpha val="90196"/>
                  </a:srgbClr>
                </a:gs>
                <a:gs pos="50000">
                  <a:srgbClr val="ff99cc">
                    <a:alpha val="45098"/>
                  </a:srgbClr>
                </a:gs>
                <a:gs pos="100000">
                  <a:srgbClr val="422835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649520" y="2163600"/>
              <a:ext cx="1170000" cy="516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99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4" name=""/>
            <p:cNvGrpSpPr/>
            <p:nvPr/>
          </p:nvGrpSpPr>
          <p:grpSpPr>
            <a:xfrm>
              <a:off x="1598400" y="3164760"/>
              <a:ext cx="1317960" cy="527760"/>
              <a:chOff x="1598400" y="3164760"/>
              <a:chExt cx="1317960" cy="527760"/>
            </a:xfrm>
          </p:grpSpPr>
          <p:grpSp>
            <p:nvGrpSpPr>
              <p:cNvPr id="1635" name=""/>
              <p:cNvGrpSpPr/>
              <p:nvPr/>
            </p:nvGrpSpPr>
            <p:grpSpPr>
              <a:xfrm>
                <a:off x="1829160" y="3164760"/>
                <a:ext cx="1087200" cy="496800"/>
                <a:chOff x="1829160" y="3164760"/>
                <a:chExt cx="1087200" cy="496800"/>
              </a:xfrm>
            </p:grpSpPr>
            <p:sp>
              <p:nvSpPr>
                <p:cNvPr id="1636" name=""/>
                <p:cNvSpPr/>
                <p:nvPr/>
              </p:nvSpPr>
              <p:spPr>
                <a:xfrm flipH="1" flipV="1" rot="3964800">
                  <a:off x="2419200" y="3018240"/>
                  <a:ext cx="193680" cy="78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 flipV="1" rot="4780200">
                  <a:off x="2297880" y="3066120"/>
                  <a:ext cx="193680" cy="788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H="1" flipV="1" rot="5076000">
                  <a:off x="2221560" y="3075480"/>
                  <a:ext cx="193680" cy="78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H="1" flipV="1" rot="5608200">
                  <a:off x="2131920" y="3085200"/>
                  <a:ext cx="193680" cy="788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0" name=""/>
              <p:cNvGrpSpPr/>
              <p:nvPr/>
            </p:nvGrpSpPr>
            <p:grpSpPr>
              <a:xfrm>
                <a:off x="1598400" y="3171600"/>
                <a:ext cx="1084680" cy="520920"/>
                <a:chOff x="1598400" y="3171600"/>
                <a:chExt cx="1084680" cy="520920"/>
              </a:xfrm>
            </p:grpSpPr>
            <p:sp>
              <p:nvSpPr>
                <p:cNvPr id="1641" name=""/>
                <p:cNvSpPr/>
                <p:nvPr/>
              </p:nvSpPr>
              <p:spPr>
                <a:xfrm flipH="1" flipV="1" rot="5318400">
                  <a:off x="2188440" y="3085560"/>
                  <a:ext cx="194040" cy="789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H="1" flipV="1" rot="6133800">
                  <a:off x="2057760" y="3083400"/>
                  <a:ext cx="194040" cy="788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H="1" flipV="1" rot="6429600">
                  <a:off x="1984320" y="3063960"/>
                  <a:ext cx="194040" cy="788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H="1" flipV="1" rot="6961800">
                  <a:off x="1897920" y="3037320"/>
                  <a:ext cx="194040" cy="788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5" name=""/>
            <p:cNvSpPr/>
            <p:nvPr/>
          </p:nvSpPr>
          <p:spPr>
            <a:xfrm>
              <a:off x="1758960" y="2760840"/>
              <a:ext cx="10098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3"/>
            <a:stretch/>
          </p:blipFill>
          <p:spPr>
            <a:xfrm>
              <a:off x="6165720" y="2209680"/>
              <a:ext cx="1498680" cy="14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7" name=""/>
            <p:cNvSpPr/>
            <p:nvPr/>
          </p:nvSpPr>
          <p:spPr>
            <a:xfrm>
              <a:off x="6165720" y="2209680"/>
              <a:ext cx="1489320" cy="1487520"/>
            </a:xfrm>
            <a:prstGeom prst="ellipse">
              <a:avLst/>
            </a:prstGeom>
            <a:gradFill rotWithShape="0">
              <a:gsLst>
                <a:gs pos="0">
                  <a:srgbClr val="0d2842">
                    <a:alpha val="90196"/>
                  </a:srgbClr>
                </a:gs>
                <a:gs pos="50000">
                  <a:srgbClr val="3399ff">
                    <a:alpha val="45098"/>
                  </a:srgbClr>
                </a:gs>
                <a:gs pos="100000">
                  <a:srgbClr val="0d2842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19800" y="2239920"/>
              <a:ext cx="1170000" cy="515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99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9" name=""/>
            <p:cNvGrpSpPr/>
            <p:nvPr/>
          </p:nvGrpSpPr>
          <p:grpSpPr>
            <a:xfrm>
              <a:off x="6268680" y="3240720"/>
              <a:ext cx="1317600" cy="527760"/>
              <a:chOff x="6268680" y="3240720"/>
              <a:chExt cx="1317600" cy="527760"/>
            </a:xfrm>
          </p:grpSpPr>
          <p:grpSp>
            <p:nvGrpSpPr>
              <p:cNvPr id="1650" name=""/>
              <p:cNvGrpSpPr/>
              <p:nvPr/>
            </p:nvGrpSpPr>
            <p:grpSpPr>
              <a:xfrm>
                <a:off x="6499080" y="3240720"/>
                <a:ext cx="1087200" cy="496800"/>
                <a:chOff x="6499080" y="3240720"/>
                <a:chExt cx="1087200" cy="496800"/>
              </a:xfrm>
            </p:grpSpPr>
            <p:sp>
              <p:nvSpPr>
                <p:cNvPr id="1651" name=""/>
                <p:cNvSpPr/>
                <p:nvPr/>
              </p:nvSpPr>
              <p:spPr>
                <a:xfrm flipH="1" flipV="1" rot="3964800">
                  <a:off x="7089120" y="3094200"/>
                  <a:ext cx="193680" cy="78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 flipV="1" rot="4780200">
                  <a:off x="6967800" y="3142080"/>
                  <a:ext cx="193680" cy="788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flipH="1" flipV="1" rot="5076000">
                  <a:off x="6891480" y="3151440"/>
                  <a:ext cx="193680" cy="78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H="1" flipV="1" rot="5608200">
                  <a:off x="6801840" y="3161160"/>
                  <a:ext cx="193680" cy="788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5" name=""/>
              <p:cNvGrpSpPr/>
              <p:nvPr/>
            </p:nvGrpSpPr>
            <p:grpSpPr>
              <a:xfrm>
                <a:off x="6268680" y="3247560"/>
                <a:ext cx="1084680" cy="520920"/>
                <a:chOff x="6268680" y="3247560"/>
                <a:chExt cx="1084680" cy="520920"/>
              </a:xfrm>
            </p:grpSpPr>
            <p:sp>
              <p:nvSpPr>
                <p:cNvPr id="1656" name=""/>
                <p:cNvSpPr/>
                <p:nvPr/>
              </p:nvSpPr>
              <p:spPr>
                <a:xfrm flipH="1" flipV="1" rot="5318400">
                  <a:off x="6858720" y="3161520"/>
                  <a:ext cx="194040" cy="789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flipH="1" flipV="1" rot="6133800">
                  <a:off x="6728040" y="3159360"/>
                  <a:ext cx="194040" cy="788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flipH="1" flipV="1" rot="6429600">
                  <a:off x="6654600" y="3139920"/>
                  <a:ext cx="194040" cy="788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flipH="1" flipV="1" rot="6961800">
                  <a:off x="6568200" y="3113280"/>
                  <a:ext cx="194040" cy="788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0" name=""/>
            <p:cNvSpPr/>
            <p:nvPr/>
          </p:nvSpPr>
          <p:spPr>
            <a:xfrm>
              <a:off x="6265800" y="2760840"/>
              <a:ext cx="1320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09680" y="5591160"/>
              <a:ext cx="477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1c1c"/>
                  </a:solidFill>
                  <a:latin typeface="Arial"/>
                </a:rPr>
                <a:t>ThemeGallery</a:t>
              </a:r>
              <a:r>
                <a:rPr b="0" lang="en-US" sz="1600" spc="-1" strike="noStrike">
                  <a:solidFill>
                    <a:srgbClr val="1c1c1c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276720" y="3124080"/>
              <a:ext cx="26668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1001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066680" y="3724200"/>
              <a:ext cx="22082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1001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715000" y="3809880"/>
              <a:ext cx="25131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1001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7" name=""/>
          <p:cNvGrpSpPr/>
          <p:nvPr/>
        </p:nvGrpSpPr>
        <p:grpSpPr>
          <a:xfrm>
            <a:off x="838080" y="1585800"/>
            <a:ext cx="7462800" cy="4684680"/>
            <a:chOff x="838080" y="1585800"/>
            <a:chExt cx="7462800" cy="4684680"/>
          </a:xfrm>
        </p:grpSpPr>
        <p:sp>
          <p:nvSpPr>
            <p:cNvPr id="1668" name=""/>
            <p:cNvSpPr/>
            <p:nvPr/>
          </p:nvSpPr>
          <p:spPr>
            <a:xfrm>
              <a:off x="905040" y="1658880"/>
              <a:ext cx="2439720" cy="2000160"/>
            </a:xfrm>
            <a:prstGeom prst="rightArrowCallout">
              <a:avLst>
                <a:gd name="adj1" fmla="val 28438"/>
                <a:gd name="adj2" fmla="val 21477"/>
                <a:gd name="adj3" fmla="val 8888"/>
                <a:gd name="adj4" fmla="val 86532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7c7cbd">
                    <a:alpha val="90196"/>
                  </a:srgbClr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546360" y="1658880"/>
              <a:ext cx="2440080" cy="2000160"/>
            </a:xfrm>
            <a:prstGeom prst="rightArrowCallout">
              <a:avLst>
                <a:gd name="adj1" fmla="val 28438"/>
                <a:gd name="adj2" fmla="val 21477"/>
                <a:gd name="adj3" fmla="val 8890"/>
                <a:gd name="adj4" fmla="val 86532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9ccff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546360" y="1585800"/>
              <a:ext cx="2109960" cy="5158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cae6e8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 rot="5400000">
              <a:off x="6083640" y="1753200"/>
              <a:ext cx="2308320" cy="2119320"/>
            </a:xfrm>
            <a:prstGeom prst="rightArrowCallout">
              <a:avLst>
                <a:gd name="adj1" fmla="val 28438"/>
                <a:gd name="adj2" fmla="val 21477"/>
                <a:gd name="adj3" fmla="val 7937"/>
                <a:gd name="adj4" fmla="val 86532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9b9bcc">
                    <a:alpha val="90196"/>
                  </a:srgbClr>
                </a:gs>
                <a:gs pos="100000">
                  <a:srgbClr val="33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178680" y="1585800"/>
              <a:ext cx="2119320" cy="5158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29297c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3240000" y="4270320"/>
              <a:ext cx="2440080" cy="2000160"/>
            </a:xfrm>
            <a:prstGeom prst="rightArrowCallout">
              <a:avLst>
                <a:gd name="adj1" fmla="val 28438"/>
                <a:gd name="adj2" fmla="val 21477"/>
                <a:gd name="adj3" fmla="val 8890"/>
                <a:gd name="adj4" fmla="val 86532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7c7cbd">
                    <a:alpha val="90196"/>
                  </a:srgbClr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567240" y="4114800"/>
              <a:ext cx="2112840" cy="5158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2c2c85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5851440" y="4270320"/>
              <a:ext cx="2440080" cy="2000160"/>
            </a:xfrm>
            <a:prstGeom prst="rightArrowCallout">
              <a:avLst>
                <a:gd name="adj1" fmla="val 28438"/>
                <a:gd name="adj2" fmla="val 21477"/>
                <a:gd name="adj3" fmla="val 8890"/>
                <a:gd name="adj4" fmla="val 86532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99ccff">
                    <a:alpha val="9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81560" y="4124160"/>
              <a:ext cx="2119320" cy="516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cae6e8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903240" y="1585800"/>
              <a:ext cx="2114640" cy="5158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50000">
                  <a:srgbClr val="2c2c85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189080" y="1662120"/>
              <a:ext cx="150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865320" y="1662120"/>
              <a:ext cx="150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513480" y="1662120"/>
              <a:ext cx="150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865320" y="4218120"/>
              <a:ext cx="150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513480" y="4218120"/>
              <a:ext cx="150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38080" y="4413240"/>
              <a:ext cx="2324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hemeGallery i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85960" y="2475000"/>
              <a:ext cx="2073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43480" y="2475000"/>
              <a:ext cx="2073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162840" y="2475000"/>
              <a:ext cx="2073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162840" y="5030640"/>
              <a:ext cx="2073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62200" y="5030640"/>
              <a:ext cx="20736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60000"/>
                </a:lnSpc>
                <a:spcBef>
                  <a:spcPts val="876"/>
                </a:spcBef>
                <a:buClr>
                  <a:srgbClr val="29292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533520" y="1295280"/>
            <a:ext cx="8069040" cy="4760640"/>
            <a:chOff x="533520" y="1295280"/>
            <a:chExt cx="8069040" cy="4760640"/>
          </a:xfrm>
        </p:grpSpPr>
        <p:sp>
          <p:nvSpPr>
            <p:cNvPr id="1692" name=""/>
            <p:cNvSpPr/>
            <p:nvPr/>
          </p:nvSpPr>
          <p:spPr>
            <a:xfrm flipH="1" rot="17752800">
              <a:off x="5634360" y="2684520"/>
              <a:ext cx="1677600" cy="173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87547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8754729"/>
                </a:path>
              </a:pathLst>
            </a:custGeom>
            <a:noFill/>
            <a:ln w="19080">
              <a:solidFill>
                <a:srgbClr val="1c1c1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rot="5400000">
              <a:off x="1816920" y="1270440"/>
              <a:ext cx="1380960" cy="142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14" y="20987"/>
                  </a:moveTo>
                  <a:arcTo wR="10800" hR="10800" stAng="6563447" swAng="19875067"/>
                  <a:lnTo>
                    <a:pt x="10800" y="10800"/>
                  </a:lnTo>
                  <a:close/>
                </a:path>
                <a:path fill="none" w="21600" h="21600">
                  <a:moveTo>
                    <a:pt x="7214" y="20987"/>
                  </a:moveTo>
                  <a:arcTo wR="10800" hR="10800" stAng="6563447" swAng="19875067"/>
                </a:path>
              </a:pathLst>
            </a:custGeom>
            <a:noFill/>
            <a:ln cap="rnd" w="12600">
              <a:solidFill>
                <a:srgbClr val="1c1c1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4" name="" descr=""/>
            <p:cNvPicPr/>
            <p:nvPr/>
          </p:nvPicPr>
          <p:blipFill>
            <a:blip r:embed="rId1"/>
            <a:stretch/>
          </p:blipFill>
          <p:spPr>
            <a:xfrm>
              <a:off x="5789520" y="2867040"/>
              <a:ext cx="136548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5" name=""/>
            <p:cNvSpPr/>
            <p:nvPr/>
          </p:nvSpPr>
          <p:spPr>
            <a:xfrm>
              <a:off x="5789520" y="2867040"/>
              <a:ext cx="1357560" cy="1355760"/>
            </a:xfrm>
            <a:prstGeom prst="ellipse">
              <a:avLst/>
            </a:prstGeom>
            <a:gradFill rotWithShape="0">
              <a:gsLst>
                <a:gs pos="0">
                  <a:srgbClr val="00351a">
                    <a:alpha val="90196"/>
                  </a:srgbClr>
                </a:gs>
                <a:gs pos="50000">
                  <a:srgbClr val="00cc66">
                    <a:alpha val="45098"/>
                  </a:srgbClr>
                </a:gs>
                <a:gs pos="100000">
                  <a:srgbClr val="00351a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929200" y="2894040"/>
              <a:ext cx="1067040" cy="471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cc66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"/>
            <p:cNvGrpSpPr/>
            <p:nvPr/>
          </p:nvGrpSpPr>
          <p:grpSpPr>
            <a:xfrm>
              <a:off x="5885640" y="3808440"/>
              <a:ext cx="1201680" cy="479520"/>
              <a:chOff x="5885640" y="3808440"/>
              <a:chExt cx="1201680" cy="479520"/>
            </a:xfrm>
          </p:grpSpPr>
          <p:grpSp>
            <p:nvGrpSpPr>
              <p:cNvPr id="1698" name=""/>
              <p:cNvGrpSpPr/>
              <p:nvPr/>
            </p:nvGrpSpPr>
            <p:grpSpPr>
              <a:xfrm>
                <a:off x="6096240" y="3808440"/>
                <a:ext cx="991080" cy="453240"/>
                <a:chOff x="6096240" y="3808440"/>
                <a:chExt cx="991080" cy="453240"/>
              </a:xfrm>
            </p:grpSpPr>
            <p:sp>
              <p:nvSpPr>
                <p:cNvPr id="1699" name=""/>
                <p:cNvSpPr/>
                <p:nvPr/>
              </p:nvSpPr>
              <p:spPr>
                <a:xfrm flipH="1" flipV="1" rot="3964800">
                  <a:off x="6633720" y="3674520"/>
                  <a:ext cx="176760" cy="719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H="1" flipV="1" rot="4780200">
                  <a:off x="6522120" y="3719520"/>
                  <a:ext cx="176760" cy="71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 flipV="1" rot="5076000">
                  <a:off x="6453720" y="3728520"/>
                  <a:ext cx="176760" cy="71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H="1" flipV="1" rot="5608200">
                  <a:off x="6371280" y="3736440"/>
                  <a:ext cx="176760" cy="71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885640" y="3813480"/>
                <a:ext cx="988560" cy="474480"/>
                <a:chOff x="5885640" y="3813480"/>
                <a:chExt cx="988560" cy="474480"/>
              </a:xfrm>
            </p:grpSpPr>
            <p:sp>
              <p:nvSpPr>
                <p:cNvPr id="1704" name=""/>
                <p:cNvSpPr/>
                <p:nvPr/>
              </p:nvSpPr>
              <p:spPr>
                <a:xfrm flipH="1" flipV="1" rot="5317800">
                  <a:off x="6423480" y="3735000"/>
                  <a:ext cx="177480" cy="719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H="1" flipV="1" rot="6133800">
                  <a:off x="6303960" y="3732840"/>
                  <a:ext cx="177480" cy="71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flipH="1" flipV="1" rot="6429000">
                  <a:off x="6237720" y="3715200"/>
                  <a:ext cx="177480" cy="71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H="1" flipV="1" rot="6961200">
                  <a:off x="6158160" y="3691080"/>
                  <a:ext cx="177480" cy="71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08" name="" descr=""/>
            <p:cNvPicPr/>
            <p:nvPr/>
          </p:nvPicPr>
          <p:blipFill>
            <a:blip r:embed="rId2"/>
            <a:stretch/>
          </p:blipFill>
          <p:spPr>
            <a:xfrm>
              <a:off x="1920960" y="1403280"/>
              <a:ext cx="11793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9" name=""/>
            <p:cNvSpPr/>
            <p:nvPr/>
          </p:nvSpPr>
          <p:spPr>
            <a:xfrm>
              <a:off x="1920960" y="1403280"/>
              <a:ext cx="1171440" cy="1171800"/>
            </a:xfrm>
            <a:prstGeom prst="ellipse">
              <a:avLst/>
            </a:prstGeom>
            <a:gradFill rotWithShape="0">
              <a:gsLst>
                <a:gs pos="0">
                  <a:srgbClr val="361501">
                    <a:alpha val="90196"/>
                  </a:srgbClr>
                </a:gs>
                <a:gs pos="50000">
                  <a:srgbClr val="d15305">
                    <a:alpha val="45098"/>
                  </a:srgbClr>
                </a:gs>
                <a:gs pos="100000">
                  <a:srgbClr val="36150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041560" y="1427040"/>
              <a:ext cx="920880" cy="406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6600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185560" y="1787400"/>
              <a:ext cx="6516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79760" y="3362400"/>
              <a:ext cx="6516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87240" y="1897200"/>
              <a:ext cx="122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spcBef>
                  <a:spcPts val="751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215120" y="332424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751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5" name=""/>
            <p:cNvGrpSpPr/>
            <p:nvPr/>
          </p:nvGrpSpPr>
          <p:grpSpPr>
            <a:xfrm>
              <a:off x="2679480" y="2263680"/>
              <a:ext cx="1036440" cy="1049040"/>
              <a:chOff x="2679480" y="2263680"/>
              <a:chExt cx="1036440" cy="1049040"/>
            </a:xfrm>
          </p:grpSpPr>
          <p:sp>
            <p:nvSpPr>
              <p:cNvPr id="1716" name=""/>
              <p:cNvSpPr/>
              <p:nvPr/>
            </p:nvSpPr>
            <p:spPr>
              <a:xfrm rot="19090200">
                <a:off x="2674440" y="2310840"/>
                <a:ext cx="160200" cy="47160"/>
              </a:xfrm>
              <a:prstGeom prst="ellipse">
                <a:avLst/>
              </a:prstGeom>
              <a:gradFill rotWithShape="0">
                <a:gsLst>
                  <a:gs pos="0">
                    <a:srgbClr val="660066"/>
                  </a:gs>
                  <a:gs pos="50000">
                    <a:srgbClr val="c198c1"/>
                  </a:gs>
                  <a:gs pos="100000">
                    <a:srgbClr val="660066"/>
                  </a:gs>
                </a:gsLst>
                <a:lin ang="1330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rot="8122200">
                <a:off x="3166560" y="2125800"/>
                <a:ext cx="87480" cy="1350720"/>
              </a:xfrm>
              <a:prstGeom prst="can">
                <a:avLst>
                  <a:gd name="adj" fmla="val 2671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26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4521600" y="3572280"/>
              <a:ext cx="1479240" cy="150120"/>
              <a:chOff x="4521600" y="3572280"/>
              <a:chExt cx="1479240" cy="150120"/>
            </a:xfrm>
          </p:grpSpPr>
          <p:sp>
            <p:nvSpPr>
              <p:cNvPr id="1719" name=""/>
              <p:cNvSpPr/>
              <p:nvPr/>
            </p:nvSpPr>
            <p:spPr>
              <a:xfrm rot="5607000">
                <a:off x="5894640" y="3618720"/>
                <a:ext cx="139320" cy="64440"/>
              </a:xfrm>
              <a:prstGeom prst="ellipse">
                <a:avLst/>
              </a:prstGeom>
              <a:gradFill rotWithShape="0">
                <a:gsLst>
                  <a:gs pos="0">
                    <a:srgbClr val="003232"/>
                  </a:gs>
                  <a:gs pos="50000">
                    <a:srgbClr val="00ffff"/>
                  </a:gs>
                  <a:gs pos="100000">
                    <a:srgbClr val="003232"/>
                  </a:gs>
                </a:gsLst>
                <a:lin ang="51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 rot="16242000">
                <a:off x="5200560" y="2901240"/>
                <a:ext cx="101160" cy="1458360"/>
              </a:xfrm>
              <a:prstGeom prst="can">
                <a:avLst>
                  <a:gd name="adj" fmla="val 2671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54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1" name="" descr=""/>
            <p:cNvPicPr/>
            <p:nvPr/>
          </p:nvPicPr>
          <p:blipFill>
            <a:blip r:embed="rId3"/>
            <a:stretch/>
          </p:blipFill>
          <p:spPr>
            <a:xfrm>
              <a:off x="3352680" y="2801880"/>
              <a:ext cx="1654200" cy="16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2" name=""/>
            <p:cNvSpPr/>
            <p:nvPr/>
          </p:nvSpPr>
          <p:spPr>
            <a:xfrm>
              <a:off x="3352680" y="2801880"/>
              <a:ext cx="1643040" cy="1644840"/>
            </a:xfrm>
            <a:prstGeom prst="ellipse">
              <a:avLst/>
            </a:prstGeom>
            <a:gradFill rotWithShape="0">
              <a:gsLst>
                <a:gs pos="0">
                  <a:srgbClr val="424200">
                    <a:alpha val="90196"/>
                  </a:srgbClr>
                </a:gs>
                <a:gs pos="100000">
                  <a:srgbClr val="ffff00">
                    <a:alpha val="4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522600" y="2835360"/>
              <a:ext cx="1292400" cy="569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9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4" name=""/>
            <p:cNvGrpSpPr/>
            <p:nvPr/>
          </p:nvGrpSpPr>
          <p:grpSpPr>
            <a:xfrm>
              <a:off x="3467160" y="3944520"/>
              <a:ext cx="1456200" cy="579600"/>
              <a:chOff x="3467160" y="3944520"/>
              <a:chExt cx="1456200" cy="579600"/>
            </a:xfrm>
          </p:grpSpPr>
          <p:grpSp>
            <p:nvGrpSpPr>
              <p:cNvPr id="1725" name=""/>
              <p:cNvGrpSpPr/>
              <p:nvPr/>
            </p:nvGrpSpPr>
            <p:grpSpPr>
              <a:xfrm>
                <a:off x="3722400" y="3944520"/>
                <a:ext cx="1200960" cy="547920"/>
                <a:chOff x="3722400" y="3944520"/>
                <a:chExt cx="1200960" cy="547920"/>
              </a:xfrm>
            </p:grpSpPr>
            <p:sp>
              <p:nvSpPr>
                <p:cNvPr id="1726" name=""/>
                <p:cNvSpPr/>
                <p:nvPr/>
              </p:nvSpPr>
              <p:spPr>
                <a:xfrm flipH="1" flipV="1" rot="3964800">
                  <a:off x="4374720" y="3782520"/>
                  <a:ext cx="213480" cy="87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H="1" flipV="1" rot="4780200">
                  <a:off x="4239000" y="3836520"/>
                  <a:ext cx="21348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H="1" flipV="1" rot="5076000">
                  <a:off x="4156200" y="3846600"/>
                  <a:ext cx="213480" cy="87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flipH="1" flipV="1" rot="5608200">
                  <a:off x="4056840" y="3855960"/>
                  <a:ext cx="21348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0" name=""/>
              <p:cNvGrpSpPr/>
              <p:nvPr/>
            </p:nvGrpSpPr>
            <p:grpSpPr>
              <a:xfrm>
                <a:off x="3467160" y="3949920"/>
                <a:ext cx="1197720" cy="574200"/>
                <a:chOff x="3467160" y="3949920"/>
                <a:chExt cx="1197720" cy="574200"/>
              </a:xfrm>
            </p:grpSpPr>
            <p:sp>
              <p:nvSpPr>
                <p:cNvPr id="1731" name=""/>
                <p:cNvSpPr/>
                <p:nvPr/>
              </p:nvSpPr>
              <p:spPr>
                <a:xfrm flipH="1" flipV="1" rot="5317800">
                  <a:off x="4119120" y="3855600"/>
                  <a:ext cx="21456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flipH="1" flipV="1" rot="6133800">
                  <a:off x="3974400" y="3853080"/>
                  <a:ext cx="21420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H="1" flipV="1" rot="6429000">
                  <a:off x="3893760" y="3832200"/>
                  <a:ext cx="214560" cy="87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flipH="1" flipV="1" rot="6961200">
                  <a:off x="3798000" y="3800880"/>
                  <a:ext cx="214560" cy="87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5" name=""/>
            <p:cNvSpPr/>
            <p:nvPr/>
          </p:nvSpPr>
          <p:spPr>
            <a:xfrm>
              <a:off x="3848760" y="3392640"/>
              <a:ext cx="703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6" name=""/>
            <p:cNvGrpSpPr/>
            <p:nvPr/>
          </p:nvGrpSpPr>
          <p:grpSpPr>
            <a:xfrm>
              <a:off x="2500920" y="3888720"/>
              <a:ext cx="1259280" cy="1019520"/>
              <a:chOff x="2500920" y="3888720"/>
              <a:chExt cx="1259280" cy="1019520"/>
            </a:xfrm>
          </p:grpSpPr>
          <p:sp>
            <p:nvSpPr>
              <p:cNvPr id="1737" name=""/>
              <p:cNvSpPr/>
              <p:nvPr/>
            </p:nvSpPr>
            <p:spPr>
              <a:xfrm rot="3460800">
                <a:off x="3585960" y="3940200"/>
                <a:ext cx="17424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00"/>
                  </a:gs>
                  <a:gs pos="50000">
                    <a:srgbClr val="d5c198"/>
                  </a:gs>
                  <a:gs pos="100000">
                    <a:srgbClr val="996600"/>
                  </a:gs>
                </a:gsLst>
                <a:lin ang="733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H="1" rot="13956000">
                <a:off x="3058560" y="3692520"/>
                <a:ext cx="108000" cy="1459080"/>
              </a:xfrm>
              <a:prstGeom prst="can">
                <a:avLst>
                  <a:gd name="adj" fmla="val 2671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fefefe"/>
                  </a:gs>
                  <a:gs pos="100000">
                    <a:srgbClr val="808080"/>
                  </a:gs>
                </a:gsLst>
                <a:lin ang="315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 flipH="1" rot="5910600">
              <a:off x="1591200" y="4228200"/>
              <a:ext cx="1677600" cy="173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91" y="20943"/>
                  </a:moveTo>
                  <a:arcTo wR="10800" hR="10800" stAng="6605145" swAng="19472499"/>
                  <a:lnTo>
                    <a:pt x="10800" y="10800"/>
                  </a:lnTo>
                  <a:close/>
                </a:path>
                <a:path fill="none" w="21600" h="21600">
                  <a:moveTo>
                    <a:pt x="7091" y="20943"/>
                  </a:moveTo>
                  <a:arcTo wR="10800" hR="10800" stAng="6605145" swAng="19472499"/>
                </a:path>
              </a:pathLst>
            </a:custGeom>
            <a:noFill/>
            <a:ln w="19080">
              <a:solidFill>
                <a:srgbClr val="1c1c1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33520" y="4821120"/>
              <a:ext cx="12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spcBef>
                  <a:spcPts val="751"/>
                </a:spcBef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1" name="" descr=""/>
            <p:cNvPicPr/>
            <p:nvPr/>
          </p:nvPicPr>
          <p:blipFill>
            <a:blip r:embed="rId4"/>
            <a:stretch/>
          </p:blipFill>
          <p:spPr>
            <a:xfrm>
              <a:off x="1724040" y="4402080"/>
              <a:ext cx="143208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2" name=""/>
            <p:cNvSpPr/>
            <p:nvPr/>
          </p:nvSpPr>
          <p:spPr>
            <a:xfrm>
              <a:off x="1724040" y="4402080"/>
              <a:ext cx="1422360" cy="1422360"/>
            </a:xfrm>
            <a:prstGeom prst="ellipse">
              <a:avLst/>
            </a:prstGeom>
            <a:gradFill rotWithShape="0">
              <a:gsLst>
                <a:gs pos="0">
                  <a:srgbClr val="351a42">
                    <a:alpha val="90196"/>
                  </a:srgbClr>
                </a:gs>
                <a:gs pos="50000">
                  <a:srgbClr val="cc66ff">
                    <a:alpha val="45098"/>
                  </a:srgbClr>
                </a:gs>
                <a:gs pos="100000">
                  <a:srgbClr val="351a42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871640" y="4430880"/>
              <a:ext cx="1117800" cy="4935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2c2f0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4" name=""/>
            <p:cNvGrpSpPr/>
            <p:nvPr/>
          </p:nvGrpSpPr>
          <p:grpSpPr>
            <a:xfrm>
              <a:off x="1824840" y="5389200"/>
              <a:ext cx="1257840" cy="503280"/>
              <a:chOff x="1824840" y="5389200"/>
              <a:chExt cx="1257840" cy="503280"/>
            </a:xfrm>
          </p:grpSpPr>
          <p:grpSp>
            <p:nvGrpSpPr>
              <p:cNvPr id="1745" name=""/>
              <p:cNvGrpSpPr/>
              <p:nvPr/>
            </p:nvGrpSpPr>
            <p:grpSpPr>
              <a:xfrm>
                <a:off x="2044080" y="5389200"/>
                <a:ext cx="1038600" cy="474840"/>
                <a:chOff x="2044080" y="5389200"/>
                <a:chExt cx="1038600" cy="474840"/>
              </a:xfrm>
            </p:grpSpPr>
            <p:sp>
              <p:nvSpPr>
                <p:cNvPr id="1746" name=""/>
                <p:cNvSpPr/>
                <p:nvPr/>
              </p:nvSpPr>
              <p:spPr>
                <a:xfrm flipH="1" flipV="1" rot="3964800">
                  <a:off x="2608200" y="5248800"/>
                  <a:ext cx="184320" cy="754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flipH="1" flipV="1" rot="4780200">
                  <a:off x="2491200" y="5295600"/>
                  <a:ext cx="184320" cy="75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H="1" flipV="1" rot="5076000">
                  <a:off x="2419560" y="5305680"/>
                  <a:ext cx="184320" cy="75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 flipH="1" flipV="1" rot="5608200">
                  <a:off x="2333160" y="5313960"/>
                  <a:ext cx="184320" cy="75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1824840" y="5395320"/>
                <a:ext cx="1035360" cy="497160"/>
                <a:chOff x="1824840" y="5395320"/>
                <a:chExt cx="1035360" cy="497160"/>
              </a:xfrm>
            </p:grpSpPr>
            <p:sp>
              <p:nvSpPr>
                <p:cNvPr id="1751" name=""/>
                <p:cNvSpPr/>
                <p:nvPr/>
              </p:nvSpPr>
              <p:spPr>
                <a:xfrm flipH="1" flipV="1" rot="5317800">
                  <a:off x="2387880" y="5313600"/>
                  <a:ext cx="185400" cy="753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flipH="1" flipV="1" rot="6133800">
                  <a:off x="2263680" y="5311440"/>
                  <a:ext cx="185400" cy="75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H="1" flipV="1" rot="6429000">
                  <a:off x="2193840" y="5292720"/>
                  <a:ext cx="185400" cy="75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 flipH="1" flipV="1" rot="6961200">
                  <a:off x="2111040" y="5266440"/>
                  <a:ext cx="185400" cy="75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55" name=""/>
            <p:cNvSpPr/>
            <p:nvPr/>
          </p:nvSpPr>
          <p:spPr>
            <a:xfrm>
              <a:off x="2107800" y="4937040"/>
              <a:ext cx="6516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2003760" y="2216520"/>
              <a:ext cx="1036080" cy="415080"/>
              <a:chOff x="2003760" y="2216520"/>
              <a:chExt cx="1036080" cy="415080"/>
            </a:xfrm>
          </p:grpSpPr>
          <p:grpSp>
            <p:nvGrpSpPr>
              <p:cNvPr id="1757" name=""/>
              <p:cNvGrpSpPr/>
              <p:nvPr/>
            </p:nvGrpSpPr>
            <p:grpSpPr>
              <a:xfrm>
                <a:off x="2184840" y="2216520"/>
                <a:ext cx="855000" cy="390600"/>
                <a:chOff x="2184840" y="2216520"/>
                <a:chExt cx="855000" cy="390600"/>
              </a:xfrm>
            </p:grpSpPr>
            <p:sp>
              <p:nvSpPr>
                <p:cNvPr id="1758" name=""/>
                <p:cNvSpPr/>
                <p:nvPr/>
              </p:nvSpPr>
              <p:spPr>
                <a:xfrm flipH="1" flipV="1" rot="3964800">
                  <a:off x="2649240" y="2100960"/>
                  <a:ext cx="151560" cy="620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H="1" flipV="1" rot="4780200">
                  <a:off x="2553120" y="2139840"/>
                  <a:ext cx="151560" cy="620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 flipH="1" flipV="1" rot="5076000">
                  <a:off x="2494080" y="2146680"/>
                  <a:ext cx="151560" cy="621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flipH="1" flipV="1" rot="5608200">
                  <a:off x="2423160" y="2153880"/>
                  <a:ext cx="151560" cy="620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2" name=""/>
              <p:cNvGrpSpPr/>
              <p:nvPr/>
            </p:nvGrpSpPr>
            <p:grpSpPr>
              <a:xfrm>
                <a:off x="2003760" y="2221920"/>
                <a:ext cx="852840" cy="409680"/>
                <a:chOff x="2003760" y="2221920"/>
                <a:chExt cx="852840" cy="409680"/>
              </a:xfrm>
            </p:grpSpPr>
            <p:sp>
              <p:nvSpPr>
                <p:cNvPr id="1763" name=""/>
                <p:cNvSpPr/>
                <p:nvPr/>
              </p:nvSpPr>
              <p:spPr>
                <a:xfrm flipH="1" flipV="1" rot="5317800">
                  <a:off x="2468520" y="2154240"/>
                  <a:ext cx="152280" cy="619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flipH="1" flipV="1" rot="6133800">
                  <a:off x="2365200" y="2152080"/>
                  <a:ext cx="152280" cy="620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H="1" flipV="1" rot="6429000">
                  <a:off x="2307600" y="2137680"/>
                  <a:ext cx="152280" cy="620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 flipH="1" flipV="1" rot="6961200">
                  <a:off x="2239200" y="2116080"/>
                  <a:ext cx="152280" cy="621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67" name=""/>
            <p:cNvSpPr/>
            <p:nvPr/>
          </p:nvSpPr>
          <p:spPr>
            <a:xfrm>
              <a:off x="3497400" y="5153040"/>
              <a:ext cx="510516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0" name=""/>
          <p:cNvGrpSpPr/>
          <p:nvPr/>
        </p:nvGrpSpPr>
        <p:grpSpPr>
          <a:xfrm>
            <a:off x="1195560" y="1627200"/>
            <a:ext cx="6938640" cy="4211640"/>
            <a:chOff x="1195560" y="1627200"/>
            <a:chExt cx="6938640" cy="4211640"/>
          </a:xfrm>
        </p:grpSpPr>
        <p:sp>
          <p:nvSpPr>
            <p:cNvPr id="1771" name=""/>
            <p:cNvSpPr/>
            <p:nvPr/>
          </p:nvSpPr>
          <p:spPr>
            <a:xfrm>
              <a:off x="5448240" y="2895480"/>
              <a:ext cx="1965240" cy="2638440"/>
            </a:xfrm>
            <a:custGeom>
              <a:avLst/>
              <a:gdLst/>
              <a:ahLst/>
              <a:rect l="l" t="t" r="r" b="b"/>
              <a:pathLst>
                <a:path w="1238" h="1662">
                  <a:moveTo>
                    <a:pt x="1226" y="0"/>
                  </a:moveTo>
                  <a:lnTo>
                    <a:pt x="1238" y="1662"/>
                  </a:lnTo>
                  <a:lnTo>
                    <a:pt x="0" y="1662"/>
                  </a:lnTo>
                  <a:lnTo>
                    <a:pt x="4" y="41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343320" y="3151080"/>
              <a:ext cx="1981080" cy="2641680"/>
            </a:xfrm>
            <a:custGeom>
              <a:avLst/>
              <a:gdLst/>
              <a:ahLst/>
              <a:rect l="l" t="t" r="r" b="b"/>
              <a:pathLst>
                <a:path w="1248" h="1664">
                  <a:moveTo>
                    <a:pt x="1158" y="0"/>
                  </a:moveTo>
                  <a:lnTo>
                    <a:pt x="1248" y="288"/>
                  </a:lnTo>
                  <a:lnTo>
                    <a:pt x="1248" y="1645"/>
                  </a:lnTo>
                  <a:lnTo>
                    <a:pt x="0" y="1664"/>
                  </a:lnTo>
                  <a:lnTo>
                    <a:pt x="0" y="391"/>
                  </a:lnTo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219320" y="3382920"/>
              <a:ext cx="1981080" cy="1798560"/>
            </a:xfrm>
            <a:custGeom>
              <a:avLst/>
              <a:gdLst/>
              <a:ahLst/>
              <a:rect l="l" t="t" r="r" b="b"/>
              <a:pathLst>
                <a:path w="1248" h="1133">
                  <a:moveTo>
                    <a:pt x="1158" y="0"/>
                  </a:moveTo>
                  <a:lnTo>
                    <a:pt x="1248" y="256"/>
                  </a:lnTo>
                  <a:lnTo>
                    <a:pt x="1248" y="1133"/>
                  </a:lnTo>
                  <a:lnTo>
                    <a:pt x="0" y="1133"/>
                  </a:lnTo>
                  <a:lnTo>
                    <a:pt x="0" y="403"/>
                  </a:lnTo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27492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38632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470720" y="3035160"/>
              <a:ext cx="0" cy="280368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195560" y="2114640"/>
              <a:ext cx="6938640" cy="1692360"/>
            </a:xfrm>
            <a:custGeom>
              <a:avLst/>
              <a:gdLst/>
              <a:ahLst/>
              <a:rect l="l" t="t" r="r" b="b"/>
              <a:pathLst>
                <a:path w="4371" h="1066">
                  <a:moveTo>
                    <a:pt x="0" y="845"/>
                  </a:moveTo>
                  <a:lnTo>
                    <a:pt x="1523" y="313"/>
                  </a:lnTo>
                  <a:lnTo>
                    <a:pt x="1610" y="617"/>
                  </a:lnTo>
                  <a:lnTo>
                    <a:pt x="2720" y="243"/>
                  </a:lnTo>
                  <a:lnTo>
                    <a:pt x="2784" y="538"/>
                  </a:lnTo>
                  <a:lnTo>
                    <a:pt x="3882" y="266"/>
                  </a:lnTo>
                  <a:lnTo>
                    <a:pt x="3795" y="0"/>
                  </a:lnTo>
                  <a:lnTo>
                    <a:pt x="4371" y="269"/>
                  </a:lnTo>
                  <a:lnTo>
                    <a:pt x="3961" y="832"/>
                  </a:lnTo>
                  <a:lnTo>
                    <a:pt x="3912" y="542"/>
                  </a:lnTo>
                  <a:lnTo>
                    <a:pt x="2594" y="921"/>
                  </a:lnTo>
                  <a:lnTo>
                    <a:pt x="2509" y="620"/>
                  </a:lnTo>
                  <a:lnTo>
                    <a:pt x="1344" y="968"/>
                  </a:lnTo>
                  <a:lnTo>
                    <a:pt x="1280" y="666"/>
                  </a:lnTo>
                  <a:lnTo>
                    <a:pt x="67" y="1066"/>
                  </a:lnTo>
                  <a:lnTo>
                    <a:pt x="0" y="845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99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533920" y="5513400"/>
              <a:ext cx="1781280" cy="314280"/>
            </a:xfrm>
            <a:prstGeom prst="bevel">
              <a:avLst>
                <a:gd name="adj" fmla="val 5949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353960" y="4267080"/>
              <a:ext cx="1884600" cy="10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257560" y="1627200"/>
              <a:ext cx="50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448080" y="5513400"/>
              <a:ext cx="1781280" cy="314280"/>
            </a:xfrm>
            <a:prstGeom prst="bevel">
              <a:avLst>
                <a:gd name="adj" fmla="val 5949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295280" y="5513400"/>
              <a:ext cx="1781280" cy="314280"/>
            </a:xfrm>
            <a:prstGeom prst="bevel">
              <a:avLst>
                <a:gd name="adj" fmla="val 5949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324240" y="4294080"/>
              <a:ext cx="1884240" cy="10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457960" y="4280040"/>
              <a:ext cx="1884240" cy="10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buClr>
                  <a:srgbClr val="1f3f5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684360" y="1844640"/>
            <a:ext cx="8001000" cy="4084200"/>
            <a:chOff x="684360" y="1844640"/>
            <a:chExt cx="8001000" cy="4084200"/>
          </a:xfrm>
        </p:grpSpPr>
        <p:grpSp>
          <p:nvGrpSpPr>
            <p:cNvPr id="1788" name=""/>
            <p:cNvGrpSpPr/>
            <p:nvPr/>
          </p:nvGrpSpPr>
          <p:grpSpPr>
            <a:xfrm>
              <a:off x="4141800" y="2234880"/>
              <a:ext cx="771480" cy="687240"/>
              <a:chOff x="4141800" y="2234880"/>
              <a:chExt cx="771480" cy="687240"/>
            </a:xfrm>
          </p:grpSpPr>
          <p:sp>
            <p:nvSpPr>
              <p:cNvPr id="1789" name=""/>
              <p:cNvSpPr/>
              <p:nvPr/>
            </p:nvSpPr>
            <p:spPr>
              <a:xfrm>
                <a:off x="4141800" y="23529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4141800" y="2295720"/>
                <a:ext cx="771480" cy="57024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4141800" y="2234880"/>
                <a:ext cx="77148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4548240" y="1850760"/>
              <a:ext cx="2385720" cy="2094840"/>
              <a:chOff x="4548240" y="1850760"/>
              <a:chExt cx="2385720" cy="2094840"/>
            </a:xfrm>
          </p:grpSpPr>
          <p:sp>
            <p:nvSpPr>
              <p:cNvPr id="1793" name=""/>
              <p:cNvSpPr/>
              <p:nvPr/>
            </p:nvSpPr>
            <p:spPr>
              <a:xfrm>
                <a:off x="4548240" y="2193840"/>
                <a:ext cx="2369520" cy="1751760"/>
              </a:xfrm>
              <a:prstGeom prst="diamond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4549320" y="2008080"/>
                <a:ext cx="2369880" cy="1751760"/>
              </a:xfrm>
              <a:prstGeom prst="diamond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564440" y="1850760"/>
                <a:ext cx="2369520" cy="1751760"/>
              </a:xfrm>
              <a:prstGeom prst="diamond">
                <a:avLst/>
              </a:prstGeom>
              <a:gradFill rotWithShape="0">
                <a:gsLst>
                  <a:gs pos="0">
                    <a:srgbClr val="a865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6" name=""/>
            <p:cNvGrpSpPr/>
            <p:nvPr/>
          </p:nvGrpSpPr>
          <p:grpSpPr>
            <a:xfrm>
              <a:off x="2184480" y="1844640"/>
              <a:ext cx="2385720" cy="2082240"/>
              <a:chOff x="2184480" y="1844640"/>
              <a:chExt cx="2385720" cy="2082240"/>
            </a:xfrm>
          </p:grpSpPr>
          <p:sp>
            <p:nvSpPr>
              <p:cNvPr id="1797" name=""/>
              <p:cNvSpPr/>
              <p:nvPr/>
            </p:nvSpPr>
            <p:spPr>
              <a:xfrm>
                <a:off x="2184480" y="2174760"/>
                <a:ext cx="2369520" cy="1752120"/>
              </a:xfrm>
              <a:prstGeom prst="diamond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185560" y="2001600"/>
                <a:ext cx="2369880" cy="175212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200680" y="1844640"/>
                <a:ext cx="2369520" cy="1752120"/>
              </a:xfrm>
              <a:prstGeom prst="diamond">
                <a:avLst/>
              </a:prstGeom>
              <a:gradFill rotWithShape="0">
                <a:gsLst>
                  <a:gs pos="0">
                    <a:srgbClr val="383855"/>
                  </a:gs>
                  <a:gs pos="100000">
                    <a:srgbClr val="66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0" name=""/>
            <p:cNvSpPr/>
            <p:nvPr/>
          </p:nvSpPr>
          <p:spPr>
            <a:xfrm>
              <a:off x="2858400" y="25970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212800" y="25970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174200" y="37033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33880" y="2139840"/>
              <a:ext cx="480960" cy="4582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275640" y="2174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595840" y="2139840"/>
              <a:ext cx="482760" cy="458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642640" y="2177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7" name=""/>
            <p:cNvGrpSpPr/>
            <p:nvPr/>
          </p:nvGrpSpPr>
          <p:grpSpPr>
            <a:xfrm>
              <a:off x="5765760" y="3544560"/>
              <a:ext cx="771480" cy="688320"/>
              <a:chOff x="5765760" y="3544560"/>
              <a:chExt cx="771480" cy="688320"/>
            </a:xfrm>
          </p:grpSpPr>
          <p:sp>
            <p:nvSpPr>
              <p:cNvPr id="1808" name=""/>
              <p:cNvSpPr/>
              <p:nvPr/>
            </p:nvSpPr>
            <p:spPr>
              <a:xfrm>
                <a:off x="5765760" y="3662640"/>
                <a:ext cx="771480" cy="57024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765760" y="3605400"/>
                <a:ext cx="771480" cy="57132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765760" y="3544560"/>
                <a:ext cx="771480" cy="56988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6b6b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1" name=""/>
            <p:cNvGrpSpPr/>
            <p:nvPr/>
          </p:nvGrpSpPr>
          <p:grpSpPr>
            <a:xfrm>
              <a:off x="4548240" y="3839760"/>
              <a:ext cx="2385720" cy="2089080"/>
              <a:chOff x="4548240" y="3839760"/>
              <a:chExt cx="2385720" cy="2089080"/>
            </a:xfrm>
          </p:grpSpPr>
          <p:sp>
            <p:nvSpPr>
              <p:cNvPr id="1812" name=""/>
              <p:cNvSpPr/>
              <p:nvPr/>
            </p:nvSpPr>
            <p:spPr>
              <a:xfrm>
                <a:off x="4548240" y="41756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549320" y="4006440"/>
                <a:ext cx="236952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564440" y="38397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6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5" name=""/>
            <p:cNvSpPr/>
            <p:nvPr/>
          </p:nvSpPr>
          <p:spPr>
            <a:xfrm>
              <a:off x="5219280" y="46731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583240" y="4195440"/>
              <a:ext cx="480960" cy="45864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637960" y="4235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8" name=""/>
            <p:cNvGrpSpPr/>
            <p:nvPr/>
          </p:nvGrpSpPr>
          <p:grpSpPr>
            <a:xfrm>
              <a:off x="2608200" y="3592080"/>
              <a:ext cx="771480" cy="687240"/>
              <a:chOff x="2608200" y="3592080"/>
              <a:chExt cx="771480" cy="687240"/>
            </a:xfrm>
          </p:grpSpPr>
          <p:sp>
            <p:nvSpPr>
              <p:cNvPr id="1819" name=""/>
              <p:cNvSpPr/>
              <p:nvPr/>
            </p:nvSpPr>
            <p:spPr>
              <a:xfrm>
                <a:off x="2608200" y="37101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608200" y="3652920"/>
                <a:ext cx="771480" cy="57024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608200" y="3592080"/>
                <a:ext cx="77148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2" name=""/>
            <p:cNvGrpSpPr/>
            <p:nvPr/>
          </p:nvGrpSpPr>
          <p:grpSpPr>
            <a:xfrm>
              <a:off x="2182680" y="3836880"/>
              <a:ext cx="2385720" cy="2080440"/>
              <a:chOff x="2182680" y="3836880"/>
              <a:chExt cx="2385720" cy="2080440"/>
            </a:xfrm>
          </p:grpSpPr>
          <p:sp>
            <p:nvSpPr>
              <p:cNvPr id="1823" name=""/>
              <p:cNvSpPr/>
              <p:nvPr/>
            </p:nvSpPr>
            <p:spPr>
              <a:xfrm>
                <a:off x="2182680" y="4164480"/>
                <a:ext cx="2369520" cy="175284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183760" y="3993840"/>
                <a:ext cx="2369520" cy="175284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2198520" y="3836880"/>
                <a:ext cx="2369880" cy="1752840"/>
              </a:xfrm>
              <a:prstGeom prst="diamond">
                <a:avLst/>
              </a:prstGeom>
              <a:gradFill rotWithShape="0">
                <a:gsLst>
                  <a:gs pos="0">
                    <a:srgbClr val="009a4d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6" name=""/>
            <p:cNvSpPr/>
            <p:nvPr/>
          </p:nvSpPr>
          <p:spPr>
            <a:xfrm>
              <a:off x="2866680" y="46731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233880" y="4195440"/>
              <a:ext cx="480960" cy="45864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280320" y="423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9" name=""/>
            <p:cNvGrpSpPr/>
            <p:nvPr/>
          </p:nvGrpSpPr>
          <p:grpSpPr>
            <a:xfrm>
              <a:off x="4141800" y="4944960"/>
              <a:ext cx="771480" cy="687960"/>
              <a:chOff x="4141800" y="4944960"/>
              <a:chExt cx="771480" cy="687960"/>
            </a:xfrm>
          </p:grpSpPr>
          <p:sp>
            <p:nvSpPr>
              <p:cNvPr id="1830" name=""/>
              <p:cNvSpPr/>
              <p:nvPr/>
            </p:nvSpPr>
            <p:spPr>
              <a:xfrm>
                <a:off x="4141800" y="5063040"/>
                <a:ext cx="771480" cy="56988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141800" y="5005800"/>
                <a:ext cx="771480" cy="57096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141800" y="4944960"/>
                <a:ext cx="771480" cy="56952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aaaa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>
              <a:off x="6586560" y="209988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657840" y="415584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84360" y="20728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93720" y="422712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609480" y="1905120"/>
            <a:ext cx="7797960" cy="3865320"/>
            <a:chOff x="609480" y="1905120"/>
            <a:chExt cx="7797960" cy="3865320"/>
          </a:xfrm>
        </p:grpSpPr>
        <p:sp>
          <p:nvSpPr>
            <p:cNvPr id="1840" name=""/>
            <p:cNvSpPr/>
            <p:nvPr/>
          </p:nvSpPr>
          <p:spPr>
            <a:xfrm>
              <a:off x="3029040" y="2244600"/>
              <a:ext cx="3063960" cy="303228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09480" y="1905120"/>
              <a:ext cx="2163960" cy="38653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9360">
              <a:solidFill>
                <a:srgbClr val="5f5f5f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2" name=""/>
            <p:cNvGrpSpPr/>
            <p:nvPr/>
          </p:nvGrpSpPr>
          <p:grpSpPr>
            <a:xfrm>
              <a:off x="905040" y="2642760"/>
              <a:ext cx="1773000" cy="2409840"/>
              <a:chOff x="905040" y="2642760"/>
              <a:chExt cx="1773000" cy="2409840"/>
            </a:xfrm>
          </p:grpSpPr>
          <p:sp>
            <p:nvSpPr>
              <p:cNvPr id="1843" name=""/>
              <p:cNvSpPr/>
              <p:nvPr/>
            </p:nvSpPr>
            <p:spPr>
              <a:xfrm flipV="1">
                <a:off x="905040" y="2642400"/>
                <a:ext cx="1773000" cy="1014120"/>
              </a:xfrm>
              <a:custGeom>
                <a:avLst/>
                <a:gdLst/>
                <a:ahLst/>
                <a:rect l="l" t="t" r="r" b="b"/>
                <a:pathLst>
                  <a:path w="1210" h="97">
                    <a:moveTo>
                      <a:pt x="1113" y="97"/>
                    </a:moveTo>
                    <a:lnTo>
                      <a:pt x="1210" y="0"/>
                    </a:lnTo>
                    <a:lnTo>
                      <a:pt x="97" y="0"/>
                    </a:lnTo>
                    <a:lnTo>
                      <a:pt x="0" y="97"/>
                    </a:lnTo>
                    <a:lnTo>
                      <a:pt x="1113" y="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868686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909000" y="4038840"/>
                <a:ext cx="1769040" cy="1013760"/>
              </a:xfrm>
              <a:custGeom>
                <a:avLst/>
                <a:gdLst/>
                <a:ahLst/>
                <a:rect l="l" t="t" r="r" b="b"/>
                <a:pathLst>
                  <a:path w="1210" h="97">
                    <a:moveTo>
                      <a:pt x="1113" y="97"/>
                    </a:moveTo>
                    <a:lnTo>
                      <a:pt x="1210" y="0"/>
                    </a:lnTo>
                    <a:lnTo>
                      <a:pt x="97" y="0"/>
                    </a:lnTo>
                    <a:lnTo>
                      <a:pt x="0" y="97"/>
                    </a:lnTo>
                    <a:lnTo>
                      <a:pt x="1113" y="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848484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5" name=""/>
            <p:cNvSpPr/>
            <p:nvPr/>
          </p:nvSpPr>
          <p:spPr>
            <a:xfrm>
              <a:off x="609480" y="3432240"/>
              <a:ext cx="2719440" cy="812880"/>
            </a:xfrm>
            <a:prstGeom prst="rightArrow">
              <a:avLst>
                <a:gd name="adj1" fmla="val 54000"/>
                <a:gd name="adj2" fmla="val 68612"/>
              </a:avLst>
            </a:prstGeom>
            <a:gradFill rotWithShape="0">
              <a:gsLst>
                <a:gs pos="0">
                  <a:srgbClr val="e5c037"/>
                </a:gs>
                <a:gs pos="100000">
                  <a:srgbClr val="69581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704880" y="2637000"/>
              <a:ext cx="1828800" cy="2447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8c8c8"/>
                </a:gs>
                <a:gs pos="100000">
                  <a:srgbClr val="80808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230880" y="1905120"/>
              <a:ext cx="2162160" cy="3865320"/>
            </a:xfrm>
            <a:prstGeom prst="rect">
              <a:avLst/>
            </a:prstGeom>
            <a:solidFill>
              <a:srgbClr val="f8f8f8">
                <a:alpha val="10000"/>
              </a:srgbClr>
            </a:solidFill>
            <a:ln w="9360">
              <a:solidFill>
                <a:srgbClr val="5f5f5f">
                  <a:alpha val="9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8" name=""/>
            <p:cNvGrpSpPr/>
            <p:nvPr/>
          </p:nvGrpSpPr>
          <p:grpSpPr>
            <a:xfrm>
              <a:off x="6357600" y="2647440"/>
              <a:ext cx="1819080" cy="2401920"/>
              <a:chOff x="6357600" y="2647440"/>
              <a:chExt cx="1819080" cy="2401920"/>
            </a:xfrm>
          </p:grpSpPr>
          <p:sp>
            <p:nvSpPr>
              <p:cNvPr id="1849" name=""/>
              <p:cNvSpPr/>
              <p:nvPr/>
            </p:nvSpPr>
            <p:spPr>
              <a:xfrm flipH="1" flipV="1">
                <a:off x="6357240" y="2647080"/>
                <a:ext cx="1819080" cy="1011240"/>
              </a:xfrm>
              <a:custGeom>
                <a:avLst/>
                <a:gdLst/>
                <a:ahLst/>
                <a:rect l="l" t="t" r="r" b="b"/>
                <a:pathLst>
                  <a:path w="1210" h="97">
                    <a:moveTo>
                      <a:pt x="1113" y="97"/>
                    </a:moveTo>
                    <a:lnTo>
                      <a:pt x="1210" y="0"/>
                    </a:lnTo>
                    <a:lnTo>
                      <a:pt x="97" y="0"/>
                    </a:lnTo>
                    <a:lnTo>
                      <a:pt x="0" y="97"/>
                    </a:lnTo>
                    <a:lnTo>
                      <a:pt x="1113" y="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38383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>
                <a:off x="6357960" y="4038120"/>
                <a:ext cx="1798560" cy="1011240"/>
              </a:xfrm>
              <a:custGeom>
                <a:avLst/>
                <a:gdLst/>
                <a:ahLst/>
                <a:rect l="l" t="t" r="r" b="b"/>
                <a:pathLst>
                  <a:path w="1210" h="97">
                    <a:moveTo>
                      <a:pt x="1113" y="97"/>
                    </a:moveTo>
                    <a:lnTo>
                      <a:pt x="1210" y="0"/>
                    </a:lnTo>
                    <a:lnTo>
                      <a:pt x="97" y="0"/>
                    </a:lnTo>
                    <a:lnTo>
                      <a:pt x="0" y="97"/>
                    </a:lnTo>
                    <a:lnTo>
                      <a:pt x="1113" y="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38383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 flipH="1">
              <a:off x="5734080" y="3452760"/>
              <a:ext cx="2673360" cy="717480"/>
            </a:xfrm>
            <a:prstGeom prst="rightArrow">
              <a:avLst>
                <a:gd name="adj1" fmla="val 62213"/>
                <a:gd name="adj2" fmla="val 69432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817560" y="1905120"/>
              <a:ext cx="16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504120" y="19051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74640" y="2967120"/>
              <a:ext cx="1841400" cy="19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751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buClr>
                  <a:srgbClr val="0099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buClr>
                  <a:srgbClr val="0099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496200" y="2646360"/>
              <a:ext cx="1828800" cy="2448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d3d3d3"/>
                </a:gs>
                <a:gs pos="100000">
                  <a:srgbClr val="80808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473880" y="2928960"/>
              <a:ext cx="1881000" cy="19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spcBef>
                  <a:spcPts val="751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buClr>
                  <a:srgbClr val="0099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-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buClr>
                  <a:srgbClr val="0099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60000"/>
                </a:lnSpc>
                <a:spcBef>
                  <a:spcPts val="751"/>
                </a:spcBef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3124080" y="2362320"/>
              <a:ext cx="2819160" cy="2818440"/>
              <a:chOff x="3124080" y="2362320"/>
              <a:chExt cx="2819160" cy="2818440"/>
            </a:xfrm>
          </p:grpSpPr>
          <p:grpSp>
            <p:nvGrpSpPr>
              <p:cNvPr id="1858" name=""/>
              <p:cNvGrpSpPr/>
              <p:nvPr/>
            </p:nvGrpSpPr>
            <p:grpSpPr>
              <a:xfrm>
                <a:off x="3959640" y="2362320"/>
                <a:ext cx="1147680" cy="938160"/>
                <a:chOff x="3959640" y="2362320"/>
                <a:chExt cx="1147680" cy="938160"/>
              </a:xfrm>
            </p:grpSpPr>
            <p:grpSp>
              <p:nvGrpSpPr>
                <p:cNvPr id="1859" name=""/>
                <p:cNvGrpSpPr/>
                <p:nvPr/>
              </p:nvGrpSpPr>
              <p:grpSpPr>
                <a:xfrm>
                  <a:off x="3959640" y="2362320"/>
                  <a:ext cx="1147680" cy="938160"/>
                  <a:chOff x="3959640" y="2362320"/>
                  <a:chExt cx="1147680" cy="938160"/>
                </a:xfrm>
              </p:grpSpPr>
              <p:sp>
                <p:nvSpPr>
                  <p:cNvPr id="1860" name=""/>
                  <p:cNvSpPr/>
                  <p:nvPr/>
                </p:nvSpPr>
                <p:spPr>
                  <a:xfrm>
                    <a:off x="3969000" y="2378160"/>
                    <a:ext cx="1138320" cy="922320"/>
                  </a:xfrm>
                  <a:prstGeom prst="hexagon">
                    <a:avLst>
                      <a:gd name="adj" fmla="val 30855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3959640" y="2362320"/>
                    <a:ext cx="1138320" cy="922320"/>
                  </a:xfrm>
                  <a:prstGeom prst="hexagon">
                    <a:avLst>
                      <a:gd name="adj" fmla="val 30855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>
                    <a:off x="4026240" y="2417760"/>
                    <a:ext cx="1000440" cy="811440"/>
                  </a:xfrm>
                  <a:prstGeom prst="hexagon">
                    <a:avLst>
                      <a:gd name="adj" fmla="val 3082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2614aa"/>
                      </a:gs>
                      <a:gs pos="100000">
                        <a:srgbClr val="7262ec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63" name=""/>
                <p:cNvSpPr/>
                <p:nvPr/>
              </p:nvSpPr>
              <p:spPr>
                <a:xfrm>
                  <a:off x="4207320" y="262548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4" name=""/>
              <p:cNvGrpSpPr/>
              <p:nvPr/>
            </p:nvGrpSpPr>
            <p:grpSpPr>
              <a:xfrm>
                <a:off x="3124080" y="2829960"/>
                <a:ext cx="1148040" cy="938160"/>
                <a:chOff x="3124080" y="2829960"/>
                <a:chExt cx="1148040" cy="938160"/>
              </a:xfrm>
            </p:grpSpPr>
            <p:grpSp>
              <p:nvGrpSpPr>
                <p:cNvPr id="1865" name=""/>
                <p:cNvGrpSpPr/>
                <p:nvPr/>
              </p:nvGrpSpPr>
              <p:grpSpPr>
                <a:xfrm>
                  <a:off x="3124080" y="2829960"/>
                  <a:ext cx="1148040" cy="938160"/>
                  <a:chOff x="3124080" y="2829960"/>
                  <a:chExt cx="1148040" cy="938160"/>
                </a:xfrm>
              </p:grpSpPr>
              <p:sp>
                <p:nvSpPr>
                  <p:cNvPr id="1866" name=""/>
                  <p:cNvSpPr/>
                  <p:nvPr/>
                </p:nvSpPr>
                <p:spPr>
                  <a:xfrm>
                    <a:off x="3133440" y="2845800"/>
                    <a:ext cx="1138680" cy="922320"/>
                  </a:xfrm>
                  <a:prstGeom prst="hexagon">
                    <a:avLst>
                      <a:gd name="adj" fmla="val 30865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3124080" y="2829960"/>
                    <a:ext cx="1138680" cy="922320"/>
                  </a:xfrm>
                  <a:prstGeom prst="hexagon">
                    <a:avLst>
                      <a:gd name="adj" fmla="val 30865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3190680" y="2885400"/>
                    <a:ext cx="1000800" cy="811440"/>
                  </a:xfrm>
                  <a:prstGeom prst="hexagon">
                    <a:avLst>
                      <a:gd name="adj" fmla="val 3083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115d16"/>
                      </a:gs>
                      <a:gs pos="100000">
                        <a:srgbClr val="24b443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69" name=""/>
                <p:cNvSpPr/>
                <p:nvPr/>
              </p:nvSpPr>
              <p:spPr>
                <a:xfrm>
                  <a:off x="3378960" y="30873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0" name=""/>
              <p:cNvGrpSpPr/>
              <p:nvPr/>
            </p:nvGrpSpPr>
            <p:grpSpPr>
              <a:xfrm>
                <a:off x="3959640" y="3300840"/>
                <a:ext cx="1148040" cy="938160"/>
                <a:chOff x="3959640" y="3300840"/>
                <a:chExt cx="1148040" cy="938160"/>
              </a:xfrm>
            </p:grpSpPr>
            <p:grpSp>
              <p:nvGrpSpPr>
                <p:cNvPr id="1871" name=""/>
                <p:cNvGrpSpPr/>
                <p:nvPr/>
              </p:nvGrpSpPr>
              <p:grpSpPr>
                <a:xfrm>
                  <a:off x="3959640" y="3300840"/>
                  <a:ext cx="1148040" cy="938160"/>
                  <a:chOff x="3959640" y="3300840"/>
                  <a:chExt cx="1148040" cy="938160"/>
                </a:xfrm>
              </p:grpSpPr>
              <p:sp>
                <p:nvSpPr>
                  <p:cNvPr id="1872" name=""/>
                  <p:cNvSpPr/>
                  <p:nvPr/>
                </p:nvSpPr>
                <p:spPr>
                  <a:xfrm>
                    <a:off x="3969360" y="3316680"/>
                    <a:ext cx="1138320" cy="922320"/>
                  </a:xfrm>
                  <a:prstGeom prst="hexagon">
                    <a:avLst>
                      <a:gd name="adj" fmla="val 30855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>
                    <a:off x="3959640" y="3300840"/>
                    <a:ext cx="1138320" cy="922320"/>
                  </a:xfrm>
                  <a:prstGeom prst="hexagon">
                    <a:avLst>
                      <a:gd name="adj" fmla="val 30855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>
                    <a:off x="4026240" y="3356280"/>
                    <a:ext cx="1000440" cy="811440"/>
                  </a:xfrm>
                  <a:prstGeom prst="hexagon">
                    <a:avLst>
                      <a:gd name="adj" fmla="val 3082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844820"/>
                      </a:gs>
                      <a:gs pos="100000">
                        <a:srgbClr val="cc7032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75" name=""/>
                <p:cNvSpPr/>
                <p:nvPr/>
              </p:nvSpPr>
              <p:spPr>
                <a:xfrm>
                  <a:off x="4188240" y="356904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6" name=""/>
              <p:cNvGrpSpPr/>
              <p:nvPr/>
            </p:nvGrpSpPr>
            <p:grpSpPr>
              <a:xfrm>
                <a:off x="4794840" y="2829960"/>
                <a:ext cx="1148040" cy="938160"/>
                <a:chOff x="4794840" y="2829960"/>
                <a:chExt cx="1148040" cy="938160"/>
              </a:xfrm>
            </p:grpSpPr>
            <p:grpSp>
              <p:nvGrpSpPr>
                <p:cNvPr id="1877" name=""/>
                <p:cNvGrpSpPr/>
                <p:nvPr/>
              </p:nvGrpSpPr>
              <p:grpSpPr>
                <a:xfrm>
                  <a:off x="4794840" y="2829960"/>
                  <a:ext cx="1148040" cy="938160"/>
                  <a:chOff x="4794840" y="2829960"/>
                  <a:chExt cx="1148040" cy="938160"/>
                </a:xfrm>
              </p:grpSpPr>
              <p:sp>
                <p:nvSpPr>
                  <p:cNvPr id="1878" name=""/>
                  <p:cNvSpPr/>
                  <p:nvPr/>
                </p:nvSpPr>
                <p:spPr>
                  <a:xfrm>
                    <a:off x="4804200" y="2845800"/>
                    <a:ext cx="1138680" cy="922320"/>
                  </a:xfrm>
                  <a:prstGeom prst="hexagon">
                    <a:avLst>
                      <a:gd name="adj" fmla="val 30865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>
                    <a:off x="4794840" y="2829960"/>
                    <a:ext cx="1138680" cy="922320"/>
                  </a:xfrm>
                  <a:prstGeom prst="hexagon">
                    <a:avLst>
                      <a:gd name="adj" fmla="val 30865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>
                    <a:off x="4861440" y="2885400"/>
                    <a:ext cx="1000800" cy="811440"/>
                  </a:xfrm>
                  <a:prstGeom prst="hexagon">
                    <a:avLst>
                      <a:gd name="adj" fmla="val 3083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85b9c3"/>
                      </a:gs>
                      <a:gs pos="100000">
                        <a:srgbClr val="3d5559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1" name=""/>
                <p:cNvSpPr/>
                <p:nvPr/>
              </p:nvSpPr>
              <p:spPr>
                <a:xfrm>
                  <a:off x="5049720" y="30999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2" name=""/>
              <p:cNvGrpSpPr/>
              <p:nvPr/>
            </p:nvGrpSpPr>
            <p:grpSpPr>
              <a:xfrm>
                <a:off x="4794840" y="3771720"/>
                <a:ext cx="1148400" cy="938160"/>
                <a:chOff x="4794840" y="3771720"/>
                <a:chExt cx="1148400" cy="938160"/>
              </a:xfrm>
            </p:grpSpPr>
            <p:grpSp>
              <p:nvGrpSpPr>
                <p:cNvPr id="1883" name=""/>
                <p:cNvGrpSpPr/>
                <p:nvPr/>
              </p:nvGrpSpPr>
              <p:grpSpPr>
                <a:xfrm>
                  <a:off x="4794840" y="3771720"/>
                  <a:ext cx="1148400" cy="938160"/>
                  <a:chOff x="4794840" y="3771720"/>
                  <a:chExt cx="1148400" cy="938160"/>
                </a:xfrm>
              </p:grpSpPr>
              <p:sp>
                <p:nvSpPr>
                  <p:cNvPr id="1884" name=""/>
                  <p:cNvSpPr/>
                  <p:nvPr/>
                </p:nvSpPr>
                <p:spPr>
                  <a:xfrm>
                    <a:off x="4804560" y="3787560"/>
                    <a:ext cx="1138680" cy="922320"/>
                  </a:xfrm>
                  <a:prstGeom prst="hexagon">
                    <a:avLst>
                      <a:gd name="adj" fmla="val 30865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4794840" y="3771720"/>
                    <a:ext cx="1138680" cy="922320"/>
                  </a:xfrm>
                  <a:prstGeom prst="hexagon">
                    <a:avLst>
                      <a:gd name="adj" fmla="val 30865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>
                    <a:off x="4861440" y="3827160"/>
                    <a:ext cx="1000800" cy="811440"/>
                  </a:xfrm>
                  <a:prstGeom prst="hexagon">
                    <a:avLst>
                      <a:gd name="adj" fmla="val 3083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4dc9b1"/>
                      </a:gs>
                      <a:gs pos="100000">
                        <a:srgbClr val="235c51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7" name=""/>
                <p:cNvSpPr/>
                <p:nvPr/>
              </p:nvSpPr>
              <p:spPr>
                <a:xfrm>
                  <a:off x="5064840" y="407304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8" name=""/>
              <p:cNvGrpSpPr/>
              <p:nvPr/>
            </p:nvGrpSpPr>
            <p:grpSpPr>
              <a:xfrm>
                <a:off x="3124080" y="3771720"/>
                <a:ext cx="1148400" cy="938160"/>
                <a:chOff x="3124080" y="3771720"/>
                <a:chExt cx="1148400" cy="938160"/>
              </a:xfrm>
            </p:grpSpPr>
            <p:grpSp>
              <p:nvGrpSpPr>
                <p:cNvPr id="1889" name=""/>
                <p:cNvGrpSpPr/>
                <p:nvPr/>
              </p:nvGrpSpPr>
              <p:grpSpPr>
                <a:xfrm>
                  <a:off x="3124080" y="3771720"/>
                  <a:ext cx="1148400" cy="938160"/>
                  <a:chOff x="3124080" y="3771720"/>
                  <a:chExt cx="1148400" cy="938160"/>
                </a:xfrm>
              </p:grpSpPr>
              <p:sp>
                <p:nvSpPr>
                  <p:cNvPr id="1890" name=""/>
                  <p:cNvSpPr/>
                  <p:nvPr/>
                </p:nvSpPr>
                <p:spPr>
                  <a:xfrm>
                    <a:off x="3133800" y="3787560"/>
                    <a:ext cx="1138680" cy="922320"/>
                  </a:xfrm>
                  <a:prstGeom prst="hexagon">
                    <a:avLst>
                      <a:gd name="adj" fmla="val 30865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>
                    <a:off x="3124080" y="3771720"/>
                    <a:ext cx="1138680" cy="922320"/>
                  </a:xfrm>
                  <a:prstGeom prst="hexagon">
                    <a:avLst>
                      <a:gd name="adj" fmla="val 30865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3190680" y="3827160"/>
                    <a:ext cx="1000800" cy="811440"/>
                  </a:xfrm>
                  <a:prstGeom prst="hexagon">
                    <a:avLst>
                      <a:gd name="adj" fmla="val 30834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0066cc"/>
                      </a:gs>
                      <a:gs pos="100000">
                        <a:srgbClr val="002f5e"/>
                      </a:gs>
                    </a:gsLst>
                    <a:lin ang="54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3" name=""/>
                <p:cNvSpPr/>
                <p:nvPr/>
              </p:nvSpPr>
              <p:spPr>
                <a:xfrm>
                  <a:off x="3378960" y="40269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4" name=""/>
              <p:cNvGrpSpPr/>
              <p:nvPr/>
            </p:nvGrpSpPr>
            <p:grpSpPr>
              <a:xfrm>
                <a:off x="3959640" y="4242600"/>
                <a:ext cx="1148040" cy="938160"/>
                <a:chOff x="3959640" y="4242600"/>
                <a:chExt cx="1148040" cy="938160"/>
              </a:xfrm>
            </p:grpSpPr>
            <p:grpSp>
              <p:nvGrpSpPr>
                <p:cNvPr id="1895" name=""/>
                <p:cNvGrpSpPr/>
                <p:nvPr/>
              </p:nvGrpSpPr>
              <p:grpSpPr>
                <a:xfrm>
                  <a:off x="3959640" y="4242600"/>
                  <a:ext cx="1148040" cy="938160"/>
                  <a:chOff x="3959640" y="4242600"/>
                  <a:chExt cx="1148040" cy="938160"/>
                </a:xfrm>
              </p:grpSpPr>
              <p:sp>
                <p:nvSpPr>
                  <p:cNvPr id="1896" name=""/>
                  <p:cNvSpPr/>
                  <p:nvPr/>
                </p:nvSpPr>
                <p:spPr>
                  <a:xfrm>
                    <a:off x="3969360" y="4258440"/>
                    <a:ext cx="1138320" cy="922320"/>
                  </a:xfrm>
                  <a:prstGeom prst="hexagon">
                    <a:avLst>
                      <a:gd name="adj" fmla="val 30855"/>
                      <a:gd name="vf" fmla="val 115470"/>
                    </a:avLst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>
                    <a:off x="3959640" y="4242600"/>
                    <a:ext cx="1138320" cy="922320"/>
                  </a:xfrm>
                  <a:prstGeom prst="hexagon">
                    <a:avLst>
                      <a:gd name="adj" fmla="val 30855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e6e6e6"/>
                      </a:gs>
                      <a:gs pos="50000">
                        <a:srgbClr val="ffffff"/>
                      </a:gs>
                      <a:gs pos="100000">
                        <a:srgbClr val="e6e6e6"/>
                      </a:gs>
                    </a:gsLst>
                    <a:lin ang="13500000"/>
                  </a:gradFill>
                  <a:ln w="93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"/>
                  <p:cNvSpPr/>
                  <p:nvPr/>
                </p:nvSpPr>
                <p:spPr>
                  <a:xfrm>
                    <a:off x="4026240" y="4298040"/>
                    <a:ext cx="1000440" cy="811440"/>
                  </a:xfrm>
                  <a:prstGeom prst="hexagon">
                    <a:avLst>
                      <a:gd name="adj" fmla="val 30823"/>
                      <a:gd name="vf" fmla="val 115470"/>
                    </a:avLst>
                  </a:prstGeom>
                  <a:gradFill rotWithShape="0">
                    <a:gsLst>
                      <a:gs pos="0">
                        <a:srgbClr val="bfaa4f"/>
                      </a:gs>
                      <a:gs pos="100000">
                        <a:srgbClr val="584e24"/>
                      </a:gs>
                    </a:gsLst>
                    <a:lin ang="13500000"/>
                  </a:gra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9" name=""/>
                <p:cNvSpPr/>
                <p:nvPr/>
              </p:nvSpPr>
              <p:spPr>
                <a:xfrm>
                  <a:off x="4210560" y="451260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755280" y="1628640"/>
            <a:ext cx="7253280" cy="4680000"/>
            <a:chOff x="755280" y="1628640"/>
            <a:chExt cx="7253280" cy="4680000"/>
          </a:xfrm>
        </p:grpSpPr>
        <p:sp>
          <p:nvSpPr>
            <p:cNvPr id="1903" name=""/>
            <p:cNvSpPr/>
            <p:nvPr/>
          </p:nvSpPr>
          <p:spPr>
            <a:xfrm flipH="1" rot="8100000">
              <a:off x="2202840" y="2848320"/>
              <a:ext cx="1233720" cy="98640"/>
            </a:xfrm>
            <a:prstGeom prst="leftRightArrow">
              <a:avLst>
                <a:gd name="adj1" fmla="val 19759"/>
                <a:gd name="adj2" fmla="val 176376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548080" y="3960720"/>
              <a:ext cx="3670200" cy="428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bbe0e3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rot="13500000">
              <a:off x="5264640" y="2848320"/>
              <a:ext cx="1233360" cy="98640"/>
            </a:xfrm>
            <a:prstGeom prst="leftRightArrow">
              <a:avLst>
                <a:gd name="adj1" fmla="val 19759"/>
                <a:gd name="adj2" fmla="val 176324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 flipV="1" rot="13500000">
              <a:off x="2318040" y="5007240"/>
              <a:ext cx="1233720" cy="98280"/>
            </a:xfrm>
            <a:prstGeom prst="leftRightArrow">
              <a:avLst>
                <a:gd name="adj1" fmla="val 19759"/>
                <a:gd name="adj2" fmla="val 177022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 rot="8100000">
              <a:off x="5251680" y="5007240"/>
              <a:ext cx="1233720" cy="98280"/>
            </a:xfrm>
            <a:prstGeom prst="leftRightArrow">
              <a:avLst>
                <a:gd name="adj1" fmla="val 19759"/>
                <a:gd name="adj2" fmla="val 177022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rot="5400000">
              <a:off x="6575760" y="3072600"/>
              <a:ext cx="1073160" cy="1792440"/>
            </a:xfrm>
            <a:prstGeom prst="cube">
              <a:avLst>
                <a:gd name="adj" fmla="val 957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 rot="5400000">
              <a:off x="1114920" y="3072600"/>
              <a:ext cx="1073160" cy="1792440"/>
            </a:xfrm>
            <a:prstGeom prst="cube">
              <a:avLst>
                <a:gd name="adj" fmla="val 957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 rot="5400000">
              <a:off x="2584440" y="3961440"/>
              <a:ext cx="3670560" cy="428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bbe0e3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rot="5400000">
              <a:off x="3870720" y="1268640"/>
              <a:ext cx="1073160" cy="1792440"/>
            </a:xfrm>
            <a:prstGeom prst="cube">
              <a:avLst>
                <a:gd name="adj" fmla="val 957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rot="5400000">
              <a:off x="3870720" y="3034440"/>
              <a:ext cx="1073160" cy="1792440"/>
            </a:xfrm>
            <a:prstGeom prst="cube">
              <a:avLst>
                <a:gd name="adj" fmla="val 957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 rot="5400000">
              <a:off x="3883680" y="4875840"/>
              <a:ext cx="1073160" cy="1792080"/>
            </a:xfrm>
            <a:prstGeom prst="cube">
              <a:avLst>
                <a:gd name="adj" fmla="val 957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934920" y="3716280"/>
              <a:ext cx="1346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691080" y="3716280"/>
              <a:ext cx="1346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421320" y="3716280"/>
              <a:ext cx="1346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691080" y="1900080"/>
              <a:ext cx="1346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1080" y="5557680"/>
              <a:ext cx="1346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Gulim"/>
                </a:rPr>
                <a:t>Text 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0" name=""/>
          <p:cNvGraphicFramePr/>
          <p:nvPr/>
        </p:nvGraphicFramePr>
        <p:xfrm>
          <a:off x="1217520" y="1600200"/>
          <a:ext cx="67071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1600200"/>
                    <a:ext cx="6707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826920" y="1916280"/>
            <a:ext cx="7753320" cy="4698360"/>
            <a:chOff x="826920" y="1916280"/>
            <a:chExt cx="7753320" cy="4698360"/>
          </a:xfrm>
        </p:grpSpPr>
        <p:sp>
          <p:nvSpPr>
            <p:cNvPr id="1925" name=""/>
            <p:cNvSpPr/>
            <p:nvPr/>
          </p:nvSpPr>
          <p:spPr>
            <a:xfrm>
              <a:off x="826920" y="6359400"/>
              <a:ext cx="775332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120680" y="4284360"/>
              <a:ext cx="3587760" cy="1890360"/>
            </a:xfrm>
            <a:prstGeom prst="cube">
              <a:avLst>
                <a:gd name="adj" fmla="val 4263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1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2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3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703760" y="4289040"/>
              <a:ext cx="3587760" cy="1890360"/>
            </a:xfrm>
            <a:prstGeom prst="cube">
              <a:avLst>
                <a:gd name="adj" fmla="val 4263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1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2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3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112760" y="2431800"/>
              <a:ext cx="3587760" cy="1860120"/>
            </a:xfrm>
            <a:prstGeom prst="cube">
              <a:avLst>
                <a:gd name="adj" fmla="val 4263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1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2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3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695840" y="2436480"/>
              <a:ext cx="3587760" cy="1860120"/>
            </a:xfrm>
            <a:prstGeom prst="cube">
              <a:avLst>
                <a:gd name="adj" fmla="val 4263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1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2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HY헤드라인M"/>
                </a:rPr>
                <a:t>Text 3…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12760" y="1938240"/>
              <a:ext cx="3584520" cy="502560"/>
            </a:xfrm>
            <a:prstGeom prst="cube">
              <a:avLst>
                <a:gd name="adj" fmla="val 123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HY헤드라인M"/>
                </a:rPr>
                <a:t>Sub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700520" y="1916280"/>
              <a:ext cx="3584520" cy="502920"/>
            </a:xfrm>
            <a:prstGeom prst="cube">
              <a:avLst>
                <a:gd name="adj" fmla="val 123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HY헤드라인M"/>
                </a:rPr>
                <a:t>Sub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2" name=""/>
            <p:cNvGrpSpPr/>
            <p:nvPr/>
          </p:nvGrpSpPr>
          <p:grpSpPr>
            <a:xfrm>
              <a:off x="4708440" y="4192200"/>
              <a:ext cx="162000" cy="163440"/>
              <a:chOff x="4708440" y="4192200"/>
              <a:chExt cx="162000" cy="163440"/>
            </a:xfrm>
          </p:grpSpPr>
          <p:sp>
            <p:nvSpPr>
              <p:cNvPr id="1933" name=""/>
              <p:cNvSpPr/>
              <p:nvPr/>
            </p:nvSpPr>
            <p:spPr>
              <a:xfrm>
                <a:off x="4739400" y="4228920"/>
                <a:ext cx="114480" cy="115560"/>
              </a:xfrm>
              <a:prstGeom prst="ellipse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5e17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3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08440" y="4192200"/>
                <a:ext cx="162000" cy="163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5" name=""/>
            <p:cNvSpPr/>
            <p:nvPr/>
          </p:nvSpPr>
          <p:spPr>
            <a:xfrm>
              <a:off x="3865680" y="3560400"/>
              <a:ext cx="1492200" cy="1491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6" name="" descr=""/>
            <p:cNvPicPr/>
            <p:nvPr/>
          </p:nvPicPr>
          <p:blipFill>
            <a:blip r:embed="rId4"/>
            <a:stretch/>
          </p:blipFill>
          <p:spPr>
            <a:xfrm>
              <a:off x="3828960" y="3600360"/>
              <a:ext cx="1569960" cy="143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7" name=""/>
            <p:cNvSpPr/>
            <p:nvPr/>
          </p:nvSpPr>
          <p:spPr>
            <a:xfrm>
              <a:off x="4091040" y="4100400"/>
              <a:ext cx="102708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HY헤드라인M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0" name=""/>
          <p:cNvGrpSpPr/>
          <p:nvPr/>
        </p:nvGrpSpPr>
        <p:grpSpPr>
          <a:xfrm>
            <a:off x="553320" y="1409760"/>
            <a:ext cx="8142840" cy="4648320"/>
            <a:chOff x="553320" y="1409760"/>
            <a:chExt cx="8142840" cy="4648320"/>
          </a:xfrm>
        </p:grpSpPr>
        <p:sp>
          <p:nvSpPr>
            <p:cNvPr id="1941" name=""/>
            <p:cNvSpPr/>
            <p:nvPr/>
          </p:nvSpPr>
          <p:spPr>
            <a:xfrm>
              <a:off x="555480" y="6045120"/>
              <a:ext cx="748692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 rot="16489800">
              <a:off x="517320" y="3506760"/>
              <a:ext cx="1427040" cy="1239840"/>
            </a:xfrm>
            <a:custGeom>
              <a:avLst/>
              <a:gdLst>
                <a:gd name="textAreaLeft" fmla="*/ 0 w 1427040"/>
                <a:gd name="textAreaRight" fmla="*/ 1427400 w 1427040"/>
                <a:gd name="textAreaTop" fmla="*/ 0 h 1239840"/>
                <a:gd name="textAreaBottom" fmla="*/ 1240200 h 12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287" y="11672"/>
                  </a:moveTo>
                  <a:arcTo wR="-5582" hR="-5582" stAng="10260809" swAng="-8266513"/>
                  <a:lnTo>
                    <a:pt x="1767" y="4880"/>
                  </a:lnTo>
                  <a:arcTo wR="10800" hR="10800" stAng="-8805704" swAng="8266513"/>
                  <a:lnTo>
                    <a:pt x="24134" y="8691"/>
                  </a:lnTo>
                  <a:lnTo>
                    <a:pt x="19720" y="14764"/>
                  </a:lnTo>
                  <a:lnTo>
                    <a:pt x="13647" y="1035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ffffff">
                    <a:alpha val="50196"/>
                  </a:srgbClr>
                </a:gs>
              </a:gsLst>
              <a:lin ang="1591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911160" y="1409760"/>
              <a:ext cx="7785000" cy="4648320"/>
              <a:chOff x="911160" y="1409760"/>
              <a:chExt cx="7785000" cy="4648320"/>
            </a:xfrm>
          </p:grpSpPr>
          <p:sp>
            <p:nvSpPr>
              <p:cNvPr id="1944" name=""/>
              <p:cNvSpPr/>
              <p:nvPr/>
            </p:nvSpPr>
            <p:spPr>
              <a:xfrm>
                <a:off x="911160" y="4711680"/>
                <a:ext cx="1828800" cy="1346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739960" y="4711680"/>
                <a:ext cx="4089600" cy="134640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923760" y="4457880"/>
                <a:ext cx="2463840" cy="253800"/>
              </a:xfrm>
              <a:prstGeom prst="parallelogram">
                <a:avLst>
                  <a:gd name="adj" fmla="val 261257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714760" y="4457880"/>
                <a:ext cx="4673520" cy="253800"/>
              </a:xfrm>
              <a:prstGeom prst="parallelogram">
                <a:avLst>
                  <a:gd name="adj" fmla="val 21082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084320" y="5086440"/>
                <a:ext cx="143820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Verdana"/>
                    <a:ea typeface="HY헤드라인M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763720" y="4711680"/>
                <a:ext cx="3981600" cy="12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1…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2…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3…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596960" y="3581280"/>
                <a:ext cx="1638360" cy="8766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235320" y="3581280"/>
                <a:ext cx="4127400" cy="87660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09560" y="3327480"/>
                <a:ext cx="2210040" cy="253800"/>
              </a:xfrm>
              <a:prstGeom prst="parallelogram">
                <a:avLst>
                  <a:gd name="adj" fmla="val 234345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222720" y="3327480"/>
                <a:ext cx="4635360" cy="253800"/>
              </a:xfrm>
              <a:prstGeom prst="parallelogram">
                <a:avLst>
                  <a:gd name="adj" fmla="val 193208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206800" y="2666880"/>
                <a:ext cx="1473120" cy="6606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679920" y="2666880"/>
                <a:ext cx="4152960" cy="66060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219400" y="2413080"/>
                <a:ext cx="1981080" cy="253800"/>
              </a:xfrm>
              <a:prstGeom prst="parallelogram">
                <a:avLst>
                  <a:gd name="adj" fmla="val 210066"/>
                </a:avLst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654360" y="2400480"/>
                <a:ext cx="4635720" cy="266400"/>
              </a:xfrm>
              <a:prstGeom prst="parallelogram">
                <a:avLst>
                  <a:gd name="adj" fmla="val 18408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752560" y="1638360"/>
                <a:ext cx="1359000" cy="7747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111560" y="1638360"/>
                <a:ext cx="4127400" cy="7747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752560" y="1409760"/>
                <a:ext cx="1841760" cy="228600"/>
              </a:xfrm>
              <a:prstGeom prst="parallelogram">
                <a:avLst>
                  <a:gd name="adj" fmla="val 216822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073400" y="1409760"/>
                <a:ext cx="4622760" cy="228600"/>
              </a:xfrm>
              <a:prstGeom prst="parallelogram">
                <a:avLst>
                  <a:gd name="adj" fmla="val 21392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190520" y="4444920"/>
                <a:ext cx="734076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800360" y="3340080"/>
                <a:ext cx="674352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422440" y="2400480"/>
                <a:ext cx="610884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rot="16489800">
                <a:off x="1609560" y="1576440"/>
                <a:ext cx="1427040" cy="1239840"/>
              </a:xfrm>
              <a:custGeom>
                <a:avLst/>
                <a:gdLst>
                  <a:gd name="textAreaLeft" fmla="*/ 0 w 1427040"/>
                  <a:gd name="textAreaRight" fmla="*/ 1427400 w 1427040"/>
                  <a:gd name="textAreaTop" fmla="*/ 0 h 1239840"/>
                  <a:gd name="textAreaBottom" fmla="*/ 1240200 h 123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1672"/>
                    </a:moveTo>
                    <a:arcTo wR="-5582" hR="-5582" stAng="10260809" swAng="-8266513"/>
                    <a:lnTo>
                      <a:pt x="1767" y="4880"/>
                    </a:lnTo>
                    <a:arcTo wR="10800" hR="10800" stAng="-8805704" swAng="8266513"/>
                    <a:lnTo>
                      <a:pt x="24134" y="8691"/>
                    </a:lnTo>
                    <a:lnTo>
                      <a:pt x="19720" y="14764"/>
                    </a:lnTo>
                    <a:lnTo>
                      <a:pt x="13647" y="103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ffffff">
                      <a:alpha val="50196"/>
                    </a:srgbClr>
                  </a:gs>
                </a:gsLst>
                <a:lin ang="159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rot="16489800">
                <a:off x="1063440" y="2541600"/>
                <a:ext cx="1427040" cy="1239840"/>
              </a:xfrm>
              <a:custGeom>
                <a:avLst/>
                <a:gdLst>
                  <a:gd name="textAreaLeft" fmla="*/ 0 w 1427040"/>
                  <a:gd name="textAreaRight" fmla="*/ 1427400 w 1427040"/>
                  <a:gd name="textAreaTop" fmla="*/ 0 h 1239840"/>
                  <a:gd name="textAreaBottom" fmla="*/ 1240200 h 123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1672"/>
                    </a:moveTo>
                    <a:arcTo wR="-5582" hR="-5582" stAng="10260809" swAng="-8266513"/>
                    <a:lnTo>
                      <a:pt x="1767" y="4880"/>
                    </a:lnTo>
                    <a:arcTo wR="10800" hR="10800" stAng="-8805704" swAng="8266513"/>
                    <a:lnTo>
                      <a:pt x="24134" y="8691"/>
                    </a:lnTo>
                    <a:lnTo>
                      <a:pt x="19720" y="14764"/>
                    </a:lnTo>
                    <a:lnTo>
                      <a:pt x="13647" y="103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ffffff">
                      <a:alpha val="50196"/>
                    </a:srgbClr>
                  </a:gs>
                </a:gsLst>
                <a:lin ang="159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681200" y="3705120"/>
                <a:ext cx="143820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Verdana"/>
                    <a:ea typeface="HY헤드라인M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232000" y="2692440"/>
                <a:ext cx="134928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Verdana"/>
                    <a:ea typeface="HY헤드라인M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782800" y="1679400"/>
                <a:ext cx="126216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bbe0e3"/>
                    </a:solidFill>
                    <a:latin typeface="Verdana"/>
                    <a:ea typeface="HY헤드라인M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284640" y="3627360"/>
                <a:ext cx="3981240" cy="78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1…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9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2…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687840" y="2639880"/>
                <a:ext cx="3981240" cy="68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7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1…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7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2…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091040" y="1652760"/>
                <a:ext cx="398124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1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7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1…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buClr>
                    <a:srgbClr val="bbe0e3"/>
                  </a:buClr>
                  <a:buSzPct val="80000"/>
                  <a:buFont typeface="Verdan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 </a:t>
                </a:r>
                <a:r>
                  <a:rPr b="0" lang="en-US" sz="1700" spc="-1" strike="noStrike">
                    <a:solidFill>
                      <a:srgbClr val="000000"/>
                    </a:solidFill>
                    <a:latin typeface="Verdana"/>
                    <a:ea typeface="HY헤드라인M"/>
                  </a:rPr>
                  <a:t>Text 2…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81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43640" y="1557360"/>
            <a:ext cx="1728720" cy="2521080"/>
          </a:xfrm>
          <a:prstGeom prst="flowChartMagneticDisk">
            <a:avLst/>
          </a:prstGeom>
          <a:gradFill rotWithShape="0">
            <a:gsLst>
              <a:gs pos="0">
                <a:srgbClr val="33cccc">
                  <a:alpha val="99215"/>
                </a:srgbClr>
              </a:gs>
              <a:gs pos="100000">
                <a:srgbClr val="c3efe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78040" y="521820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0440" y="521820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07000" y="5202360"/>
            <a:ext cx="184320" cy="4809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999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8480" y="5202360"/>
            <a:ext cx="1703160" cy="4809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999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59360" y="5202360"/>
            <a:ext cx="1481400" cy="480960"/>
          </a:xfrm>
          <a:prstGeom prst="ellipse">
            <a:avLst/>
          </a:prstGeom>
          <a:gradFill rotWithShape="0">
            <a:gsLst>
              <a:gs pos="0">
                <a:srgbClr val="005252"/>
              </a:gs>
              <a:gs pos="50000">
                <a:srgbClr val="009999"/>
              </a:gs>
              <a:gs pos="100000">
                <a:srgbClr val="00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84920" y="5210280"/>
            <a:ext cx="1481040" cy="480960"/>
          </a:xfrm>
          <a:prstGeom prst="ellipse">
            <a:avLst/>
          </a:prstGeom>
          <a:gradFill rotWithShape="0">
            <a:gsLst>
              <a:gs pos="0">
                <a:srgbClr val="009999">
                  <a:alpha val="0"/>
                </a:srgbClr>
              </a:gs>
              <a:gs pos="100000">
                <a:srgbClr val="00606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38920" y="5202360"/>
            <a:ext cx="1334880" cy="480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81120" y="5197320"/>
            <a:ext cx="184320" cy="4813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cc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81120" y="5197320"/>
            <a:ext cx="184320" cy="4813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cc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3480" y="5195880"/>
            <a:ext cx="1481040" cy="480960"/>
          </a:xfrm>
          <a:prstGeom prst="ellipse">
            <a:avLst/>
          </a:prstGeom>
          <a:gradFill rotWithShape="0">
            <a:gsLst>
              <a:gs pos="0">
                <a:srgbClr val="526d00"/>
              </a:gs>
              <a:gs pos="50000">
                <a:srgbClr val="99cc00"/>
              </a:gs>
              <a:gs pos="100000">
                <a:srgbClr val="526d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34920" y="5199120"/>
            <a:ext cx="1481400" cy="480960"/>
          </a:xfrm>
          <a:prstGeom prst="ellipse">
            <a:avLst/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6081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08000" y="5199120"/>
            <a:ext cx="1333440" cy="480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28880" y="4797360"/>
            <a:ext cx="1290600" cy="1278000"/>
            <a:chOff x="1028880" y="4797360"/>
            <a:chExt cx="1290600" cy="1278000"/>
          </a:xfrm>
        </p:grpSpPr>
        <p:sp>
          <p:nvSpPr>
            <p:cNvPr id="186" name=""/>
            <p:cNvSpPr/>
            <p:nvPr/>
          </p:nvSpPr>
          <p:spPr>
            <a:xfrm>
              <a:off x="1028880" y="479736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45080" y="480420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58760" y="481680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8600" y="484920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044960" y="5202360"/>
            <a:ext cx="184320" cy="4809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be0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44960" y="5202360"/>
            <a:ext cx="184320" cy="48096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97320" y="5202360"/>
            <a:ext cx="1481040" cy="480960"/>
          </a:xfrm>
          <a:prstGeom prst="ellipse">
            <a:avLst/>
          </a:prstGeom>
          <a:gradFill rotWithShape="0">
            <a:gsLst>
              <a:gs pos="0">
                <a:srgbClr val="64787a"/>
              </a:gs>
              <a:gs pos="50000">
                <a:srgbClr val="bbe0e3"/>
              </a:gs>
              <a:gs pos="100000">
                <a:srgbClr val="6478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98760" y="5203800"/>
            <a:ext cx="1481040" cy="480960"/>
          </a:xfrm>
          <a:prstGeom prst="ellipse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768d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70400" y="5202360"/>
            <a:ext cx="1333440" cy="480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92360" y="4797360"/>
            <a:ext cx="1290600" cy="1278000"/>
            <a:chOff x="3492360" y="4797360"/>
            <a:chExt cx="1290600" cy="1278000"/>
          </a:xfrm>
        </p:grpSpPr>
        <p:sp>
          <p:nvSpPr>
            <p:cNvPr id="196" name=""/>
            <p:cNvSpPr/>
            <p:nvPr/>
          </p:nvSpPr>
          <p:spPr>
            <a:xfrm>
              <a:off x="3492360" y="479736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08560" y="480420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22240" y="481680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92080" y="484920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962680" y="4797360"/>
            <a:ext cx="1292040" cy="1278000"/>
            <a:chOff x="5962680" y="4797360"/>
            <a:chExt cx="1292040" cy="1278000"/>
          </a:xfrm>
        </p:grpSpPr>
        <p:sp>
          <p:nvSpPr>
            <p:cNvPr id="201" name=""/>
            <p:cNvSpPr/>
            <p:nvPr/>
          </p:nvSpPr>
          <p:spPr>
            <a:xfrm>
              <a:off x="5962680" y="479736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78880" y="480420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92560" y="481680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62760" y="484920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291680" y="5270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60560" y="5270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27280" y="5270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699640" y="1989000"/>
            <a:ext cx="2900520" cy="2706480"/>
            <a:chOff x="2699640" y="1989000"/>
            <a:chExt cx="2900520" cy="2706480"/>
          </a:xfrm>
        </p:grpSpPr>
        <p:grpSp>
          <p:nvGrpSpPr>
            <p:cNvPr id="209" name=""/>
            <p:cNvGrpSpPr/>
            <p:nvPr/>
          </p:nvGrpSpPr>
          <p:grpSpPr>
            <a:xfrm>
              <a:off x="2699640" y="1989000"/>
              <a:ext cx="2900520" cy="2706480"/>
              <a:chOff x="2699640" y="1989000"/>
              <a:chExt cx="2900520" cy="2706480"/>
            </a:xfrm>
          </p:grpSpPr>
          <p:sp>
            <p:nvSpPr>
              <p:cNvPr id="210" name=""/>
              <p:cNvSpPr/>
              <p:nvPr/>
            </p:nvSpPr>
            <p:spPr>
              <a:xfrm flipH="1" rot="16200000">
                <a:off x="2617560" y="3039480"/>
                <a:ext cx="45936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5400000">
                <a:off x="5222160" y="298872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10800000">
                <a:off x="3928680" y="4389480"/>
                <a:ext cx="44352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996640" y="1989000"/>
                <a:ext cx="2325960" cy="2400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29480" y="2124360"/>
                <a:ext cx="2059200" cy="212544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50440" y="2250360"/>
                <a:ext cx="1817280" cy="1878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999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250440" y="2250360"/>
                <a:ext cx="1817280" cy="18788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69960" y="2373840"/>
                <a:ext cx="1578240" cy="1631880"/>
              </a:xfrm>
              <a:prstGeom prst="ellipse">
                <a:avLst/>
              </a:prstGeom>
              <a:gradFill rotWithShape="0">
                <a:gsLst>
                  <a:gs pos="0">
                    <a:srgbClr val="005252"/>
                  </a:gs>
                  <a:gs pos="50000">
                    <a:srgbClr val="009999"/>
                  </a:gs>
                  <a:gs pos="100000">
                    <a:srgbClr val="00525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69960" y="2373840"/>
                <a:ext cx="15782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3647520" y="307332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数据库应用系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95280" y="2637000"/>
            <a:ext cx="1728720" cy="569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3357720"/>
            <a:ext cx="1658880" cy="571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03640" y="4221000"/>
            <a:ext cx="3524400" cy="500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rot="16200000">
            <a:off x="2761560" y="1998000"/>
            <a:ext cx="460080" cy="29664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9a9a9a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76360" y="6165720"/>
            <a:ext cx="2816280" cy="57960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76720" y="6165720"/>
            <a:ext cx="2816280" cy="57816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788000" y="3789360"/>
            <a:ext cx="960480" cy="992160"/>
            <a:chOff x="4788000" y="3789360"/>
            <a:chExt cx="960480" cy="992160"/>
          </a:xfrm>
        </p:grpSpPr>
        <p:sp>
          <p:nvSpPr>
            <p:cNvPr id="227" name=""/>
            <p:cNvSpPr/>
            <p:nvPr/>
          </p:nvSpPr>
          <p:spPr>
            <a:xfrm>
              <a:off x="4788000" y="3789360"/>
              <a:ext cx="960480" cy="9921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99880" y="3794760"/>
              <a:ext cx="937440" cy="96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09960" y="3804120"/>
              <a:ext cx="891360" cy="9039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62160" y="3829680"/>
              <a:ext cx="792360" cy="73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1676520" y="1523880"/>
            <a:ext cx="5867280" cy="4372200"/>
            <a:chOff x="1676520" y="1523880"/>
            <a:chExt cx="5867280" cy="4372200"/>
          </a:xfrm>
        </p:grpSpPr>
        <p:grpSp>
          <p:nvGrpSpPr>
            <p:cNvPr id="1976" name=""/>
            <p:cNvGrpSpPr/>
            <p:nvPr/>
          </p:nvGrpSpPr>
          <p:grpSpPr>
            <a:xfrm>
              <a:off x="1676520" y="1523880"/>
              <a:ext cx="5867280" cy="1301760"/>
              <a:chOff x="1676520" y="1523880"/>
              <a:chExt cx="5867280" cy="1301760"/>
            </a:xfrm>
          </p:grpSpPr>
          <p:sp>
            <p:nvSpPr>
              <p:cNvPr id="1977" name=""/>
              <p:cNvSpPr/>
              <p:nvPr/>
            </p:nvSpPr>
            <p:spPr>
              <a:xfrm>
                <a:off x="1676520" y="1523880"/>
                <a:ext cx="5867280" cy="1301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1f1f1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8" name=""/>
              <p:cNvGrpSpPr/>
              <p:nvPr/>
            </p:nvGrpSpPr>
            <p:grpSpPr>
              <a:xfrm>
                <a:off x="1804320" y="1643400"/>
                <a:ext cx="1131120" cy="1064520"/>
                <a:chOff x="1804320" y="1643400"/>
                <a:chExt cx="1131120" cy="1064520"/>
              </a:xfrm>
            </p:grpSpPr>
            <p:sp>
              <p:nvSpPr>
                <p:cNvPr id="1979" name=""/>
                <p:cNvSpPr/>
                <p:nvPr/>
              </p:nvSpPr>
              <p:spPr>
                <a:xfrm>
                  <a:off x="1804320" y="1643400"/>
                  <a:ext cx="1131120" cy="106452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829b9d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1874880" y="1711800"/>
                  <a:ext cx="563760" cy="5320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9edee"/>
                    </a:gs>
                    <a:gs pos="50000">
                      <a:srgbClr val="bbe0e3">
                        <a:alpha val="0"/>
                      </a:srgbClr>
                    </a:gs>
                    <a:gs pos="100000">
                      <a:srgbClr val="d9ede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1931040" y="193320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2" name=""/>
              <p:cNvSpPr/>
              <p:nvPr/>
            </p:nvSpPr>
            <p:spPr>
              <a:xfrm>
                <a:off x="3090240" y="1725120"/>
                <a:ext cx="4312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3" name=""/>
            <p:cNvGrpSpPr/>
            <p:nvPr/>
          </p:nvGrpSpPr>
          <p:grpSpPr>
            <a:xfrm>
              <a:off x="1676520" y="3054240"/>
              <a:ext cx="5867280" cy="1301760"/>
              <a:chOff x="1676520" y="3054240"/>
              <a:chExt cx="5867280" cy="1301760"/>
            </a:xfrm>
          </p:grpSpPr>
          <p:sp>
            <p:nvSpPr>
              <p:cNvPr id="1984" name=""/>
              <p:cNvSpPr/>
              <p:nvPr/>
            </p:nvSpPr>
            <p:spPr>
              <a:xfrm>
                <a:off x="1676520" y="3054240"/>
                <a:ext cx="5867280" cy="1301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0f0f0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5" name=""/>
              <p:cNvGrpSpPr/>
              <p:nvPr/>
            </p:nvGrpSpPr>
            <p:grpSpPr>
              <a:xfrm>
                <a:off x="1804320" y="3173760"/>
                <a:ext cx="1131120" cy="1064520"/>
                <a:chOff x="1804320" y="3173760"/>
                <a:chExt cx="1131120" cy="106452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804320" y="3173760"/>
                  <a:ext cx="1131120" cy="106452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45b4b4"/>
                    </a:gs>
                    <a:gs pos="100000">
                      <a:srgbClr val="009999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874880" y="3242160"/>
                  <a:ext cx="563760" cy="5320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>
                        <a:alpha val="0"/>
                      </a:srgbClr>
                    </a:gs>
                    <a:gs pos="100000">
                      <a:srgbClr val="92d2d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31040" y="346464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9" name=""/>
              <p:cNvSpPr/>
              <p:nvPr/>
            </p:nvSpPr>
            <p:spPr>
              <a:xfrm>
                <a:off x="3090240" y="3232440"/>
                <a:ext cx="4312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0" name=""/>
            <p:cNvGrpSpPr/>
            <p:nvPr/>
          </p:nvGrpSpPr>
          <p:grpSpPr>
            <a:xfrm>
              <a:off x="1676520" y="4594320"/>
              <a:ext cx="5867280" cy="1301760"/>
              <a:chOff x="1676520" y="4594320"/>
              <a:chExt cx="5867280" cy="1301760"/>
            </a:xfrm>
          </p:grpSpPr>
          <p:sp>
            <p:nvSpPr>
              <p:cNvPr id="1991" name=""/>
              <p:cNvSpPr/>
              <p:nvPr/>
            </p:nvSpPr>
            <p:spPr>
              <a:xfrm>
                <a:off x="1676520" y="4594320"/>
                <a:ext cx="5867280" cy="1301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deded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2" name=""/>
              <p:cNvGrpSpPr/>
              <p:nvPr/>
            </p:nvGrpSpPr>
            <p:grpSpPr>
              <a:xfrm>
                <a:off x="1804320" y="4713840"/>
                <a:ext cx="1131120" cy="1064520"/>
                <a:chOff x="1804320" y="4713840"/>
                <a:chExt cx="1131120" cy="106452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1804320" y="4713840"/>
                  <a:ext cx="1131120" cy="106452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c7cbd"/>
                    </a:gs>
                    <a:gs pos="100000">
                      <a:srgbClr val="333399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1874880" y="4782240"/>
                  <a:ext cx="563760" cy="53208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99">
                        <a:alpha val="0"/>
                      </a:srgbClr>
                    </a:gs>
                    <a:gs pos="100000">
                      <a:srgbClr val="9b9bc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1931040" y="50047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6" name=""/>
              <p:cNvSpPr/>
              <p:nvPr/>
            </p:nvSpPr>
            <p:spPr>
              <a:xfrm>
                <a:off x="3090240" y="4772520"/>
                <a:ext cx="4312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1295280" y="1600200"/>
            <a:ext cx="6829560" cy="4767120"/>
            <a:chOff x="1295280" y="1600200"/>
            <a:chExt cx="6829560" cy="4767120"/>
          </a:xfrm>
        </p:grpSpPr>
        <p:grpSp>
          <p:nvGrpSpPr>
            <p:cNvPr id="2000" name=""/>
            <p:cNvGrpSpPr/>
            <p:nvPr/>
          </p:nvGrpSpPr>
          <p:grpSpPr>
            <a:xfrm>
              <a:off x="2139840" y="4121280"/>
              <a:ext cx="5056200" cy="923760"/>
              <a:chOff x="2139840" y="4121280"/>
              <a:chExt cx="5056200" cy="923760"/>
            </a:xfrm>
          </p:grpSpPr>
          <p:sp>
            <p:nvSpPr>
              <p:cNvPr id="2001" name=""/>
              <p:cNvSpPr/>
              <p:nvPr/>
            </p:nvSpPr>
            <p:spPr>
              <a:xfrm>
                <a:off x="2139840" y="4121280"/>
                <a:ext cx="5056200" cy="9237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6565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370240" y="50403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379600" y="4121280"/>
                <a:ext cx="468324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2214720" y="5311800"/>
              <a:ext cx="5084640" cy="923760"/>
              <a:chOff x="2214720" y="5311800"/>
              <a:chExt cx="5084640" cy="923760"/>
            </a:xfrm>
          </p:grpSpPr>
          <p:sp>
            <p:nvSpPr>
              <p:cNvPr id="2005" name=""/>
              <p:cNvSpPr/>
              <p:nvPr/>
            </p:nvSpPr>
            <p:spPr>
              <a:xfrm>
                <a:off x="2214720" y="5311800"/>
                <a:ext cx="5084640" cy="9237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1216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2338200" y="62308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361960" y="531180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2214720" y="2930400"/>
              <a:ext cx="5084640" cy="924120"/>
              <a:chOff x="2214720" y="2930400"/>
              <a:chExt cx="5084640" cy="924120"/>
            </a:xfrm>
          </p:grpSpPr>
          <p:sp>
            <p:nvSpPr>
              <p:cNvPr id="2009" name=""/>
              <p:cNvSpPr/>
              <p:nvPr/>
            </p:nvSpPr>
            <p:spPr>
              <a:xfrm>
                <a:off x="2214720" y="2930400"/>
                <a:ext cx="5084640" cy="92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7b939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379600" y="38494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338200" y="293364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2" name=""/>
            <p:cNvGrpSpPr/>
            <p:nvPr/>
          </p:nvGrpSpPr>
          <p:grpSpPr>
            <a:xfrm>
              <a:off x="2120760" y="1768320"/>
              <a:ext cx="5027760" cy="924120"/>
              <a:chOff x="2120760" y="1768320"/>
              <a:chExt cx="5027760" cy="924120"/>
            </a:xfrm>
          </p:grpSpPr>
          <p:sp>
            <p:nvSpPr>
              <p:cNvPr id="2013" name=""/>
              <p:cNvSpPr/>
              <p:nvPr/>
            </p:nvSpPr>
            <p:spPr>
              <a:xfrm>
                <a:off x="2120760" y="1768320"/>
                <a:ext cx="5027760" cy="924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58600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2338200" y="2692440"/>
                <a:ext cx="468324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338200" y="1771560"/>
                <a:ext cx="468324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6" name="Text Box 4"/>
            <p:cNvSpPr/>
            <p:nvPr/>
          </p:nvSpPr>
          <p:spPr>
            <a:xfrm>
              <a:off x="2428920" y="1930320"/>
              <a:ext cx="457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Text Box 11"/>
            <p:cNvSpPr/>
            <p:nvPr/>
          </p:nvSpPr>
          <p:spPr>
            <a:xfrm>
              <a:off x="2387520" y="3076560"/>
              <a:ext cx="457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Text Box 18"/>
            <p:cNvSpPr/>
            <p:nvPr/>
          </p:nvSpPr>
          <p:spPr>
            <a:xfrm>
              <a:off x="2428920" y="4300560"/>
              <a:ext cx="457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Text Box 25"/>
            <p:cNvSpPr/>
            <p:nvPr/>
          </p:nvSpPr>
          <p:spPr>
            <a:xfrm>
              <a:off x="2387520" y="5468760"/>
              <a:ext cx="457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0" name="Group 5"/>
            <p:cNvGrpSpPr/>
            <p:nvPr/>
          </p:nvGrpSpPr>
          <p:grpSpPr>
            <a:xfrm>
              <a:off x="1305000" y="1600200"/>
              <a:ext cx="1238040" cy="1236600"/>
              <a:chOff x="1305000" y="1600200"/>
              <a:chExt cx="1238040" cy="1236600"/>
            </a:xfrm>
          </p:grpSpPr>
          <p:sp>
            <p:nvSpPr>
              <p:cNvPr id="2021" name="Oval 6"/>
              <p:cNvSpPr/>
              <p:nvPr/>
            </p:nvSpPr>
            <p:spPr>
              <a:xfrm>
                <a:off x="1305000" y="1600200"/>
                <a:ext cx="1238040" cy="123660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Oval 7"/>
              <p:cNvSpPr/>
              <p:nvPr/>
            </p:nvSpPr>
            <p:spPr>
              <a:xfrm>
                <a:off x="1355760" y="1650960"/>
                <a:ext cx="1134720" cy="1134720"/>
              </a:xfrm>
              <a:prstGeom prst="ellipse">
                <a:avLst/>
              </a:prstGeom>
              <a:noFill/>
              <a:ln w="38160">
                <a:solidFill>
                  <a:srgbClr val="99cc00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Oval 8"/>
              <p:cNvSpPr/>
              <p:nvPr/>
            </p:nvSpPr>
            <p:spPr>
              <a:xfrm>
                <a:off x="1406520" y="1704960"/>
                <a:ext cx="1033200" cy="1032840"/>
              </a:xfrm>
              <a:prstGeom prst="ellipse">
                <a:avLst/>
              </a:prstGeom>
              <a:noFill/>
              <a:ln w="38160">
                <a:solidFill>
                  <a:srgbClr val="99cc00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4" name="Text Box 9"/>
            <p:cNvSpPr/>
            <p:nvPr/>
          </p:nvSpPr>
          <p:spPr>
            <a:xfrm>
              <a:off x="1376280" y="1900080"/>
              <a:ext cx="108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5" name="Group 12"/>
            <p:cNvGrpSpPr/>
            <p:nvPr/>
          </p:nvGrpSpPr>
          <p:grpSpPr>
            <a:xfrm>
              <a:off x="6886440" y="2749680"/>
              <a:ext cx="1238400" cy="1236600"/>
              <a:chOff x="6886440" y="2749680"/>
              <a:chExt cx="1238400" cy="1236600"/>
            </a:xfrm>
          </p:grpSpPr>
          <p:sp>
            <p:nvSpPr>
              <p:cNvPr id="2026" name="Oval 13"/>
              <p:cNvSpPr/>
              <p:nvPr/>
            </p:nvSpPr>
            <p:spPr>
              <a:xfrm>
                <a:off x="6886440" y="2749680"/>
                <a:ext cx="1238400" cy="123660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Oval 14"/>
              <p:cNvSpPr/>
              <p:nvPr/>
            </p:nvSpPr>
            <p:spPr>
              <a:xfrm>
                <a:off x="6937200" y="2800440"/>
                <a:ext cx="1135080" cy="1134720"/>
              </a:xfrm>
              <a:prstGeom prst="ellipse">
                <a:avLst/>
              </a:prstGeom>
              <a:noFill/>
              <a:ln w="38160">
                <a:solidFill>
                  <a:srgbClr val="bbe0e3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Oval 15"/>
              <p:cNvSpPr/>
              <p:nvPr/>
            </p:nvSpPr>
            <p:spPr>
              <a:xfrm>
                <a:off x="6987960" y="2854440"/>
                <a:ext cx="1033560" cy="1032840"/>
              </a:xfrm>
              <a:prstGeom prst="ellipse">
                <a:avLst/>
              </a:prstGeom>
              <a:noFill/>
              <a:ln w="38160">
                <a:solidFill>
                  <a:srgbClr val="bbe0e3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9" name="Text Box 16"/>
            <p:cNvSpPr/>
            <p:nvPr/>
          </p:nvSpPr>
          <p:spPr>
            <a:xfrm>
              <a:off x="6958080" y="3059280"/>
              <a:ext cx="10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0" name="Group 19"/>
            <p:cNvGrpSpPr/>
            <p:nvPr/>
          </p:nvGrpSpPr>
          <p:grpSpPr>
            <a:xfrm>
              <a:off x="1295280" y="3970440"/>
              <a:ext cx="1238400" cy="1236600"/>
              <a:chOff x="1295280" y="3970440"/>
              <a:chExt cx="1238400" cy="1236600"/>
            </a:xfrm>
          </p:grpSpPr>
          <p:sp>
            <p:nvSpPr>
              <p:cNvPr id="2031" name="Oval 20"/>
              <p:cNvSpPr/>
              <p:nvPr/>
            </p:nvSpPr>
            <p:spPr>
              <a:xfrm>
                <a:off x="1295280" y="3970440"/>
                <a:ext cx="1238400" cy="123660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Oval 21"/>
              <p:cNvSpPr/>
              <p:nvPr/>
            </p:nvSpPr>
            <p:spPr>
              <a:xfrm>
                <a:off x="1346040" y="4021200"/>
                <a:ext cx="1135080" cy="1134720"/>
              </a:xfrm>
              <a:prstGeom prst="ellipse">
                <a:avLst/>
              </a:prstGeom>
              <a:noFill/>
              <a:ln w="38160">
                <a:solidFill>
                  <a:srgbClr val="009999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Oval 22"/>
              <p:cNvSpPr/>
              <p:nvPr/>
            </p:nvSpPr>
            <p:spPr>
              <a:xfrm>
                <a:off x="1396800" y="4075200"/>
                <a:ext cx="1033560" cy="1032840"/>
              </a:xfrm>
              <a:prstGeom prst="ellipse">
                <a:avLst/>
              </a:prstGeom>
              <a:noFill/>
              <a:ln w="38160">
                <a:solidFill>
                  <a:srgbClr val="009999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4" name="Text Box 23"/>
            <p:cNvSpPr/>
            <p:nvPr/>
          </p:nvSpPr>
          <p:spPr>
            <a:xfrm>
              <a:off x="1366920" y="4270320"/>
              <a:ext cx="108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5" name="Group 26"/>
            <p:cNvGrpSpPr/>
            <p:nvPr/>
          </p:nvGrpSpPr>
          <p:grpSpPr>
            <a:xfrm>
              <a:off x="6886440" y="5130720"/>
              <a:ext cx="1238400" cy="1236600"/>
              <a:chOff x="6886440" y="5130720"/>
              <a:chExt cx="1238400" cy="1236600"/>
            </a:xfrm>
          </p:grpSpPr>
          <p:sp>
            <p:nvSpPr>
              <p:cNvPr id="2036" name="Oval 27"/>
              <p:cNvSpPr/>
              <p:nvPr/>
            </p:nvSpPr>
            <p:spPr>
              <a:xfrm>
                <a:off x="6886440" y="5130720"/>
                <a:ext cx="1238400" cy="123660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Oval 28"/>
              <p:cNvSpPr/>
              <p:nvPr/>
            </p:nvSpPr>
            <p:spPr>
              <a:xfrm>
                <a:off x="6937200" y="5181480"/>
                <a:ext cx="1135080" cy="1134720"/>
              </a:xfrm>
              <a:prstGeom prst="ellipse">
                <a:avLst/>
              </a:prstGeom>
              <a:noFill/>
              <a:ln w="38160">
                <a:solidFill>
                  <a:srgbClr val="333399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29"/>
              <p:cNvSpPr/>
              <p:nvPr/>
            </p:nvSpPr>
            <p:spPr>
              <a:xfrm>
                <a:off x="6987960" y="5235480"/>
                <a:ext cx="1033560" cy="1032840"/>
              </a:xfrm>
              <a:prstGeom prst="ellipse">
                <a:avLst/>
              </a:prstGeom>
              <a:noFill/>
              <a:ln w="38160">
                <a:solidFill>
                  <a:srgbClr val="333399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9" name="Text Box 30"/>
            <p:cNvSpPr/>
            <p:nvPr/>
          </p:nvSpPr>
          <p:spPr>
            <a:xfrm>
              <a:off x="6958080" y="5438880"/>
              <a:ext cx="10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1979640" y="1981080"/>
            <a:ext cx="5181480" cy="4878000"/>
            <a:chOff x="1979640" y="1981080"/>
            <a:chExt cx="5181480" cy="4878000"/>
          </a:xfrm>
        </p:grpSpPr>
        <p:sp>
          <p:nvSpPr>
            <p:cNvPr id="2043" name="Text Box 9"/>
            <p:cNvSpPr/>
            <p:nvPr/>
          </p:nvSpPr>
          <p:spPr>
            <a:xfrm>
              <a:off x="1979640" y="6216480"/>
              <a:ext cx="518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2359800" y="1981080"/>
              <a:ext cx="2063880" cy="172908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829b9d"/>
                </a:gs>
              </a:gsLst>
              <a:lin ang="8100000"/>
            </a:gradFill>
            <a:ln w="2844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662360" y="1981080"/>
              <a:ext cx="2063880" cy="172908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100000">
                  <a:srgbClr val="282879"/>
                </a:gs>
              </a:gsLst>
              <a:lin ang="8100000"/>
            </a:gradFill>
            <a:ln w="2844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360520" y="3995640"/>
              <a:ext cx="2063880" cy="172872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gradFill rotWithShape="0">
              <a:gsLst>
                <a:gs pos="0">
                  <a:srgbClr val="739a00"/>
                </a:gs>
                <a:gs pos="100000">
                  <a:srgbClr val="99cc00"/>
                </a:gs>
              </a:gsLst>
              <a:lin ang="8100000"/>
            </a:gradFill>
            <a:ln w="2844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H="1">
              <a:off x="4661640" y="3995640"/>
              <a:ext cx="2063880" cy="1728720"/>
            </a:xfrm>
            <a:custGeom>
              <a:avLst/>
              <a:gdLst/>
              <a:ahLst/>
              <a:rect l="l" t="t" r="r" b="b"/>
              <a:pathLst>
                <a:path w="1299" h="1008">
                  <a:moveTo>
                    <a:pt x="303" y="1008"/>
                  </a:moveTo>
                  <a:cubicBezTo>
                    <a:pt x="801" y="1008"/>
                    <a:pt x="1299" y="1008"/>
                    <a:pt x="1299" y="1008"/>
                  </a:cubicBezTo>
                  <a:cubicBezTo>
                    <a:pt x="1299" y="1008"/>
                    <a:pt x="1297" y="661"/>
                    <a:pt x="1296" y="315"/>
                  </a:cubicBezTo>
                  <a:cubicBezTo>
                    <a:pt x="1290" y="150"/>
                    <a:pt x="1161" y="0"/>
                    <a:pt x="942" y="0"/>
                  </a:cubicBezTo>
                  <a:cubicBezTo>
                    <a:pt x="472" y="0"/>
                    <a:pt x="3" y="0"/>
                    <a:pt x="3" y="0"/>
                  </a:cubicBezTo>
                  <a:cubicBezTo>
                    <a:pt x="3" y="0"/>
                    <a:pt x="1" y="361"/>
                    <a:pt x="0" y="723"/>
                  </a:cubicBezTo>
                  <a:cubicBezTo>
                    <a:pt x="0" y="915"/>
                    <a:pt x="144" y="1002"/>
                    <a:pt x="303" y="100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9999"/>
                </a:gs>
              </a:gsLst>
              <a:lin ang="8100000"/>
            </a:gradFill>
            <a:ln w="28440">
              <a:solidFill>
                <a:srgbClr val="f8f8f8"/>
              </a:solidFill>
              <a:round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503520" y="2798640"/>
              <a:ext cx="2081160" cy="2082960"/>
            </a:xfrm>
            <a:prstGeom prst="ellipse">
              <a:avLst/>
            </a:prstGeom>
            <a:solidFill>
              <a:srgbClr val="fe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562120" y="2384280"/>
              <a:ext cx="157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913280" y="2384280"/>
              <a:ext cx="157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570040" y="4935600"/>
              <a:ext cx="157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913280" y="4935600"/>
              <a:ext cx="157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772080" y="32576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  <a:ea typeface="Arial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875480" y="32576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  <a:ea typeface="Arial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772080" y="4200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  <a:ea typeface="Arial"/>
                </a:rPr>
                <a:t>M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875480" y="4200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  <a:ea typeface="Arial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9" name=""/>
          <p:cNvGrpSpPr/>
          <p:nvPr/>
        </p:nvGrpSpPr>
        <p:grpSpPr>
          <a:xfrm>
            <a:off x="0" y="1631880"/>
            <a:ext cx="8602920" cy="5302440"/>
            <a:chOff x="0" y="1631880"/>
            <a:chExt cx="8602920" cy="5302440"/>
          </a:xfrm>
        </p:grpSpPr>
        <p:sp>
          <p:nvSpPr>
            <p:cNvPr id="2060" name=""/>
            <p:cNvSpPr/>
            <p:nvPr/>
          </p:nvSpPr>
          <p:spPr>
            <a:xfrm>
              <a:off x="0" y="2622600"/>
              <a:ext cx="8435880" cy="4311720"/>
            </a:xfrm>
            <a:custGeom>
              <a:avLst/>
              <a:gdLst/>
              <a:ahLst/>
              <a:rect l="l" t="t" r="r" b="b"/>
              <a:pathLst>
                <a:path w="5218" h="2716">
                  <a:moveTo>
                    <a:pt x="0" y="2387"/>
                  </a:moveTo>
                  <a:cubicBezTo>
                    <a:pt x="0" y="2527"/>
                    <a:pt x="0" y="2668"/>
                    <a:pt x="0" y="2668"/>
                  </a:cubicBezTo>
                  <a:cubicBezTo>
                    <a:pt x="2256" y="2716"/>
                    <a:pt x="4539" y="1996"/>
                    <a:pt x="5218" y="220"/>
                  </a:cubicBezTo>
                  <a:lnTo>
                    <a:pt x="4011" y="0"/>
                  </a:lnTo>
                  <a:cubicBezTo>
                    <a:pt x="3333" y="2003"/>
                    <a:pt x="638" y="2311"/>
                    <a:pt x="0" y="238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1746360" y="5823000"/>
              <a:ext cx="764640" cy="799920"/>
              <a:chOff x="1746360" y="5823000"/>
              <a:chExt cx="764640" cy="799920"/>
            </a:xfrm>
          </p:grpSpPr>
          <p:grpSp>
            <p:nvGrpSpPr>
              <p:cNvPr id="2062" name=""/>
              <p:cNvGrpSpPr/>
              <p:nvPr/>
            </p:nvGrpSpPr>
            <p:grpSpPr>
              <a:xfrm>
                <a:off x="1746360" y="5823000"/>
                <a:ext cx="764640" cy="799920"/>
                <a:chOff x="1746360" y="5823000"/>
                <a:chExt cx="764640" cy="799920"/>
              </a:xfrm>
            </p:grpSpPr>
            <p:pic>
              <p:nvPicPr>
                <p:cNvPr id="206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18720" y="6450120"/>
                  <a:ext cx="629640" cy="172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46360" y="5823000"/>
                  <a:ext cx="764640" cy="737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5" name=""/>
                <p:cNvSpPr/>
                <p:nvPr/>
              </p:nvSpPr>
              <p:spPr>
                <a:xfrm>
                  <a:off x="1746360" y="5823000"/>
                  <a:ext cx="759600" cy="739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>
                        <a:alpha val="55294"/>
                      </a:srgbClr>
                    </a:gs>
                    <a:gs pos="50000">
                      <a:srgbClr val="465e00">
                        <a:alpha val="90196"/>
                      </a:srgbClr>
                    </a:gs>
                    <a:gs pos="100000">
                      <a:srgbClr val="99cc00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21960" y="5830560"/>
                <a:ext cx="604800" cy="26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7" name=""/>
            <p:cNvGrpSpPr/>
            <p:nvPr/>
          </p:nvGrpSpPr>
          <p:grpSpPr>
            <a:xfrm>
              <a:off x="3263760" y="5213520"/>
              <a:ext cx="1079280" cy="1078560"/>
              <a:chOff x="3263760" y="5213520"/>
              <a:chExt cx="1079280" cy="1078560"/>
            </a:xfrm>
          </p:grpSpPr>
          <p:grpSp>
            <p:nvGrpSpPr>
              <p:cNvPr id="2068" name=""/>
              <p:cNvGrpSpPr/>
              <p:nvPr/>
            </p:nvGrpSpPr>
            <p:grpSpPr>
              <a:xfrm>
                <a:off x="3263760" y="5213520"/>
                <a:ext cx="1079280" cy="1078560"/>
                <a:chOff x="3263760" y="5213520"/>
                <a:chExt cx="1079280" cy="1078560"/>
              </a:xfrm>
            </p:grpSpPr>
            <p:pic>
              <p:nvPicPr>
                <p:cNvPr id="206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66000" y="6059160"/>
                  <a:ext cx="888840" cy="232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263760" y="5213520"/>
                  <a:ext cx="1079280" cy="99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1" name=""/>
                <p:cNvSpPr/>
                <p:nvPr/>
              </p:nvSpPr>
              <p:spPr>
                <a:xfrm>
                  <a:off x="3263760" y="5213520"/>
                  <a:ext cx="1072080" cy="997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>
                        <a:alpha val="55294"/>
                      </a:srgbClr>
                    </a:gs>
                    <a:gs pos="50000">
                      <a:srgbClr val="171746">
                        <a:alpha val="90196"/>
                      </a:srgbClr>
                    </a:gs>
                    <a:gs pos="100000">
                      <a:srgbClr val="333399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7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370320" y="5223600"/>
                <a:ext cx="85320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3" name=""/>
            <p:cNvGrpSpPr/>
            <p:nvPr/>
          </p:nvGrpSpPr>
          <p:grpSpPr>
            <a:xfrm>
              <a:off x="4876920" y="3994200"/>
              <a:ext cx="1561320" cy="1599480"/>
              <a:chOff x="4876920" y="3994200"/>
              <a:chExt cx="1561320" cy="1599480"/>
            </a:xfrm>
          </p:grpSpPr>
          <p:grpSp>
            <p:nvGrpSpPr>
              <p:cNvPr id="2074" name=""/>
              <p:cNvGrpSpPr/>
              <p:nvPr/>
            </p:nvGrpSpPr>
            <p:grpSpPr>
              <a:xfrm>
                <a:off x="4876920" y="3994200"/>
                <a:ext cx="1561320" cy="1599480"/>
                <a:chOff x="4876920" y="3994200"/>
                <a:chExt cx="1561320" cy="1599480"/>
              </a:xfrm>
            </p:grpSpPr>
            <p:pic>
              <p:nvPicPr>
                <p:cNvPr id="207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24880" y="5248080"/>
                  <a:ext cx="1285560" cy="345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6920" y="3994200"/>
                  <a:ext cx="1561320" cy="147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7" name=""/>
                <p:cNvSpPr/>
                <p:nvPr/>
              </p:nvSpPr>
              <p:spPr>
                <a:xfrm>
                  <a:off x="4876920" y="3994200"/>
                  <a:ext cx="1550520" cy="147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>
                        <a:alpha val="55294"/>
                      </a:srgbClr>
                    </a:gs>
                    <a:gs pos="50000">
                      <a:srgbClr val="566768">
                        <a:alpha val="90196"/>
                      </a:srgbClr>
                    </a:gs>
                    <a:gs pos="100000">
                      <a:srgbClr val="bbe0e3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7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031360" y="4009320"/>
                <a:ext cx="1234440" cy="522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9" name=""/>
            <p:cNvGrpSpPr/>
            <p:nvPr/>
          </p:nvGrpSpPr>
          <p:grpSpPr>
            <a:xfrm>
              <a:off x="6324480" y="1631880"/>
              <a:ext cx="2278440" cy="2361240"/>
              <a:chOff x="6324480" y="1631880"/>
              <a:chExt cx="2278440" cy="2361240"/>
            </a:xfrm>
          </p:grpSpPr>
          <p:grpSp>
            <p:nvGrpSpPr>
              <p:cNvPr id="2080" name=""/>
              <p:cNvGrpSpPr/>
              <p:nvPr/>
            </p:nvGrpSpPr>
            <p:grpSpPr>
              <a:xfrm>
                <a:off x="6324480" y="1631880"/>
                <a:ext cx="2278440" cy="2361240"/>
                <a:chOff x="6324480" y="1631880"/>
                <a:chExt cx="2278440" cy="2361240"/>
              </a:xfrm>
            </p:grpSpPr>
            <p:pic>
              <p:nvPicPr>
                <p:cNvPr id="208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40480" y="3483000"/>
                  <a:ext cx="1876320" cy="51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324480" y="1631880"/>
                  <a:ext cx="2278440" cy="217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83" name=""/>
                <p:cNvSpPr/>
                <p:nvPr/>
              </p:nvSpPr>
              <p:spPr>
                <a:xfrm>
                  <a:off x="6324480" y="1631880"/>
                  <a:ext cx="2262960" cy="218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55294"/>
                      </a:srgbClr>
                    </a:gs>
                    <a:gs pos="50000">
                      <a:srgbClr val="004646">
                        <a:alpha val="90196"/>
                      </a:srgbClr>
                    </a:gs>
                    <a:gs pos="100000">
                      <a:srgbClr val="009999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8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49840" y="1654560"/>
                <a:ext cx="1801800" cy="770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5" name=""/>
            <p:cNvSpPr/>
            <p:nvPr/>
          </p:nvSpPr>
          <p:spPr>
            <a:xfrm rot="4617600">
              <a:off x="2774520" y="5988240"/>
              <a:ext cx="231840" cy="2030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 rot="3499200">
              <a:off x="4430160" y="5306760"/>
              <a:ext cx="301680" cy="263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2284200">
              <a:off x="6351120" y="3795480"/>
              <a:ext cx="400320" cy="349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Text Box 18"/>
            <p:cNvSpPr/>
            <p:nvPr/>
          </p:nvSpPr>
          <p:spPr>
            <a:xfrm>
              <a:off x="1752480" y="59961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fff"/>
                  </a:solidFill>
                  <a:latin typeface="Calibri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Text Box 18"/>
            <p:cNvSpPr/>
            <p:nvPr/>
          </p:nvSpPr>
          <p:spPr>
            <a:xfrm>
              <a:off x="3429000" y="5518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Calibri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Text Box 18"/>
            <p:cNvSpPr/>
            <p:nvPr/>
          </p:nvSpPr>
          <p:spPr>
            <a:xfrm>
              <a:off x="5181480" y="4451400"/>
              <a:ext cx="92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f"/>
                  </a:solidFill>
                  <a:latin typeface="Calibri"/>
                  <a:ea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Text Box 18"/>
            <p:cNvSpPr/>
            <p:nvPr/>
          </p:nvSpPr>
          <p:spPr>
            <a:xfrm>
              <a:off x="6858000" y="2405160"/>
              <a:ext cx="92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effff"/>
                  </a:solidFill>
                  <a:latin typeface="Calibri"/>
                  <a:ea typeface="Arial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Text Box 4"/>
            <p:cNvSpPr/>
            <p:nvPr/>
          </p:nvSpPr>
          <p:spPr>
            <a:xfrm>
              <a:off x="838080" y="2317680"/>
              <a:ext cx="487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838080" y="3156120"/>
              <a:ext cx="373392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6" name=""/>
          <p:cNvGrpSpPr/>
          <p:nvPr/>
        </p:nvGrpSpPr>
        <p:grpSpPr>
          <a:xfrm>
            <a:off x="662040" y="1676520"/>
            <a:ext cx="7948440" cy="4390920"/>
            <a:chOff x="662040" y="1676520"/>
            <a:chExt cx="7948440" cy="4390920"/>
          </a:xfrm>
        </p:grpSpPr>
        <p:sp>
          <p:nvSpPr>
            <p:cNvPr id="2097" name=""/>
            <p:cNvSpPr/>
            <p:nvPr/>
          </p:nvSpPr>
          <p:spPr>
            <a:xfrm>
              <a:off x="5251320" y="2760840"/>
              <a:ext cx="2867040" cy="2968560"/>
            </a:xfrm>
            <a:prstGeom prst="ellipse">
              <a:avLst/>
            </a:prstGeom>
            <a:noFill/>
            <a:ln w="57240">
              <a:solidFill>
                <a:srgbClr val="0000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247760" y="2760840"/>
              <a:ext cx="2867040" cy="2968560"/>
            </a:xfrm>
            <a:prstGeom prst="ellipse">
              <a:avLst/>
            </a:prstGeom>
            <a:noFill/>
            <a:ln w="57240">
              <a:solidFill>
                <a:srgbClr val="0000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352680" y="3678120"/>
              <a:ext cx="2514600" cy="1220760"/>
            </a:xfrm>
            <a:prstGeom prst="roundRect">
              <a:avLst>
                <a:gd name="adj" fmla="val 13264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5400000"/>
            </a:gradFill>
            <a:ln w="38160">
              <a:solidFill>
                <a:srgbClr val="f8f8f8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429000" y="4059360"/>
              <a:ext cx="242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8f8f8"/>
                  </a:solidFill>
                  <a:latin typeface="Arial"/>
                  <a:ea typeface="Arial"/>
                </a:rPr>
                <a:t>Title in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763640" y="4002120"/>
              <a:ext cx="16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1557360" y="2378160"/>
              <a:ext cx="1044720" cy="1022400"/>
              <a:chOff x="1557360" y="2378160"/>
              <a:chExt cx="1044720" cy="1022400"/>
            </a:xfrm>
          </p:grpSpPr>
          <p:grpSp>
            <p:nvGrpSpPr>
              <p:cNvPr id="2103" name=""/>
              <p:cNvGrpSpPr/>
              <p:nvPr/>
            </p:nvGrpSpPr>
            <p:grpSpPr>
              <a:xfrm>
                <a:off x="1557360" y="2378160"/>
                <a:ext cx="1044720" cy="1022400"/>
                <a:chOff x="1557360" y="2378160"/>
                <a:chExt cx="1044720" cy="1022400"/>
              </a:xfrm>
            </p:grpSpPr>
            <p:pic>
              <p:nvPicPr>
                <p:cNvPr id="210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57360" y="2378160"/>
                  <a:ext cx="1044720" cy="1019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5" name=""/>
                <p:cNvSpPr/>
                <p:nvPr/>
              </p:nvSpPr>
              <p:spPr>
                <a:xfrm>
                  <a:off x="1557360" y="2378160"/>
                  <a:ext cx="1037520" cy="102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55294"/>
                      </a:srgbClr>
                    </a:gs>
                    <a:gs pos="50000">
                      <a:srgbClr val="004646">
                        <a:alpha val="90196"/>
                      </a:srgbClr>
                    </a:gs>
                    <a:gs pos="100000">
                      <a:srgbClr val="009999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61400" y="2387880"/>
                <a:ext cx="825120" cy="36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7" name=""/>
            <p:cNvGrpSpPr/>
            <p:nvPr/>
          </p:nvGrpSpPr>
          <p:grpSpPr>
            <a:xfrm>
              <a:off x="696960" y="3749760"/>
              <a:ext cx="1044360" cy="1022400"/>
              <a:chOff x="696960" y="3749760"/>
              <a:chExt cx="1044360" cy="1022400"/>
            </a:xfrm>
          </p:grpSpPr>
          <p:grpSp>
            <p:nvGrpSpPr>
              <p:cNvPr id="2108" name=""/>
              <p:cNvGrpSpPr/>
              <p:nvPr/>
            </p:nvGrpSpPr>
            <p:grpSpPr>
              <a:xfrm>
                <a:off x="696960" y="3749760"/>
                <a:ext cx="1044360" cy="1022400"/>
                <a:chOff x="696960" y="3749760"/>
                <a:chExt cx="1044360" cy="1022400"/>
              </a:xfrm>
            </p:grpSpPr>
            <p:pic>
              <p:nvPicPr>
                <p:cNvPr id="210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96960" y="3749760"/>
                  <a:ext cx="1044360" cy="1019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0" name=""/>
                <p:cNvSpPr/>
                <p:nvPr/>
              </p:nvSpPr>
              <p:spPr>
                <a:xfrm>
                  <a:off x="696960" y="3749760"/>
                  <a:ext cx="1037160" cy="102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55294"/>
                      </a:srgbClr>
                    </a:gs>
                    <a:gs pos="50000">
                      <a:srgbClr val="004646">
                        <a:alpha val="90196"/>
                      </a:srgbClr>
                    </a:gs>
                    <a:gs pos="100000">
                      <a:srgbClr val="009999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1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1000" y="3759480"/>
                <a:ext cx="824760" cy="36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2" name=""/>
            <p:cNvGrpSpPr/>
            <p:nvPr/>
          </p:nvGrpSpPr>
          <p:grpSpPr>
            <a:xfrm>
              <a:off x="1557360" y="5045040"/>
              <a:ext cx="1044720" cy="1022400"/>
              <a:chOff x="1557360" y="5045040"/>
              <a:chExt cx="1044720" cy="1022400"/>
            </a:xfrm>
          </p:grpSpPr>
          <p:grpSp>
            <p:nvGrpSpPr>
              <p:cNvPr id="2113" name=""/>
              <p:cNvGrpSpPr/>
              <p:nvPr/>
            </p:nvGrpSpPr>
            <p:grpSpPr>
              <a:xfrm>
                <a:off x="1557360" y="5045040"/>
                <a:ext cx="1044720" cy="1022400"/>
                <a:chOff x="1557360" y="5045040"/>
                <a:chExt cx="1044720" cy="1022400"/>
              </a:xfrm>
            </p:grpSpPr>
            <p:pic>
              <p:nvPicPr>
                <p:cNvPr id="211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557360" y="5045040"/>
                  <a:ext cx="1044720" cy="1019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5" name=""/>
                <p:cNvSpPr/>
                <p:nvPr/>
              </p:nvSpPr>
              <p:spPr>
                <a:xfrm>
                  <a:off x="1557360" y="5045040"/>
                  <a:ext cx="1037520" cy="102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>
                        <a:alpha val="55294"/>
                      </a:srgbClr>
                    </a:gs>
                    <a:gs pos="50000">
                      <a:srgbClr val="004646">
                        <a:alpha val="90196"/>
                      </a:srgbClr>
                    </a:gs>
                    <a:gs pos="100000">
                      <a:srgbClr val="009999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661400" y="5054760"/>
                <a:ext cx="825120" cy="361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17" name=""/>
            <p:cNvSpPr/>
            <p:nvPr/>
          </p:nvSpPr>
          <p:spPr>
            <a:xfrm>
              <a:off x="1546200" y="2610000"/>
              <a:ext cx="106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62040" y="3997440"/>
              <a:ext cx="106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549440" y="5262480"/>
              <a:ext cx="106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0" name=""/>
            <p:cNvGrpSpPr/>
            <p:nvPr/>
          </p:nvGrpSpPr>
          <p:grpSpPr>
            <a:xfrm>
              <a:off x="6718320" y="2405160"/>
              <a:ext cx="990720" cy="968400"/>
              <a:chOff x="6718320" y="2405160"/>
              <a:chExt cx="990720" cy="968400"/>
            </a:xfrm>
          </p:grpSpPr>
          <p:grpSp>
            <p:nvGrpSpPr>
              <p:cNvPr id="2121" name=""/>
              <p:cNvGrpSpPr/>
              <p:nvPr/>
            </p:nvGrpSpPr>
            <p:grpSpPr>
              <a:xfrm>
                <a:off x="6718320" y="2405160"/>
                <a:ext cx="990720" cy="968400"/>
                <a:chOff x="6718320" y="2405160"/>
                <a:chExt cx="990720" cy="968400"/>
              </a:xfrm>
            </p:grpSpPr>
            <p:pic>
              <p:nvPicPr>
                <p:cNvPr id="212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718320" y="2405160"/>
                  <a:ext cx="990720" cy="9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3" name=""/>
                <p:cNvSpPr/>
                <p:nvPr/>
              </p:nvSpPr>
              <p:spPr>
                <a:xfrm>
                  <a:off x="6718320" y="2405160"/>
                  <a:ext cx="98388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>
                        <a:alpha val="55294"/>
                      </a:srgbClr>
                    </a:gs>
                    <a:gs pos="50000">
                      <a:srgbClr val="212165">
                        <a:alpha val="90196"/>
                      </a:srgbClr>
                    </a:gs>
                    <a:gs pos="100000">
                      <a:srgbClr val="333399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2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816960" y="2414520"/>
                <a:ext cx="782280" cy="34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25" name=""/>
            <p:cNvSpPr/>
            <p:nvPr/>
          </p:nvSpPr>
          <p:spPr>
            <a:xfrm>
              <a:off x="6680160" y="2610000"/>
              <a:ext cx="106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6" name=""/>
            <p:cNvGrpSpPr/>
            <p:nvPr/>
          </p:nvGrpSpPr>
          <p:grpSpPr>
            <a:xfrm>
              <a:off x="7612200" y="3776760"/>
              <a:ext cx="990360" cy="968400"/>
              <a:chOff x="7612200" y="3776760"/>
              <a:chExt cx="990360" cy="968400"/>
            </a:xfrm>
          </p:grpSpPr>
          <p:grpSp>
            <p:nvGrpSpPr>
              <p:cNvPr id="2127" name=""/>
              <p:cNvGrpSpPr/>
              <p:nvPr/>
            </p:nvGrpSpPr>
            <p:grpSpPr>
              <a:xfrm>
                <a:off x="7612200" y="3776760"/>
                <a:ext cx="990360" cy="968400"/>
                <a:chOff x="7612200" y="3776760"/>
                <a:chExt cx="990360" cy="968400"/>
              </a:xfrm>
            </p:grpSpPr>
            <p:pic>
              <p:nvPicPr>
                <p:cNvPr id="212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612200" y="3776760"/>
                  <a:ext cx="990360" cy="965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9" name=""/>
                <p:cNvSpPr/>
                <p:nvPr/>
              </p:nvSpPr>
              <p:spPr>
                <a:xfrm>
                  <a:off x="7612200" y="3776760"/>
                  <a:ext cx="98352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>
                        <a:alpha val="55294"/>
                      </a:srgbClr>
                    </a:gs>
                    <a:gs pos="50000">
                      <a:srgbClr val="212165">
                        <a:alpha val="90196"/>
                      </a:srgbClr>
                    </a:gs>
                    <a:gs pos="100000">
                      <a:srgbClr val="333399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3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10840" y="3786120"/>
                <a:ext cx="781920" cy="34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31" name=""/>
            <p:cNvSpPr/>
            <p:nvPr/>
          </p:nvSpPr>
          <p:spPr>
            <a:xfrm>
              <a:off x="7550280" y="3997440"/>
              <a:ext cx="106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2" name=""/>
            <p:cNvGrpSpPr/>
            <p:nvPr/>
          </p:nvGrpSpPr>
          <p:grpSpPr>
            <a:xfrm>
              <a:off x="6718320" y="5054760"/>
              <a:ext cx="990720" cy="968040"/>
              <a:chOff x="6718320" y="5054760"/>
              <a:chExt cx="990720" cy="968040"/>
            </a:xfrm>
          </p:grpSpPr>
          <p:grpSp>
            <p:nvGrpSpPr>
              <p:cNvPr id="2133" name=""/>
              <p:cNvGrpSpPr/>
              <p:nvPr/>
            </p:nvGrpSpPr>
            <p:grpSpPr>
              <a:xfrm>
                <a:off x="6718320" y="5054760"/>
                <a:ext cx="990720" cy="968040"/>
                <a:chOff x="6718320" y="5054760"/>
                <a:chExt cx="990720" cy="968040"/>
              </a:xfrm>
            </p:grpSpPr>
            <p:pic>
              <p:nvPicPr>
                <p:cNvPr id="213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718320" y="5054760"/>
                  <a:ext cx="990720" cy="96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5" name=""/>
                <p:cNvSpPr/>
                <p:nvPr/>
              </p:nvSpPr>
              <p:spPr>
                <a:xfrm>
                  <a:off x="6718320" y="5054760"/>
                  <a:ext cx="983880" cy="96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>
                        <a:alpha val="55294"/>
                      </a:srgbClr>
                    </a:gs>
                    <a:gs pos="50000">
                      <a:srgbClr val="212165">
                        <a:alpha val="90196"/>
                      </a:srgbClr>
                    </a:gs>
                    <a:gs pos="100000">
                      <a:srgbClr val="333399">
                        <a:alpha val="55294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3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16960" y="5064120"/>
                <a:ext cx="782280" cy="341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37" name=""/>
            <p:cNvSpPr/>
            <p:nvPr/>
          </p:nvSpPr>
          <p:spPr>
            <a:xfrm>
              <a:off x="6680160" y="5259240"/>
              <a:ext cx="106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910120" y="4002120"/>
              <a:ext cx="16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Text Box 9"/>
            <p:cNvSpPr/>
            <p:nvPr/>
          </p:nvSpPr>
          <p:spPr>
            <a:xfrm>
              <a:off x="1981080" y="1676520"/>
              <a:ext cx="541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2" name=""/>
          <p:cNvGrpSpPr/>
          <p:nvPr/>
        </p:nvGrpSpPr>
        <p:grpSpPr>
          <a:xfrm>
            <a:off x="657360" y="1981080"/>
            <a:ext cx="7877160" cy="3962520"/>
            <a:chOff x="657360" y="1981080"/>
            <a:chExt cx="7877160" cy="3962520"/>
          </a:xfrm>
        </p:grpSpPr>
        <p:sp>
          <p:nvSpPr>
            <p:cNvPr id="2143" name=""/>
            <p:cNvSpPr/>
            <p:nvPr/>
          </p:nvSpPr>
          <p:spPr>
            <a:xfrm>
              <a:off x="657360" y="4343400"/>
              <a:ext cx="2543040" cy="1600200"/>
            </a:xfrm>
            <a:prstGeom prst="roundRect">
              <a:avLst>
                <a:gd name="adj" fmla="val 12699"/>
              </a:avLst>
            </a:prstGeom>
            <a:gradFill rotWithShape="0">
              <a:gsLst>
                <a:gs pos="0">
                  <a:srgbClr val="93b0b3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632040" y="3714840"/>
              <a:ext cx="19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11360" y="4772160"/>
              <a:ext cx="2408040" cy="11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Text Box 18"/>
            <p:cNvSpPr/>
            <p:nvPr/>
          </p:nvSpPr>
          <p:spPr>
            <a:xfrm>
              <a:off x="1112760" y="4367160"/>
              <a:ext cx="16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Text Box 9"/>
            <p:cNvSpPr/>
            <p:nvPr/>
          </p:nvSpPr>
          <p:spPr>
            <a:xfrm>
              <a:off x="752400" y="4849920"/>
              <a:ext cx="2316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57360" y="1981080"/>
              <a:ext cx="2543040" cy="1600200"/>
            </a:xfrm>
            <a:prstGeom prst="roundRect">
              <a:avLst>
                <a:gd name="adj" fmla="val 12699"/>
              </a:avLst>
            </a:prstGeom>
            <a:gradFill rotWithShape="0">
              <a:gsLst>
                <a:gs pos="0">
                  <a:srgbClr val="6a8d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11360" y="2409840"/>
              <a:ext cx="2408040" cy="11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Text Box 18"/>
            <p:cNvSpPr/>
            <p:nvPr/>
          </p:nvSpPr>
          <p:spPr>
            <a:xfrm>
              <a:off x="1112760" y="2004840"/>
              <a:ext cx="16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Text Box 9"/>
            <p:cNvSpPr/>
            <p:nvPr/>
          </p:nvSpPr>
          <p:spPr>
            <a:xfrm>
              <a:off x="752400" y="2487600"/>
              <a:ext cx="2316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991120" y="4343400"/>
              <a:ext cx="2543400" cy="1600200"/>
            </a:xfrm>
            <a:prstGeom prst="roundRect">
              <a:avLst>
                <a:gd name="adj" fmla="val 12699"/>
              </a:avLst>
            </a:prstGeom>
            <a:gradFill rotWithShape="0">
              <a:gsLst>
                <a:gs pos="0">
                  <a:srgbClr val="007878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045120" y="4772160"/>
              <a:ext cx="2408400" cy="1114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Text Box 18"/>
            <p:cNvSpPr/>
            <p:nvPr/>
          </p:nvSpPr>
          <p:spPr>
            <a:xfrm>
              <a:off x="6446880" y="4367160"/>
              <a:ext cx="16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Text Box 9"/>
            <p:cNvSpPr/>
            <p:nvPr/>
          </p:nvSpPr>
          <p:spPr>
            <a:xfrm>
              <a:off x="6086520" y="4849920"/>
              <a:ext cx="2316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991120" y="1981080"/>
              <a:ext cx="2543400" cy="1600200"/>
            </a:xfrm>
            <a:prstGeom prst="roundRect">
              <a:avLst>
                <a:gd name="adj" fmla="val 12699"/>
              </a:avLst>
            </a:prstGeom>
            <a:gradFill rotWithShape="0">
              <a:gsLst>
                <a:gs pos="0">
                  <a:srgbClr val="282878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045120" y="2409840"/>
              <a:ext cx="2408400" cy="1114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Text Box 18"/>
            <p:cNvSpPr/>
            <p:nvPr/>
          </p:nvSpPr>
          <p:spPr>
            <a:xfrm>
              <a:off x="6446880" y="2004840"/>
              <a:ext cx="16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Text Box 9"/>
            <p:cNvSpPr/>
            <p:nvPr/>
          </p:nvSpPr>
          <p:spPr>
            <a:xfrm>
              <a:off x="6086520" y="2487600"/>
              <a:ext cx="2316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0" name=""/>
            <p:cNvGrpSpPr/>
            <p:nvPr/>
          </p:nvGrpSpPr>
          <p:grpSpPr>
            <a:xfrm>
              <a:off x="2734920" y="2182320"/>
              <a:ext cx="3636000" cy="3620160"/>
              <a:chOff x="2734920" y="2182320"/>
              <a:chExt cx="3636000" cy="3620160"/>
            </a:xfrm>
          </p:grpSpPr>
          <p:sp>
            <p:nvSpPr>
              <p:cNvPr id="2161" name=""/>
              <p:cNvSpPr/>
              <p:nvPr/>
            </p:nvSpPr>
            <p:spPr>
              <a:xfrm rot="6774000">
                <a:off x="3200400" y="2733480"/>
                <a:ext cx="2679480" cy="2641680"/>
              </a:xfrm>
              <a:custGeom>
                <a:avLst/>
                <a:gdLst>
                  <a:gd name="textAreaLeft" fmla="*/ 0 w 2679480"/>
                  <a:gd name="textAreaRight" fmla="*/ 2679840 w 2679480"/>
                  <a:gd name="textAreaTop" fmla="*/ 0 h 2641680"/>
                  <a:gd name="textAreaBottom" fmla="*/ 2642040 h 264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506" y="13902"/>
                    </a:moveTo>
                    <a:arcTo wR="-7926" hR="-7926" stAng="9417652" swAng="-4070034"/>
                    <a:lnTo>
                      <a:pt x="10635" y="1"/>
                    </a:lnTo>
                    <a:arcTo wR="10800" hR="10800" stAng="-5452382" swAng="4070034"/>
                    <a:lnTo>
                      <a:pt x="23223" y="5517"/>
                    </a:lnTo>
                    <a:lnTo>
                      <a:pt x="21035" y="10943"/>
                    </a:lnTo>
                    <a:lnTo>
                      <a:pt x="15609" y="87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0000"/>
                  </a:gs>
                </a:gsLst>
                <a:lin ang="672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12174000">
                <a:off x="3143160" y="2715840"/>
                <a:ext cx="2679840" cy="2641680"/>
              </a:xfrm>
              <a:custGeom>
                <a:avLst/>
                <a:gdLst>
                  <a:gd name="textAreaLeft" fmla="*/ 0 w 2679840"/>
                  <a:gd name="textAreaRight" fmla="*/ 2680200 w 2679840"/>
                  <a:gd name="textAreaTop" fmla="*/ 0 h 2641680"/>
                  <a:gd name="textAreaBottom" fmla="*/ 2642040 h 264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506" y="13902"/>
                    </a:moveTo>
                    <a:arcTo wR="-7926" hR="-7926" stAng="9417652" swAng="-4070034"/>
                    <a:lnTo>
                      <a:pt x="10635" y="1"/>
                    </a:lnTo>
                    <a:arcTo wR="10800" hR="10800" stAng="-5452382" swAng="4070034"/>
                    <a:lnTo>
                      <a:pt x="23223" y="5517"/>
                    </a:lnTo>
                    <a:lnTo>
                      <a:pt x="21035" y="10943"/>
                    </a:lnTo>
                    <a:lnTo>
                      <a:pt x="15609" y="87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0000"/>
                  </a:gs>
                </a:gsLst>
                <a:lin ang="132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rot="17574600">
                <a:off x="3240000" y="2609280"/>
                <a:ext cx="2679480" cy="2641680"/>
              </a:xfrm>
              <a:custGeom>
                <a:avLst/>
                <a:gdLst>
                  <a:gd name="textAreaLeft" fmla="*/ 0 w 2679480"/>
                  <a:gd name="textAreaRight" fmla="*/ 2679840 w 2679480"/>
                  <a:gd name="textAreaTop" fmla="*/ 0 h 2641680"/>
                  <a:gd name="textAreaBottom" fmla="*/ 2642040 h 264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506" y="13902"/>
                    </a:moveTo>
                    <a:arcTo wR="-7926" hR="-7926" stAng="9417652" swAng="-4070034"/>
                    <a:lnTo>
                      <a:pt x="10635" y="1"/>
                    </a:lnTo>
                    <a:arcTo wR="10800" hR="10800" stAng="-5452382" swAng="4070034"/>
                    <a:lnTo>
                      <a:pt x="23223" y="5517"/>
                    </a:lnTo>
                    <a:lnTo>
                      <a:pt x="21035" y="10943"/>
                    </a:lnTo>
                    <a:lnTo>
                      <a:pt x="15609" y="87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90c00"/>
                  </a:gs>
                </a:gsLst>
                <a:lin ang="1752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rot="1374000">
                <a:off x="3282480" y="2666880"/>
                <a:ext cx="2679840" cy="2641680"/>
              </a:xfrm>
              <a:custGeom>
                <a:avLst/>
                <a:gdLst>
                  <a:gd name="textAreaLeft" fmla="*/ 0 w 2679840"/>
                  <a:gd name="textAreaRight" fmla="*/ 2680200 w 2679840"/>
                  <a:gd name="textAreaTop" fmla="*/ 0 h 2641680"/>
                  <a:gd name="textAreaBottom" fmla="*/ 2642040 h 264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506" y="13902"/>
                    </a:moveTo>
                    <a:arcTo wR="-7926" hR="-7926" stAng="9417652" swAng="-4070034"/>
                    <a:lnTo>
                      <a:pt x="10635" y="1"/>
                    </a:lnTo>
                    <a:arcTo wR="10800" hR="10800" stAng="-5452382" swAng="4070034"/>
                    <a:lnTo>
                      <a:pt x="23223" y="5517"/>
                    </a:lnTo>
                    <a:lnTo>
                      <a:pt x="21035" y="10943"/>
                    </a:lnTo>
                    <a:lnTo>
                      <a:pt x="15609" y="87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100000">
                    <a:srgbClr val="000000"/>
                  </a:gs>
                </a:gsLst>
                <a:lin ang="1212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7" name=""/>
          <p:cNvGrpSpPr/>
          <p:nvPr/>
        </p:nvGrpSpPr>
        <p:grpSpPr>
          <a:xfrm>
            <a:off x="922320" y="1676520"/>
            <a:ext cx="7265880" cy="4572720"/>
            <a:chOff x="922320" y="1676520"/>
            <a:chExt cx="7265880" cy="4572720"/>
          </a:xfrm>
        </p:grpSpPr>
        <p:sp>
          <p:nvSpPr>
            <p:cNvPr id="2168" name=""/>
            <p:cNvSpPr/>
            <p:nvPr/>
          </p:nvSpPr>
          <p:spPr>
            <a:xfrm>
              <a:off x="5300640" y="3033720"/>
              <a:ext cx="2849760" cy="2752560"/>
            </a:xfrm>
            <a:prstGeom prst="roundRect">
              <a:avLst>
                <a:gd name="adj" fmla="val 8014"/>
              </a:avLst>
            </a:prstGeom>
            <a:solidFill>
              <a:srgbClr val="ffffff"/>
            </a:solidFill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364000" y="3098880"/>
              <a:ext cx="2703600" cy="2611440"/>
            </a:xfrm>
            <a:prstGeom prst="roundRect">
              <a:avLst>
                <a:gd name="adj" fmla="val 79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0" name=""/>
            <p:cNvGrpSpPr/>
            <p:nvPr/>
          </p:nvGrpSpPr>
          <p:grpSpPr>
            <a:xfrm>
              <a:off x="990720" y="2470320"/>
              <a:ext cx="2856960" cy="466560"/>
              <a:chOff x="990720" y="2470320"/>
              <a:chExt cx="2856960" cy="466560"/>
            </a:xfrm>
          </p:grpSpPr>
          <p:sp>
            <p:nvSpPr>
              <p:cNvPr id="2171" name=""/>
              <p:cNvSpPr/>
              <p:nvPr/>
            </p:nvSpPr>
            <p:spPr>
              <a:xfrm>
                <a:off x="990720" y="2470320"/>
                <a:ext cx="285696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82878"/>
                  </a:gs>
                  <a:gs pos="50000">
                    <a:srgbClr val="333399"/>
                  </a:gs>
                  <a:gs pos="100000">
                    <a:srgbClr val="282878"/>
                  </a:gs>
                </a:gsLst>
                <a:lin ang="10800000"/>
              </a:gradFill>
              <a:ln w="0">
                <a:noFill/>
              </a:ln>
              <a:effectLst>
                <a:outerShdw dist="53966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H="1">
                <a:off x="3705120" y="2540160"/>
                <a:ext cx="127440" cy="324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1020960" y="2540160"/>
                <a:ext cx="127440" cy="324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4" name=""/>
            <p:cNvGrpSpPr/>
            <p:nvPr/>
          </p:nvGrpSpPr>
          <p:grpSpPr>
            <a:xfrm>
              <a:off x="5275440" y="2470320"/>
              <a:ext cx="2856960" cy="466560"/>
              <a:chOff x="5275440" y="2470320"/>
              <a:chExt cx="2856960" cy="466560"/>
            </a:xfrm>
          </p:grpSpPr>
          <p:sp>
            <p:nvSpPr>
              <p:cNvPr id="2175" name=""/>
              <p:cNvSpPr/>
              <p:nvPr/>
            </p:nvSpPr>
            <p:spPr>
              <a:xfrm>
                <a:off x="5275440" y="2470320"/>
                <a:ext cx="285696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5c6c9"/>
                  </a:gs>
                  <a:gs pos="50000">
                    <a:srgbClr val="bbe0e3"/>
                  </a:gs>
                  <a:gs pos="100000">
                    <a:srgbClr val="a5c6c9"/>
                  </a:gs>
                </a:gsLst>
                <a:lin ang="10800000"/>
              </a:gradFill>
              <a:ln w="12600">
                <a:solidFill>
                  <a:srgbClr val="bbe0e3"/>
                </a:solidFill>
                <a:miter/>
              </a:ln>
              <a:effectLst>
                <a:outerShdw dist="53966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H="1">
                <a:off x="7989840" y="2540160"/>
                <a:ext cx="127440" cy="324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5305680" y="2540160"/>
                <a:ext cx="127440" cy="324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8" name=""/>
            <p:cNvSpPr/>
            <p:nvPr/>
          </p:nvSpPr>
          <p:spPr>
            <a:xfrm>
              <a:off x="990720" y="3033720"/>
              <a:ext cx="2849400" cy="2712960"/>
            </a:xfrm>
            <a:prstGeom prst="roundRect">
              <a:avLst>
                <a:gd name="adj" fmla="val 8014"/>
              </a:avLst>
            </a:prstGeom>
            <a:solidFill>
              <a:srgbClr val="f8f8f8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Text Box 18"/>
            <p:cNvSpPr/>
            <p:nvPr/>
          </p:nvSpPr>
          <p:spPr>
            <a:xfrm>
              <a:off x="1257480" y="2549520"/>
              <a:ext cx="22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Text Box 18"/>
            <p:cNvSpPr/>
            <p:nvPr/>
          </p:nvSpPr>
          <p:spPr>
            <a:xfrm>
              <a:off x="5595840" y="2549520"/>
              <a:ext cx="223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 flipV="1" rot="10806000">
              <a:off x="3922200" y="3576960"/>
              <a:ext cx="1293840" cy="755640"/>
            </a:xfrm>
            <a:prstGeom prst="rightArrow">
              <a:avLst>
                <a:gd name="adj1" fmla="val 46509"/>
                <a:gd name="adj2" fmla="val 37622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fefefe">
                    <a:alpha val="0"/>
                  </a:srgbClr>
                </a:gs>
              </a:gsLst>
              <a:lin ang="21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543640" y="3174840"/>
              <a:ext cx="224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532480" y="4454640"/>
              <a:ext cx="224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673600" y="3479760"/>
              <a:ext cx="2514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673600" y="4700520"/>
              <a:ext cx="2514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6" name=""/>
            <p:cNvGrpSpPr/>
            <p:nvPr/>
          </p:nvGrpSpPr>
          <p:grpSpPr>
            <a:xfrm>
              <a:off x="5432400" y="3244680"/>
              <a:ext cx="168480" cy="168480"/>
              <a:chOff x="5432400" y="3244680"/>
              <a:chExt cx="168480" cy="168480"/>
            </a:xfrm>
          </p:grpSpPr>
          <p:sp>
            <p:nvSpPr>
              <p:cNvPr id="2187" name=""/>
              <p:cNvSpPr/>
              <p:nvPr/>
            </p:nvSpPr>
            <p:spPr>
              <a:xfrm>
                <a:off x="5432400" y="3244680"/>
                <a:ext cx="168480" cy="168480"/>
              </a:xfrm>
              <a:prstGeom prst="ellipse">
                <a:avLst/>
              </a:prstGeom>
              <a:gradFill rotWithShape="0">
                <a:gsLst>
                  <a:gs pos="0">
                    <a:srgbClr val="223864"/>
                  </a:gs>
                  <a:gs pos="100000">
                    <a:srgbClr val="bec5d1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445720" y="3258720"/>
                <a:ext cx="140400" cy="140040"/>
              </a:xfrm>
              <a:prstGeom prst="ellipse">
                <a:avLst/>
              </a:prstGeom>
              <a:gradFill rotWithShape="0">
                <a:gsLst>
                  <a:gs pos="0">
                    <a:srgbClr val="d2eaec"/>
                  </a:gs>
                  <a:gs pos="100000">
                    <a:srgbClr val="bbe0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9" name=""/>
            <p:cNvGrpSpPr/>
            <p:nvPr/>
          </p:nvGrpSpPr>
          <p:grpSpPr>
            <a:xfrm>
              <a:off x="5432400" y="4535640"/>
              <a:ext cx="168480" cy="168120"/>
              <a:chOff x="5432400" y="4535640"/>
              <a:chExt cx="168480" cy="168120"/>
            </a:xfrm>
          </p:grpSpPr>
          <p:sp>
            <p:nvSpPr>
              <p:cNvPr id="2190" name=""/>
              <p:cNvSpPr/>
              <p:nvPr/>
            </p:nvSpPr>
            <p:spPr>
              <a:xfrm>
                <a:off x="5432400" y="4535640"/>
                <a:ext cx="168480" cy="168120"/>
              </a:xfrm>
              <a:prstGeom prst="ellipse">
                <a:avLst/>
              </a:prstGeom>
              <a:gradFill rotWithShape="0">
                <a:gsLst>
                  <a:gs pos="0">
                    <a:srgbClr val="223864"/>
                  </a:gs>
                  <a:gs pos="100000">
                    <a:srgbClr val="bec5d1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445720" y="4549680"/>
                <a:ext cx="140400" cy="140040"/>
              </a:xfrm>
              <a:prstGeom prst="ellipse">
                <a:avLst/>
              </a:prstGeom>
              <a:gradFill rotWithShape="0">
                <a:gsLst>
                  <a:gs pos="0">
                    <a:srgbClr val="d2eaec"/>
                  </a:gs>
                  <a:gs pos="100000">
                    <a:srgbClr val="bbe0e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2" name=""/>
            <p:cNvSpPr/>
            <p:nvPr/>
          </p:nvSpPr>
          <p:spPr>
            <a:xfrm>
              <a:off x="1143000" y="5024520"/>
              <a:ext cx="26319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80808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80808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066680" y="3260880"/>
              <a:ext cx="2698920" cy="428400"/>
            </a:xfrm>
            <a:prstGeom prst="roundRect">
              <a:avLst>
                <a:gd name="adj" fmla="val 50000"/>
              </a:avLst>
            </a:prstGeom>
            <a:solidFill>
              <a:srgbClr val="33339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066680" y="3844800"/>
              <a:ext cx="2698920" cy="428760"/>
            </a:xfrm>
            <a:prstGeom prst="roundRect">
              <a:avLst>
                <a:gd name="adj" fmla="val 50000"/>
              </a:avLst>
            </a:prstGeom>
            <a:solidFill>
              <a:srgbClr val="33339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066680" y="4405320"/>
              <a:ext cx="2698920" cy="428760"/>
            </a:xfrm>
            <a:prstGeom prst="roundRect">
              <a:avLst>
                <a:gd name="adj" fmla="val 50000"/>
              </a:avLst>
            </a:prstGeom>
            <a:solidFill>
              <a:srgbClr val="33339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091520" y="3333600"/>
              <a:ext cx="26496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091520" y="3917880"/>
              <a:ext cx="26496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091520" y="4476600"/>
              <a:ext cx="26496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V="1" rot="10794000">
              <a:off x="3890160" y="4183200"/>
              <a:ext cx="1297080" cy="755640"/>
            </a:xfrm>
            <a:prstGeom prst="rightArrow">
              <a:avLst>
                <a:gd name="adj1" fmla="val 46509"/>
                <a:gd name="adj2" fmla="val 37716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efefe">
                    <a:alpha val="0"/>
                  </a:srgbClr>
                </a:gs>
              </a:gsLst>
              <a:lin ang="215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Text Box 9"/>
            <p:cNvSpPr/>
            <p:nvPr/>
          </p:nvSpPr>
          <p:spPr>
            <a:xfrm>
              <a:off x="932040" y="1676520"/>
              <a:ext cx="586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922320" y="5911920"/>
              <a:ext cx="28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362560" y="5911920"/>
              <a:ext cx="28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485640" y="1814400"/>
            <a:ext cx="8124840" cy="4357800"/>
            <a:chOff x="485640" y="1814400"/>
            <a:chExt cx="8124840" cy="4357800"/>
          </a:xfrm>
        </p:grpSpPr>
        <p:sp>
          <p:nvSpPr>
            <p:cNvPr id="2206" name=""/>
            <p:cNvSpPr/>
            <p:nvPr/>
          </p:nvSpPr>
          <p:spPr>
            <a:xfrm>
              <a:off x="4648320" y="3382920"/>
              <a:ext cx="3962160" cy="895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15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648320" y="2440080"/>
              <a:ext cx="3962160" cy="895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15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8" name=""/>
            <p:cNvGrpSpPr/>
            <p:nvPr/>
          </p:nvGrpSpPr>
          <p:grpSpPr>
            <a:xfrm>
              <a:off x="485640" y="1843200"/>
              <a:ext cx="3809880" cy="466560"/>
              <a:chOff x="485640" y="1843200"/>
              <a:chExt cx="3809880" cy="466560"/>
            </a:xfrm>
          </p:grpSpPr>
          <p:sp>
            <p:nvSpPr>
              <p:cNvPr id="2209" name=""/>
              <p:cNvSpPr/>
              <p:nvPr/>
            </p:nvSpPr>
            <p:spPr>
              <a:xfrm>
                <a:off x="485640" y="1843200"/>
                <a:ext cx="3809880" cy="466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97c3"/>
                  </a:gs>
                  <a:gs pos="100000">
                    <a:srgbClr val="83c5dd"/>
                  </a:gs>
                </a:gsLst>
                <a:lin ang="10800000"/>
              </a:gradFill>
              <a:ln w="12600">
                <a:solidFill>
                  <a:srgbClr val="1da5d5"/>
                </a:solidFill>
                <a:miter/>
              </a:ln>
              <a:effectLst>
                <a:outerShdw dist="53966" dir="2700000" blurRad="0" rotWithShape="0">
                  <a:srgbClr val="292929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H="1">
                <a:off x="4105800" y="1882800"/>
                <a:ext cx="169920" cy="390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08320" y="1884240"/>
                <a:ext cx="169920" cy="384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3180" y="854"/>
                      <a:pt x="4759" y="5080"/>
                      <a:pt x="4759" y="10800"/>
                    </a:cubicBezTo>
                    <a:cubicBezTo>
                      <a:pt x="4759" y="16520"/>
                      <a:pt x="13180" y="2074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50000">
                    <a:srgbClr val="ffffff">
                      <a:alpha val="84313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2" name="Text Box 18"/>
            <p:cNvSpPr/>
            <p:nvPr/>
          </p:nvSpPr>
          <p:spPr>
            <a:xfrm>
              <a:off x="800280" y="1814400"/>
              <a:ext cx="305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itle in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 rot="5400000">
              <a:off x="4410000" y="2638440"/>
              <a:ext cx="488880" cy="488880"/>
            </a:xfrm>
            <a:prstGeom prst="diamond">
              <a:avLst/>
            </a:prstGeom>
            <a:solidFill>
              <a:srgbClr val="009999"/>
            </a:solidFill>
            <a:ln w="19080">
              <a:solidFill>
                <a:srgbClr val="f8f8f8"/>
              </a:solidFill>
              <a:miter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 rot="5400000">
              <a:off x="4409640" y="3581280"/>
              <a:ext cx="489240" cy="488880"/>
            </a:xfrm>
            <a:prstGeom prst="diamond">
              <a:avLst/>
            </a:prstGeom>
            <a:solidFill>
              <a:srgbClr val="99cc00"/>
            </a:solidFill>
            <a:ln w="19080">
              <a:solidFill>
                <a:srgbClr val="f8f8f8"/>
              </a:solidFill>
              <a:miter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648320" y="5259240"/>
              <a:ext cx="3962160" cy="895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15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648320" y="4316400"/>
              <a:ext cx="3962160" cy="895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158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 rot="5400000">
              <a:off x="4410000" y="4514760"/>
              <a:ext cx="488880" cy="488880"/>
            </a:xfrm>
            <a:prstGeom prst="diamond">
              <a:avLst/>
            </a:prstGeom>
            <a:solidFill>
              <a:srgbClr val="bbe0e3"/>
            </a:solidFill>
            <a:ln w="19080">
              <a:solidFill>
                <a:srgbClr val="f8f8f8"/>
              </a:solidFill>
              <a:miter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 rot="5400000">
              <a:off x="4410000" y="5457960"/>
              <a:ext cx="488880" cy="488880"/>
            </a:xfrm>
            <a:prstGeom prst="diamond">
              <a:avLst/>
            </a:prstGeom>
            <a:solidFill>
              <a:srgbClr val="333399"/>
            </a:solidFill>
            <a:ln w="19080">
              <a:solidFill>
                <a:srgbClr val="f8f8f8"/>
              </a:solidFill>
              <a:miter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952880" y="2652840"/>
              <a:ext cx="33530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Text Box 9"/>
            <p:cNvSpPr/>
            <p:nvPr/>
          </p:nvSpPr>
          <p:spPr>
            <a:xfrm>
              <a:off x="4952880" y="3454560"/>
              <a:ext cx="3505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952880" y="4519440"/>
              <a:ext cx="33530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876"/>
                </a:spcBef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Description of the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Text Box 9"/>
            <p:cNvSpPr/>
            <p:nvPr/>
          </p:nvSpPr>
          <p:spPr>
            <a:xfrm>
              <a:off x="4952880" y="5330880"/>
              <a:ext cx="3505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09480" y="2530440"/>
              <a:ext cx="3625920" cy="362592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f8f8f8"/>
              </a:solidFill>
              <a:miter/>
            </a:ln>
            <a:effectLst>
              <a:outerShdw dist="91658" dir="338234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958680" y="3297240"/>
              <a:ext cx="2927520" cy="2867040"/>
            </a:xfrm>
            <a:prstGeom prst="ellipse">
              <a:avLst/>
            </a:prstGeom>
            <a:solidFill>
              <a:srgbClr val="99cc00"/>
            </a:solidFill>
            <a:ln w="19080">
              <a:solidFill>
                <a:srgbClr val="f8f8f8"/>
              </a:solidFill>
              <a:miter/>
            </a:ln>
            <a:effectLst>
              <a:outerShdw dist="91658" dir="338234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353960" y="4025880"/>
              <a:ext cx="2160720" cy="213984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f8f8f8"/>
              </a:solidFill>
              <a:miter/>
            </a:ln>
            <a:effectLst>
              <a:outerShdw dist="91658" dir="338234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704960" y="4719600"/>
              <a:ext cx="1484280" cy="145260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8f8f8"/>
              </a:solidFill>
              <a:miter/>
            </a:ln>
            <a:effectLst>
              <a:outerShdw dist="91658" dir="338234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Text Box 18"/>
            <p:cNvSpPr/>
            <p:nvPr/>
          </p:nvSpPr>
          <p:spPr>
            <a:xfrm>
              <a:off x="1577880" y="5305320"/>
              <a:ext cx="179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Text Box 18"/>
            <p:cNvSpPr/>
            <p:nvPr/>
          </p:nvSpPr>
          <p:spPr>
            <a:xfrm>
              <a:off x="1482840" y="4284720"/>
              <a:ext cx="188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Text Box 18"/>
            <p:cNvSpPr/>
            <p:nvPr/>
          </p:nvSpPr>
          <p:spPr>
            <a:xfrm>
              <a:off x="1482840" y="3492360"/>
              <a:ext cx="188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Text Box 18"/>
            <p:cNvSpPr/>
            <p:nvPr/>
          </p:nvSpPr>
          <p:spPr>
            <a:xfrm>
              <a:off x="1482840" y="2725560"/>
              <a:ext cx="188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8f8f8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1393920" y="1523880"/>
            <a:ext cx="6360840" cy="4907880"/>
            <a:chOff x="1393920" y="1523880"/>
            <a:chExt cx="6360840" cy="4907880"/>
          </a:xfrm>
        </p:grpSpPr>
        <p:sp>
          <p:nvSpPr>
            <p:cNvPr id="2234" name=""/>
            <p:cNvSpPr/>
            <p:nvPr/>
          </p:nvSpPr>
          <p:spPr>
            <a:xfrm>
              <a:off x="1393920" y="4484520"/>
              <a:ext cx="6360840" cy="103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f7f7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393920" y="3110040"/>
              <a:ext cx="6360840" cy="103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f7f7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393920" y="1746360"/>
              <a:ext cx="6360840" cy="1030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f7f7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7" name=""/>
            <p:cNvGrpSpPr/>
            <p:nvPr/>
          </p:nvGrpSpPr>
          <p:grpSpPr>
            <a:xfrm>
              <a:off x="2222640" y="2889360"/>
              <a:ext cx="4686120" cy="463320"/>
              <a:chOff x="2222640" y="2889360"/>
              <a:chExt cx="4686120" cy="463320"/>
            </a:xfrm>
          </p:grpSpPr>
          <p:sp>
            <p:nvSpPr>
              <p:cNvPr id="2238" name=""/>
              <p:cNvSpPr/>
              <p:nvPr/>
            </p:nvSpPr>
            <p:spPr>
              <a:xfrm>
                <a:off x="2222640" y="2889360"/>
                <a:ext cx="4686120" cy="463320"/>
              </a:xfrm>
              <a:prstGeom prst="roundRect">
                <a:avLst>
                  <a:gd name="adj" fmla="val 17509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9" name=""/>
              <p:cNvGrpSpPr/>
              <p:nvPr/>
            </p:nvGrpSpPr>
            <p:grpSpPr>
              <a:xfrm>
                <a:off x="2234160" y="2903760"/>
                <a:ext cx="4668840" cy="428400"/>
                <a:chOff x="2234160" y="2903760"/>
                <a:chExt cx="4668840" cy="428400"/>
              </a:xfrm>
            </p:grpSpPr>
            <p:sp>
              <p:nvSpPr>
                <p:cNvPr id="2240" name=""/>
                <p:cNvSpPr/>
                <p:nvPr/>
              </p:nvSpPr>
              <p:spPr>
                <a:xfrm>
                  <a:off x="2234160" y="3221280"/>
                  <a:ext cx="4668840" cy="110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9cc00">
                        <a:alpha val="0"/>
                      </a:srgbClr>
                    </a:gs>
                    <a:gs pos="100000">
                      <a:srgbClr val="daeca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2234160" y="2903760"/>
                  <a:ext cx="4668840" cy="110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7ea9d"/>
                    </a:gs>
                    <a:gs pos="100000">
                      <a:srgbClr val="99cc00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2" name=""/>
            <p:cNvGrpSpPr/>
            <p:nvPr/>
          </p:nvGrpSpPr>
          <p:grpSpPr>
            <a:xfrm>
              <a:off x="2195640" y="4260960"/>
              <a:ext cx="4686120" cy="463320"/>
              <a:chOff x="2195640" y="4260960"/>
              <a:chExt cx="4686120" cy="463320"/>
            </a:xfrm>
          </p:grpSpPr>
          <p:sp>
            <p:nvSpPr>
              <p:cNvPr id="2243" name=""/>
              <p:cNvSpPr/>
              <p:nvPr/>
            </p:nvSpPr>
            <p:spPr>
              <a:xfrm>
                <a:off x="2195640" y="4260960"/>
                <a:ext cx="4686120" cy="463320"/>
              </a:xfrm>
              <a:prstGeom prst="roundRect">
                <a:avLst>
                  <a:gd name="adj" fmla="val 17509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4" name=""/>
              <p:cNvGrpSpPr/>
              <p:nvPr/>
            </p:nvGrpSpPr>
            <p:grpSpPr>
              <a:xfrm>
                <a:off x="2207160" y="4275360"/>
                <a:ext cx="4668840" cy="428400"/>
                <a:chOff x="2207160" y="4275360"/>
                <a:chExt cx="4668840" cy="428400"/>
              </a:xfrm>
            </p:grpSpPr>
            <p:sp>
              <p:nvSpPr>
                <p:cNvPr id="2245" name=""/>
                <p:cNvSpPr/>
                <p:nvPr/>
              </p:nvSpPr>
              <p:spPr>
                <a:xfrm>
                  <a:off x="2207160" y="4592880"/>
                  <a:ext cx="4668840" cy="110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4f2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2207160" y="4275360"/>
                  <a:ext cx="4668840" cy="110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6f3f4"/>
                    </a:gs>
                    <a:gs pos="100000">
                      <a:srgbClr val="bbe0e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7" name=""/>
            <p:cNvGrpSpPr/>
            <p:nvPr/>
          </p:nvGrpSpPr>
          <p:grpSpPr>
            <a:xfrm>
              <a:off x="2225520" y="1523880"/>
              <a:ext cx="4686480" cy="463680"/>
              <a:chOff x="2225520" y="1523880"/>
              <a:chExt cx="4686480" cy="463680"/>
            </a:xfrm>
          </p:grpSpPr>
          <p:sp>
            <p:nvSpPr>
              <p:cNvPr id="2248" name=""/>
              <p:cNvSpPr/>
              <p:nvPr/>
            </p:nvSpPr>
            <p:spPr>
              <a:xfrm>
                <a:off x="2225520" y="1523880"/>
                <a:ext cx="4686480" cy="463680"/>
              </a:xfrm>
              <a:prstGeom prst="roundRect">
                <a:avLst>
                  <a:gd name="adj" fmla="val 17509"/>
                </a:avLst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9" name=""/>
              <p:cNvGrpSpPr/>
              <p:nvPr/>
            </p:nvGrpSpPr>
            <p:grpSpPr>
              <a:xfrm>
                <a:off x="2237040" y="1538280"/>
                <a:ext cx="4669200" cy="428400"/>
                <a:chOff x="2237040" y="1538280"/>
                <a:chExt cx="4669200" cy="428400"/>
              </a:xfrm>
            </p:grpSpPr>
            <p:sp>
              <p:nvSpPr>
                <p:cNvPr id="2250" name=""/>
                <p:cNvSpPr/>
                <p:nvPr/>
              </p:nvSpPr>
              <p:spPr>
                <a:xfrm>
                  <a:off x="2237040" y="1855800"/>
                  <a:ext cx="4669200" cy="110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333399">
                        <a:alpha val="0"/>
                      </a:srgbClr>
                    </a:gs>
                    <a:gs pos="100000">
                      <a:srgbClr val="b7b7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>
                  <a:off x="2237040" y="1538280"/>
                  <a:ext cx="4669200" cy="11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dbddd"/>
                    </a:gs>
                    <a:gs pos="100000">
                      <a:srgbClr val="3333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2" name=""/>
            <p:cNvSpPr/>
            <p:nvPr/>
          </p:nvSpPr>
          <p:spPr>
            <a:xfrm>
              <a:off x="3435840" y="1568520"/>
              <a:ext cx="22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435840" y="2948040"/>
              <a:ext cx="22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435840" y="4316400"/>
              <a:ext cx="22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452600" y="2021040"/>
              <a:ext cx="337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419120" y="2344680"/>
              <a:ext cx="631980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452600" y="4775040"/>
              <a:ext cx="337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419120" y="5068800"/>
              <a:ext cx="631980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496880" y="5667480"/>
              <a:ext cx="616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 is a Design Digital Content &amp; Contents mall developed by Guild Design In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452600" y="3400560"/>
              <a:ext cx="337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419120" y="3693960"/>
              <a:ext cx="631980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4" name=""/>
          <p:cNvGrpSpPr/>
          <p:nvPr/>
        </p:nvGrpSpPr>
        <p:grpSpPr>
          <a:xfrm>
            <a:off x="914400" y="1676520"/>
            <a:ext cx="7286760" cy="4649400"/>
            <a:chOff x="914400" y="1676520"/>
            <a:chExt cx="7286760" cy="4649400"/>
          </a:xfrm>
        </p:grpSpPr>
        <p:sp>
          <p:nvSpPr>
            <p:cNvPr id="2265" name=""/>
            <p:cNvSpPr/>
            <p:nvPr/>
          </p:nvSpPr>
          <p:spPr>
            <a:xfrm flipV="1">
              <a:off x="2163600" y="4013280"/>
              <a:ext cx="2283120" cy="15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5e7173"/>
                </a:gs>
                <a:gs pos="100000">
                  <a:srgbClr val="bbe0e3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565520" y="2398680"/>
              <a:ext cx="2284560" cy="1575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7da700"/>
                </a:gs>
              </a:gsLst>
              <a:lin ang="81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163600" y="2398680"/>
              <a:ext cx="2284560" cy="1575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39a00"/>
                </a:gs>
                <a:gs pos="100000">
                  <a:srgbClr val="99cc00"/>
                </a:gs>
              </a:gsLst>
              <a:lin ang="135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3367080" y="2397240"/>
              <a:ext cx="2284560" cy="1573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5c7a00"/>
                </a:gs>
                <a:gs pos="100000">
                  <a:srgbClr val="99cc00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362400" y="4010040"/>
              <a:ext cx="2284200" cy="15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da9ac"/>
                </a:gs>
                <a:gs pos="100000">
                  <a:srgbClr val="bbe0e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V="1">
              <a:off x="4562640" y="4013280"/>
              <a:ext cx="2282760" cy="157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87a2a4"/>
                </a:gs>
              </a:gsLst>
              <a:lin ang="13500000"/>
            </a:gradFill>
            <a:ln w="284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886200" y="2487600"/>
              <a:ext cx="123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690640" y="4241880"/>
              <a:ext cx="1231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048280" y="4241880"/>
              <a:ext cx="123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886200" y="4830840"/>
              <a:ext cx="123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933480" y="2781360"/>
              <a:ext cx="17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372360" y="2798640"/>
              <a:ext cx="178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914400" y="4616280"/>
              <a:ext cx="17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419880" y="4633920"/>
              <a:ext cx="17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019320" y="1676520"/>
              <a:ext cx="307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289320" y="5683320"/>
              <a:ext cx="246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690640" y="3071880"/>
              <a:ext cx="1231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048280" y="3071880"/>
              <a:ext cx="123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3" name=""/>
            <p:cNvGrpSpPr/>
            <p:nvPr/>
          </p:nvGrpSpPr>
          <p:grpSpPr>
            <a:xfrm>
              <a:off x="3657600" y="3429000"/>
              <a:ext cx="1652760" cy="1108080"/>
              <a:chOff x="3657600" y="3429000"/>
              <a:chExt cx="1652760" cy="1108080"/>
            </a:xfrm>
          </p:grpSpPr>
          <p:sp>
            <p:nvSpPr>
              <p:cNvPr id="2284" name=""/>
              <p:cNvSpPr/>
              <p:nvPr/>
            </p:nvSpPr>
            <p:spPr>
              <a:xfrm>
                <a:off x="3657600" y="3429000"/>
                <a:ext cx="1652760" cy="1108080"/>
              </a:xfrm>
              <a:prstGeom prst="hexagon">
                <a:avLst>
                  <a:gd name="adj" fmla="val 37289"/>
                  <a:gd name="vf" fmla="val 115470"/>
                </a:avLst>
              </a:prstGeom>
              <a:solidFill>
                <a:srgbClr val="f8f8f8">
                  <a:alpha val="50000"/>
                </a:srgbClr>
              </a:solidFill>
              <a:ln w="1908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3701160" y="3456000"/>
                <a:ext cx="1554480" cy="1042200"/>
              </a:xfrm>
              <a:prstGeom prst="hexagon">
                <a:avLst>
                  <a:gd name="adj" fmla="val 37288"/>
                  <a:gd name="vf" fmla="val 115470"/>
                </a:avLst>
              </a:prstGeom>
              <a:solidFill>
                <a:srgbClr val="f8f8f8"/>
              </a:solidFill>
              <a:ln w="1908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6" name=""/>
            <p:cNvSpPr/>
            <p:nvPr/>
          </p:nvSpPr>
          <p:spPr>
            <a:xfrm>
              <a:off x="3857760" y="35971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0920" y="994680"/>
            <a:ext cx="7705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425240" y="1164240"/>
            <a:ext cx="7378920" cy="5581800"/>
            <a:chOff x="1425240" y="1164240"/>
            <a:chExt cx="7378920" cy="5581800"/>
          </a:xfrm>
        </p:grpSpPr>
        <p:sp>
          <p:nvSpPr>
            <p:cNvPr id="233" name=""/>
            <p:cNvSpPr/>
            <p:nvPr/>
          </p:nvSpPr>
          <p:spPr>
            <a:xfrm>
              <a:off x="2962080" y="495144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0601600">
              <a:off x="2236680" y="283788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20601600">
              <a:off x="2293200" y="2675880"/>
              <a:ext cx="556236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0601600">
              <a:off x="2210040" y="2661480"/>
              <a:ext cx="569772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5cbdbd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20602200">
              <a:off x="2258640" y="2662200"/>
              <a:ext cx="564264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829b9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0601600">
              <a:off x="2216520" y="2673000"/>
              <a:ext cx="56808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006e6e"/>
                </a:gs>
                <a:gs pos="100000">
                  <a:srgbClr val="009999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rot="20602200">
              <a:off x="2227320" y="2671920"/>
              <a:ext cx="5701320" cy="292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87760" y="410832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539200">
              <a:off x="1843560" y="2068560"/>
              <a:ext cx="6541920" cy="377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98840" y="444816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0601600">
              <a:off x="3754080" y="339084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44640" y="40701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49760" y="285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78560" y="31557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73640" y="4375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63960" y="5060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17840" y="4663800"/>
              <a:ext cx="863280" cy="107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19215"/>
                  </a:srgbClr>
                </a:gs>
                <a:gs pos="100000">
                  <a:srgbClr val="54ba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0601600">
              <a:off x="3855960" y="3643200"/>
              <a:ext cx="258552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9" name=""/>
          <p:cNvGrpSpPr/>
          <p:nvPr/>
        </p:nvGrpSpPr>
        <p:grpSpPr>
          <a:xfrm>
            <a:off x="709560" y="1263240"/>
            <a:ext cx="7824960" cy="4985280"/>
            <a:chOff x="709560" y="1263240"/>
            <a:chExt cx="7824960" cy="4985280"/>
          </a:xfrm>
        </p:grpSpPr>
        <p:sp>
          <p:nvSpPr>
            <p:cNvPr id="2290" name=""/>
            <p:cNvSpPr/>
            <p:nvPr/>
          </p:nvSpPr>
          <p:spPr>
            <a:xfrm>
              <a:off x="990720" y="5057640"/>
              <a:ext cx="3352680" cy="1190880"/>
            </a:xfrm>
            <a:prstGeom prst="roundRect">
              <a:avLst>
                <a:gd name="adj" fmla="val 948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1" name=""/>
            <p:cNvGrpSpPr/>
            <p:nvPr/>
          </p:nvGrpSpPr>
          <p:grpSpPr>
            <a:xfrm>
              <a:off x="1219320" y="4857840"/>
              <a:ext cx="2885760" cy="443880"/>
              <a:chOff x="1219320" y="4857840"/>
              <a:chExt cx="2885760" cy="443880"/>
            </a:xfrm>
          </p:grpSpPr>
          <p:sp>
            <p:nvSpPr>
              <p:cNvPr id="2292" name=""/>
              <p:cNvSpPr/>
              <p:nvPr/>
            </p:nvSpPr>
            <p:spPr>
              <a:xfrm>
                <a:off x="1219320" y="4857840"/>
                <a:ext cx="2885760" cy="443880"/>
              </a:xfrm>
              <a:prstGeom prst="roundRect">
                <a:avLst>
                  <a:gd name="adj" fmla="val 27917"/>
                </a:avLst>
              </a:prstGeom>
              <a:solidFill>
                <a:srgbClr val="7bb11b"/>
              </a:solidFill>
              <a:ln w="0">
                <a:noFill/>
              </a:ln>
              <a:effectLst>
                <a:outerShdw dist="12600" dir="54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1238760" y="4861440"/>
                <a:ext cx="2845440" cy="199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>
                      <a:alpha val="30196"/>
                    </a:srgbClr>
                  </a:gs>
                  <a:gs pos="100000">
                    <a:srgbClr val="7bb11b">
                      <a:alpha val="3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4" name=""/>
            <p:cNvSpPr/>
            <p:nvPr/>
          </p:nvSpPr>
          <p:spPr>
            <a:xfrm>
              <a:off x="4648320" y="5057640"/>
              <a:ext cx="3352680" cy="1190880"/>
            </a:xfrm>
            <a:prstGeom prst="roundRect">
              <a:avLst>
                <a:gd name="adj" fmla="val 948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5" name=""/>
            <p:cNvGrpSpPr/>
            <p:nvPr/>
          </p:nvGrpSpPr>
          <p:grpSpPr>
            <a:xfrm>
              <a:off x="4876920" y="4857840"/>
              <a:ext cx="2885760" cy="443880"/>
              <a:chOff x="4876920" y="4857840"/>
              <a:chExt cx="2885760" cy="443880"/>
            </a:xfrm>
          </p:grpSpPr>
          <p:sp>
            <p:nvSpPr>
              <p:cNvPr id="2296" name=""/>
              <p:cNvSpPr/>
              <p:nvPr/>
            </p:nvSpPr>
            <p:spPr>
              <a:xfrm>
                <a:off x="4876920" y="4857840"/>
                <a:ext cx="2885760" cy="443880"/>
              </a:xfrm>
              <a:prstGeom prst="roundRect">
                <a:avLst>
                  <a:gd name="adj" fmla="val 27917"/>
                </a:avLst>
              </a:prstGeom>
              <a:solidFill>
                <a:srgbClr val="ff7c80"/>
              </a:solidFill>
              <a:ln w="0">
                <a:noFill/>
              </a:ln>
              <a:effectLst>
                <a:outerShdw dist="12600" dir="54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896360" y="4861440"/>
                <a:ext cx="2845440" cy="199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>
                      <a:alpha val="30196"/>
                    </a:srgbClr>
                  </a:gs>
                  <a:gs pos="100000">
                    <a:srgbClr val="ff7c80">
                      <a:alpha val="3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8" name=""/>
            <p:cNvGrpSpPr/>
            <p:nvPr/>
          </p:nvGrpSpPr>
          <p:grpSpPr>
            <a:xfrm>
              <a:off x="709560" y="4248000"/>
              <a:ext cx="7824960" cy="552600"/>
              <a:chOff x="709560" y="4248000"/>
              <a:chExt cx="7824960" cy="552600"/>
            </a:xfrm>
          </p:grpSpPr>
          <p:sp>
            <p:nvSpPr>
              <p:cNvPr id="2299" name=""/>
              <p:cNvSpPr/>
              <p:nvPr/>
            </p:nvSpPr>
            <p:spPr>
              <a:xfrm>
                <a:off x="709560" y="4383000"/>
                <a:ext cx="346320" cy="277920"/>
              </a:xfrm>
              <a:prstGeom prst="roundRect">
                <a:avLst>
                  <a:gd name="adj" fmla="val 29069"/>
                </a:avLst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838440" y="4248000"/>
                <a:ext cx="7696080" cy="552600"/>
              </a:xfrm>
              <a:prstGeom prst="rightArrow">
                <a:avLst>
                  <a:gd name="adj1" fmla="val 50000"/>
                  <a:gd name="adj2" fmla="val 63187"/>
                </a:avLst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1" name=""/>
            <p:cNvSpPr/>
            <p:nvPr/>
          </p:nvSpPr>
          <p:spPr>
            <a:xfrm>
              <a:off x="1676520" y="43434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  <a:ea typeface="Arial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221000" y="43434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  <a:ea typeface="Arial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586560" y="43434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  <a:ea typeface="Arial"/>
                </a:rPr>
                <a:t>20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V="1">
              <a:off x="990720" y="2438280"/>
              <a:ext cx="0" cy="1905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V="1">
              <a:off x="3346560" y="2101320"/>
              <a:ext cx="0" cy="2241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V="1">
              <a:off x="5686560" y="1644120"/>
              <a:ext cx="0" cy="2698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8050320" y="1263240"/>
              <a:ext cx="0" cy="3079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990720" y="3886200"/>
              <a:ext cx="2347920" cy="457200"/>
            </a:xfrm>
            <a:prstGeom prst="bevel">
              <a:avLst>
                <a:gd name="adj" fmla="val 5903"/>
              </a:avLst>
            </a:prstGeom>
            <a:gradFill rotWithShape="0">
              <a:gsLst>
                <a:gs pos="0">
                  <a:srgbClr val="d7ecee"/>
                </a:gs>
                <a:gs pos="100000">
                  <a:srgbClr val="bbe0e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348000" y="3352680"/>
              <a:ext cx="2347920" cy="990720"/>
            </a:xfrm>
            <a:prstGeom prst="bevel">
              <a:avLst>
                <a:gd name="adj" fmla="val 3046"/>
              </a:avLst>
            </a:prstGeom>
            <a:gradFill rotWithShape="0">
              <a:gsLst>
                <a:gs pos="0">
                  <a:srgbClr val="9090c7"/>
                </a:gs>
                <a:gs pos="100000">
                  <a:srgbClr val="3333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695920" y="2743200"/>
              <a:ext cx="2347920" cy="1600200"/>
            </a:xfrm>
            <a:prstGeom prst="bevel">
              <a:avLst>
                <a:gd name="adj" fmla="val 2481"/>
              </a:avLst>
            </a:prstGeom>
            <a:gradFill rotWithShape="0">
              <a:gsLst>
                <a:gs pos="0">
                  <a:srgbClr val="bddd5c"/>
                </a:gs>
                <a:gs pos="100000">
                  <a:srgbClr val="99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990720" y="2714760"/>
              <a:ext cx="2286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3375000" y="2209680"/>
              <a:ext cx="2286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722920" y="1600200"/>
              <a:ext cx="2286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219320" y="388944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249200" y="4903920"/>
              <a:ext cx="28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906800" y="4903920"/>
              <a:ext cx="280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096920" y="5380200"/>
              <a:ext cx="3124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745160" y="5380200"/>
              <a:ext cx="3124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581280" y="3657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910120" y="3389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3" name="" descr=""/>
          <p:cNvPicPr/>
          <p:nvPr/>
        </p:nvPicPr>
        <p:blipFill>
          <a:blip r:embed="rId1"/>
          <a:stretch/>
        </p:blipFill>
        <p:spPr>
          <a:xfrm>
            <a:off x="3995640" y="3429000"/>
            <a:ext cx="208908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6" name=""/>
          <p:cNvGrpSpPr/>
          <p:nvPr/>
        </p:nvGrpSpPr>
        <p:grpSpPr>
          <a:xfrm>
            <a:off x="755640" y="1989000"/>
            <a:ext cx="8832960" cy="4195440"/>
            <a:chOff x="755640" y="1989000"/>
            <a:chExt cx="8832960" cy="4195440"/>
          </a:xfrm>
        </p:grpSpPr>
        <p:sp>
          <p:nvSpPr>
            <p:cNvPr id="2327" name=""/>
            <p:cNvSpPr/>
            <p:nvPr/>
          </p:nvSpPr>
          <p:spPr>
            <a:xfrm rot="692400">
              <a:off x="2623680" y="2738880"/>
              <a:ext cx="4654800" cy="23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22" y="448"/>
                  </a:moveTo>
                  <a:arcTo wR="10800" hR="10800" stAng="-6393413" swAng="2073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7722" y="448"/>
                  </a:moveTo>
                  <a:arcTo wR="10800" hR="10800" stAng="-6393413" swAng="2073627"/>
                </a:path>
              </a:pathLst>
            </a:custGeom>
            <a:noFill/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8" name=""/>
            <p:cNvGrpSpPr/>
            <p:nvPr/>
          </p:nvGrpSpPr>
          <p:grpSpPr>
            <a:xfrm>
              <a:off x="3927600" y="2400120"/>
              <a:ext cx="409680" cy="425160"/>
              <a:chOff x="3927600" y="2400120"/>
              <a:chExt cx="409680" cy="425160"/>
            </a:xfrm>
          </p:grpSpPr>
          <p:pic>
            <p:nvPicPr>
              <p:cNvPr id="23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27600" y="2400120"/>
                <a:ext cx="409680" cy="42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0" name=""/>
              <p:cNvSpPr/>
              <p:nvPr/>
            </p:nvSpPr>
            <p:spPr>
              <a:xfrm>
                <a:off x="3927600" y="2400120"/>
                <a:ext cx="407160" cy="425160"/>
              </a:xfrm>
              <a:prstGeom prst="ellipse">
                <a:avLst/>
              </a:prstGeom>
              <a:gradFill rotWithShape="0">
                <a:gsLst>
                  <a:gs pos="0">
                    <a:srgbClr val="dddddd">
                      <a:alpha val="55294"/>
                    </a:srgbClr>
                  </a:gs>
                  <a:gs pos="50000">
                    <a:srgbClr val="656565">
                      <a:alpha val="90196"/>
                    </a:srgbClr>
                  </a:gs>
                  <a:gs pos="100000">
                    <a:srgbClr val="dddddd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7560" y="2404800"/>
                <a:ext cx="32364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2" name=""/>
            <p:cNvGrpSpPr/>
            <p:nvPr/>
          </p:nvGrpSpPr>
          <p:grpSpPr>
            <a:xfrm>
              <a:off x="5908680" y="2864520"/>
              <a:ext cx="333360" cy="345960"/>
              <a:chOff x="5908680" y="2864520"/>
              <a:chExt cx="333360" cy="345960"/>
            </a:xfrm>
          </p:grpSpPr>
          <p:pic>
            <p:nvPicPr>
              <p:cNvPr id="23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908680" y="2864520"/>
                <a:ext cx="333360" cy="34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4" name=""/>
              <p:cNvSpPr/>
              <p:nvPr/>
            </p:nvSpPr>
            <p:spPr>
              <a:xfrm>
                <a:off x="5908680" y="2864520"/>
                <a:ext cx="330840" cy="345960"/>
              </a:xfrm>
              <a:prstGeom prst="ellipse">
                <a:avLst/>
              </a:prstGeom>
              <a:gradFill rotWithShape="0">
                <a:gsLst>
                  <a:gs pos="0">
                    <a:srgbClr val="dddddd">
                      <a:alpha val="55294"/>
                    </a:srgbClr>
                  </a:gs>
                  <a:gs pos="50000">
                    <a:srgbClr val="656565">
                      <a:alpha val="90196"/>
                    </a:srgbClr>
                  </a:gs>
                  <a:gs pos="100000">
                    <a:srgbClr val="dddddd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942160" y="2867760"/>
                <a:ext cx="262800" cy="122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6" name=""/>
            <p:cNvGrpSpPr/>
            <p:nvPr/>
          </p:nvGrpSpPr>
          <p:grpSpPr>
            <a:xfrm>
              <a:off x="6679800" y="3562920"/>
              <a:ext cx="1086840" cy="1117800"/>
              <a:chOff x="6679800" y="3562920"/>
              <a:chExt cx="1086840" cy="1117800"/>
            </a:xfrm>
          </p:grpSpPr>
          <p:pic>
            <p:nvPicPr>
              <p:cNvPr id="2337" name="" descr=""/>
              <p:cNvPicPr/>
              <p:nvPr/>
            </p:nvPicPr>
            <p:blipFill>
              <a:blip r:embed="rId5"/>
              <a:stretch/>
            </p:blipFill>
            <p:spPr>
              <a:xfrm rot="692400">
                <a:off x="6766200" y="3644640"/>
                <a:ext cx="914040" cy="95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8" name=""/>
              <p:cNvSpPr/>
              <p:nvPr/>
            </p:nvSpPr>
            <p:spPr>
              <a:xfrm rot="692400">
                <a:off x="6766200" y="3643920"/>
                <a:ext cx="907920" cy="955440"/>
              </a:xfrm>
              <a:prstGeom prst="ellipse">
                <a:avLst/>
              </a:prstGeom>
              <a:gradFill rotWithShape="0">
                <a:gsLst>
                  <a:gs pos="0">
                    <a:srgbClr val="333399">
                      <a:alpha val="79215"/>
                    </a:srgbClr>
                  </a:gs>
                  <a:gs pos="50000">
                    <a:srgbClr val="171746"/>
                  </a:gs>
                  <a:gs pos="100000">
                    <a:srgbClr val="333399">
                      <a:alpha val="7921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9" name="" descr=""/>
              <p:cNvPicPr/>
              <p:nvPr/>
            </p:nvPicPr>
            <p:blipFill>
              <a:blip r:embed="rId6"/>
              <a:stretch/>
            </p:blipFill>
            <p:spPr>
              <a:xfrm rot="692400">
                <a:off x="6915960" y="3657960"/>
                <a:ext cx="72288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0" name=""/>
            <p:cNvGrpSpPr/>
            <p:nvPr/>
          </p:nvGrpSpPr>
          <p:grpSpPr>
            <a:xfrm>
              <a:off x="2365560" y="2494440"/>
              <a:ext cx="983880" cy="1027800"/>
              <a:chOff x="2365560" y="2494440"/>
              <a:chExt cx="983880" cy="1027800"/>
            </a:xfrm>
          </p:grpSpPr>
          <p:pic>
            <p:nvPicPr>
              <p:cNvPr id="234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365560" y="2494440"/>
                <a:ext cx="977040" cy="102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2" name=""/>
              <p:cNvSpPr/>
              <p:nvPr/>
            </p:nvSpPr>
            <p:spPr>
              <a:xfrm>
                <a:off x="2365560" y="2494440"/>
                <a:ext cx="983880" cy="102780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80392"/>
                    </a:srgbClr>
                  </a:gs>
                  <a:gs pos="50000">
                    <a:srgbClr val="465e00"/>
                  </a:gs>
                  <a:gs pos="100000">
                    <a:srgbClr val="99cc00">
                      <a:alpha val="8039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463120" y="2503800"/>
                <a:ext cx="783360" cy="36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4" name=""/>
            <p:cNvGrpSpPr/>
            <p:nvPr/>
          </p:nvGrpSpPr>
          <p:grpSpPr>
            <a:xfrm>
              <a:off x="2751120" y="3868920"/>
              <a:ext cx="660600" cy="681840"/>
              <a:chOff x="2751120" y="3868920"/>
              <a:chExt cx="660600" cy="681840"/>
            </a:xfrm>
          </p:grpSpPr>
          <p:pic>
            <p:nvPicPr>
              <p:cNvPr id="234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751120" y="3868920"/>
                <a:ext cx="660600" cy="68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6" name=""/>
              <p:cNvSpPr/>
              <p:nvPr/>
            </p:nvSpPr>
            <p:spPr>
              <a:xfrm>
                <a:off x="2751120" y="3868920"/>
                <a:ext cx="655560" cy="681840"/>
              </a:xfrm>
              <a:prstGeom prst="ellipse">
                <a:avLst/>
              </a:prstGeom>
              <a:gradFill rotWithShape="0">
                <a:gsLst>
                  <a:gs pos="0">
                    <a:srgbClr val="dddddd">
                      <a:alpha val="55294"/>
                    </a:srgbClr>
                  </a:gs>
                  <a:gs pos="50000">
                    <a:srgbClr val="656565">
                      <a:alpha val="90196"/>
                    </a:srgbClr>
                  </a:gs>
                  <a:gs pos="100000">
                    <a:srgbClr val="dddddd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16640" y="3875400"/>
                <a:ext cx="522360" cy="24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8" name=""/>
            <p:cNvGrpSpPr/>
            <p:nvPr/>
          </p:nvGrpSpPr>
          <p:grpSpPr>
            <a:xfrm>
              <a:off x="4030920" y="4258080"/>
              <a:ext cx="1263240" cy="1319400"/>
              <a:chOff x="4030920" y="4258080"/>
              <a:chExt cx="1263240" cy="1319400"/>
            </a:xfrm>
          </p:grpSpPr>
          <p:pic>
            <p:nvPicPr>
              <p:cNvPr id="234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030920" y="4258080"/>
                <a:ext cx="1263240" cy="13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0" name=""/>
              <p:cNvSpPr/>
              <p:nvPr/>
            </p:nvSpPr>
            <p:spPr>
              <a:xfrm>
                <a:off x="4030920" y="4258080"/>
                <a:ext cx="1255680" cy="1319400"/>
              </a:xfrm>
              <a:prstGeom prst="ellipse">
                <a:avLst/>
              </a:prstGeom>
              <a:gradFill rotWithShape="0">
                <a:gsLst>
                  <a:gs pos="0">
                    <a:srgbClr val="bbe0e3">
                      <a:alpha val="80392"/>
                    </a:srgbClr>
                  </a:gs>
                  <a:gs pos="50000">
                    <a:srgbClr val="6f8587"/>
                  </a:gs>
                  <a:gs pos="100000">
                    <a:srgbClr val="bbe0e3">
                      <a:alpha val="80392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5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55840" y="4271040"/>
                <a:ext cx="999360" cy="46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2" name=""/>
            <p:cNvGrpSpPr/>
            <p:nvPr/>
          </p:nvGrpSpPr>
          <p:grpSpPr>
            <a:xfrm>
              <a:off x="6058080" y="4691520"/>
              <a:ext cx="660240" cy="685440"/>
              <a:chOff x="6058080" y="4691520"/>
              <a:chExt cx="660240" cy="685440"/>
            </a:xfrm>
          </p:grpSpPr>
          <p:pic>
            <p:nvPicPr>
              <p:cNvPr id="235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058080" y="4691520"/>
                <a:ext cx="660240" cy="68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4" name=""/>
              <p:cNvSpPr/>
              <p:nvPr/>
            </p:nvSpPr>
            <p:spPr>
              <a:xfrm>
                <a:off x="6058080" y="4691520"/>
                <a:ext cx="655200" cy="685440"/>
              </a:xfrm>
              <a:prstGeom prst="ellipse">
                <a:avLst/>
              </a:prstGeom>
              <a:gradFill rotWithShape="0">
                <a:gsLst>
                  <a:gs pos="0">
                    <a:srgbClr val="dddddd">
                      <a:alpha val="55294"/>
                    </a:srgbClr>
                  </a:gs>
                  <a:gs pos="50000">
                    <a:srgbClr val="656565">
                      <a:alpha val="90196"/>
                    </a:srgbClr>
                  </a:gs>
                  <a:gs pos="100000">
                    <a:srgbClr val="dddddd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5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123600" y="4698000"/>
                <a:ext cx="522000" cy="242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56" name=""/>
            <p:cNvSpPr/>
            <p:nvPr/>
          </p:nvSpPr>
          <p:spPr>
            <a:xfrm rot="692400">
              <a:off x="2624760" y="2754000"/>
              <a:ext cx="4658760" cy="23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45" y="1416"/>
                  </a:moveTo>
                  <a:arcTo wR="10800" hR="10800" stAng="-3620089" swAng="16322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45" y="1416"/>
                  </a:moveTo>
                  <a:arcTo wR="10800" hR="10800" stAng="-3620089" swAng="1632255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rot="692400">
              <a:off x="2635560" y="2759040"/>
              <a:ext cx="4657320" cy="2316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87" y="10279"/>
                  </a:moveTo>
                  <a:arcTo wR="10800" hR="10800" stAng="-165862" swAng="22256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87" y="10279"/>
                  </a:moveTo>
                  <a:arcTo wR="10800" hR="10800" stAng="-165862" swAng="2225620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 rot="692400">
              <a:off x="2637000" y="2732760"/>
              <a:ext cx="4665240" cy="231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863" y="19737"/>
                  </a:moveTo>
                  <a:arcTo wR="10800" hR="10800" stAng="3350772" swAng="12928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863" y="19737"/>
                  </a:moveTo>
                  <a:arcTo wR="10800" hR="10800" stAng="3350772" swAng="1292840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 rot="692400">
              <a:off x="2646000" y="2696040"/>
              <a:ext cx="4662720" cy="23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04" y="20984"/>
                  </a:moveTo>
                  <a:arcTo wR="10800" hR="10800" stAng="6566969" swAng="1241914"/>
                  <a:lnTo>
                    <a:pt x="10800" y="10800"/>
                  </a:lnTo>
                  <a:close/>
                </a:path>
                <a:path fill="none" w="21600" h="21600">
                  <a:moveTo>
                    <a:pt x="7204" y="20984"/>
                  </a:moveTo>
                  <a:arcTo wR="10800" hR="10800" stAng="6566969" swAng="1241914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rot="692400">
              <a:off x="2597400" y="2684520"/>
              <a:ext cx="4663080" cy="23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8" y="15686"/>
                  </a:moveTo>
                  <a:arcTo wR="10800" hR="10800" stAng="9186116" swAng="2000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8" y="15686"/>
                  </a:moveTo>
                  <a:arcTo wR="10800" hR="10800" stAng="9186116" swAng="2000789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 rot="692400">
              <a:off x="2597040" y="2686320"/>
              <a:ext cx="4661280" cy="231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22" y="3985"/>
                  </a:moveTo>
                  <a:arcTo wR="10800" hR="10800" stAng="-8452441" swAng="10994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422" y="3985"/>
                  </a:moveTo>
                  <a:arcTo wR="10800" hR="10800" stAng="-8452441" swAng="1099429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503080" y="280800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243680" y="470736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886080" y="39171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689960" y="2963880"/>
              <a:ext cx="1898640" cy="587880"/>
            </a:xfr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632560" y="5596560"/>
              <a:ext cx="2371680" cy="587880"/>
            </a:xfr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55640" y="1989000"/>
              <a:ext cx="1791000" cy="587520"/>
            </a:xfr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0" name=""/>
          <p:cNvGrpSpPr/>
          <p:nvPr/>
        </p:nvGrpSpPr>
        <p:grpSpPr>
          <a:xfrm>
            <a:off x="276120" y="1916280"/>
            <a:ext cx="8867880" cy="4268520"/>
            <a:chOff x="276120" y="1916280"/>
            <a:chExt cx="8867880" cy="4268520"/>
          </a:xfrm>
        </p:grpSpPr>
        <p:sp>
          <p:nvSpPr>
            <p:cNvPr id="2371" name=""/>
            <p:cNvSpPr/>
            <p:nvPr/>
          </p:nvSpPr>
          <p:spPr>
            <a:xfrm>
              <a:off x="6780240" y="4668840"/>
              <a:ext cx="23637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2" name=""/>
            <p:cNvGrpSpPr/>
            <p:nvPr/>
          </p:nvGrpSpPr>
          <p:grpSpPr>
            <a:xfrm>
              <a:off x="276120" y="1916280"/>
              <a:ext cx="6564240" cy="4268520"/>
              <a:chOff x="276120" y="1916280"/>
              <a:chExt cx="6564240" cy="4268520"/>
            </a:xfrm>
          </p:grpSpPr>
          <p:sp>
            <p:nvSpPr>
              <p:cNvPr id="2373" name=""/>
              <p:cNvSpPr/>
              <p:nvPr/>
            </p:nvSpPr>
            <p:spPr>
              <a:xfrm>
                <a:off x="2851200" y="2441520"/>
                <a:ext cx="3743280" cy="374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3344760" y="2921040"/>
                <a:ext cx="2749680" cy="2746440"/>
              </a:xfrm>
              <a:prstGeom prst="ellipse">
                <a:avLst/>
              </a:prstGeom>
              <a:gradFill rotWithShape="0">
                <a:gsLst>
                  <a:gs pos="0">
                    <a:srgbClr val="a0a0a0"/>
                  </a:gs>
                  <a:gs pos="50000">
                    <a:srgbClr val="ffffff"/>
                  </a:gs>
                  <a:gs pos="100000">
                    <a:srgbClr val="a0a0a0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821040" y="3946680"/>
                <a:ext cx="185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80808"/>
                    </a:solidFill>
                    <a:latin typeface="Arial"/>
                    <a:ea typeface="Arial"/>
                  </a:rPr>
                  <a:t>Description of the cont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520640" y="2139840"/>
                <a:ext cx="263376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276120" y="4748400"/>
                <a:ext cx="23288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8" name=""/>
              <p:cNvGrpSpPr/>
              <p:nvPr/>
            </p:nvGrpSpPr>
            <p:grpSpPr>
              <a:xfrm>
                <a:off x="3887640" y="1916280"/>
                <a:ext cx="1631880" cy="1612800"/>
                <a:chOff x="3887640" y="1916280"/>
                <a:chExt cx="1631880" cy="1612800"/>
              </a:xfrm>
            </p:grpSpPr>
            <p:grpSp>
              <p:nvGrpSpPr>
                <p:cNvPr id="2379" name=""/>
                <p:cNvGrpSpPr/>
                <p:nvPr/>
              </p:nvGrpSpPr>
              <p:grpSpPr>
                <a:xfrm>
                  <a:off x="3887640" y="1916280"/>
                  <a:ext cx="1631880" cy="1612800"/>
                  <a:chOff x="3887640" y="1916280"/>
                  <a:chExt cx="1631880" cy="1612800"/>
                </a:xfrm>
              </p:grpSpPr>
              <p:sp>
                <p:nvSpPr>
                  <p:cNvPr id="2380" name=""/>
                  <p:cNvSpPr/>
                  <p:nvPr/>
                </p:nvSpPr>
                <p:spPr>
                  <a:xfrm>
                    <a:off x="3887640" y="1916280"/>
                    <a:ext cx="1631880" cy="1612800"/>
                  </a:xfrm>
                  <a:prstGeom prst="ellipse">
                    <a:avLst/>
                  </a:prstGeom>
                  <a:solidFill>
                    <a:srgbClr val="3333cc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>
                    <a:off x="3924000" y="1952640"/>
                    <a:ext cx="1560960" cy="1541880"/>
                  </a:xfrm>
                  <a:prstGeom prst="ellipse">
                    <a:avLst/>
                  </a:prstGeom>
                  <a:solidFill>
                    <a:srgbClr val="bbe0e3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2" name=""/>
                <p:cNvGrpSpPr/>
                <p:nvPr/>
              </p:nvGrpSpPr>
              <p:grpSpPr>
                <a:xfrm>
                  <a:off x="3959640" y="1986480"/>
                  <a:ext cx="1508400" cy="1492200"/>
                  <a:chOff x="3959640" y="1986480"/>
                  <a:chExt cx="1508400" cy="1492200"/>
                </a:xfrm>
              </p:grpSpPr>
              <p:sp>
                <p:nvSpPr>
                  <p:cNvPr id="2383" name=""/>
                  <p:cNvSpPr/>
                  <p:nvPr/>
                </p:nvSpPr>
                <p:spPr>
                  <a:xfrm>
                    <a:off x="3959640" y="1986480"/>
                    <a:ext cx="1508400" cy="1492200"/>
                  </a:xfrm>
                  <a:prstGeom prst="ellipse">
                    <a:avLst/>
                  </a:prstGeom>
                  <a:solidFill>
                    <a:srgbClr val="bbe0e3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>
                    <a:off x="3993480" y="2020320"/>
                    <a:ext cx="1442880" cy="1426680"/>
                  </a:xfrm>
                  <a:prstGeom prst="ellipse">
                    <a:avLst/>
                  </a:prstGeom>
                  <a:solidFill>
                    <a:srgbClr val="3333cc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5" name=""/>
              <p:cNvGrpSpPr/>
              <p:nvPr/>
            </p:nvGrpSpPr>
            <p:grpSpPr>
              <a:xfrm>
                <a:off x="2477880" y="4319640"/>
                <a:ext cx="1631880" cy="1612800"/>
                <a:chOff x="2477880" y="4319640"/>
                <a:chExt cx="1631880" cy="1612800"/>
              </a:xfrm>
            </p:grpSpPr>
            <p:grpSp>
              <p:nvGrpSpPr>
                <p:cNvPr id="2386" name=""/>
                <p:cNvGrpSpPr/>
                <p:nvPr/>
              </p:nvGrpSpPr>
              <p:grpSpPr>
                <a:xfrm>
                  <a:off x="2477880" y="4319640"/>
                  <a:ext cx="1631880" cy="1612800"/>
                  <a:chOff x="2477880" y="4319640"/>
                  <a:chExt cx="1631880" cy="1612800"/>
                </a:xfrm>
              </p:grpSpPr>
              <p:sp>
                <p:nvSpPr>
                  <p:cNvPr id="2387" name=""/>
                  <p:cNvSpPr/>
                  <p:nvPr/>
                </p:nvSpPr>
                <p:spPr>
                  <a:xfrm>
                    <a:off x="2477880" y="4319640"/>
                    <a:ext cx="1631880" cy="1612800"/>
                  </a:xfrm>
                  <a:prstGeom prst="ellipse">
                    <a:avLst/>
                  </a:prstGeom>
                  <a:solidFill>
                    <a:srgbClr val="333399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"/>
                  <p:cNvSpPr/>
                  <p:nvPr/>
                </p:nvSpPr>
                <p:spPr>
                  <a:xfrm>
                    <a:off x="2514240" y="4356000"/>
                    <a:ext cx="1560960" cy="1541880"/>
                  </a:xfrm>
                  <a:prstGeom prst="ellipse">
                    <a:avLst/>
                  </a:prstGeom>
                  <a:solidFill>
                    <a:srgbClr val="333399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9" name=""/>
                <p:cNvGrpSpPr/>
                <p:nvPr/>
              </p:nvGrpSpPr>
              <p:grpSpPr>
                <a:xfrm>
                  <a:off x="2549880" y="4389840"/>
                  <a:ext cx="1508400" cy="1492200"/>
                  <a:chOff x="2549880" y="4389840"/>
                  <a:chExt cx="1508400" cy="1492200"/>
                </a:xfrm>
              </p:grpSpPr>
              <p:sp>
                <p:nvSpPr>
                  <p:cNvPr id="2390" name=""/>
                  <p:cNvSpPr/>
                  <p:nvPr/>
                </p:nvSpPr>
                <p:spPr>
                  <a:xfrm>
                    <a:off x="2549880" y="4389840"/>
                    <a:ext cx="1508400" cy="1492200"/>
                  </a:xfrm>
                  <a:prstGeom prst="ellipse">
                    <a:avLst/>
                  </a:prstGeom>
                  <a:solidFill>
                    <a:srgbClr val="333399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"/>
                  <p:cNvSpPr/>
                  <p:nvPr/>
                </p:nvSpPr>
                <p:spPr>
                  <a:xfrm>
                    <a:off x="2583720" y="4423680"/>
                    <a:ext cx="1442880" cy="1426680"/>
                  </a:xfrm>
                  <a:prstGeom prst="ellipse">
                    <a:avLst/>
                  </a:prstGeom>
                  <a:solidFill>
                    <a:srgbClr val="333399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92" name=""/>
              <p:cNvGrpSpPr/>
              <p:nvPr/>
            </p:nvGrpSpPr>
            <p:grpSpPr>
              <a:xfrm>
                <a:off x="5208480" y="4319640"/>
                <a:ext cx="1631880" cy="1612800"/>
                <a:chOff x="5208480" y="4319640"/>
                <a:chExt cx="1631880" cy="1612800"/>
              </a:xfrm>
            </p:grpSpPr>
            <p:grpSp>
              <p:nvGrpSpPr>
                <p:cNvPr id="2393" name=""/>
                <p:cNvGrpSpPr/>
                <p:nvPr/>
              </p:nvGrpSpPr>
              <p:grpSpPr>
                <a:xfrm>
                  <a:off x="5208480" y="4319640"/>
                  <a:ext cx="1631880" cy="1612800"/>
                  <a:chOff x="5208480" y="4319640"/>
                  <a:chExt cx="1631880" cy="1612800"/>
                </a:xfrm>
              </p:grpSpPr>
              <p:sp>
                <p:nvSpPr>
                  <p:cNvPr id="2394" name=""/>
                  <p:cNvSpPr/>
                  <p:nvPr/>
                </p:nvSpPr>
                <p:spPr>
                  <a:xfrm>
                    <a:off x="5208480" y="4319640"/>
                    <a:ext cx="1631880" cy="1612800"/>
                  </a:xfrm>
                  <a:prstGeom prst="ellipse">
                    <a:avLst/>
                  </a:prstGeom>
                  <a:solidFill>
                    <a:srgbClr val="009999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>
                    <a:off x="5244840" y="4356000"/>
                    <a:ext cx="1560960" cy="1541880"/>
                  </a:xfrm>
                  <a:prstGeom prst="ellipse">
                    <a:avLst/>
                  </a:prstGeom>
                  <a:solidFill>
                    <a:srgbClr val="817e00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6" name=""/>
                <p:cNvGrpSpPr/>
                <p:nvPr/>
              </p:nvGrpSpPr>
              <p:grpSpPr>
                <a:xfrm>
                  <a:off x="5280480" y="4389840"/>
                  <a:ext cx="1508400" cy="1492200"/>
                  <a:chOff x="5280480" y="4389840"/>
                  <a:chExt cx="1508400" cy="1492200"/>
                </a:xfrm>
              </p:grpSpPr>
              <p:sp>
                <p:nvSpPr>
                  <p:cNvPr id="2397" name=""/>
                  <p:cNvSpPr/>
                  <p:nvPr/>
                </p:nvSpPr>
                <p:spPr>
                  <a:xfrm>
                    <a:off x="5280480" y="4389840"/>
                    <a:ext cx="1508400" cy="1492200"/>
                  </a:xfrm>
                  <a:prstGeom prst="ellipse">
                    <a:avLst/>
                  </a:prstGeom>
                  <a:solidFill>
                    <a:srgbClr val="817e00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"/>
                  <p:cNvSpPr/>
                  <p:nvPr/>
                </p:nvSpPr>
                <p:spPr>
                  <a:xfrm>
                    <a:off x="5314320" y="4423680"/>
                    <a:ext cx="1442880" cy="1426680"/>
                  </a:xfrm>
                  <a:prstGeom prst="ellipse">
                    <a:avLst/>
                  </a:prstGeom>
                  <a:solidFill>
                    <a:srgbClr val="817e00">
                      <a:alpha val="1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99" name=""/>
              <p:cNvGrpSpPr/>
              <p:nvPr/>
            </p:nvGrpSpPr>
            <p:grpSpPr>
              <a:xfrm>
                <a:off x="3962160" y="1967040"/>
                <a:ext cx="1466640" cy="1447200"/>
                <a:chOff x="3962160" y="1967040"/>
                <a:chExt cx="1466640" cy="1447200"/>
              </a:xfrm>
            </p:grpSpPr>
            <p:sp>
              <p:nvSpPr>
                <p:cNvPr id="2400" name=""/>
                <p:cNvSpPr/>
                <p:nvPr/>
              </p:nvSpPr>
              <p:spPr>
                <a:xfrm>
                  <a:off x="4001040" y="2029320"/>
                  <a:ext cx="1398600" cy="138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b4647"/>
                    </a:gs>
                  </a:gsLst>
                  <a:lin ang="5400000"/>
                </a:gradFill>
                <a:ln w="38160">
                  <a:solidFill>
                    <a:srgbClr val="f8f8f8">
                      <a:alpha val="8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0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62160" y="1967040"/>
                  <a:ext cx="1466640" cy="125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402" name=""/>
              <p:cNvSpPr/>
              <p:nvPr/>
            </p:nvSpPr>
            <p:spPr>
              <a:xfrm>
                <a:off x="3990960" y="2400480"/>
                <a:ext cx="1450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8f8f8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000" spc="-1" strike="noStrike">
                    <a:solidFill>
                      <a:srgbClr val="f8f8f8"/>
                    </a:solidFill>
                    <a:latin typeface="Arial"/>
                    <a:ea typeface="Arial"/>
                  </a:rPr>
                  <a:t>Title in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3" name=""/>
              <p:cNvGrpSpPr/>
              <p:nvPr/>
            </p:nvGrpSpPr>
            <p:grpSpPr>
              <a:xfrm>
                <a:off x="2549520" y="4381560"/>
                <a:ext cx="1466280" cy="1447560"/>
                <a:chOff x="2549520" y="4381560"/>
                <a:chExt cx="1466280" cy="1447560"/>
              </a:xfrm>
            </p:grpSpPr>
            <p:sp>
              <p:nvSpPr>
                <p:cNvPr id="2404" name=""/>
                <p:cNvSpPr/>
                <p:nvPr/>
              </p:nvSpPr>
              <p:spPr>
                <a:xfrm>
                  <a:off x="2588400" y="4443840"/>
                  <a:ext cx="1398240" cy="138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99"/>
                    </a:gs>
                    <a:gs pos="100000">
                      <a:srgbClr val="101030"/>
                    </a:gs>
                  </a:gsLst>
                  <a:lin ang="5400000"/>
                </a:gradFill>
                <a:ln w="38160">
                  <a:solidFill>
                    <a:srgbClr val="f8f8f8">
                      <a:alpha val="8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0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49520" y="4381560"/>
                  <a:ext cx="1466280" cy="125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406" name=""/>
              <p:cNvSpPr/>
              <p:nvPr/>
            </p:nvSpPr>
            <p:spPr>
              <a:xfrm>
                <a:off x="2565360" y="4799160"/>
                <a:ext cx="1450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8f8f8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000" spc="-1" strike="noStrike">
                    <a:solidFill>
                      <a:srgbClr val="f8f8f8"/>
                    </a:solidFill>
                    <a:latin typeface="Arial"/>
                    <a:ea typeface="Arial"/>
                  </a:rPr>
                  <a:t>Title in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7" name=""/>
              <p:cNvGrpSpPr/>
              <p:nvPr/>
            </p:nvGrpSpPr>
            <p:grpSpPr>
              <a:xfrm>
                <a:off x="5310000" y="4381560"/>
                <a:ext cx="1466640" cy="1447560"/>
                <a:chOff x="5310000" y="4381560"/>
                <a:chExt cx="1466640" cy="1447560"/>
              </a:xfrm>
            </p:grpSpPr>
            <p:sp>
              <p:nvSpPr>
                <p:cNvPr id="2408" name=""/>
                <p:cNvSpPr/>
                <p:nvPr/>
              </p:nvSpPr>
              <p:spPr>
                <a:xfrm>
                  <a:off x="5348880" y="4443840"/>
                  <a:ext cx="1398600" cy="138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3040"/>
                    </a:gs>
                  </a:gsLst>
                  <a:lin ang="5400000"/>
                </a:gradFill>
                <a:ln w="38160">
                  <a:solidFill>
                    <a:srgbClr val="f8f8f8">
                      <a:alpha val="8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0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0000" y="4381560"/>
                  <a:ext cx="1466640" cy="125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10" name=""/>
              <p:cNvGrpSpPr/>
              <p:nvPr/>
            </p:nvGrpSpPr>
            <p:grpSpPr>
              <a:xfrm>
                <a:off x="5292720" y="4381560"/>
                <a:ext cx="1466280" cy="1447560"/>
                <a:chOff x="5292720" y="4381560"/>
                <a:chExt cx="1466280" cy="1447560"/>
              </a:xfrm>
            </p:grpSpPr>
            <p:sp>
              <p:nvSpPr>
                <p:cNvPr id="2411" name=""/>
                <p:cNvSpPr/>
                <p:nvPr/>
              </p:nvSpPr>
              <p:spPr>
                <a:xfrm>
                  <a:off x="5331600" y="4443840"/>
                  <a:ext cx="1398240" cy="138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3030"/>
                    </a:gs>
                  </a:gsLst>
                  <a:lin ang="5400000"/>
                </a:gradFill>
                <a:ln w="38160">
                  <a:solidFill>
                    <a:srgbClr val="f8f8f8">
                      <a:alpha val="8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1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292720" y="4381560"/>
                  <a:ext cx="1466280" cy="125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413" name=""/>
              <p:cNvSpPr/>
              <p:nvPr/>
            </p:nvSpPr>
            <p:spPr>
              <a:xfrm>
                <a:off x="5294160" y="4810320"/>
                <a:ext cx="1451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8f8f8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000" spc="-1" strike="noStrike">
                    <a:solidFill>
                      <a:srgbClr val="f8f8f8"/>
                    </a:solidFill>
                    <a:latin typeface="Arial"/>
                    <a:ea typeface="Arial"/>
                  </a:rPr>
                  <a:t>Title in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6" name=""/>
          <p:cNvGrpSpPr/>
          <p:nvPr/>
        </p:nvGrpSpPr>
        <p:grpSpPr>
          <a:xfrm>
            <a:off x="762120" y="1666800"/>
            <a:ext cx="7391160" cy="4613400"/>
            <a:chOff x="762120" y="1666800"/>
            <a:chExt cx="7391160" cy="4613400"/>
          </a:xfrm>
        </p:grpSpPr>
        <p:sp>
          <p:nvSpPr>
            <p:cNvPr id="2417" name=""/>
            <p:cNvSpPr/>
            <p:nvPr/>
          </p:nvSpPr>
          <p:spPr>
            <a:xfrm>
              <a:off x="5630760" y="4635360"/>
              <a:ext cx="2522520" cy="147816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424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3016080" y="4780080"/>
              <a:ext cx="2503800" cy="14778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b2b8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3328920" y="5235480"/>
              <a:ext cx="17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0" name=""/>
            <p:cNvGrpSpPr/>
            <p:nvPr/>
          </p:nvGrpSpPr>
          <p:grpSpPr>
            <a:xfrm>
              <a:off x="838080" y="3333600"/>
              <a:ext cx="2111040" cy="1446480"/>
              <a:chOff x="838080" y="3333600"/>
              <a:chExt cx="2111040" cy="1446480"/>
            </a:xfrm>
          </p:grpSpPr>
          <p:sp>
            <p:nvSpPr>
              <p:cNvPr id="2421" name=""/>
              <p:cNvSpPr/>
              <p:nvPr/>
            </p:nvSpPr>
            <p:spPr>
              <a:xfrm>
                <a:off x="838080" y="3333600"/>
                <a:ext cx="2111040" cy="1446480"/>
              </a:xfrm>
              <a:custGeom>
                <a:avLst/>
                <a:gdLst>
                  <a:gd name="textAreaLeft" fmla="*/ 0 w 2111040"/>
                  <a:gd name="textAreaRight" fmla="*/ 2111400 w 2111040"/>
                  <a:gd name="textAreaTop" fmla="*/ 0 h 1446480"/>
                  <a:gd name="textAreaBottom" fmla="*/ 1446840 h 144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9397"/>
                  </a:gs>
                  <a:gs pos="50000">
                    <a:srgbClr val="d5e0e5"/>
                  </a:gs>
                  <a:gs pos="100000">
                    <a:srgbClr val="8c9397"/>
                  </a:gs>
                </a:gsLst>
                <a:lin ang="5400000"/>
              </a:gradFill>
              <a:ln w="9360">
                <a:solidFill>
                  <a:srgbClr val="7685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858960" y="3348360"/>
                <a:ext cx="2054520" cy="1407240"/>
              </a:xfrm>
              <a:custGeom>
                <a:avLst/>
                <a:gdLst>
                  <a:gd name="textAreaLeft" fmla="*/ 0 w 2054520"/>
                  <a:gd name="textAreaRight" fmla="*/ 2054880 w 2054520"/>
                  <a:gd name="textAreaTop" fmla="*/ 0 h 1407240"/>
                  <a:gd name="textAreaBottom" fmla="*/ 1407600 h 1407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3" name=""/>
            <p:cNvGrpSpPr/>
            <p:nvPr/>
          </p:nvGrpSpPr>
          <p:grpSpPr>
            <a:xfrm>
              <a:off x="838080" y="4832280"/>
              <a:ext cx="2111040" cy="1447920"/>
              <a:chOff x="838080" y="4832280"/>
              <a:chExt cx="2111040" cy="1447920"/>
            </a:xfrm>
          </p:grpSpPr>
          <p:sp>
            <p:nvSpPr>
              <p:cNvPr id="2424" name=""/>
              <p:cNvSpPr/>
              <p:nvPr/>
            </p:nvSpPr>
            <p:spPr>
              <a:xfrm>
                <a:off x="838080" y="4832280"/>
                <a:ext cx="2111040" cy="1447920"/>
              </a:xfrm>
              <a:custGeom>
                <a:avLst/>
                <a:gdLst>
                  <a:gd name="textAreaLeft" fmla="*/ 0 w 2111040"/>
                  <a:gd name="textAreaRight" fmla="*/ 2111400 w 2111040"/>
                  <a:gd name="textAreaTop" fmla="*/ 0 h 1447920"/>
                  <a:gd name="textAreaBottom" fmla="*/ 1448280 h 144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9397"/>
                  </a:gs>
                  <a:gs pos="50000">
                    <a:srgbClr val="d5e0e5"/>
                  </a:gs>
                  <a:gs pos="100000">
                    <a:srgbClr val="8c9397"/>
                  </a:gs>
                </a:gsLst>
                <a:lin ang="5400000"/>
              </a:gradFill>
              <a:ln w="9360">
                <a:solidFill>
                  <a:srgbClr val="7685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858960" y="4847040"/>
                <a:ext cx="2054520" cy="1408680"/>
              </a:xfrm>
              <a:custGeom>
                <a:avLst/>
                <a:gdLst>
                  <a:gd name="textAreaLeft" fmla="*/ 0 w 2054520"/>
                  <a:gd name="textAreaRight" fmla="*/ 2054880 w 2054520"/>
                  <a:gd name="textAreaTop" fmla="*/ 0 h 1408680"/>
                  <a:gd name="textAreaBottom" fmla="*/ 1409040 h 1408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9397"/>
                  </a:gs>
                  <a:gs pos="50000">
                    <a:srgbClr val="d5e0e5"/>
                  </a:gs>
                  <a:gs pos="100000">
                    <a:srgbClr val="8c9397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6" name=""/>
            <p:cNvSpPr/>
            <p:nvPr/>
          </p:nvSpPr>
          <p:spPr>
            <a:xfrm>
              <a:off x="762120" y="3852720"/>
              <a:ext cx="2120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Arial"/>
                </a:rPr>
                <a:t>Title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762120" y="5346720"/>
              <a:ext cx="2120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Arial"/>
                </a:rPr>
                <a:t>Title in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767560" y="4773600"/>
              <a:ext cx="224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meGallery 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630760" y="3094200"/>
              <a:ext cx="2522520" cy="1476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e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016080" y="3230640"/>
              <a:ext cx="2503800" cy="14778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38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328920" y="3689280"/>
              <a:ext cx="17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767560" y="3232080"/>
              <a:ext cx="224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emeGallery 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119400" y="2438280"/>
              <a:ext cx="2268720" cy="536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fdfdf"/>
                </a:gs>
                <a:gs pos="50000">
                  <a:srgbClr val="f6f6f6"/>
                </a:gs>
                <a:gs pos="100000">
                  <a:srgbClr val="dfdfdf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67560" y="2438280"/>
              <a:ext cx="2268360" cy="536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fdfdf"/>
                </a:gs>
                <a:gs pos="50000">
                  <a:srgbClr val="f6f6f6"/>
                </a:gs>
                <a:gs pos="100000">
                  <a:srgbClr val="dfdfdf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386160" y="2470320"/>
              <a:ext cx="1736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f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6037200" y="2470320"/>
              <a:ext cx="1736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914400" y="1666800"/>
              <a:ext cx="70102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826920" y="2349360"/>
            <a:ext cx="7619760" cy="3675960"/>
            <a:chOff x="826920" y="2349360"/>
            <a:chExt cx="7619760" cy="3675960"/>
          </a:xfrm>
        </p:grpSpPr>
        <p:sp>
          <p:nvSpPr>
            <p:cNvPr id="2441" name=""/>
            <p:cNvSpPr/>
            <p:nvPr/>
          </p:nvSpPr>
          <p:spPr>
            <a:xfrm>
              <a:off x="2646000" y="3336840"/>
              <a:ext cx="455760" cy="380880"/>
            </a:xfrm>
            <a:prstGeom prst="downArrow">
              <a:avLst>
                <a:gd name="adj1" fmla="val 58889"/>
                <a:gd name="adj2" fmla="val 60000"/>
              </a:avLst>
            </a:prstGeom>
            <a:solidFill>
              <a:srgbClr val="99cc00"/>
            </a:soli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592000" y="4686120"/>
              <a:ext cx="455760" cy="380880"/>
            </a:xfrm>
            <a:prstGeom prst="downArrow">
              <a:avLst>
                <a:gd name="adj1" fmla="val 58889"/>
                <a:gd name="adj2" fmla="val 60000"/>
              </a:avLst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Text Box 4"/>
            <p:cNvSpPr/>
            <p:nvPr/>
          </p:nvSpPr>
          <p:spPr>
            <a:xfrm>
              <a:off x="5322600" y="4406760"/>
              <a:ext cx="3124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 is a </a:t>
              </a:r>
              <a:r>
                <a:rPr b="1" lang="en-US" sz="2000" spc="-1" strike="noStrike">
                  <a:solidFill>
                    <a:srgbClr val="800000"/>
                  </a:solidFill>
                  <a:latin typeface="Arial"/>
                </a:rPr>
                <a:t>Design Digital Content &amp; Contents mal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developed by Guild Design In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4" name=""/>
            <p:cNvGrpSpPr/>
            <p:nvPr/>
          </p:nvGrpSpPr>
          <p:grpSpPr>
            <a:xfrm>
              <a:off x="839520" y="3771720"/>
              <a:ext cx="4051440" cy="914400"/>
              <a:chOff x="839520" y="3771720"/>
              <a:chExt cx="4051440" cy="914400"/>
            </a:xfrm>
          </p:grpSpPr>
          <p:sp>
            <p:nvSpPr>
              <p:cNvPr id="2445" name=""/>
              <p:cNvSpPr/>
              <p:nvPr/>
            </p:nvSpPr>
            <p:spPr>
              <a:xfrm>
                <a:off x="839520" y="3771720"/>
                <a:ext cx="405144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850680" y="3781080"/>
                <a:ext cx="4025880" cy="4255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852120" y="4178160"/>
                <a:ext cx="4024440" cy="49824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8181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8" name=""/>
            <p:cNvSpPr/>
            <p:nvPr/>
          </p:nvSpPr>
          <p:spPr>
            <a:xfrm>
              <a:off x="1207800" y="4290840"/>
              <a:ext cx="328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ption of the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9" name=""/>
            <p:cNvGrpSpPr/>
            <p:nvPr/>
          </p:nvGrpSpPr>
          <p:grpSpPr>
            <a:xfrm>
              <a:off x="826920" y="5055840"/>
              <a:ext cx="4051080" cy="914400"/>
              <a:chOff x="826920" y="5055840"/>
              <a:chExt cx="4051080" cy="914400"/>
            </a:xfrm>
          </p:grpSpPr>
          <p:sp>
            <p:nvSpPr>
              <p:cNvPr id="2450" name=""/>
              <p:cNvSpPr/>
              <p:nvPr/>
            </p:nvSpPr>
            <p:spPr>
              <a:xfrm>
                <a:off x="826920" y="5055840"/>
                <a:ext cx="405108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848880" y="5065200"/>
                <a:ext cx="4015080" cy="4158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839520" y="5462280"/>
                <a:ext cx="4024440" cy="498240"/>
              </a:xfrm>
              <a:prstGeom prst="rect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62bf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3" name=""/>
            <p:cNvSpPr/>
            <p:nvPr/>
          </p:nvSpPr>
          <p:spPr>
            <a:xfrm>
              <a:off x="1207800" y="5581440"/>
              <a:ext cx="328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ption of the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684080" y="3765240"/>
              <a:ext cx="2432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684080" y="5033880"/>
              <a:ext cx="2432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H="1">
              <a:off x="6463440" y="3646080"/>
              <a:ext cx="1042920" cy="534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854320" y="3512880"/>
              <a:ext cx="1092240" cy="519120"/>
            </a:xfrm>
            <a:custGeom>
              <a:avLst/>
              <a:gdLst/>
              <a:ahLst/>
              <a:rect l="l" t="t" r="r" b="b"/>
              <a:pathLst>
                <a:path w="882" h="425">
                  <a:moveTo>
                    <a:pt x="882" y="374"/>
                  </a:moveTo>
                  <a:lnTo>
                    <a:pt x="719" y="425"/>
                  </a:lnTo>
                  <a:lnTo>
                    <a:pt x="88" y="93"/>
                  </a:lnTo>
                  <a:cubicBezTo>
                    <a:pt x="0" y="23"/>
                    <a:pt x="145" y="5"/>
                    <a:pt x="188" y="3"/>
                  </a:cubicBezTo>
                  <a:cubicBezTo>
                    <a:pt x="218" y="0"/>
                    <a:pt x="221" y="8"/>
                    <a:pt x="343" y="73"/>
                  </a:cubicBezTo>
                  <a:lnTo>
                    <a:pt x="88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474880" y="3765240"/>
              <a:ext cx="927360" cy="438120"/>
            </a:xfrm>
            <a:custGeom>
              <a:avLst/>
              <a:gdLst/>
              <a:ahLst/>
              <a:rect l="l" t="t" r="r" b="b"/>
              <a:pathLst>
                <a:path w="748" h="354">
                  <a:moveTo>
                    <a:pt x="748" y="320"/>
                  </a:moveTo>
                  <a:lnTo>
                    <a:pt x="604" y="354"/>
                  </a:lnTo>
                  <a:lnTo>
                    <a:pt x="63" y="84"/>
                  </a:lnTo>
                  <a:cubicBezTo>
                    <a:pt x="0" y="31"/>
                    <a:pt x="107" y="0"/>
                    <a:pt x="221" y="39"/>
                  </a:cubicBezTo>
                  <a:lnTo>
                    <a:pt x="748" y="3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"/>
            <p:cNvGrpSpPr/>
            <p:nvPr/>
          </p:nvGrpSpPr>
          <p:grpSpPr>
            <a:xfrm>
              <a:off x="6057360" y="2349360"/>
              <a:ext cx="1627200" cy="1845720"/>
              <a:chOff x="6057360" y="2349360"/>
              <a:chExt cx="1627200" cy="1845720"/>
            </a:xfrm>
          </p:grpSpPr>
          <p:sp>
            <p:nvSpPr>
              <p:cNvPr id="2460" name=""/>
              <p:cNvSpPr/>
              <p:nvPr/>
            </p:nvSpPr>
            <p:spPr>
              <a:xfrm flipH="1">
                <a:off x="7162560" y="2847600"/>
                <a:ext cx="522000" cy="131976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9b9b9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H="1">
                <a:off x="6523920" y="2349360"/>
                <a:ext cx="657000" cy="166068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a3a3a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H="1">
                <a:off x="6057000" y="2874960"/>
                <a:ext cx="522360" cy="1320120"/>
              </a:xfrm>
              <a:custGeom>
                <a:avLst/>
                <a:gdLst/>
                <a:ahLst/>
                <a:rect l="l" t="t" r="r" b="b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9b9b9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3" name=""/>
            <p:cNvGrpSpPr/>
            <p:nvPr/>
          </p:nvGrpSpPr>
          <p:grpSpPr>
            <a:xfrm>
              <a:off x="826920" y="2425320"/>
              <a:ext cx="4051080" cy="914400"/>
              <a:chOff x="826920" y="2425320"/>
              <a:chExt cx="4051080" cy="914400"/>
            </a:xfrm>
          </p:grpSpPr>
          <p:sp>
            <p:nvSpPr>
              <p:cNvPr id="2464" name=""/>
              <p:cNvSpPr/>
              <p:nvPr/>
            </p:nvSpPr>
            <p:spPr>
              <a:xfrm>
                <a:off x="826920" y="2425320"/>
                <a:ext cx="405108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847440" y="2434680"/>
                <a:ext cx="4016520" cy="4161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839520" y="2831760"/>
                <a:ext cx="4024440" cy="49824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bfde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7" name=""/>
            <p:cNvSpPr/>
            <p:nvPr/>
          </p:nvSpPr>
          <p:spPr>
            <a:xfrm>
              <a:off x="1207800" y="2947680"/>
              <a:ext cx="328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ption of the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684080" y="2398320"/>
              <a:ext cx="2432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1" name=""/>
          <p:cNvGrpSpPr/>
          <p:nvPr/>
        </p:nvGrpSpPr>
        <p:grpSpPr>
          <a:xfrm>
            <a:off x="533520" y="1407960"/>
            <a:ext cx="7583400" cy="4993920"/>
            <a:chOff x="533520" y="1407960"/>
            <a:chExt cx="7583400" cy="4993920"/>
          </a:xfrm>
        </p:grpSpPr>
        <p:pic>
          <p:nvPicPr>
            <p:cNvPr id="2472" name="" descr=""/>
            <p:cNvPicPr/>
            <p:nvPr/>
          </p:nvPicPr>
          <p:blipFill>
            <a:blip r:embed="rId1"/>
            <a:stretch/>
          </p:blipFill>
          <p:spPr>
            <a:xfrm>
              <a:off x="3254400" y="5516640"/>
              <a:ext cx="234792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3" name="" descr=""/>
            <p:cNvPicPr/>
            <p:nvPr/>
          </p:nvPicPr>
          <p:blipFill>
            <a:blip r:embed="rId2"/>
            <a:stretch/>
          </p:blipFill>
          <p:spPr>
            <a:xfrm>
              <a:off x="5769000" y="5506920"/>
              <a:ext cx="234792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4" name="" descr=""/>
            <p:cNvPicPr/>
            <p:nvPr/>
          </p:nvPicPr>
          <p:blipFill>
            <a:blip r:embed="rId3"/>
            <a:stretch/>
          </p:blipFill>
          <p:spPr>
            <a:xfrm>
              <a:off x="760320" y="5516640"/>
              <a:ext cx="2347920" cy="16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75" name=""/>
            <p:cNvGrpSpPr/>
            <p:nvPr/>
          </p:nvGrpSpPr>
          <p:grpSpPr>
            <a:xfrm>
              <a:off x="5873760" y="2230560"/>
              <a:ext cx="2174760" cy="3379680"/>
              <a:chOff x="5873760" y="2230560"/>
              <a:chExt cx="2174760" cy="3379680"/>
            </a:xfrm>
          </p:grpSpPr>
          <p:sp>
            <p:nvSpPr>
              <p:cNvPr id="2476" name=""/>
              <p:cNvSpPr/>
              <p:nvPr/>
            </p:nvSpPr>
            <p:spPr>
              <a:xfrm>
                <a:off x="5873760" y="2230560"/>
                <a:ext cx="2174760" cy="3379680"/>
              </a:xfrm>
              <a:custGeom>
                <a:avLst/>
                <a:gdLst>
                  <a:gd name="textAreaLeft" fmla="*/ 30600 w 2174760"/>
                  <a:gd name="textAreaRight" fmla="*/ 2144160 w 2174760"/>
                  <a:gd name="textAreaTop" fmla="*/ 30600 h 3379680"/>
                  <a:gd name="textAreaBottom" fmla="*/ 3349080 h 3379680"/>
                </a:gdLst>
                <a:ahLst/>
                <a:rect l="textAreaLeft" t="textAreaTop" r="textAreaRight" b="textAreaBottom"/>
                <a:pathLst>
                  <a:path w="21600" h="33565">
                    <a:moveTo>
                      <a:pt x="1038" y="0"/>
                    </a:moveTo>
                    <a:arcTo wR="1038" hR="1038" stAng="16200000" swAng="-5400000"/>
                    <a:lnTo>
                      <a:pt x="0" y="32527"/>
                    </a:lnTo>
                    <a:arcTo wR="1038" hR="1038" stAng="10800000" swAng="-5400000"/>
                    <a:lnTo>
                      <a:pt x="20562" y="33565"/>
                    </a:lnTo>
                    <a:arcTo wR="1038" hR="1038" stAng="5400000" swAng="-5400000"/>
                    <a:lnTo>
                      <a:pt x="21600" y="1038"/>
                    </a:lnTo>
                    <a:arcTo wR="1038" hR="1038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53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979960" y="2244600"/>
                <a:ext cx="1977480" cy="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5889240" y="5560560"/>
                <a:ext cx="2147760" cy="42840"/>
              </a:xfrm>
              <a:custGeom>
                <a:avLst/>
                <a:gdLst/>
                <a:ahLst/>
                <a:rect l="l" t="t" r="r" b="b"/>
                <a:pathLst>
                  <a:path w="1318" h="19">
                    <a:moveTo>
                      <a:pt x="0" y="19"/>
                    </a:moveTo>
                    <a:cubicBezTo>
                      <a:pt x="12" y="16"/>
                      <a:pt x="12" y="1"/>
                      <a:pt x="72" y="0"/>
                    </a:cubicBezTo>
                    <a:lnTo>
                      <a:pt x="1249" y="0"/>
                    </a:lnTo>
                    <a:cubicBezTo>
                      <a:pt x="1305" y="1"/>
                      <a:pt x="1304" y="15"/>
                      <a:pt x="1318" y="19"/>
                    </a:cubicBezTo>
                  </a:path>
                </a:pathLst>
              </a:custGeom>
              <a:noFill/>
              <a:ln w="936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900400" y="2234520"/>
                <a:ext cx="2120760" cy="32760"/>
              </a:xfrm>
              <a:custGeom>
                <a:avLst/>
                <a:gdLst/>
                <a:ahLst/>
                <a:rect l="l" t="t" r="r" b="b"/>
                <a:pathLst>
                  <a:path w="1318" h="19">
                    <a:moveTo>
                      <a:pt x="0" y="19"/>
                    </a:moveTo>
                    <a:cubicBezTo>
                      <a:pt x="12" y="16"/>
                      <a:pt x="12" y="1"/>
                      <a:pt x="72" y="0"/>
                    </a:cubicBezTo>
                    <a:lnTo>
                      <a:pt x="1249" y="0"/>
                    </a:lnTo>
                    <a:cubicBezTo>
                      <a:pt x="1305" y="1"/>
                      <a:pt x="1304" y="15"/>
                      <a:pt x="1318" y="19"/>
                    </a:cubicBezTo>
                  </a:path>
                </a:pathLst>
              </a:custGeom>
              <a:noFill/>
              <a:ln w="9360">
                <a:solidFill>
                  <a:srgbClr val="f8f8f8">
                    <a:alpha val="4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0" name=""/>
            <p:cNvGrpSpPr/>
            <p:nvPr/>
          </p:nvGrpSpPr>
          <p:grpSpPr>
            <a:xfrm>
              <a:off x="3378240" y="2687760"/>
              <a:ext cx="2174760" cy="2922480"/>
              <a:chOff x="3378240" y="2687760"/>
              <a:chExt cx="2174760" cy="2922480"/>
            </a:xfrm>
          </p:grpSpPr>
          <p:sp>
            <p:nvSpPr>
              <p:cNvPr id="2481" name=""/>
              <p:cNvSpPr/>
              <p:nvPr/>
            </p:nvSpPr>
            <p:spPr>
              <a:xfrm>
                <a:off x="3378240" y="2687760"/>
                <a:ext cx="2174760" cy="2922480"/>
              </a:xfrm>
              <a:custGeom>
                <a:avLst/>
                <a:gdLst>
                  <a:gd name="textAreaLeft" fmla="*/ 30600 w 2174760"/>
                  <a:gd name="textAreaRight" fmla="*/ 2144160 w 2174760"/>
                  <a:gd name="textAreaTop" fmla="*/ 30600 h 2922480"/>
                  <a:gd name="textAreaBottom" fmla="*/ 2891880 h 2922480"/>
                </a:gdLst>
                <a:ahLst/>
                <a:rect l="textAreaLeft" t="textAreaTop" r="textAreaRight" b="textAreaBottom"/>
                <a:pathLst>
                  <a:path w="21600" h="29025">
                    <a:moveTo>
                      <a:pt x="1038" y="0"/>
                    </a:moveTo>
                    <a:arcTo wR="1038" hR="1038" stAng="16200000" swAng="-5400000"/>
                    <a:lnTo>
                      <a:pt x="0" y="27987"/>
                    </a:lnTo>
                    <a:arcTo wR="1038" hR="1038" stAng="10800000" swAng="-5400000"/>
                    <a:lnTo>
                      <a:pt x="20562" y="29025"/>
                    </a:lnTo>
                    <a:arcTo wR="1038" hR="1038" stAng="5400000" swAng="-5400000"/>
                    <a:lnTo>
                      <a:pt x="21600" y="1038"/>
                    </a:lnTo>
                    <a:arcTo wR="1038" hR="1038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33399"/>
                  </a:gs>
                  <a:gs pos="100000">
                    <a:srgbClr val="1b1b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484440" y="2701080"/>
                <a:ext cx="1977480" cy="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V="1">
                <a:off x="3401640" y="5565600"/>
                <a:ext cx="2120760" cy="38160"/>
              </a:xfrm>
              <a:custGeom>
                <a:avLst/>
                <a:gdLst/>
                <a:ahLst/>
                <a:rect l="l" t="t" r="r" b="b"/>
                <a:pathLst>
                  <a:path w="1318" h="19">
                    <a:moveTo>
                      <a:pt x="0" y="19"/>
                    </a:moveTo>
                    <a:cubicBezTo>
                      <a:pt x="12" y="16"/>
                      <a:pt x="12" y="1"/>
                      <a:pt x="72" y="0"/>
                    </a:cubicBezTo>
                    <a:lnTo>
                      <a:pt x="1249" y="0"/>
                    </a:lnTo>
                    <a:cubicBezTo>
                      <a:pt x="1305" y="1"/>
                      <a:pt x="1304" y="15"/>
                      <a:pt x="1318" y="19"/>
                    </a:cubicBezTo>
                  </a:path>
                </a:pathLst>
              </a:custGeom>
              <a:noFill/>
              <a:ln w="936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3404880" y="2690640"/>
                <a:ext cx="2120760" cy="28800"/>
              </a:xfrm>
              <a:custGeom>
                <a:avLst/>
                <a:gdLst/>
                <a:ahLst/>
                <a:rect l="l" t="t" r="r" b="b"/>
                <a:pathLst>
                  <a:path w="1318" h="19">
                    <a:moveTo>
                      <a:pt x="0" y="19"/>
                    </a:moveTo>
                    <a:cubicBezTo>
                      <a:pt x="12" y="16"/>
                      <a:pt x="12" y="1"/>
                      <a:pt x="72" y="0"/>
                    </a:cubicBezTo>
                    <a:lnTo>
                      <a:pt x="1249" y="0"/>
                    </a:lnTo>
                    <a:cubicBezTo>
                      <a:pt x="1305" y="1"/>
                      <a:pt x="1304" y="15"/>
                      <a:pt x="1318" y="19"/>
                    </a:cubicBezTo>
                  </a:path>
                </a:pathLst>
              </a:custGeom>
              <a:noFill/>
              <a:ln w="9360">
                <a:solidFill>
                  <a:srgbClr val="f8f8f8">
                    <a:alpha val="4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5" name=""/>
            <p:cNvGrpSpPr/>
            <p:nvPr/>
          </p:nvGrpSpPr>
          <p:grpSpPr>
            <a:xfrm>
              <a:off x="906480" y="3340080"/>
              <a:ext cx="2146320" cy="2270160"/>
              <a:chOff x="906480" y="3340080"/>
              <a:chExt cx="2146320" cy="2270160"/>
            </a:xfrm>
          </p:grpSpPr>
          <p:sp>
            <p:nvSpPr>
              <p:cNvPr id="2486" name=""/>
              <p:cNvSpPr/>
              <p:nvPr/>
            </p:nvSpPr>
            <p:spPr>
              <a:xfrm>
                <a:off x="906480" y="3340080"/>
                <a:ext cx="2146320" cy="2270160"/>
              </a:xfrm>
              <a:custGeom>
                <a:avLst/>
                <a:gdLst>
                  <a:gd name="textAreaLeft" fmla="*/ 29880 w 2146320"/>
                  <a:gd name="textAreaRight" fmla="*/ 2116440 w 2146320"/>
                  <a:gd name="textAreaTop" fmla="*/ 29880 h 2270160"/>
                  <a:gd name="textAreaBottom" fmla="*/ 2240280 h 2270160"/>
                </a:gdLst>
                <a:ahLst/>
                <a:rect l="textAreaLeft" t="textAreaTop" r="textAreaRight" b="textAreaBottom"/>
                <a:pathLst>
                  <a:path w="21600" h="22846">
                    <a:moveTo>
                      <a:pt x="1038" y="0"/>
                    </a:moveTo>
                    <a:arcTo wR="1038" hR="1038" stAng="16200000" swAng="-5400000"/>
                    <a:lnTo>
                      <a:pt x="0" y="21808"/>
                    </a:lnTo>
                    <a:arcTo wR="1038" hR="1038" stAng="10800000" swAng="-5400000"/>
                    <a:lnTo>
                      <a:pt x="20562" y="22846"/>
                    </a:lnTo>
                    <a:arcTo wR="1038" hR="1038" stAng="5400000" swAng="-5400000"/>
                    <a:lnTo>
                      <a:pt x="21600" y="1038"/>
                    </a:lnTo>
                    <a:arcTo wR="1038" hR="1038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667a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011240" y="3351240"/>
                <a:ext cx="1952640" cy="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930240" y="5574600"/>
                <a:ext cx="2092320" cy="29880"/>
              </a:xfrm>
              <a:custGeom>
                <a:avLst/>
                <a:gdLst/>
                <a:ahLst/>
                <a:rect l="l" t="t" r="r" b="b"/>
                <a:pathLst>
                  <a:path w="1318" h="19">
                    <a:moveTo>
                      <a:pt x="0" y="19"/>
                    </a:moveTo>
                    <a:cubicBezTo>
                      <a:pt x="12" y="16"/>
                      <a:pt x="12" y="1"/>
                      <a:pt x="72" y="0"/>
                    </a:cubicBezTo>
                    <a:lnTo>
                      <a:pt x="1249" y="0"/>
                    </a:lnTo>
                    <a:cubicBezTo>
                      <a:pt x="1305" y="1"/>
                      <a:pt x="1304" y="15"/>
                      <a:pt x="1318" y="19"/>
                    </a:cubicBezTo>
                  </a:path>
                </a:pathLst>
              </a:custGeom>
              <a:noFill/>
              <a:ln w="936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9" name=""/>
            <p:cNvSpPr/>
            <p:nvPr/>
          </p:nvSpPr>
          <p:spPr>
            <a:xfrm>
              <a:off x="933480" y="3341520"/>
              <a:ext cx="2092320" cy="302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920880" y="4294080"/>
              <a:ext cx="2133360" cy="10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8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8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911920" y="3220920"/>
              <a:ext cx="2133360" cy="22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9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109520" y="3433680"/>
              <a:ext cx="17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33520" y="5759280"/>
              <a:ext cx="7122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 is a Design Digital Content &amp; Contents mall developed by Guild Design Inc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4" name=""/>
            <p:cNvGrpSpPr/>
            <p:nvPr/>
          </p:nvGrpSpPr>
          <p:grpSpPr>
            <a:xfrm>
              <a:off x="1589040" y="2487600"/>
              <a:ext cx="720720" cy="821880"/>
              <a:chOff x="1589040" y="2487600"/>
              <a:chExt cx="720720" cy="821880"/>
            </a:xfrm>
          </p:grpSpPr>
          <p:grpSp>
            <p:nvGrpSpPr>
              <p:cNvPr id="2495" name=""/>
              <p:cNvGrpSpPr/>
              <p:nvPr/>
            </p:nvGrpSpPr>
            <p:grpSpPr>
              <a:xfrm>
                <a:off x="1589040" y="2487600"/>
                <a:ext cx="720720" cy="821880"/>
                <a:chOff x="1589040" y="2487600"/>
                <a:chExt cx="720720" cy="821880"/>
              </a:xfrm>
            </p:grpSpPr>
            <p:pic>
              <p:nvPicPr>
                <p:cNvPr id="249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57440" y="3132000"/>
                  <a:ext cx="593640" cy="177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589040" y="2487600"/>
                  <a:ext cx="720720" cy="75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8" name=""/>
                <p:cNvSpPr/>
                <p:nvPr/>
              </p:nvSpPr>
              <p:spPr>
                <a:xfrm>
                  <a:off x="1589040" y="2487600"/>
                  <a:ext cx="716040" cy="76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66768">
                        <a:alpha val="90196"/>
                      </a:srgbClr>
                    </a:gs>
                    <a:gs pos="50000">
                      <a:srgbClr val="bbe0e3">
                        <a:alpha val="55294"/>
                      </a:srgbClr>
                    </a:gs>
                    <a:gs pos="100000">
                      <a:srgbClr val="566768">
                        <a:alpha val="9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49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660680" y="2495160"/>
                <a:ext cx="569160" cy="26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00" name=""/>
            <p:cNvSpPr txBox="1"/>
            <p:nvPr/>
          </p:nvSpPr>
          <p:spPr>
            <a:xfrm>
              <a:off x="1692360" y="2662200"/>
              <a:ext cx="520560" cy="420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0">
                    <a:noFill/>
                  </a:ln>
                  <a:solidFill>
                    <a:srgbClr val="fcfcfc">
                      <a:alpha val="60000"/>
                    </a:srgbClr>
                  </a:solidFill>
                  <a:latin typeface="Arial Black"/>
                </a:rPr>
                <a:t>01</a:t>
              </a:r>
              <a:endPara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009800" y="4114800"/>
              <a:ext cx="191592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581280" y="2844720"/>
              <a:ext cx="17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3" name=""/>
            <p:cNvGrpSpPr/>
            <p:nvPr/>
          </p:nvGrpSpPr>
          <p:grpSpPr>
            <a:xfrm>
              <a:off x="4041720" y="1849320"/>
              <a:ext cx="739440" cy="822240"/>
              <a:chOff x="4041720" y="1849320"/>
              <a:chExt cx="739440" cy="822240"/>
            </a:xfrm>
          </p:grpSpPr>
          <p:grpSp>
            <p:nvGrpSpPr>
              <p:cNvPr id="2504" name=""/>
              <p:cNvGrpSpPr/>
              <p:nvPr/>
            </p:nvGrpSpPr>
            <p:grpSpPr>
              <a:xfrm>
                <a:off x="4041720" y="1849320"/>
                <a:ext cx="739440" cy="822240"/>
                <a:chOff x="4041720" y="1849320"/>
                <a:chExt cx="739440" cy="822240"/>
              </a:xfrm>
            </p:grpSpPr>
            <p:pic>
              <p:nvPicPr>
                <p:cNvPr id="25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111560" y="2493720"/>
                  <a:ext cx="609480" cy="177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041720" y="1849320"/>
                  <a:ext cx="739440" cy="758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7" name=""/>
                <p:cNvSpPr/>
                <p:nvPr/>
              </p:nvSpPr>
              <p:spPr>
                <a:xfrm>
                  <a:off x="4041720" y="1849320"/>
                  <a:ext cx="734760" cy="76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1746">
                        <a:alpha val="90196"/>
                      </a:srgbClr>
                    </a:gs>
                    <a:gs pos="50000">
                      <a:srgbClr val="333399">
                        <a:alpha val="55294"/>
                      </a:srgbClr>
                    </a:gs>
                    <a:gs pos="100000">
                      <a:srgbClr val="171746">
                        <a:alpha val="9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132080" y="1857240"/>
                <a:ext cx="569880" cy="26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09" name=""/>
            <p:cNvSpPr txBox="1"/>
            <p:nvPr/>
          </p:nvSpPr>
          <p:spPr>
            <a:xfrm>
              <a:off x="4154400" y="2023920"/>
              <a:ext cx="530280" cy="420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0">
                    <a:noFill/>
                  </a:ln>
                  <a:solidFill>
                    <a:srgbClr val="fcfcfc">
                      <a:alpha val="60000"/>
                    </a:srgbClr>
                  </a:solidFill>
                  <a:latin typeface="Arial Black"/>
                </a:rPr>
                <a:t>02</a:t>
              </a:r>
              <a:endPara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481560" y="3525840"/>
              <a:ext cx="191592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076800" y="2378160"/>
              <a:ext cx="17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scription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2" name="" descr=""/>
            <p:cNvPicPr/>
            <p:nvPr/>
          </p:nvPicPr>
          <p:blipFill>
            <a:blip r:embed="rId10"/>
            <a:stretch/>
          </p:blipFill>
          <p:spPr>
            <a:xfrm>
              <a:off x="6665760" y="1420920"/>
              <a:ext cx="57024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3" name=""/>
            <p:cNvSpPr/>
            <p:nvPr/>
          </p:nvSpPr>
          <p:spPr>
            <a:xfrm>
              <a:off x="5977080" y="3068640"/>
              <a:ext cx="1915920" cy="0"/>
            </a:xfrm>
            <a:prstGeom prst="line">
              <a:avLst/>
            </a:prstGeom>
            <a:ln cap="rnd" w="12600">
              <a:solidFill>
                <a:srgbClr val="ffffff">
                  <a:alpha val="50000"/>
                </a:srgbClr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432240" y="3832200"/>
              <a:ext cx="199872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 “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hemeGallery is a Design Digital Content &amp; Contents mall developed by Guild Design Inc.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5" name=""/>
            <p:cNvGrpSpPr/>
            <p:nvPr/>
          </p:nvGrpSpPr>
          <p:grpSpPr>
            <a:xfrm>
              <a:off x="6553080" y="1407960"/>
              <a:ext cx="739440" cy="822240"/>
              <a:chOff x="6553080" y="1407960"/>
              <a:chExt cx="739440" cy="822240"/>
            </a:xfrm>
          </p:grpSpPr>
          <p:grpSp>
            <p:nvGrpSpPr>
              <p:cNvPr id="2516" name=""/>
              <p:cNvGrpSpPr/>
              <p:nvPr/>
            </p:nvGrpSpPr>
            <p:grpSpPr>
              <a:xfrm>
                <a:off x="6553080" y="1407960"/>
                <a:ext cx="739440" cy="822240"/>
                <a:chOff x="6553080" y="1407960"/>
                <a:chExt cx="739440" cy="822240"/>
              </a:xfrm>
            </p:grpSpPr>
            <p:pic>
              <p:nvPicPr>
                <p:cNvPr id="251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622920" y="2052360"/>
                  <a:ext cx="609480" cy="177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553080" y="1407960"/>
                  <a:ext cx="739440" cy="758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9" name=""/>
                <p:cNvSpPr/>
                <p:nvPr/>
              </p:nvSpPr>
              <p:spPr>
                <a:xfrm>
                  <a:off x="6553080" y="1407960"/>
                  <a:ext cx="734760" cy="76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4646">
                        <a:alpha val="90196"/>
                      </a:srgbClr>
                    </a:gs>
                    <a:gs pos="50000">
                      <a:srgbClr val="009999">
                        <a:alpha val="55294"/>
                      </a:srgbClr>
                    </a:gs>
                    <a:gs pos="100000">
                      <a:srgbClr val="004646">
                        <a:alpha val="90196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52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643440" y="1415880"/>
                <a:ext cx="569880" cy="26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1" name=""/>
            <p:cNvSpPr txBox="1"/>
            <p:nvPr/>
          </p:nvSpPr>
          <p:spPr>
            <a:xfrm>
              <a:off x="6676920" y="1587600"/>
              <a:ext cx="530280" cy="4204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0">
                    <a:noFill/>
                  </a:ln>
                  <a:solidFill>
                    <a:srgbClr val="fcfcfc">
                      <a:alpha val="60000"/>
                    </a:srgbClr>
                  </a:solidFill>
                  <a:latin typeface="Arial Black"/>
                </a:rPr>
                <a:t>03</a:t>
              </a:r>
              <a:endParaRPr b="0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4" name=""/>
          <p:cNvGrpSpPr/>
          <p:nvPr/>
        </p:nvGrpSpPr>
        <p:grpSpPr>
          <a:xfrm>
            <a:off x="1163520" y="1611360"/>
            <a:ext cx="6477120" cy="4560840"/>
            <a:chOff x="1163520" y="1611360"/>
            <a:chExt cx="6477120" cy="4560840"/>
          </a:xfrm>
        </p:grpSpPr>
        <p:sp>
          <p:nvSpPr>
            <p:cNvPr id="2525" name=""/>
            <p:cNvSpPr/>
            <p:nvPr/>
          </p:nvSpPr>
          <p:spPr>
            <a:xfrm>
              <a:off x="2281320" y="3608280"/>
              <a:ext cx="1900080" cy="137664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4200480" y="3543480"/>
              <a:ext cx="366840" cy="156204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H="1">
              <a:off x="4599720" y="3608280"/>
              <a:ext cx="1900440" cy="137664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000000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8" name=""/>
            <p:cNvGrpSpPr/>
            <p:nvPr/>
          </p:nvGrpSpPr>
          <p:grpSpPr>
            <a:xfrm>
              <a:off x="1773360" y="2535120"/>
              <a:ext cx="1361160" cy="1321920"/>
              <a:chOff x="1773360" y="2535120"/>
              <a:chExt cx="1361160" cy="1321920"/>
            </a:xfrm>
          </p:grpSpPr>
          <p:sp>
            <p:nvSpPr>
              <p:cNvPr id="2529" name=""/>
              <p:cNvSpPr/>
              <p:nvPr/>
            </p:nvSpPr>
            <p:spPr>
              <a:xfrm>
                <a:off x="1773360" y="2535120"/>
                <a:ext cx="1361160" cy="13219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829b9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859040" y="2620800"/>
                <a:ext cx="676800" cy="6606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eef0"/>
                  </a:gs>
                  <a:gs pos="50000">
                    <a:srgbClr val="bbe0e3">
                      <a:alpha val="0"/>
                    </a:srgbClr>
                  </a:gs>
                  <a:gs pos="100000">
                    <a:srgbClr val="ddeef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1" name=""/>
            <p:cNvSpPr/>
            <p:nvPr/>
          </p:nvSpPr>
          <p:spPr>
            <a:xfrm>
              <a:off x="1866960" y="2820960"/>
              <a:ext cx="124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xt i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2" name=""/>
            <p:cNvGrpSpPr/>
            <p:nvPr/>
          </p:nvGrpSpPr>
          <p:grpSpPr>
            <a:xfrm>
              <a:off x="3699000" y="2535120"/>
              <a:ext cx="1361160" cy="1321920"/>
              <a:chOff x="3699000" y="2535120"/>
              <a:chExt cx="1361160" cy="1321920"/>
            </a:xfrm>
          </p:grpSpPr>
          <p:sp>
            <p:nvSpPr>
              <p:cNvPr id="2533" name=""/>
              <p:cNvSpPr/>
              <p:nvPr/>
            </p:nvSpPr>
            <p:spPr>
              <a:xfrm>
                <a:off x="3699000" y="2535120"/>
                <a:ext cx="1361160" cy="13219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33399"/>
                  </a:gs>
                  <a:gs pos="100000">
                    <a:srgbClr val="23236a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3784680" y="2620800"/>
                <a:ext cx="676800" cy="6606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9bcc"/>
                  </a:gs>
                  <a:gs pos="50000">
                    <a:srgbClr val="333399">
                      <a:alpha val="0"/>
                    </a:srgbClr>
                  </a:gs>
                  <a:gs pos="100000">
                    <a:srgbClr val="9b9bc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5" name=""/>
            <p:cNvGrpSpPr/>
            <p:nvPr/>
          </p:nvGrpSpPr>
          <p:grpSpPr>
            <a:xfrm>
              <a:off x="5668920" y="2544840"/>
              <a:ext cx="1361520" cy="1321560"/>
              <a:chOff x="5668920" y="2544840"/>
              <a:chExt cx="1361520" cy="1321560"/>
            </a:xfrm>
          </p:grpSpPr>
          <p:sp>
            <p:nvSpPr>
              <p:cNvPr id="2536" name=""/>
              <p:cNvSpPr/>
              <p:nvPr/>
            </p:nvSpPr>
            <p:spPr>
              <a:xfrm>
                <a:off x="5668920" y="2544840"/>
                <a:ext cx="1361520" cy="13215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6a6a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754600" y="2630520"/>
                <a:ext cx="677160" cy="6602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cccc"/>
                  </a:gs>
                  <a:gs pos="50000">
                    <a:srgbClr val="009999">
                      <a:alpha val="0"/>
                    </a:srgbClr>
                  </a:gs>
                  <a:gs pos="100000">
                    <a:srgbClr val="82ccc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8" name=""/>
            <p:cNvSpPr/>
            <p:nvPr/>
          </p:nvSpPr>
          <p:spPr>
            <a:xfrm>
              <a:off x="3747960" y="2820960"/>
              <a:ext cx="124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xt i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748480" y="2830680"/>
              <a:ext cx="124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xt i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163520" y="1611360"/>
              <a:ext cx="64771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 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447920" y="5195880"/>
              <a:ext cx="5887800" cy="97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bbe0e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538280" y="5351400"/>
              <a:ext cx="57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5" name=""/>
          <p:cNvGrpSpPr/>
          <p:nvPr/>
        </p:nvGrpSpPr>
        <p:grpSpPr>
          <a:xfrm>
            <a:off x="4754520" y="1973160"/>
            <a:ext cx="3505320" cy="4046760"/>
            <a:chOff x="4754520" y="1973160"/>
            <a:chExt cx="3505320" cy="4046760"/>
          </a:xfrm>
        </p:grpSpPr>
        <p:sp>
          <p:nvSpPr>
            <p:cNvPr id="2546" name=""/>
            <p:cNvSpPr/>
            <p:nvPr/>
          </p:nvSpPr>
          <p:spPr>
            <a:xfrm>
              <a:off x="4754520" y="2262240"/>
              <a:ext cx="3505320" cy="3757680"/>
            </a:xfrm>
            <a:custGeom>
              <a:avLst/>
              <a:gdLst>
                <a:gd name="textAreaLeft" fmla="*/ 42120 w 3505320"/>
                <a:gd name="textAreaRight" fmla="*/ 3463200 w 3505320"/>
                <a:gd name="textAreaTop" fmla="*/ 42120 h 3757680"/>
                <a:gd name="textAreaBottom" fmla="*/ 3715560 h 3757680"/>
              </a:gdLst>
              <a:ahLst/>
              <a:rect l="textAreaLeft" t="textAreaTop" r="textAreaRight" b="textAreaBottom"/>
              <a:pathLst>
                <a:path w="21600" h="23155">
                  <a:moveTo>
                    <a:pt x="893" y="0"/>
                  </a:moveTo>
                  <a:arcTo wR="893" hR="893" stAng="16200000" swAng="-5400000"/>
                  <a:lnTo>
                    <a:pt x="0" y="22262"/>
                  </a:lnTo>
                  <a:arcTo wR="893" hR="893" stAng="10800000" swAng="-5400000"/>
                  <a:lnTo>
                    <a:pt x="20707" y="23155"/>
                  </a:lnTo>
                  <a:arcTo wR="893" hR="893" stAng="5400000" swAng="-5400000"/>
                  <a:lnTo>
                    <a:pt x="21600" y="893"/>
                  </a:lnTo>
                  <a:arcTo wR="893" hR="893" stAng="0" swAng="-5400000"/>
                  <a:close/>
                </a:path>
              </a:pathLst>
            </a:custGeom>
            <a:gradFill rotWithShape="0">
              <a:gsLst>
                <a:gs pos="0">
                  <a:srgbClr val="6f9400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7" name=""/>
            <p:cNvGrpSpPr/>
            <p:nvPr/>
          </p:nvGrpSpPr>
          <p:grpSpPr>
            <a:xfrm>
              <a:off x="4959360" y="1973160"/>
              <a:ext cx="3098880" cy="573120"/>
              <a:chOff x="4959360" y="1973160"/>
              <a:chExt cx="3098880" cy="573120"/>
            </a:xfrm>
          </p:grpSpPr>
          <p:sp>
            <p:nvSpPr>
              <p:cNvPr id="2548" name=""/>
              <p:cNvSpPr/>
              <p:nvPr/>
            </p:nvSpPr>
            <p:spPr>
              <a:xfrm>
                <a:off x="4959360" y="1973160"/>
                <a:ext cx="3098880" cy="57312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9cc00"/>
                  </a:gs>
                  <a:gs pos="50000">
                    <a:srgbClr val="82ae00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4977360" y="2383560"/>
                <a:ext cx="3045240" cy="136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00">
                      <a:alpha val="0"/>
                    </a:srgbClr>
                  </a:gs>
                  <a:gs pos="100000">
                    <a:srgbClr val="dced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4977360" y="1990440"/>
                <a:ext cx="3045240" cy="136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5f1c0"/>
                  </a:gs>
                  <a:gs pos="100000">
                    <a:srgbClr val="99cc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1" name=""/>
            <p:cNvSpPr/>
            <p:nvPr/>
          </p:nvSpPr>
          <p:spPr>
            <a:xfrm>
              <a:off x="5079960" y="2003400"/>
              <a:ext cx="284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e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effff"/>
                  </a:solidFill>
                  <a:latin typeface="Arial"/>
                </a:rPr>
                <a:t>Content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038560" y="2536920"/>
              <a:ext cx="1800" cy="3208320"/>
            </a:xfrm>
            <a:prstGeom prst="line">
              <a:avLst/>
            </a:prstGeom>
            <a:ln w="12600">
              <a:solidFill>
                <a:srgbClr val="fe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3" name=""/>
            <p:cNvGrpSpPr/>
            <p:nvPr/>
          </p:nvGrpSpPr>
          <p:grpSpPr>
            <a:xfrm>
              <a:off x="4954680" y="2728800"/>
              <a:ext cx="160200" cy="168480"/>
              <a:chOff x="4954680" y="2728800"/>
              <a:chExt cx="160200" cy="168480"/>
            </a:xfrm>
          </p:grpSpPr>
          <p:sp>
            <p:nvSpPr>
              <p:cNvPr id="2554" name=""/>
              <p:cNvSpPr/>
              <p:nvPr/>
            </p:nvSpPr>
            <p:spPr>
              <a:xfrm>
                <a:off x="4954680" y="2728800"/>
                <a:ext cx="160200" cy="168480"/>
              </a:xfrm>
              <a:prstGeom prst="ellipse">
                <a:avLst/>
              </a:prstGeom>
              <a:gradFill rotWithShape="0">
                <a:gsLst>
                  <a:gs pos="0">
                    <a:srgbClr val="223864"/>
                  </a:gs>
                  <a:gs pos="100000">
                    <a:srgbClr val="bec5d1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4967280" y="2742840"/>
                <a:ext cx="133560" cy="140040"/>
              </a:xfrm>
              <a:prstGeom prst="ellipse">
                <a:avLst/>
              </a:prstGeom>
              <a:gradFill rotWithShape="0">
                <a:gsLst>
                  <a:gs pos="0">
                    <a:srgbClr val="72809b"/>
                  </a:gs>
                  <a:gs pos="100000">
                    <a:srgbClr val="2238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6" name=""/>
            <p:cNvGrpSpPr/>
            <p:nvPr/>
          </p:nvGrpSpPr>
          <p:grpSpPr>
            <a:xfrm>
              <a:off x="4954680" y="3736800"/>
              <a:ext cx="160200" cy="168480"/>
              <a:chOff x="4954680" y="3736800"/>
              <a:chExt cx="160200" cy="168480"/>
            </a:xfrm>
          </p:grpSpPr>
          <p:sp>
            <p:nvSpPr>
              <p:cNvPr id="2557" name=""/>
              <p:cNvSpPr/>
              <p:nvPr/>
            </p:nvSpPr>
            <p:spPr>
              <a:xfrm>
                <a:off x="4954680" y="3736800"/>
                <a:ext cx="160200" cy="168480"/>
              </a:xfrm>
              <a:prstGeom prst="ellipse">
                <a:avLst/>
              </a:prstGeom>
              <a:gradFill rotWithShape="0">
                <a:gsLst>
                  <a:gs pos="0">
                    <a:srgbClr val="223864"/>
                  </a:gs>
                  <a:gs pos="100000">
                    <a:srgbClr val="bec5d1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4967280" y="3750840"/>
                <a:ext cx="133560" cy="140040"/>
              </a:xfrm>
              <a:prstGeom prst="ellipse">
                <a:avLst/>
              </a:prstGeom>
              <a:gradFill rotWithShape="0">
                <a:gsLst>
                  <a:gs pos="0">
                    <a:srgbClr val="72809b"/>
                  </a:gs>
                  <a:gs pos="100000">
                    <a:srgbClr val="2238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9" name=""/>
            <p:cNvGrpSpPr/>
            <p:nvPr/>
          </p:nvGrpSpPr>
          <p:grpSpPr>
            <a:xfrm>
              <a:off x="4954680" y="4844880"/>
              <a:ext cx="160200" cy="168480"/>
              <a:chOff x="4954680" y="4844880"/>
              <a:chExt cx="160200" cy="168480"/>
            </a:xfrm>
          </p:grpSpPr>
          <p:sp>
            <p:nvSpPr>
              <p:cNvPr id="2560" name=""/>
              <p:cNvSpPr/>
              <p:nvPr/>
            </p:nvSpPr>
            <p:spPr>
              <a:xfrm>
                <a:off x="4954680" y="4844880"/>
                <a:ext cx="160200" cy="168480"/>
              </a:xfrm>
              <a:prstGeom prst="ellipse">
                <a:avLst/>
              </a:prstGeom>
              <a:gradFill rotWithShape="0">
                <a:gsLst>
                  <a:gs pos="0">
                    <a:srgbClr val="223864"/>
                  </a:gs>
                  <a:gs pos="100000">
                    <a:srgbClr val="bec5d1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4967280" y="4858920"/>
                <a:ext cx="133560" cy="140040"/>
              </a:xfrm>
              <a:prstGeom prst="ellipse">
                <a:avLst/>
              </a:prstGeom>
              <a:gradFill rotWithShape="0">
                <a:gsLst>
                  <a:gs pos="0">
                    <a:srgbClr val="72809b"/>
                  </a:gs>
                  <a:gs pos="100000">
                    <a:srgbClr val="2238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2" name=""/>
            <p:cNvSpPr/>
            <p:nvPr/>
          </p:nvSpPr>
          <p:spPr>
            <a:xfrm>
              <a:off x="5087880" y="2612880"/>
              <a:ext cx="13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99"/>
                  </a:solidFill>
                  <a:latin typeface="Arial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076720" y="3618000"/>
              <a:ext cx="13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99"/>
                  </a:solidFill>
                  <a:latin typeface="Arial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076720" y="4718160"/>
              <a:ext cx="13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99"/>
                  </a:solidFill>
                  <a:latin typeface="Arial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229360" y="2909880"/>
              <a:ext cx="2923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229360" y="3909960"/>
              <a:ext cx="2923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229360" y="5027760"/>
              <a:ext cx="2923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8f8f8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8" name=""/>
          <p:cNvGrpSpPr/>
          <p:nvPr/>
        </p:nvGrpSpPr>
        <p:grpSpPr>
          <a:xfrm>
            <a:off x="914400" y="1981080"/>
            <a:ext cx="3538440" cy="4025880"/>
            <a:chOff x="914400" y="1981080"/>
            <a:chExt cx="3538440" cy="4025880"/>
          </a:xfrm>
        </p:grpSpPr>
        <p:sp>
          <p:nvSpPr>
            <p:cNvPr id="2569" name=""/>
            <p:cNvSpPr/>
            <p:nvPr/>
          </p:nvSpPr>
          <p:spPr>
            <a:xfrm>
              <a:off x="914400" y="2249640"/>
              <a:ext cx="3505320" cy="3757320"/>
            </a:xfrm>
            <a:custGeom>
              <a:avLst/>
              <a:gdLst>
                <a:gd name="textAreaLeft" fmla="*/ 42120 w 3505320"/>
                <a:gd name="textAreaRight" fmla="*/ 3463200 w 3505320"/>
                <a:gd name="textAreaTop" fmla="*/ 42120 h 3757320"/>
                <a:gd name="textAreaBottom" fmla="*/ 3715200 h 3757320"/>
              </a:gdLst>
              <a:ahLst/>
              <a:rect l="textAreaLeft" t="textAreaTop" r="textAreaRight" b="textAreaBottom"/>
              <a:pathLst>
                <a:path w="21600" h="23153">
                  <a:moveTo>
                    <a:pt x="893" y="0"/>
                  </a:moveTo>
                  <a:arcTo wR="893" hR="893" stAng="16200000" swAng="-5400000"/>
                  <a:lnTo>
                    <a:pt x="0" y="22260"/>
                  </a:lnTo>
                  <a:arcTo wR="893" hR="893" stAng="10800000" swAng="-5400000"/>
                  <a:lnTo>
                    <a:pt x="20707" y="23153"/>
                  </a:lnTo>
                  <a:arcTo wR="893" hR="893" stAng="5400000" swAng="-5400000"/>
                  <a:lnTo>
                    <a:pt x="21600" y="893"/>
                  </a:lnTo>
                  <a:arcTo wR="893" hR="893" stAng="0" swAng="-5400000"/>
                  <a:close/>
                </a:path>
              </a:pathLst>
            </a:custGeom>
            <a:gradFill rotWithShape="0">
              <a:gsLst>
                <a:gs pos="0">
                  <a:srgbClr val="8da9ac"/>
                </a:gs>
                <a:gs pos="100000">
                  <a:srgbClr val="bbe0e3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0" name=""/>
            <p:cNvGrpSpPr/>
            <p:nvPr/>
          </p:nvGrpSpPr>
          <p:grpSpPr>
            <a:xfrm>
              <a:off x="1143000" y="1981080"/>
              <a:ext cx="3098880" cy="573120"/>
              <a:chOff x="1143000" y="1981080"/>
              <a:chExt cx="3098880" cy="573120"/>
            </a:xfrm>
          </p:grpSpPr>
          <p:sp>
            <p:nvSpPr>
              <p:cNvPr id="2571" name=""/>
              <p:cNvSpPr/>
              <p:nvPr/>
            </p:nvSpPr>
            <p:spPr>
              <a:xfrm>
                <a:off x="1143000" y="1981080"/>
                <a:ext cx="3098880" cy="573120"/>
              </a:xfrm>
              <a:prstGeom prst="roundRect">
                <a:avLst>
                  <a:gd name="adj" fmla="val 17509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161000" y="2391120"/>
                <a:ext cx="3045600" cy="137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be0e3"/>
                  </a:gs>
                  <a:gs pos="100000">
                    <a:srgbClr val="ecf6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161000" y="1998000"/>
                <a:ext cx="3045600" cy="137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cf6f6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>
              <a:off x="1219320" y="2003400"/>
              <a:ext cx="284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e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effff"/>
                  </a:solidFill>
                  <a:latin typeface="Arial"/>
                </a:rPr>
                <a:t>Content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75" name=""/>
            <p:cNvGraphicFramePr/>
            <p:nvPr/>
          </p:nvGraphicFramePr>
          <p:xfrm>
            <a:off x="1041480" y="2558880"/>
            <a:ext cx="3411360" cy="331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1480" y="2558880"/>
                      <a:ext cx="3411360" cy="331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924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054080" y="586908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053720" y="503064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053720" y="42004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053720" y="337176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053720" y="2530440"/>
            <a:ext cx="503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06360" y="252396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06360" y="339552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06360" y="421308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06360" y="503064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5800" y="2847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5800" y="3675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05800" y="45385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05800" y="5345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83400" y="2421000"/>
            <a:ext cx="57636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22920" y="2421000"/>
            <a:ext cx="3343320" cy="54144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04160" y="3252960"/>
            <a:ext cx="576000" cy="8413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92400" y="3252960"/>
            <a:ext cx="3594240" cy="53964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23120" y="4084560"/>
            <a:ext cx="573120" cy="84456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45320" y="4917960"/>
            <a:ext cx="577800" cy="846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41440" y="4923000"/>
            <a:ext cx="4081680" cy="53964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33640" y="2575080"/>
            <a:ext cx="1838520" cy="272232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29040" y="2962440"/>
            <a:ext cx="2767320" cy="304560"/>
          </a:xfrm>
          <a:prstGeom prst="rect">
            <a:avLst/>
          </a:prstGeom>
          <a:gradFill rotWithShape="0">
            <a:gsLst>
              <a:gs pos="0">
                <a:srgbClr val="24246e"/>
              </a:gs>
              <a:gs pos="50000">
                <a:srgbClr val="333399"/>
              </a:gs>
              <a:gs pos="100000">
                <a:srgbClr val="2424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4200" y="3792600"/>
            <a:ext cx="3016080" cy="298440"/>
          </a:xfrm>
          <a:prstGeom prst="rect">
            <a:avLst/>
          </a:prstGeom>
          <a:gradFill rotWithShape="0">
            <a:gsLst>
              <a:gs pos="0">
                <a:srgbClr val="006e6e"/>
              </a:gs>
              <a:gs pos="50000">
                <a:srgbClr val="009999"/>
              </a:gs>
              <a:gs pos="100000">
                <a:srgbClr val="006e6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68720" y="4084560"/>
            <a:ext cx="3833640" cy="54468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71960" y="4627440"/>
            <a:ext cx="3263760" cy="298440"/>
          </a:xfrm>
          <a:prstGeom prst="rect">
            <a:avLst/>
          </a:prstGeom>
          <a:gradFill rotWithShape="0">
            <a:gsLst>
              <a:gs pos="0">
                <a:srgbClr val="6e9300"/>
              </a:gs>
              <a:gs pos="50000">
                <a:srgbClr val="99cc00"/>
              </a:gs>
              <a:gs pos="100000">
                <a:srgbClr val="6e93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464080"/>
            <a:ext cx="3513240" cy="297000"/>
          </a:xfrm>
          <a:prstGeom prst="rect">
            <a:avLst/>
          </a:prstGeom>
          <a:gradFill rotWithShape="0">
            <a:gsLst>
              <a:gs pos="0">
                <a:srgbClr val="87a1a4"/>
              </a:gs>
              <a:gs pos="50000">
                <a:srgbClr val="bbe0e3"/>
              </a:gs>
              <a:gs pos="100000">
                <a:srgbClr val="87a1a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 txBox="1"/>
          <p:nvPr/>
        </p:nvSpPr>
        <p:spPr>
          <a:xfrm>
            <a:off x="2268360" y="3213000"/>
            <a:ext cx="510552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99cc00"/>
                  </a:solidFill>
                  <a:miter/>
                </a:ln>
                <a:solidFill>
                  <a:srgbClr val="ff33cc"/>
                </a:soli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Thank You !</a:t>
            </a:r>
            <a:endParaRPr b="1" lang="en-US" sz="5400" spc="1" strike="noStrike">
              <a:ln w="28440">
                <a:solidFill>
                  <a:srgbClr val="99cc00"/>
                </a:solidFill>
                <a:miter/>
              </a:ln>
              <a:solidFill>
                <a:srgbClr val="ff33cc"/>
              </a:soli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457200" y="780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 txBox="1"/>
          <p:nvPr/>
        </p:nvSpPr>
        <p:spPr>
          <a:xfrm>
            <a:off x="1752480" y="2895480"/>
            <a:ext cx="575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009999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7" name="" descr=""/>
          <p:cNvPicPr/>
          <p:nvPr/>
        </p:nvPicPr>
        <p:blipFill>
          <a:blip r:embed="rId2"/>
          <a:stretch/>
        </p:blipFill>
        <p:spPr>
          <a:xfrm>
            <a:off x="2484360" y="2852640"/>
            <a:ext cx="80074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900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35280" y="328464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42920" y="335772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4720" y="357336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258920" y="1844640"/>
            <a:ext cx="6518160" cy="1278000"/>
            <a:chOff x="1258920" y="1844640"/>
            <a:chExt cx="6518160" cy="1278000"/>
          </a:xfrm>
        </p:grpSpPr>
        <p:sp>
          <p:nvSpPr>
            <p:cNvPr id="283" name=""/>
            <p:cNvSpPr/>
            <p:nvPr/>
          </p:nvSpPr>
          <p:spPr>
            <a:xfrm>
              <a:off x="3003480" y="22654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65880" y="22654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32440" y="224964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73920" y="2249640"/>
              <a:ext cx="170316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99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84800" y="2249640"/>
              <a:ext cx="1481400" cy="480960"/>
            </a:xfrm>
            <a:prstGeom prst="ellipse">
              <a:avLst/>
            </a:prstGeom>
            <a:gradFill rotWithShape="0">
              <a:gsLst>
                <a:gs pos="0">
                  <a:srgbClr val="005252"/>
                </a:gs>
                <a:gs pos="50000">
                  <a:srgbClr val="009999"/>
                </a:gs>
                <a:gs pos="100000">
                  <a:srgbClr val="00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0360" y="2257560"/>
              <a:ext cx="1481040" cy="48096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006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64360" y="2249640"/>
              <a:ext cx="1334880" cy="48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06560" y="22446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c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6560" y="22446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cc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58920" y="2243160"/>
              <a:ext cx="1481040" cy="480960"/>
            </a:xfrm>
            <a:prstGeom prst="ellipse">
              <a:avLst/>
            </a:prstGeom>
            <a:gradFill rotWithShape="0">
              <a:gsLst>
                <a:gs pos="0">
                  <a:srgbClr val="526d00"/>
                </a:gs>
                <a:gs pos="50000">
                  <a:srgbClr val="99cc00"/>
                </a:gs>
                <a:gs pos="100000">
                  <a:srgbClr val="52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60360" y="2246400"/>
              <a:ext cx="1481400" cy="48096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60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33440" y="2246400"/>
              <a:ext cx="1333440" cy="48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354320" y="1844640"/>
              <a:ext cx="1290600" cy="1278000"/>
              <a:chOff x="1354320" y="1844640"/>
              <a:chExt cx="1290600" cy="1278000"/>
            </a:xfrm>
          </p:grpSpPr>
          <p:sp>
            <p:nvSpPr>
              <p:cNvPr id="296" name=""/>
              <p:cNvSpPr/>
              <p:nvPr/>
            </p:nvSpPr>
            <p:spPr>
              <a:xfrm>
                <a:off x="1354320" y="18446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70520" y="18514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384200" y="18640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54040" y="18964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4370400" y="224964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be0e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70400" y="224964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22760" y="2249640"/>
              <a:ext cx="1481040" cy="480960"/>
            </a:xfrm>
            <a:prstGeom prst="ellipse">
              <a:avLst/>
            </a:prstGeom>
            <a:gradFill rotWithShape="0">
              <a:gsLst>
                <a:gs pos="0">
                  <a:srgbClr val="64787a"/>
                </a:gs>
                <a:gs pos="50000">
                  <a:srgbClr val="bbe0e3"/>
                </a:gs>
                <a:gs pos="100000">
                  <a:srgbClr val="6478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24200" y="2251080"/>
              <a:ext cx="1481400" cy="48096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768d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95840" y="2249640"/>
              <a:ext cx="1333440" cy="480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817800" y="1844640"/>
              <a:ext cx="1290960" cy="1278000"/>
              <a:chOff x="3817800" y="1844640"/>
              <a:chExt cx="1290960" cy="1278000"/>
            </a:xfrm>
          </p:grpSpPr>
          <p:sp>
            <p:nvSpPr>
              <p:cNvPr id="306" name=""/>
              <p:cNvSpPr/>
              <p:nvPr/>
            </p:nvSpPr>
            <p:spPr>
              <a:xfrm>
                <a:off x="3817800" y="18446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834000" y="18514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7680" y="18640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917880" y="18964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288120" y="1844640"/>
              <a:ext cx="1292040" cy="1278000"/>
              <a:chOff x="6288120" y="1844640"/>
              <a:chExt cx="1292040" cy="1278000"/>
            </a:xfrm>
          </p:grpSpPr>
          <p:sp>
            <p:nvSpPr>
              <p:cNvPr id="311" name=""/>
              <p:cNvSpPr/>
              <p:nvPr/>
            </p:nvSpPr>
            <p:spPr>
              <a:xfrm>
                <a:off x="6288120" y="1844640"/>
                <a:ext cx="12920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304320" y="18514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318000" y="1864080"/>
                <a:ext cx="11991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388200" y="1896480"/>
                <a:ext cx="106596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1617120" y="2317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6000" y="2317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52720" y="2317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PPT</dc:creator>
  <dc:description/>
  <dc:language>en-US</dc:language>
  <cp:lastModifiedBy>微软用户</cp:lastModifiedBy>
  <dcterms:modified xsi:type="dcterms:W3CDTF">2010-11-28T09:02:45Z</dcterms:modified>
  <cp:revision>393</cp:revision>
  <dc:subject/>
  <dc:title>锐得PPT模板</dc:title>
</cp:coreProperties>
</file>