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36B-D253-4630-B2A4-4029B688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64F-D8A4-4C59-991A-D4EE8329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5C7-6246-4103-AA98-2A396FAD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876-3222-44DD-9B91-F18333FF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C41-F54B-4D97-B8AF-8C8F9C3F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315-8115-456F-9D98-B39A6077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B48-9359-4C3D-82ED-ACE6830B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9C4-314F-4E3B-9215-85CD2938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8DA-9A89-43B2-B2D8-33C21E89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89F-7560-4012-8D94-F116B7BE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642-EE93-4775-8662-C0BB0D7B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5BC-9E2E-4AA1-B1D4-51DD4669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C779-45B7-43CC-A187-02AD7E4684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jpeg"/><Relationship Id="rId3" Type="http://schemas.openxmlformats.org/officeDocument/2006/relationships/slide" Target="slide21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61600" y="5699160"/>
            <a:ext cx="1826640" cy="825480"/>
          </a:xfrm>
          <a:prstGeom prst="rect">
            <a:avLst/>
          </a:prstGeom>
          <a:solidFill>
            <a:srgbClr val="fef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莲藕斗得劲头儿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胡萝卜急得搬救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60280" y="525672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歪嘴葫芦放大炮，轰隆轰隆炮三声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449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17680" y="5561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大蒜裂了瓣，打得黄瓜上下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4343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449604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45120" y="5334120"/>
            <a:ext cx="7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辣椒满身红，打得茄子一身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豆腐尿黄水，打得凉粉战兢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4419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118400" y="53330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藕王一看抵不过，一头钻进烂泥坑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435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75360" y="533304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了城门往正东，一园青菜绿葱葱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407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4648320" cy="4038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029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6880" y="550800"/>
            <a:ext cx="51674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园青菜成了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了城门往正东，一园青菜绿葱葱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近几天没人问，他们个个成了精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头萝卜称大王，红头萝卜当娘娘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隔壁莲藕急了眼，一封战书打进园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豆芽儿跪倒来报信，胡萝卜挂帅去出征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边兄弟来叫阵，大呼小叫争输赢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葱端起银杆枪，一个劲儿向前冲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茄子一挺大肚皮，小葱撞了个倒栽葱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韭菜使出两刃锋，呼啦呼拉上了阵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瓜甩起扫堂腿，踢得韭菜往回奔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莲藕斗得劲头儿足，胡萝卜急得搬救兵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歪嘴葫芦放大炮，轰隆轰隆炮三声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大蒜裂了瓣，打得黄瓜上下青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辣椒满身红，打得茄子一身紫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豆腐尿黄水，打得凉粉战兢兢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藕王一看抵不过，一头钻进烂泥坑！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了城门往正东，一园青菜绿葱葱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209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209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57400" y="518040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了城门往正东，一园青菜绿葱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411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0" y="1905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8610480" y="19051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29600" y="5715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029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4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562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3720" y="51044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近几天没人问，他们个个成了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419720" cy="396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5432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7400" y="5028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头萝卜称大王 红头萝卜当娘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80"/>
            <a:ext cx="4572000" cy="3957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60948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46040" y="49518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隔壁莲藕急了眼，一封战书打进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419720" cy="383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7242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119840" y="5485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豆芽儿跪倒来报信，胡萝卜挂帅去出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905360" cy="418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4956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72120" y="53330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边兄弟来叫阵，大呼小叫争输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572000" cy="403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4572000" cy="40118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4114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191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122360" y="5713560"/>
            <a:ext cx="8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葱端起银杆枪，一个劲儿向前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茄子一挺大肚皮，小葱撞了个倒栽葱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10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24760" y="5637240"/>
            <a:ext cx="3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韭菜使出两刃锋，呼啦呼啦上了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瓜甩起扫堂腿，踢得韭菜往回奔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09T02:47:0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