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DB5-C310-4106-AE50-8ACFDDC0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3CD-E53E-46E3-8F7C-9B0EA37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964-E2D6-4D84-83EB-40D33DFE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898-30A1-4B8A-BA1C-35B52400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391-CB52-4E90-8F6D-ADA01C0E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57B-637E-49CE-9E2F-FBAB33E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EDE-420B-4288-80F9-72D214DE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2F3-01CB-4854-B206-EAE3882B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29E-323C-447C-8FB3-54028118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0628-5936-4ED5-ABAE-0CB3F53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137-B959-4457-B7EA-8734951D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EE2-E6D0-40FC-A090-599A59E3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7BB-A3FA-45A2-984B-214C2F1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78AE-68EF-4121-8969-72DBE1B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8387-8EA6-406B-9CBC-D5865AAE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485-C554-4808-B53C-0DF566BE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C6A-DFA2-4449-8486-FEE088C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39C-97B7-49D5-A98A-95D4EE22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85E-8531-4E93-82EA-6E7A273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3A2-B589-4CBE-9026-0D26F7F1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724-95AA-4102-A9D5-3929B5A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2AA-83F9-4ADA-A8CB-44E5672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5BE-9087-4E78-B403-200D877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32E-B24A-439D-A4D2-5D545A7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C62-7BFB-4BA1-ACAD-2290DA2C97A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43B7-ABEE-427E-AD3D-D5950A566E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508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开学第一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518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941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作业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堂作业：及时，独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后作业：独立，质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我介绍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6520" y="3933720"/>
            <a:ext cx="75391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高兴认识大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荣幸能担任五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数学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7336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姓名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班级的简单情况：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数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男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女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就是一门学科，一个需要我们去认识，去了解、掌握并加以应用的一个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另一个角度来看，就像一扇门，看谁先进入它的世界，有人先进去了，有人刚踏进一只脚，还有人还徘徊在数学大门之外，想要学好数学就看谁先走到门口并找对工具，打开开这扇小门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4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对数学的看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学生如何学好数学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2880" y="1830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方法很重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练习是保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思考是关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业是检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怎样对待数学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谓众说纷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之观：数学是一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规律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学科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优秀生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VS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后进生，</a:t>
            </a: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            谁决定谁的前途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天生我材必有用”，“闻到有先后，术业有专攻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同样一道题目，只是你比我先知道而已，问问同学或者老师，我也就知道了，你只是比我早知道一天而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昨天会了，我今天也会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学生常见心理问题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卑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畏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课堂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听讲    不做小动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做好笔记    不浪费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积极思考    不随意走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动发言    发言请举手    声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坐姿端正    不东张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0:10:50Z</dcterms:created>
  <dc:creator>Tclsevers</dc:creator>
  <dc:description/>
  <dc:language>en-US</dc:language>
  <cp:lastModifiedBy>Tclsevers</cp:lastModifiedBy>
  <dcterms:modified xsi:type="dcterms:W3CDTF">2012-08-31T01:27:08Z</dcterms:modified>
  <cp:revision>5</cp:revision>
  <dc:subject/>
  <dc:title>开学第一课</dc:title>
</cp:coreProperties>
</file>