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2BC5-C25F-4213-82D0-8B17DAF4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4B5-9CC3-42DB-A838-E08FBDBD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334-1D4C-4254-A29B-4E4ADE21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4A9-2E3B-4B65-805B-A5A399A3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8AD-D8AB-4613-9AF0-BA98E364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B285-6291-47D4-8F2F-5A7E74BF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D834-2789-4B8E-86C0-3E8364DE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EB76-52A5-4648-9B9C-1EDC41A3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1D36-6235-4DD6-8F63-937DA9F4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6796-AFEB-4600-94BF-3C781BCF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6B3-0BF6-4492-8B0B-039DFB44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764-3BD5-4C2C-9540-F8A1C15F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718B-001B-4A1D-B3BB-A325B1194F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35270;&#39057;/%5B&#23376;&#21320;&#20070;&#31616;%5D&#39640;&#32771;_&#36825;&#26159;&#19968;&#20010;&#22278;.wm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35270;&#39057;/&#19968;&#20999;&#30342;&#26377;&#21487;&#33021;11.fl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839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高考</a:t>
            </a:r>
            <a:br>
              <a:rPr sz="8000"/>
            </a:br>
            <a:br>
              <a:rPr sz="8000"/>
            </a:b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是我们圆梦的舞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cc00"/>
                </a:solidFill>
                <a:latin typeface="Arial"/>
              </a:rPr>
              <a:t>让我们在此庄严宣誓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9372600" cy="70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811600"/>
            <a:ext cx="762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自信创造奇迹，拼搏书写神话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知识改变命运，现在决定未来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我自信，我出色；我努力，我成功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脚踏实地山让路，持之以恒海可移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走进教室，满怀信心；走出教室，意气风发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信心百倍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斗志昂扬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全力以赴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铸我辉煌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67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67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67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67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81080" y="609480"/>
            <a:ext cx="571500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 u="sng">
                <a:solidFill>
                  <a:srgbClr val="009999"/>
                </a:solidFill>
                <a:uFillTx/>
                <a:latin typeface="Arial"/>
                <a:ea typeface="华文行楷"/>
                <a:hlinkClick r:id="rId1"/>
              </a:rPr>
              <a:t>为了梦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TextBox 3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9753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91720" y="763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也许我们年少轻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1720" y="6271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也许我们曾经失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76400" y="12034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也许我们偶尔彷徨迷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59200" y="2367000"/>
            <a:ext cx="32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20e2"/>
                </a:solidFill>
                <a:latin typeface="Times New Roman"/>
              </a:rPr>
              <a:t>…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07840" y="3124080"/>
            <a:ext cx="22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20e2"/>
                </a:solidFill>
                <a:latin typeface="Times New Roman"/>
              </a:rPr>
              <a:t>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59200" y="4114800"/>
            <a:ext cx="32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20e2"/>
                </a:solidFill>
                <a:latin typeface="Times New Roman"/>
              </a:rPr>
              <a:t>…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7840" y="5178600"/>
            <a:ext cx="22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20e2"/>
                </a:solidFill>
                <a:latin typeface="Times New Roman"/>
              </a:rPr>
              <a:t>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7500"/>
                            </p:stCondLst>
                            <p:childTnLst>
                              <p:par>
                                <p:cTn id="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52480" y="1143000"/>
            <a:ext cx="6248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一切皆有可能！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2286000"/>
            <a:ext cx="381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从改变自己开始！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3429000"/>
            <a:ext cx="487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只要功夫深，铁杵磨成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7000" y="1411560"/>
            <a:ext cx="511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37960"/>
                <a:tab algn="l" pos="476280"/>
                <a:tab algn="l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行楷"/>
              </a:rPr>
              <a:t>让我们面对苍天大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37960"/>
                <a:tab algn="l" pos="476280"/>
                <a:tab algn="l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37960"/>
                <a:tab algn="l" pos="476280"/>
                <a:tab algn="l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行楷"/>
              </a:rPr>
              <a:t>大声喊出我的梦想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858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333360"/>
            <a:ext cx="75614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决 战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年高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考出水平  考出理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24000" y="476280"/>
            <a:ext cx="94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 algn="ctr">
              <a:lnSpc>
                <a:spcPct val="10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6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样的</a:t>
            </a:r>
            <a:r>
              <a:rPr b="0" lang="zh-CN" sz="6200" spc="-1" strike="noStrike">
                <a:solidFill>
                  <a:srgbClr val="ffcc00"/>
                </a:solidFill>
                <a:latin typeface="华文行楷"/>
                <a:ea typeface="华文行楷"/>
              </a:rPr>
              <a:t>梦想</a:t>
            </a:r>
            <a:r>
              <a:rPr b="0" lang="zh-CN" sz="6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同样的</a:t>
            </a:r>
            <a:r>
              <a:rPr b="0" lang="zh-CN" sz="6200" spc="-1" strike="noStrike">
                <a:solidFill>
                  <a:srgbClr val="ffcc00"/>
                </a:solidFill>
                <a:latin typeface="华文行楷"/>
                <a:ea typeface="华文行楷"/>
              </a:rPr>
              <a:t>渴望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努力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竞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环境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起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知识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同样的</a:t>
            </a: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老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27280" y="522936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2f1f"/>
                </a:solidFill>
                <a:latin typeface="Arial"/>
              </a:rPr>
              <a:t>我们该怎么做？？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只有比别人（对手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华文行楷"/>
                <a:ea typeface="华文行楷"/>
              </a:rPr>
              <a:t>少想家 少分心 少违纪 少请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才不会被别人落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只有比对手（别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华文行楷"/>
                <a:ea typeface="华文行楷"/>
              </a:rPr>
              <a:t>更付出 更努力 更坚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华文行楷"/>
                <a:ea typeface="华文行楷"/>
              </a:rPr>
              <a:t>更能持之以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才可能会超过别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33000" y="549000"/>
            <a:ext cx="6709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让我们一起</a:t>
            </a:r>
            <a:r>
              <a:rPr b="0" lang="zh-CN" sz="8000" spc="-1" strike="noStrike">
                <a:solidFill>
                  <a:srgbClr val="fd2f1f"/>
                </a:solidFill>
                <a:latin typeface="华文行楷"/>
                <a:ea typeface="华文行楷"/>
              </a:rPr>
              <a:t>努力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吧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了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09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高考的</a:t>
            </a:r>
            <a:r>
              <a:rPr b="0" lang="zh-CN" sz="8000" spc="-1" strike="noStrike">
                <a:solidFill>
                  <a:srgbClr val="fd2f1f"/>
                </a:solidFill>
                <a:latin typeface="华文行楷"/>
                <a:ea typeface="华文行楷"/>
              </a:rPr>
              <a:t>辉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从今天开始</a:t>
            </a:r>
            <a:r>
              <a:rPr b="0" lang="zh-CN" sz="8000" spc="-1" strike="noStrike">
                <a:solidFill>
                  <a:srgbClr val="fd2f1f"/>
                </a:solidFill>
                <a:latin typeface="华文行楷"/>
                <a:ea typeface="华文行楷"/>
              </a:rPr>
              <a:t>奋斗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吧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58770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壮志雄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5805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2f1f"/>
                </a:solidFill>
                <a:latin typeface="Arial"/>
              </a:rPr>
              <a:t>真心英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ks5u.comwww.ks5u.com</dc:creator>
  <dc:description>www.ks5u.comwww.ks5u.com</dc:description>
  <cp:keywords>www.ks5u.comwww.ks5u.comwww.ks5u.com</cp:keywords>
  <dc:language>en-US</dc:language>
  <cp:lastModifiedBy>微软系统</cp:lastModifiedBy>
  <dcterms:modified xsi:type="dcterms:W3CDTF">2010-04-09T10:57:59Z</dcterms:modified>
  <cp:revision>7</cp:revision>
  <dc:subject>www.ks5u.com</dc:subject>
  <dc:title>www.ks5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3000000000001024120</vt:lpwstr>
  </property>
  <property fmtid="{D5CDD505-2E9C-101B-9397-08002B2CF9AE}" pid="3" name="Version">
    <vt:r8>1</vt:r8>
  </property>
</Properties>
</file>