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48.gif" ContentType="image/gif"/>
  <Override PartName="/ppt/media/image49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7AD-015D-43F0-B744-8C582C0D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CA2-AC4B-45EC-9478-F89A0EF9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291-E60C-4C6E-9B8B-0380025D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010-0AD6-4185-946C-99320C0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D08-BA73-471C-8AA9-4D70C8AC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BE88-484E-4540-9D99-A4039A7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544-D92D-45F1-9236-7814FB51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DD20-CAEB-40DE-91C6-3D4F7B5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6982-6573-48E6-8186-D1293F3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A1E-912F-458E-9AF8-0736584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7ED-4AF9-4762-8EA7-DF4E1BE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260-EEB5-4464-BEB3-1D437D1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38E0-F07A-4068-8E65-A266E98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F1E-FBB1-4BAC-BAAE-579F6D8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157A-C08E-4AEB-B7E4-A6BBE38A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3EF3-91A5-4FE2-BC06-F67E5BB3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91E-7B05-474A-848F-AA66B98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5C12-AA54-4579-8C0C-47C1274F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E0BD-18F2-4C30-95DA-1DB859C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0F86-074A-44F0-B7EF-7365323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437F-FCD1-4121-BE9D-B217AAC7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CF36-E8C3-446A-9836-42AF640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9A1-0C98-468E-9CAA-43ED2534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6D25-CF5B-40E9-B515-4D1D21E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211A-7EB2-4498-8F24-5C03284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3A34-4F06-4F7E-88D2-E4EAABE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1BB7-E32B-4E1F-B0E6-430B385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36AA-11D1-483C-997D-0948069F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722F-2A2A-4F8A-9C3F-311CA20E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F87B-1E2F-47FD-860D-376A8F60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486D-71FB-429C-B5B5-74FDA159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E880-7137-473A-A390-BBF718F9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A92A-A518-499F-82BE-9713063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2BB-FBD8-4390-9271-B04A498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5DF3-1B0C-4CE0-944F-D44A98D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27D5-8C0C-4169-938A-6847EFD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6875-7971-4063-A66C-991225D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49B4-3237-41CB-A2FC-0C1388D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237F-D646-4E99-8DA6-4D5B6ED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16DD-3517-4ACC-8408-02EA4E2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B087-C838-4EF1-B7D5-D54D1492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83B8-4852-4ABB-BFFA-E631E7B8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86D6-F439-42EA-B292-00AA13CE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5A9-499C-4D23-A43B-7504C14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1B1-F34A-4043-B8FB-83F22D5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3D9-9461-471B-9CC4-E8655EB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6CE-2B2D-468F-8B61-D549DAA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0F2-4E6B-45F1-9938-FD42A22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F17-1C29-4C15-87F3-0BB51275B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676520" y="106668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pettals_falling"/>
          <p:cNvPicPr/>
          <p:nvPr/>
        </p:nvPicPr>
        <p:blipFill>
          <a:blip r:embed="rId4"/>
          <a:stretch/>
        </p:blipFill>
        <p:spPr>
          <a:xfrm>
            <a:off x="8448840" y="0"/>
            <a:ext cx="695160" cy="571500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8458200" y="0"/>
            <a:ext cx="0" cy="6858000"/>
          </a:xfrm>
          <a:prstGeom prst="line">
            <a:avLst/>
          </a:prstGeom>
          <a:ln w="57240">
            <a:solidFill>
              <a:srgbClr val="850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rose_flower"/>
          <p:cNvPicPr/>
          <p:nvPr/>
        </p:nvPicPr>
        <p:blipFill>
          <a:blip r:embed="rId5"/>
          <a:stretch/>
        </p:blipFill>
        <p:spPr>
          <a:xfrm>
            <a:off x="7162920" y="5181480"/>
            <a:ext cx="3047760" cy="236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7CA-FC2B-4E0F-9BDB-BA1D549FDB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5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2209680" y="2133720"/>
            <a:ext cx="632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049-03C9-45A2-ADAC-B59248D97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48A-E84B-42ED-BBCE-99FF011260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hi.baidu.com/songsongspace/album/item/ef2738efe108e9f4cf1b3e44.html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&#22763;&#20853;&#31361;&#20987;%20&#24449;&#26381;&#22825;&#22530;.wma" TargetMode="External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中开学主题班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1763640" y="2997360"/>
            <a:ext cx="63374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高中，我来了！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02"/>
          <p:cNvPicPr/>
          <p:nvPr/>
        </p:nvPicPr>
        <p:blipFill>
          <a:blip r:embed="rId1"/>
          <a:srcRect l="0" t="0" r="0" b="3656"/>
          <a:stretch/>
        </p:blipFill>
        <p:spPr>
          <a:xfrm>
            <a:off x="2195640" y="1692360"/>
            <a:ext cx="6480000" cy="49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82080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会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W020060711832149210200"/>
          <p:cNvPicPr/>
          <p:nvPr/>
        </p:nvPicPr>
        <p:blipFill>
          <a:blip r:embed="rId1"/>
          <a:stretch/>
        </p:blipFill>
        <p:spPr>
          <a:xfrm>
            <a:off x="4495680" y="54000"/>
            <a:ext cx="4648320" cy="3014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zjoyz2001_1155942112"/>
          <p:cNvPicPr/>
          <p:nvPr/>
        </p:nvPicPr>
        <p:blipFill>
          <a:blip r:embed="rId2"/>
          <a:stretch/>
        </p:blipFill>
        <p:spPr>
          <a:xfrm>
            <a:off x="0" y="234936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200621385859873"/>
          <p:cNvPicPr/>
          <p:nvPr/>
        </p:nvPicPr>
        <p:blipFill>
          <a:blip r:embed="rId3"/>
          <a:stretch/>
        </p:blipFill>
        <p:spPr>
          <a:xfrm>
            <a:off x="4495680" y="3263760"/>
            <a:ext cx="4648320" cy="35499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866c5a3196bdefb1aedc1410b262a1d2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476360" y="5877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就是我的生活，我的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bf2b98b1b25e1816c6b75f784bf00d92"/>
          <p:cNvPicPr/>
          <p:nvPr/>
        </p:nvPicPr>
        <p:blipFill>
          <a:blip r:embed="rId1"/>
          <a:stretch/>
        </p:blipFill>
        <p:spPr>
          <a:xfrm>
            <a:off x="179280" y="163440"/>
            <a:ext cx="8839440" cy="57135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3486960" y="6021360"/>
            <a:ext cx="2257560" cy="581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出粮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个月的收入还比不上以前的零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252840" y="-503280"/>
            <a:ext cx="729000" cy="77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生活，我也得选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图片2"/>
          <p:cNvPicPr/>
          <p:nvPr/>
        </p:nvPicPr>
        <p:blipFill>
          <a:blip r:embed="rId1"/>
          <a:srcRect l="10604" t="2217" r="0" b="0"/>
          <a:stretch/>
        </p:blipFill>
        <p:spPr>
          <a:xfrm>
            <a:off x="927000" y="503280"/>
            <a:ext cx="4162680" cy="59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Img227693969"/>
          <p:cNvPicPr/>
          <p:nvPr/>
        </p:nvPicPr>
        <p:blipFill>
          <a:blip r:embed="rId1"/>
          <a:stretch/>
        </p:blipFill>
        <p:spPr>
          <a:xfrm>
            <a:off x="468360" y="0"/>
            <a:ext cx="7986600" cy="5805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744640" y="586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后悔啊！只怪当初的选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wm050221_03_1"/>
          <p:cNvPicPr/>
          <p:nvPr/>
        </p:nvPicPr>
        <p:blipFill>
          <a:blip r:embed="rId1"/>
          <a:stretch/>
        </p:blipFill>
        <p:spPr>
          <a:xfrm>
            <a:off x="0" y="4284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1a802e581a9ae6bf025769999d283b9b"/>
          <p:cNvPicPr/>
          <p:nvPr/>
        </p:nvPicPr>
        <p:blipFill>
          <a:blip r:embed="rId2"/>
          <a:stretch/>
        </p:blipFill>
        <p:spPr>
          <a:xfrm>
            <a:off x="5327640" y="2819520"/>
            <a:ext cx="3781440" cy="40384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245196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寻寻觅觅，只怨当初不努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911920" y="1197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资本不足，怎么选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75200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对于别人的选择，你有何感想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2852640"/>
            <a:ext cx="84978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生，是一场又一场的选择，你准备好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图片1"/>
          <p:cNvPicPr/>
          <p:nvPr/>
        </p:nvPicPr>
        <p:blipFill>
          <a:blip r:embed="rId1"/>
          <a:stretch/>
        </p:blipFill>
        <p:spPr>
          <a:xfrm>
            <a:off x="2050920" y="1940040"/>
            <a:ext cx="6769080" cy="458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95280" y="1052640"/>
            <a:ext cx="770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的道路虽然很漫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紧要处常常只有几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是当人年轻的时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一个人的生活道路是笔直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岔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岔道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如政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业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生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走错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影响人生的一个时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可以影响一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秦皇岛：学生与家长高考第一天两种心态(组图)"/>
          <p:cNvPicPr/>
          <p:nvPr/>
        </p:nvPicPr>
        <p:blipFill>
          <a:blip r:embed="rId1"/>
          <a:stretch/>
        </p:blipFill>
        <p:spPr>
          <a:xfrm>
            <a:off x="2195640" y="1844640"/>
            <a:ext cx="6408720" cy="48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家长叮咛"/>
          <p:cNvPicPr/>
          <p:nvPr/>
        </p:nvPicPr>
        <p:blipFill>
          <a:blip r:embed="rId1"/>
          <a:stretch/>
        </p:blipFill>
        <p:spPr>
          <a:xfrm>
            <a:off x="0" y="1413000"/>
            <a:ext cx="4456080" cy="5400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家长送2"/>
          <p:cNvPicPr/>
          <p:nvPr/>
        </p:nvPicPr>
        <p:blipFill>
          <a:blip r:embed="rId2"/>
          <a:stretch/>
        </p:blipFill>
        <p:spPr>
          <a:xfrm>
            <a:off x="4429080" y="1414440"/>
            <a:ext cx="4680000" cy="54007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家长叮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7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母亲目送孩子进考场"/>
          <p:cNvPicPr/>
          <p:nvPr/>
        </p:nvPicPr>
        <p:blipFill>
          <a:blip r:embed="rId1"/>
          <a:stretch/>
        </p:blipFill>
        <p:spPr>
          <a:xfrm>
            <a:off x="34920" y="1414440"/>
            <a:ext cx="4537080" cy="544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家长送"/>
          <p:cNvPicPr/>
          <p:nvPr/>
        </p:nvPicPr>
        <p:blipFill>
          <a:blip r:embed="rId2"/>
          <a:stretch/>
        </p:blipFill>
        <p:spPr>
          <a:xfrm>
            <a:off x="4572000" y="1414440"/>
            <a:ext cx="4537080" cy="544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眼神中是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6000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家长向考场张望"/>
          <p:cNvPicPr/>
          <p:nvPr/>
        </p:nvPicPr>
        <p:blipFill>
          <a:blip r:embed="rId1"/>
          <a:stretch/>
        </p:blipFill>
        <p:spPr>
          <a:xfrm>
            <a:off x="1440" y="1341360"/>
            <a:ext cx="4786560" cy="5475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翘首企盼的家长"/>
          <p:cNvPicPr/>
          <p:nvPr/>
        </p:nvPicPr>
        <p:blipFill>
          <a:blip r:embed="rId2"/>
          <a:stretch/>
        </p:blipFill>
        <p:spPr>
          <a:xfrm>
            <a:off x="4789440" y="134136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急切的心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4000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等孩子"/>
          <p:cNvPicPr/>
          <p:nvPr/>
        </p:nvPicPr>
        <p:blipFill>
          <a:blip r:embed="rId1"/>
          <a:stretch/>
        </p:blipFill>
        <p:spPr>
          <a:xfrm>
            <a:off x="34920" y="1413000"/>
            <a:ext cx="4460760" cy="5400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雨中等"/>
          <p:cNvPicPr/>
          <p:nvPr/>
        </p:nvPicPr>
        <p:blipFill>
          <a:blip r:embed="rId2"/>
          <a:stretch/>
        </p:blipFill>
        <p:spPr>
          <a:xfrm>
            <a:off x="4500720" y="1413000"/>
            <a:ext cx="4608360" cy="5400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家长在烈日下等待"/>
          <p:cNvPicPr/>
          <p:nvPr/>
        </p:nvPicPr>
        <p:blipFill>
          <a:blip r:embed="rId1"/>
          <a:stretch/>
        </p:blipFill>
        <p:spPr>
          <a:xfrm>
            <a:off x="36360" y="1413000"/>
            <a:ext cx="4824720" cy="5400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焦急等待"/>
          <p:cNvPicPr/>
          <p:nvPr/>
        </p:nvPicPr>
        <p:blipFill>
          <a:blip r:embed="rId2"/>
          <a:stretch/>
        </p:blipFill>
        <p:spPr>
          <a:xfrm>
            <a:off x="4861080" y="1414440"/>
            <a:ext cx="4248000" cy="54007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烈日下焦急等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父亲送水"/>
          <p:cNvPicPr/>
          <p:nvPr/>
        </p:nvPicPr>
        <p:blipFill>
          <a:blip r:embed="rId1"/>
          <a:stretch/>
        </p:blipFill>
        <p:spPr>
          <a:xfrm>
            <a:off x="34920" y="1341360"/>
            <a:ext cx="4321080" cy="5472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家长照顾"/>
          <p:cNvPicPr/>
          <p:nvPr/>
        </p:nvPicPr>
        <p:blipFill>
          <a:blip r:embed="rId2"/>
          <a:stretch/>
        </p:blipFill>
        <p:spPr>
          <a:xfrm>
            <a:off x="4356000" y="1343160"/>
            <a:ext cx="4753080" cy="2446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母亲打伞"/>
          <p:cNvPicPr/>
          <p:nvPr/>
        </p:nvPicPr>
        <p:blipFill>
          <a:blip r:embed="rId3"/>
          <a:stretch/>
        </p:blipFill>
        <p:spPr>
          <a:xfrm>
            <a:off x="4357800" y="3789360"/>
            <a:ext cx="4752720" cy="30258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微不至的关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6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几分苦涩几分迷茫"/>
          <p:cNvPicPr/>
          <p:nvPr/>
        </p:nvPicPr>
        <p:blipFill>
          <a:blip r:embed="rId1"/>
          <a:stretch/>
        </p:blipFill>
        <p:spPr>
          <a:xfrm>
            <a:off x="0" y="1414440"/>
            <a:ext cx="9110520" cy="5400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几分苦涩，几分迷茫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考场内外几家欢笑几家愁，有人一脸严肃有人笑容灿烂"/>
          <p:cNvPicPr/>
          <p:nvPr/>
        </p:nvPicPr>
        <p:blipFill>
          <a:blip r:embed="rId1"/>
          <a:stretch/>
        </p:blipFill>
        <p:spPr>
          <a:xfrm>
            <a:off x="36360" y="1414440"/>
            <a:ext cx="8856720" cy="5400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人一脸严肃，有人笑容灿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中是快乐，是享受，不是活受罪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乐观面对，永不言弃，不管怎么考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冷静看待竞争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化过程，淡化结果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想：明年落榜怎办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想：这个题目怎解？有几解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以后留点深刻的印象：摸爬滚打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411280" y="333360"/>
            <a:ext cx="395928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主任的赠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我们年轻，我们有青春的激昂；我们向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海阔凭鱼跃，天高任鸟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所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那么，一路风雨走过来，应该有所选择，有所放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39640" y="155736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就是一次对自己身体、心理、意志品质的全面考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意味了成长，成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高一年级：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基础薄弱者的</a:t>
            </a: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机会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要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能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黑体"/>
              </a:rPr>
              <a:t>我肯定会成功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6659640" y="292428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7524720" y="29242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银装素裹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如果你不知道你的方向，你就永远不可能到达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忘了我自己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835280" y="5229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生命会把我们所要求的给予我们。如果你的要求很模糊，你所得到的也会很模糊。如果你只要求一点点，你就会得到一点点。但不要惊讶你只得到一点点，毕竟，那就是你所要求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未命名4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只有对心灵力量有信心的人，才能达到成功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红玫瑰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295280" y="51814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每一个考验，每一个问题，每一个错误，有一天都会变成美丽的玫瑰花瓣，就像枝干上都是刺，痛苦会导向光明，使你看见美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未命名2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6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1330200" y="5181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专注是生活中所有成功的关键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群峰云海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82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1619280" y="52419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永远要记住，在某个高度之上，就没有风雨云层。如果你生命中的云层遮蔽了阳光，那是因为你的心灵飞得还不够高。大多数人所犯的错误是去抗拒问题，他们努力试图消灭云层。正确的做法是发现使你上升到云层之上的途径，那里的天空永远是碧蓝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890720" y="1260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3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4"/>
          <p:cNvSpPr txBox="1"/>
          <p:nvPr/>
        </p:nvSpPr>
        <p:spPr>
          <a:xfrm>
            <a:off x="1258920" y="692280"/>
            <a:ext cx="6781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让我们荡起双浆</a:t>
            </a:r>
            <a:endParaRPr b="1" lang="en-US" sz="3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中是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0920" y="1916280"/>
            <a:ext cx="684216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高中是人生的转折，是紧张的，充实的，是富有挑战性的，也是一个人坚强的毅力和顽强生命力的形成的重要阶段，也是一生中最美好的回忆阶段，因为她是成功与挫折，喜悦与悲伤的混合体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70760" y="2781360"/>
            <a:ext cx="789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326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思考、讨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怎么度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心理准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黑体"/>
              </a:rPr>
              <a:t>身体准备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Comic Sans MS"/>
                <a:ea typeface="华文行楷"/>
              </a:rPr>
              <a:t>高中的道路是不平坦的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谁要是怕走这崎岖的山道，谁就只好留在山下</a:t>
            </a:r>
            <a:r>
              <a:rPr b="0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04920" y="5181480"/>
            <a:ext cx="2879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179280" y="189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差，我没有谈及大学的资格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于是，你颓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是没有这样的资格，而是你过早的将这种资格给放弃了。仔细回想，小学你没有优秀过吗？初中你没有担任过班长吗？某一科成绩你没有拿过前几名吗？有的，当然有！想一想，你是哪一天开始学会的偷懒，哪一天学会了说谎，哪一天上课走神，又是哪一天放弃了学业？那么你今天还要继续吗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已没有退路，只要前进的勇气，就是进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勇气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毅力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进步不多，那也是成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3124080" y="5638680"/>
            <a:ext cx="2880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79280" y="115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居于中游，前边的人成绩太好了，我超不过了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沮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你没有乐观的面对自己，在你后面有很多人崇拜你，就像你崇拜你前面的人一样。殊不知，他们也梦想能达到你的水平。所以你不要忽略了自己榜样的力量。其次，你前面确实有许多人，你也不晓得，他们中有多少人在担心， 担心像你这样的厚积薄发者会超过他们。在他们的世界里也不尽是骄傲与坦然，也有惊恐与不安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前有劲敌，后有效仿。你只有坚信自己榜样的力量，又同时怀揣着一个让高手惊恐的决心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信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决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稍有意外，等待你的也将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功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851280" y="5229360"/>
            <a:ext cx="28814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7280" y="26028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现在可以，但是我怕退步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焦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知道有多少人羡慕你这种焦虑，因为他们也梦想能站在你这样的高位，哪怕一次也好，至少证明过。如果这次名次下降了，那就大方的表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暂借给他们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下次再拿回来，因为别人也在进步，只要你问心无愧；如果不想失去，那就凭尽全力，做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誓死保卫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而且坚信自己，记住，狭路相逢，勇者胜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也没有退路，你前有理想，后有劲敌，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坚持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自信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。即便再差，也应该是本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181440" y="2492280"/>
            <a:ext cx="932508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把握生命里的每一分钟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全力以赴我们心中的梦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不经历风雨怎么见彩虹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Comic Sans MS"/>
                <a:ea typeface="华文琥珀"/>
              </a:rPr>
              <a:t>没有人能随随遍遍成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27640" y="4292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港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成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3348000" y="4797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华文琥珀"/>
              </a:rPr>
              <a:t>赢在高一起跑线</a:t>
            </a:r>
            <a:br>
              <a:rPr sz="6000"/>
            </a:b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火热的六月已走进我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必将点燃青春的激情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送走高三的师兄姐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迎来了生命的黄金岁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一时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遇和挑战并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获与失落 同在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别的日子送给特别的你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壮志凌云 豪情万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心驰神往 斗志昂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跃跃欲试 摩拳擦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养精蓄锐 积蓄力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也许我走得慢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但我决不会停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可能会输给现在的你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但我战胜了昨天的自己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果挥别昨日是新的开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那把握今天就将创造新的奇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在高一的起跑线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心潮澎湃 感慨万千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何物动人 二月杏花八月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谁摧我 三更灯火五更鸡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招聘启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47640" y="1658880"/>
            <a:ext cx="7417080" cy="37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银行招聘公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应聘条件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１．具有良好的思想道德修养和强烈的事业心、责任心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２．身体健康，能胜任正常工作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３．品行端正，无不良行为记录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４．服从工作分配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５．具备以下条件中的任意一条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１）全国“２１１工程”学校２００９年全日制应届本科及以上毕业生，专业不限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（２）山东财政学院、山东经济学院、山东师范大学、青岛大学、济南大学、曲阜师范大学、山东农业大学、山东科技大学八所院校的２００９年全日制应届本科及以上毕业生，专业限定为：金融、财会、经济管理、计算机、文秘、法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备注：上述院校的毕业生必须是本科二批（含）及以上的录取批次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不包括专升本毕业生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播种梦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挖掘潜能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挥洒汗水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追逐成功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这就是勇敢者的游戏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就是奋斗者的步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也必将是成功者的足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仰天大笑出门去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辈岂是蓬蒿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问句天多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心中斗志比天高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自信永不输的心态活到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凭激情爬高中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借汗水染青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待到金榜题名时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你在榜上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07640" y="2276280"/>
            <a:ext cx="662796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人的潜能是无限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你有多大目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就会有多大收获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9600" y="242100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0920" y="2708280"/>
            <a:ext cx="640872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我们要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全力以赴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绝不能尽力而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要做行动的巨人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59600" y="1484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6" descr="10195707867_500X667"/>
          <p:cNvPicPr/>
          <p:nvPr/>
        </p:nvPicPr>
        <p:blipFill>
          <a:blip r:embed="rId1"/>
          <a:stretch/>
        </p:blipFill>
        <p:spPr>
          <a:xfrm>
            <a:off x="1908000" y="1052640"/>
            <a:ext cx="3103560" cy="3671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92360" y="1268280"/>
            <a:ext cx="352908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爷，你别看我年龄小，其实我总结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高中可短暂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睡觉是一样一样的。眼一闭一睁大一就到了，嗯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476360" y="5300640"/>
            <a:ext cx="76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不论你的行动是不是现在开始的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重要的是开始以后就不要停止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43280" y="2637000"/>
            <a:ext cx="5545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决杜绝“三闲” 现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聊、 闲玩、闲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来闲去失前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2195640" y="2421000"/>
            <a:ext cx="640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克服不了的困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过不去的火焰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荡平不了的荆棘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高中应如何渡过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2195640" y="2205000"/>
            <a:ext cx="6408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榜样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容面对挫折和伤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怀激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定的朝着自己的目标前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hiphotos.baidu.com/songsongspace/pic/item/ef2738efe108e9f4cf1b3e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誓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84360" y="1701360"/>
            <a:ext cx="41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脚踏实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奋力拼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敢立壮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坚守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亮剑高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我要成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-210960" y="-14400"/>
            <a:ext cx="1033560" cy="68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志者事竟成，卧薪尝胆三千越甲可吞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8321760" y="0"/>
            <a:ext cx="103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心人天不负，破釜沉舟百二秦关终属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830880" y="206064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01"/>
          <p:cNvPicPr/>
          <p:nvPr/>
        </p:nvPicPr>
        <p:blipFill>
          <a:blip r:embed="rId1"/>
          <a:stretch/>
        </p:blipFill>
        <p:spPr>
          <a:xfrm>
            <a:off x="2124000" y="1341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165320" y="284040"/>
          <a:ext cx="7543800" cy="6494760"/>
        </p:xfrm>
        <a:graphic>
          <a:graphicData uri="http://schemas.openxmlformats.org/drawingml/2006/table">
            <a:tbl>
              <a:tblPr/>
              <a:tblGrid>
                <a:gridCol w="1676160"/>
                <a:gridCol w="914400"/>
                <a:gridCol w="914400"/>
                <a:gridCol w="990720"/>
                <a:gridCol w="914400"/>
                <a:gridCol w="990720"/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调查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很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较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中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较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影响很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重要性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场心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前心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基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学习态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努力学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临场发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复习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思维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自学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omic Sans MS"/>
                          <a:ea typeface="黑体"/>
                        </a:rPr>
                        <a:t>老师指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父母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试策略技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班级学习氛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想象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记忆能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前营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考试居住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同学帮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身体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182"/>
          <p:cNvSpPr/>
          <p:nvPr/>
        </p:nvSpPr>
        <p:spPr>
          <a:xfrm>
            <a:off x="250920" y="404640"/>
            <a:ext cx="609480" cy="556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[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１１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3"/>
          <p:cNvSpPr/>
          <p:nvPr/>
        </p:nvSpPr>
        <p:spPr>
          <a:xfrm>
            <a:off x="1981080" y="6922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我们的一生中，有很多事物是值得我们去珍惜和认真对待的，请仔细看下面五种事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楷体_GB2312"/>
              </a:rPr>
              <a:t>爱情、亲情、友谊、理想、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0" y="3716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在请同学们拿出纸和笔，在这五种事物中，迅速划去一个你认为不是很重要的事物，注意你只有一次选择的机会，不可以后悔。以此类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50920" y="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动环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029200" y="2667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最后我们来看看结果。大部分同学留下来的也许都是时间，因为只要还有时间，我们就有希望去获取其他四样我们认为重要的事物。可是现实却是最残酷的，我们恰恰最留不住的就是－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3" descr="20060429120342324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u=4014694299,487499785&amp;gp=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304920" y="12952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一分钟时间给你们，仔细回想一下，你最初希望用这半个学期的时间做什么？最后你用这些时间做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谁偷走了我们的时间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547640" y="58770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懒惰、拖拉、半途而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000"/>
          <p:cNvPicPr/>
          <p:nvPr/>
        </p:nvPicPr>
        <p:blipFill>
          <a:blip r:embed="rId1"/>
          <a:stretch/>
        </p:blipFill>
        <p:spPr>
          <a:xfrm>
            <a:off x="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1447920" y="762120"/>
            <a:ext cx="4924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就是这样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只好那样做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是不会同意那样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该多好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办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把我气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1295280" y="1752480"/>
            <a:ext cx="0" cy="2667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-72000" y="1295280"/>
            <a:ext cx="1399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消极被动的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388800" cy="38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684360" y="115920"/>
            <a:ext cx="7561080" cy="5329080"/>
            <a:chOff x="684360" y="115920"/>
            <a:chExt cx="7561080" cy="5329080"/>
          </a:xfrm>
        </p:grpSpPr>
        <p:sp>
          <p:nvSpPr>
            <p:cNvPr id="412" name="AutoShape 3"/>
            <p:cNvSpPr/>
            <p:nvPr/>
          </p:nvSpPr>
          <p:spPr>
            <a:xfrm>
              <a:off x="684360" y="115920"/>
              <a:ext cx="7561080" cy="532908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4"/>
            <p:cNvSpPr/>
            <p:nvPr/>
          </p:nvSpPr>
          <p:spPr>
            <a:xfrm>
              <a:off x="1763640" y="3932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5"/>
            <p:cNvSpPr/>
            <p:nvPr/>
          </p:nvSpPr>
          <p:spPr>
            <a:xfrm>
              <a:off x="1332000" y="3363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6"/>
            <p:cNvSpPr/>
            <p:nvPr/>
          </p:nvSpPr>
          <p:spPr>
            <a:xfrm>
              <a:off x="900000" y="2708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自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7"/>
            <p:cNvSpPr/>
            <p:nvPr/>
          </p:nvSpPr>
          <p:spPr>
            <a:xfrm>
              <a:off x="1042920" y="20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8"/>
            <p:cNvSpPr/>
            <p:nvPr/>
          </p:nvSpPr>
          <p:spPr>
            <a:xfrm>
              <a:off x="1332000" y="141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9"/>
            <p:cNvSpPr/>
            <p:nvPr/>
          </p:nvSpPr>
          <p:spPr>
            <a:xfrm>
              <a:off x="2484360" y="62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059280" y="47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3780000" y="40464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4572000" y="411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364000" y="627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594036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6516720" y="1268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6948360" y="17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30872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7236000" y="2859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9"/>
            <p:cNvSpPr/>
            <p:nvPr/>
          </p:nvSpPr>
          <p:spPr>
            <a:xfrm>
              <a:off x="7093080" y="35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0"/>
            <p:cNvSpPr/>
            <p:nvPr/>
          </p:nvSpPr>
          <p:spPr>
            <a:xfrm>
              <a:off x="1835280" y="843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21"/>
            <p:cNvSpPr/>
            <p:nvPr/>
          </p:nvSpPr>
          <p:spPr>
            <a:xfrm>
              <a:off x="6948360" y="393228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Times New Roman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WordArt 22"/>
          <p:cNvSpPr txBox="1"/>
          <p:nvPr/>
        </p:nvSpPr>
        <p:spPr>
          <a:xfrm>
            <a:off x="762120" y="3886200"/>
            <a:ext cx="784836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埋怨如毒瘤，制约着我们的发展！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2" name="WordArt 23"/>
          <p:cNvSpPr txBox="1"/>
          <p:nvPr/>
        </p:nvSpPr>
        <p:spPr>
          <a:xfrm rot="493800">
            <a:off x="2773080" y="1915920"/>
            <a:ext cx="3311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4368000"/>
                </a:gradFill>
                <a:latin typeface="宋体"/>
              </a:rPr>
              <a:t>埋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4368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522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埋怨自己生不逢时，社会竞争太激烈，心理压力太大，没有宽松的学习环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79280" y="114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埋怨父母对自己不理解，期望值过高，也不能给自己什么具体的指导和帮助，或者认为父母素质太低，不能以身作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埋怨老师对自己太苛求，学习负担过重；埋怨老师教学方法死板，不合自己口味，学习生活枯燥单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066680" y="4724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…… 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304920" y="5410080"/>
            <a:ext cx="826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些埋怨的共同点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将不好的行为归因于外部环境，为自己推卸应负的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533520" y="4343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埋怨是责任感薄弱的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0WK2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40" name="WordArt 3"/>
          <p:cNvSpPr txBox="1"/>
          <p:nvPr/>
        </p:nvSpPr>
        <p:spPr>
          <a:xfrm>
            <a:off x="1905120" y="0"/>
            <a:ext cx="46479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25560">
                  <a:solidFill>
                    <a:srgbClr val="00cc66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做一个有责任感的人</a:t>
            </a:r>
            <a:endParaRPr b="1" lang="en-US" sz="3600" spc="1" strike="noStrike">
              <a:ln w="25560">
                <a:solidFill>
                  <a:srgbClr val="00cc66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1371600" y="1905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改变自己的语言习惯，多说积极主动的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129528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改变自己的归因方式，不要抱怨无能为力的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6" descr="feas197"/>
          <p:cNvPicPr/>
          <p:nvPr/>
        </p:nvPicPr>
        <p:blipFill>
          <a:blip r:embed="rId2"/>
          <a:stretch/>
        </p:blipFill>
        <p:spPr>
          <a:xfrm>
            <a:off x="609480" y="1752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feas197"/>
          <p:cNvPicPr/>
          <p:nvPr/>
        </p:nvPicPr>
        <p:blipFill>
          <a:blip r:embed="rId3"/>
          <a:stretch/>
        </p:blipFill>
        <p:spPr>
          <a:xfrm>
            <a:off x="457200" y="40384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684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Comic Sans MS"/>
              </a:rPr>
              <a:t>所以，我说，高中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WordArt 3"/>
          <p:cNvSpPr txBox="1"/>
          <p:nvPr/>
        </p:nvSpPr>
        <p:spPr>
          <a:xfrm>
            <a:off x="-1332000" y="328464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zh-CN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态</a:t>
            </a:r>
            <a:endParaRPr b="0" lang="en-US" sz="36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419640" y="3284640"/>
            <a:ext cx="208908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决 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5796000" y="3213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36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23888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80000"/>
              </a:lnSpc>
              <a:spcBef>
                <a:spcPts val="901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行楷"/>
              </a:rPr>
              <a:t>祝大家笑到最后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lnSpc>
                <a:spcPct val="8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cript MT Bold"/>
                <a:ea typeface="华文行楷"/>
              </a:rPr>
              <a:t>期待着高中的辉煌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547640" y="148428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27600" y="213372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03"/>
          <p:cNvPicPr/>
          <p:nvPr/>
        </p:nvPicPr>
        <p:blipFill>
          <a:blip r:embed="rId1"/>
          <a:srcRect l="0" t="0" r="0" b="3619"/>
          <a:stretch/>
        </p:blipFill>
        <p:spPr>
          <a:xfrm>
            <a:off x="1116000" y="1628640"/>
            <a:ext cx="7596360" cy="482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WordArt 2"/>
          <p:cNvSpPr txBox="1"/>
          <p:nvPr/>
        </p:nvSpPr>
        <p:spPr>
          <a:xfrm>
            <a:off x="901800" y="1197000"/>
            <a:ext cx="7416720" cy="42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知识改变命运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高考决定未来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1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6656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0000ff"/>
                </a:solidFill>
                <a:latin typeface="Tahoma"/>
                <a:ea typeface="隶书"/>
              </a:rPr>
              <a:t>老师、家长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ffffff"/>
                </a:solidFill>
                <a:latin typeface="Tahoma"/>
                <a:ea typeface="隶书"/>
              </a:rPr>
              <a:t>共同期待着</a:t>
            </a:r>
            <a:endParaRPr b="0" lang="en-US" sz="9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36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800" spc="-1" strike="noStrike" u="sng">
                <a:solidFill>
                  <a:srgbClr val="ccccff"/>
                </a:solidFill>
                <a:uFillTx/>
                <a:latin typeface="Tahoma"/>
                <a:ea typeface="隶书"/>
                <a:hlinkClick r:id="rId1"/>
              </a:rPr>
              <a:t>你的奇迹</a:t>
            </a:r>
            <a:endParaRPr b="0" lang="en-US" sz="1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332000" y="2492280"/>
            <a:ext cx="669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中学班主任班会课件、教案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http://shop62905894.taobao.com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QQ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16011528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5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www</dc:creator>
  <dc:description/>
  <dc:language>en-US</dc:language>
  <cp:lastModifiedBy>lenovo</cp:lastModifiedBy>
  <dcterms:modified xsi:type="dcterms:W3CDTF">2013-09-01T10:47:27Z</dcterms:modified>
  <cp:revision>284</cp:revision>
  <dc:subject/>
  <dc:title>PowerPoint 演示文稿</dc:title>
</cp:coreProperties>
</file>