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media/image10.png" ContentType="image/png"/>
  <Override PartName="/ppt/media/image8.gif" ContentType="image/gif"/>
  <Override PartName="/ppt/media/image30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6.gif" ContentType="image/gif"/>
  <Override PartName="/ppt/media/image19.png" ContentType="image/png"/>
  <Override PartName="/ppt/media/image17.png" ContentType="image/png"/>
  <Override PartName="/ppt/media/image22.jpeg" ContentType="image/jpeg"/>
  <Override PartName="/ppt/media/image2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5E7B-0625-4825-A536-D2604155A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F6D-6883-4980-8330-A872804B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FDF3-0E79-48FF-AE21-A88C2D670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179B-0A85-49A3-AACE-26044E17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2A3-9DA6-4EEC-B170-9922EC08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493-82A7-4815-967A-BD8B14D1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D20-92B0-4CF8-AC04-2087E8FF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756D-66CA-40A1-A2F8-AB9A290F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3495-C136-471E-851F-C2973B3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E47C-BD27-456F-85B6-C825FCCF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D7D-56CB-4927-9924-D60976E4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6011-5B9B-478C-9621-A1D31B40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CB9-4740-4D70-A5D6-9FC4C5B6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8831-BAEB-41E3-ADE1-55FD8B0E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478-0C90-4B91-82EE-89C4221F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D535-1CAE-4DE5-A4F9-063A8245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C334-1F2B-406D-A2DD-E6AA4BB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C3B5-2AA1-4EEB-AA0A-989675D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4E24-3527-4610-AD73-25D01396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E416-B46B-4ED9-94AC-0AB4205D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765C7-DD4A-415C-8CA5-DD8D7465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749F-AC89-4EE4-AE06-416070D6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02FB-E789-4791-90B4-9B99E4E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96AD-5F28-4A6C-9F42-52F522B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22C2D-706F-4A36-A71F-189A3A1C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DD7-268D-4612-8BD2-3F5C238A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F18F-FF07-47DD-BE3B-596B0868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B431-6961-46DC-8A6C-70F4765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4916-BFFD-4FB9-A43A-D3D9C512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0269-A87D-4CCF-957E-6734DAD4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49B7-43F8-4389-A193-32D0A7C5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4A9AE-ED4E-4B6B-8FA3-A2D46611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0199-3125-4B17-A1AF-4742CC3A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651A-9B8A-4590-B47A-3F1B5D0D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7714-80CA-4AE6-854C-D45871F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F1E60-A6A7-49D6-BA0E-D111AD93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F8B-4287-4AFD-901C-3421F309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3C5E-CF3C-4A46-B58A-B853469A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9A6A2-AFD0-4436-BBA0-595DD488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47C8-BB48-4C99-B13A-924674CF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8E633-355E-4A55-AADE-1809BB4A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F187-92C2-4E73-A7BE-24D35E6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9786-B841-4108-9F09-2ED4DC8F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7FC72-F6E9-4CC9-A257-818DB137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051B-F17B-43AA-BE23-F039478C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C014-3267-4ADC-AE9C-4E735742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1546-B6C7-4DCE-A79B-DF7CD633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F06-0146-4BFE-AB85-51CF163A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E60B-DAF0-4018-AE54-1B9722A2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3C849-4331-459E-B794-34E7B39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7C66-ABF5-4149-9F92-DD3CCCA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95A85-358C-4E3F-AFEF-7596C85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B364-6ED2-4C0E-9889-9889B139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25BB-FA0C-4C92-A5B8-C875566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AE5A5-A68F-4FD8-AD24-8590F477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6A16C-5AF3-42C4-8B4F-C38F2B35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C685F-448F-42D8-BE9B-52D28568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4575-0AF1-4430-859C-45293E50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A78-5A68-4D85-9726-5E3F0D88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5C370-74ED-47F0-8F6E-259993F5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6783B-AF88-4920-8CAD-8927552C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D2ED-8F90-44E6-B183-8AD44DD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5232-D19B-467F-B30F-4128B001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4A58-19AD-4E79-9B1C-F967D280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BE2F1-2D68-4544-B990-2C2A77E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1489-D3EF-43D2-B048-D9DA183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23651-37C3-440F-B3A7-A7A36FD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D0CD9-1B21-4220-B7D3-29C0F722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1E66-77D9-4F55-83E9-E1E93E0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E54-BD72-4F73-A368-81BB7FC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1B98-D076-4B09-AF6A-5AE8789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D4CDB-FDBA-402D-9062-3586BBD3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07A7-A5B6-41EC-9361-09C1C1F7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F1EC1-E639-4548-BD38-B8640963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9279E-61FC-4CB8-BCC0-C42A1F1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64221-9B77-4C7C-90AC-4C52CE8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79D1C-C2BE-43E2-80C1-8E26515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14BD-AD4C-4529-A4FC-D92FCA0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4DCDB-CB5C-4A59-BC3C-5C4D942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B49E7-B81F-4B7F-BD03-2ED6C96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07F-FCCD-46ED-A766-C167F4B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0DB7-8447-4EA5-BA8E-A9CAE6D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51FD-4BB1-47A2-A668-BBA2583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C04AE-B4B1-45AB-9348-59A6303B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911B6-43A1-4648-BE62-586269D1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89D96-9C94-4260-869E-80C97266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5FB7F-73BA-47A1-81F4-3AE5FA5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67054-348D-4FCE-9138-A596CE4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9AC0-5E6D-44DA-9179-FE25CF17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CDF94-95BC-494B-BFA4-1C26083F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5C8A-7050-4178-9814-1A77812D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C87-3549-4C03-AEA3-584AF553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6941B-106C-4B0D-9F41-24903BE8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9C75A-E1B8-4AFC-877A-DDB4247D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FD5F-8B54-4480-B84D-0D9DBD12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E6FED-52FC-4B45-859B-9F74372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069D-FD92-4E49-BD32-CCEEA7A7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86EE8-A58B-4B7A-B7F5-ADE85EA9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4CA0-B722-472E-820E-F342EB6B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F6B-56D4-4B11-AFF0-D37A342FEE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D205-A69E-4BB3-B30F-EA06786247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9183-F6D8-4B2E-A4EF-493854F465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C9B5-E064-4035-AF3F-27B39D39FD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F4E5-66AE-48B3-9C6F-DFEA7CFA62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9B5-7BAB-41D3-88CD-E08732BA31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4751-5BBD-4640-B7EC-1FDDCF421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4025-1E6C-4B88-BEED-D8FD0A5506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18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4"/>
          <p:cNvSpPr txBox="1"/>
          <p:nvPr/>
        </p:nvSpPr>
        <p:spPr>
          <a:xfrm>
            <a:off x="1476360" y="1628640"/>
            <a:ext cx="683748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新学期、新气象、新目标 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642960" y="13572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不可能事事行，也不可能事事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事行不等于事事行，一事不行不等于事事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天行不等于明天行，今天不行不等于明天不行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事不行不等于做人不行。虽然成功未必在我，但努力一定有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5" descr="image0187"/>
          <p:cNvPicPr/>
          <p:nvPr/>
        </p:nvPicPr>
        <p:blipFill>
          <a:blip r:embed="rId1"/>
          <a:stretch/>
        </p:blipFill>
        <p:spPr>
          <a:xfrm>
            <a:off x="500040" y="500040"/>
            <a:ext cx="838080" cy="77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1212"/>
          <p:cNvPicPr/>
          <p:nvPr/>
        </p:nvPicPr>
        <p:blipFill>
          <a:blip r:embed="rId2"/>
          <a:stretch/>
        </p:blipFill>
        <p:spPr>
          <a:xfrm>
            <a:off x="7667640" y="5661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二、成功在于有明确的目标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-262080" y="493560"/>
            <a:ext cx="916164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560" y="259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华文中宋"/>
              </a:rPr>
              <a:t>美国著名的成人教育专家卡耐基曾对世界上一万个不同种族、年龄与性别的人进行过一次关于人生目标的调查。他发现：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7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没有目标；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60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目标模糊；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0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有比较清晰的短期目标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3%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人，有十分清晰的长期目标。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0" y="49968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的跟踪调查发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他们的生活状况十分有意思。那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3%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人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来几乎都不曾更改过自己的人生目标，他们始终朝着同一个方向不懈地努力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后，他们几乎都成了社会各界顶尖成功人士，他们中不乏白手创业者、行业领袖、社会精英。那</a:t>
            </a:r>
            <a:r>
              <a:rPr b="1" lang="en-US" sz="3600" spc="-1" strike="noStrike">
                <a:solidFill>
                  <a:srgbClr val="0000cc"/>
                </a:solidFill>
                <a:latin typeface="华文楷体"/>
                <a:ea typeface="华文楷体"/>
              </a:rPr>
              <a:t>10%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人，大都生活在社会的中上层。他们的共同特点是，那些短期目标不断地被达到，生活质量稳步上升。他们成为各行各业不可缺少的专业人士，如医生、律师、工程师、高级主管等等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0" y="404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那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60%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人，几乎都生活在社会的中下层面。他们能安稳地生活与工作，但都没有什么特别的成绩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剩下的</a:t>
            </a: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27%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人，他们几乎都生活在社会的最底层，他们的生活都过得很不如意，常常失业，靠社会救济，并且常常在抱怨他人，抱怨社会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调查者因此得出结论：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目标对人生有巨大的导向性作用。成功在一开始仅仅是一个选择。你选择什么样的目标，就会有什么样的成就，就会有什么样的人生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952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日清晨，美国加利福尼亚海岸笼罩在浓雾中。在海岸以西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里的卡塔林纳岛上，一位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岁的妇女跃入太平洋海水中，开始向加州海岸游去。要是成功的话，她就是第一个游过这个海峡的妇女。这名妇女叫弗罗伦丝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查德威克。在此之前，她是游过英吉利海峡的第一个妇女。那天早晨，海水冻得她全身发麻。雾很大，她连护送她的船都几乎看不到。时间一个小时一个小时地过去，千千万万人在电视上看着。有几次，鲨鱼靠近了她，被人开枪吓跑了。她仍然在游着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小时之后，她又累又冷，她知道自己不能再游了，就叫人拉她上船。她的母亲和教练在另一条船上。他们都告诉她离海岸很近了，叫她不要放弃。但她朝加州海岸望去，除了浓雾什么也看不到。几十分钟后——从她出发算起是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小时</a:t>
            </a:r>
            <a:r>
              <a:rPr b="1" lang="en-US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钟之后——人们把她拉上船。又过了几个小时，她渐渐觉得暖和多了，这时却开始感到失败的打击。她不假思索地对记者说：“说实在的，我不是为自己找借口。如果当时我能看见陆地，也许我能坚持下来。”人们拉她上船的地点，离加州海岸只有半英里！查德威克一生中就只有这么一次没有坚持到底。两个月之后，她成功地游过同一个海峡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“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我认为她失败的原因是因为她在浓雾中看不到目的地。如果那天没有大雾，她就不会丧失信心而放弃最后的努力。这个故事给我的启示是：要想获得成功，就必须要确定一个清晰可见的目标，因为目标是人奋勇向前的动力源泉。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311040" y="-55440"/>
            <a:ext cx="84679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50560" y="761760"/>
            <a:ext cx="87627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da1f28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da1f28"/>
                </a:solidFill>
                <a:latin typeface="宋体"/>
              </a:rPr>
              <a:t>新目标</a:t>
            </a:r>
            <a:r>
              <a:rPr b="1" lang="zh-CN" sz="4400" spc="-1" strike="noStrike">
                <a:solidFill>
                  <a:srgbClr val="da1f28"/>
                </a:solidFill>
                <a:latin typeface="Times New Roman"/>
              </a:rPr>
              <a:t>”</a:t>
            </a:r>
            <a:r>
              <a:rPr b="1" lang="zh-CN" sz="4400" spc="-1" strike="noStrike">
                <a:solidFill>
                  <a:srgbClr val="da1f28"/>
                </a:solidFill>
                <a:latin typeface="Lucida Sans Unicode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1f28"/>
                </a:solidFill>
                <a:latin typeface="Lucida Sans Unicode"/>
              </a:rPr>
              <a:t>     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昨天的辉煌凝固成永恒的美丽，今日的期待孕育着明天的丰碑。同学们，琴弦松弛，奏不出动听的乐曲；纪律散漫，点不燃生命的火焰。如果你希望成功，当以组织纪律为保证，以创新理论为指导，以师生互动为动力，以质量成绩为目标，勇于超越自己的昨天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1f28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把自己说服，是一种理智的胜利；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被自己感动，是一种心灵的升华；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Lucida Sans Unicode"/>
              </a:rPr>
              <a:t>自己把自己征服，是一种人生的成熟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。</a:t>
            </a:r>
            <a:r>
              <a:rPr b="1" lang="zh-CN" sz="3600" spc="-1" strike="noStrike">
                <a:solidFill>
                  <a:srgbClr val="ff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65240" y="-146160"/>
            <a:ext cx="880740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713880"/>
            <a:ext cx="93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从这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目标中，选择一个作为你的核心目标。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“所谓核心目标就是最重要的目标，如果你实现了这个目标，那么你的其他目标都能因此而实现。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每定下一个目标，尤其是具有挑战性的目标，请务必列出为何要实现它的十条以上的理由或好处，而且好处越多越好，越清楚越好。因为对你没有好处的目标，你的潜意识会认为没有必要为它做出太多的牺牲，这也就意味着它被实现的可能性已经不大了。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237960" y="96840"/>
            <a:ext cx="8467920" cy="811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合理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比如说你一节课能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英语单词，那你就不要给自己定下一节课背</a:t>
            </a:r>
            <a:r>
              <a:rPr b="0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个单词的目标，因为它远远超出了你的能力范围，你根本不可能实现它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有一个时间期限。从严格意义上讲，没有时间期限的目标等于没有目标，它只是一个梦想，因为它无法衡量进度，也无法衡量结果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明确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诸如“我想考上好高中学、“我希望过幸福的生活”此类的目标都是不明确的。你究竟想考什么样的高中？什么样的生活才算是幸福的生活？这些必须要弄清楚。目标越明确越容易实现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3d12fc8c386c50e7f3e6f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971280" y="1412640"/>
            <a:ext cx="7186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18bc"/>
                </a:solidFill>
                <a:latin typeface="Lucida Sans Unicode"/>
              </a:rPr>
              <a:t>同学们</a:t>
            </a:r>
            <a:r>
              <a:rPr b="1" lang="en-US" sz="4400" spc="-1" strike="noStrike">
                <a:solidFill>
                  <a:srgbClr val="1018bc"/>
                </a:solidFill>
                <a:latin typeface="Lucida Sans Unicod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018bc"/>
                </a:solidFill>
                <a:latin typeface="Lucida Sans Unicode"/>
              </a:rPr>
              <a:t>           </a:t>
            </a:r>
            <a:r>
              <a:rPr b="1" lang="zh-CN" sz="2700" spc="-1" strike="noStrike">
                <a:solidFill>
                  <a:srgbClr val="1018bc"/>
                </a:solidFill>
                <a:latin typeface="Lucida Sans Unicode"/>
              </a:rPr>
              <a:t>时光流逝， 转眼间我们已经走过了小学四年级的上学期 </a:t>
            </a:r>
            <a:r>
              <a:rPr b="1" lang="en-US" sz="2700" spc="-1" strike="noStrike">
                <a:solidFill>
                  <a:srgbClr val="1018bc"/>
                </a:solidFill>
                <a:latin typeface="Lucida Sans Unicode"/>
              </a:rPr>
              <a:t>,</a:t>
            </a:r>
            <a:r>
              <a:rPr b="1" lang="zh-CN" sz="2700" spc="-1" strike="noStrike">
                <a:solidFill>
                  <a:srgbClr val="1018bc"/>
                </a:solidFill>
                <a:latin typeface="Lucida Sans Unicode"/>
              </a:rPr>
              <a:t>五彩缤纷的寒假已经过去了，希望大家把精力多放在学习上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285840" y="500040"/>
            <a:ext cx="8858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④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把目标写在纸上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白纸黑字，具有巨大的开发潜能的力量。如果你不把目标写下来，并且每天温习的话，它们很容易被你遗忘，它们就不是真的目标，它们只是愿望而已。实际证明，写下自己目标的人比没有写下目标的人更容易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⑤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把目标视觉化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所谓目标视觉化是指你要经常在脑海中想象你达到目标时的情景，情景越生动逼真，你越能体验到成功的喜悦，这就越能激发你追求成功的欲望。正如《谁动了我的奶酪》这本书中所写的：“在我发现奶酪之前，想象我正在享受奶酪，这会帮助我找到新的奶酪。”另外，你还可以把你的目标用图片的形式表现出来，比如你的目标是考取北京大学，你不妨找来有关北京大学校园风景的图片，贴在墙壁上或桌子上，时时看，天天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⑥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制订一个详细达到目标的计划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如果没有一个切实可行的计划，你的目标只能是空中楼阁、海市蜃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⑦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要严格执行计划，每日检查计划的落实情况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并且时常这样问自己：“我现在做的事情会使我更接近我的目标吗？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班会4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11" name="WordArt 5"/>
          <p:cNvSpPr txBox="1"/>
          <p:nvPr/>
        </p:nvSpPr>
        <p:spPr>
          <a:xfrm>
            <a:off x="1116000" y="1268280"/>
            <a:ext cx="59040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2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主动出击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3">
                  <a:alphaModFix amt="97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       </a:t>
            </a: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5">
                    <a:alphaModFix amt="97000"/>
                  </a:blip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琥珀"/>
              </a:rPr>
              <a:t>坚持不懈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6">
                  <a:alphaModFix amt="97000"/>
                </a:blip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857160" y="1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在新的学期，我们要：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1</a:t>
            </a: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养成良好的习惯，使自己终身受益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2</a:t>
            </a: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学习上尽力而为，要有阶段性目标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以自己最优异的成绩回报自己的父母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Picture 5" descr="image0187"/>
          <p:cNvPicPr/>
          <p:nvPr/>
        </p:nvPicPr>
        <p:blipFill>
          <a:blip r:embed="rId2"/>
          <a:stretch/>
        </p:blipFill>
        <p:spPr>
          <a:xfrm>
            <a:off x="428760" y="1428840"/>
            <a:ext cx="608040" cy="565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image0187"/>
          <p:cNvPicPr/>
          <p:nvPr/>
        </p:nvPicPr>
        <p:blipFill>
          <a:blip r:embed="rId3"/>
          <a:stretch/>
        </p:blipFill>
        <p:spPr>
          <a:xfrm>
            <a:off x="500040" y="2286000"/>
            <a:ext cx="5716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571320" y="642960"/>
            <a:ext cx="83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）从今天开始我们要做到以下几点</a:t>
            </a:r>
            <a:r>
              <a:rPr b="0" lang="zh-CN" sz="3600" spc="-1" strike="noStrike">
                <a:solidFill>
                  <a:srgbClr val="ffffff"/>
                </a:solidFill>
                <a:latin typeface="汉仪橄榄体简"/>
                <a:ea typeface="汉仪橄榄体简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楼即静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室即坐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座即学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入学即专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Picture 4" descr="image0187"/>
          <p:cNvPicPr/>
          <p:nvPr/>
        </p:nvPicPr>
        <p:blipFill>
          <a:blip r:embed="rId2"/>
          <a:stretch/>
        </p:blipFill>
        <p:spPr>
          <a:xfrm>
            <a:off x="0" y="1268280"/>
            <a:ext cx="838080" cy="7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468360" y="2602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聪明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395280" y="1197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Arial"/>
                <a:ea typeface="楷体_GB2312"/>
              </a:rPr>
              <a:t>越是聪明人越要懂得下苦工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2133720"/>
            <a:ext cx="570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笨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95280" y="3141720"/>
            <a:ext cx="686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Arial"/>
                <a:ea typeface="楷体_GB2312"/>
              </a:rPr>
              <a:t>笨鸟永远必须先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539640" y="400536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自己是一般人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68360" y="486900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前有堵截</a:t>
            </a:r>
            <a:r>
              <a:rPr b="1" lang="en-US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后有追兵</a:t>
            </a:r>
            <a:r>
              <a:rPr b="1" lang="en-US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1018bc"/>
                </a:solidFill>
                <a:latin typeface="楷体_GB2312"/>
                <a:ea typeface="楷体_GB2312"/>
              </a:rPr>
              <a:t>你能做的只有奔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三、成功在于尽早做好计划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500040" y="2162520"/>
            <a:ext cx="837900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计划是实现目标的前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百无聊赖地坐在桌前，对着那一摞摞教科书、习题册呆望了一会儿，从中捡出一本，乱翻了几页，从中挑出一道题，结果半个小时也没能做出结果，然后只有没好气地把它再丢回书堆中去，再捡起一本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这简单的重复劳动中，时间匆匆而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这样的经历，你是否有过？这是心理空虚和急躁的表现：一方面想抓紧时间，努力学习；另一方面，又常常举棋不定，不知从何下手，往往由于一些小难题而自暴自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面对这种困境，我们该采取怎样的办法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365040" y="523800"/>
            <a:ext cx="3348000" cy="1231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0098-4159w"/>
          <p:cNvPicPr/>
          <p:nvPr/>
        </p:nvPicPr>
        <p:blipFill>
          <a:blip r:embed="rId2"/>
          <a:stretch/>
        </p:blipFill>
        <p:spPr>
          <a:xfrm>
            <a:off x="3924360" y="2703600"/>
            <a:ext cx="521964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571680" y="2086920"/>
            <a:ext cx="8064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最好的解决方法，就是使学习具有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计划性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计划是实现目标的前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没有计划，目标就成了水上浮萍，没有根基。做事没有计划，结果不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眉毛胡子一把抓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就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盲人摸象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一样，只见树木，不见森林。生活对于没有计划的人来说，就是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走一步看一步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当一天和尚撞一天钟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85800" y="198072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怎样制定适合自己的学习计划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365040" y="523800"/>
            <a:ext cx="2664000" cy="12319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0098-4159w"/>
          <p:cNvPicPr/>
          <p:nvPr/>
        </p:nvPicPr>
        <p:blipFill>
          <a:blip r:embed="rId2"/>
          <a:stretch/>
        </p:blipFill>
        <p:spPr>
          <a:xfrm>
            <a:off x="4246560" y="2960640"/>
            <a:ext cx="489744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5"/>
          <p:cNvPicPr/>
          <p:nvPr/>
        </p:nvPicPr>
        <p:blipFill>
          <a:blip r:embed="rId1"/>
          <a:stretch/>
        </p:blipFill>
        <p:spPr>
          <a:xfrm>
            <a:off x="4356000" y="1916280"/>
            <a:ext cx="4237200" cy="465264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6"/>
          <p:cNvSpPr/>
          <p:nvPr/>
        </p:nvSpPr>
        <p:spPr>
          <a:xfrm>
            <a:off x="250920" y="105264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 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成功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=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标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划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714240" y="1455480"/>
            <a:ext cx="8064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制定适合自己的学习计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作战讲究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知彼，百战不殆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学习也是一场战斗，计划就是做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，因为要制定出符合自己实际情况的学习计划，必须要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包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三层含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：明确地估计自己的能力，了解当时学习情况，明确学习的目标。做到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知己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后，我们就可以制定计划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428760" y="5000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别人告诉你的方法是很难完全套用的。只有自己去试着做，摸索出自己的完整方法，才是最有用的。而别人告诉你的方法，最多只能充当一个指路标的作用。 所以，不要过于重视它的形式。只要是能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达到目的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计划都是好计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要让自己知道，每天你具体干些什么，知道每周、每月的安排等。一句话，就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做到心中有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计划的安排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应合理、科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尽量不要让你的时间浪费。应该说明的是，不浪费时间并不是把所有时间都用来学习，也不是说打球、洗衣服等时间都是浪费。很多事不能不做，但要放在合适的时候做，黄金时间都应用来学习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</a:rPr>
              <a:t>有同学说：老师，要我们做计划你都念叨一百遍了，它真的那么有用么？好处是什么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365040" y="530280"/>
            <a:ext cx="320688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0" y="428760"/>
            <a:ext cx="91440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严格遵守学习计划有很多好处</a:t>
            </a:r>
            <a:r>
              <a:rPr b="0" lang="en-US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1200"/>
            </a:b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帮助你克服惰性和倦怠，尤其是当它配合一个自我奖励制度时会更加有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你能按部就班、循序渐进地完成你的学习，那么学习便不会给你带来太大的压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确保你不会浪费时间，使你有时间做其他该做的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习计划表可以使你了解自己的学习进度，让你清楚地知道哪些事等着做；又可以帮助自己对先前的学习做个评价。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光有计划还不行，有了它之后我们还需要做些什么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420840" y="603360"/>
            <a:ext cx="2792160" cy="11588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0098-4159w"/>
          <p:cNvPicPr/>
          <p:nvPr/>
        </p:nvPicPr>
        <p:blipFill>
          <a:blip r:embed="rId2"/>
          <a:stretch/>
        </p:blipFill>
        <p:spPr>
          <a:xfrm>
            <a:off x="4427640" y="3105000"/>
            <a:ext cx="47163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汉仪橄榄体简"/>
                <a:ea typeface="汉仪橄榄体简"/>
              </a:rPr>
              <a:t>四、成功在于良好的学习习惯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250920" y="1642320"/>
            <a:ext cx="267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真诚待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3668400" y="1654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诚实守信</a:t>
            </a:r>
            <a:r>
              <a:rPr b="1" lang="zh-CN" sz="32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867280" y="1642320"/>
            <a:ext cx="26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认真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3143160" y="5000040"/>
            <a:ext cx="27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自信自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79280" y="2714040"/>
            <a:ext cx="28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遵守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059280" y="2655000"/>
            <a:ext cx="282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讲究效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9"/>
          <p:cNvSpPr/>
          <p:nvPr/>
        </p:nvSpPr>
        <p:spPr>
          <a:xfrm>
            <a:off x="5940360" y="2642400"/>
            <a:ext cx="267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友善合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214200" y="501264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合理消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357120" y="37854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主动学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3677760" y="38570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"/>
          <p:cNvSpPr/>
          <p:nvPr/>
        </p:nvSpPr>
        <p:spPr>
          <a:xfrm>
            <a:off x="6530040" y="3857040"/>
            <a:ext cx="17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勇于实践</a:t>
            </a:r>
            <a:r>
              <a:rPr b="1" lang="zh-CN" sz="4000" spc="-1" strike="noStrike">
                <a:solidFill>
                  <a:srgbClr val="da1f28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"/>
          <p:cNvSpPr/>
          <p:nvPr/>
        </p:nvSpPr>
        <p:spPr>
          <a:xfrm>
            <a:off x="6143760" y="5000040"/>
            <a:ext cx="253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总结反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1748160" y="50004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99"/>
                </a:solidFill>
                <a:latin typeface="黑体"/>
                <a:ea typeface="黑体"/>
              </a:rPr>
              <a:t>人格化好习惯的</a:t>
            </a:r>
            <a:r>
              <a:rPr b="1" lang="en-US" sz="4800" spc="-1" strike="noStrike">
                <a:solidFill>
                  <a:srgbClr val="cc3399"/>
                </a:solidFill>
                <a:latin typeface="黑体"/>
                <a:ea typeface="黑体"/>
              </a:rPr>
              <a:t>12</a:t>
            </a:r>
            <a:r>
              <a:rPr b="1" lang="zh-CN" sz="4800" spc="-1" strike="noStrike">
                <a:solidFill>
                  <a:srgbClr val="cc3399"/>
                </a:solidFill>
                <a:latin typeface="黑体"/>
                <a:ea typeface="黑体"/>
              </a:rPr>
              <a:t>指标 </a:t>
            </a:r>
            <a:r>
              <a:rPr b="1" lang="en-US" sz="4800" spc="-1" strike="noStrike">
                <a:solidFill>
                  <a:srgbClr val="cc3399"/>
                </a:solidFill>
                <a:latin typeface=".number one."/>
                <a:ea typeface="黑体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85840" y="15717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交一些能够管住自己的朋友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用写座右铭，挂字画等来提醒约束自己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Lucida Sans Unicode"/>
                <a:ea typeface="楷体_GB2312"/>
              </a:rPr>
              <a:t>用写日记来管住自己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-6480" y="-49320"/>
            <a:ext cx="86997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684360" y="980640"/>
            <a:ext cx="7920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不是预习要学的功课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上课的时候，注意力是否集中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学过的功课，是不是加以复习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否喜欢回答老师的问题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上自习课的时候是否自觉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不懂的功课，是否向别人请教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你是不是按时完成作业？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-365040" y="-165240"/>
            <a:ext cx="98694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109440" y="0"/>
            <a:ext cx="8820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功在于坚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学第一天，古希腊大哲学家苏格拉底对学生们说：“今天咱们只学一件最简单也是最最容易做的事儿。每人把胳膊尽量往前甩，然后再尽量往后甩。”说着，苏格拉底示范了一遍。“从今天开始，每天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。大家能做到吗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生们都笑了。这么简单的事，有什么做不到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过了一个月，苏格拉底问学生们：“每天甩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，哪些同学坚持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％的同学骄傲地举起了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0098-4159w"/>
          <p:cNvPicPr/>
          <p:nvPr/>
        </p:nvPicPr>
        <p:blipFill>
          <a:blip r:embed="rId1"/>
          <a:stretch/>
        </p:blipFill>
        <p:spPr>
          <a:xfrm>
            <a:off x="684360" y="3268800"/>
            <a:ext cx="8459640" cy="3589200"/>
          </a:xfrm>
          <a:prstGeom prst="rect">
            <a:avLst/>
          </a:prstGeom>
          <a:ln w="0">
            <a:noFill/>
          </a:ln>
        </p:spPr>
      </p:pic>
      <p:sp>
        <p:nvSpPr>
          <p:cNvPr id="384" name="WordArt 4"/>
          <p:cNvSpPr txBox="1"/>
          <p:nvPr/>
        </p:nvSpPr>
        <p:spPr>
          <a:xfrm>
            <a:off x="357120" y="357120"/>
            <a:ext cx="84978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黑体"/>
              </a:rPr>
              <a:t>良好的开端是成功的一半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1197000"/>
            <a:ext cx="79246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过了一个月，苏格拉底又问，这回，坚持下来的学生只剩下八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年过后，苏格拉底再一次问大家：“请告诉我，最简单的甩手运动，还有哪几位同学坚持了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?”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时，整个教室里，只有一人举起了手。这个学生就是后来成为古希腊另一位大哲学家的柏拉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716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Lucida Sans Unicode"/>
              </a:rPr>
              <a:t>听完这个故事后，你有什么想法，怎样的心得？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2"/>
          <a:stretch/>
        </p:blipFill>
        <p:spPr>
          <a:xfrm>
            <a:off x="420840" y="512640"/>
            <a:ext cx="2931840" cy="10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26920" y="1844640"/>
            <a:ext cx="769788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世间最容易的事是坚持，最难的事也是坚持。说它容易，是因为只要愿意做，人人能做到；说它难，是因为真正能做到的，终究只是少数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成功在于坚持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一个并不神秘的秘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68360" y="476280"/>
            <a:ext cx="2590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心得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13840" y="1785600"/>
            <a:ext cx="854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2329"/>
                </a:solidFill>
                <a:latin typeface="黑体"/>
              </a:rPr>
              <a:t>     </a:t>
            </a:r>
            <a:r>
              <a:rPr b="1" lang="zh-CN" sz="4400" spc="-1" strike="noStrike">
                <a:solidFill>
                  <a:srgbClr val="062329"/>
                </a:solidFill>
                <a:latin typeface="楷体_GB2312"/>
                <a:ea typeface="楷体_GB2312"/>
              </a:rPr>
              <a:t>用你的表现来证明你的与众不同；用你的行动证明你关心与爱护我们的集体；用你对他人的理解与宽容来赢得别人的尊重。</a:t>
            </a:r>
            <a:r>
              <a:rPr b="1" lang="zh-CN" sz="4000" spc="-1" strike="noStrike">
                <a:solidFill>
                  <a:srgbClr val="062329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6516720" y="0"/>
            <a:ext cx="2627280" cy="620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785880" y="571680"/>
            <a:ext cx="75596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5385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我始终相信，你们会做得更好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35385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亲爱的同学，看，新的征程已经开始，听，前进的号角已经吹响，赶快行动起来吧，让我们扬起自信的风帆，向理想的彼岸胜利前行！</a:t>
            </a: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50004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Lucida Sans Unicode"/>
              </a:rPr>
              <a:t>良好的开始是成功的一半。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-328680" y="-212760"/>
            <a:ext cx="87962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0" y="1412640"/>
            <a:ext cx="795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新学期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a1f28"/>
                </a:solidFill>
                <a:latin typeface="Comic Sans MS"/>
              </a:rPr>
              <a:t>        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标志着松散、高度自我的寒假生活的结束，忙碌、规范、自律的新学年的开始。从现在开始，全校师生要消除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寒假综合症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66ff"/>
                </a:solidFill>
                <a:latin typeface="Comic Sans MS"/>
              </a:rPr>
              <a:t>，以崭新的姿态、满腔的热忱、饱满的精神投入到新的工作学习生活之中。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班会3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390" name="WordArt 5"/>
          <p:cNvSpPr txBox="1"/>
          <p:nvPr/>
        </p:nvSpPr>
        <p:spPr>
          <a:xfrm>
            <a:off x="324000" y="2565360"/>
            <a:ext cx="85723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黑体"/>
              </a:rPr>
              <a:t>想想关于新开始我们应该怎样做？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5280" y="1268280"/>
            <a:ext cx="874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00ff"/>
                </a:solidFill>
                <a:latin typeface="宋体"/>
              </a:rPr>
              <a:t>新气象、新起点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机遇与挑战并存，压力与动力同在，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相信，我们有信心、有能力，能在新的起点上赢得新的胜利，续写新的篇章。</a:t>
            </a:r>
            <a:r>
              <a:rPr b="1" lang="zh-CN" sz="40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4"/>
          <p:cNvPicPr/>
          <p:nvPr/>
        </p:nvPicPr>
        <p:blipFill>
          <a:blip r:embed="rId1"/>
          <a:stretch/>
        </p:blipFill>
        <p:spPr>
          <a:xfrm>
            <a:off x="-396720" y="0"/>
            <a:ext cx="9901080" cy="74264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5"/>
          <p:cNvSpPr/>
          <p:nvPr/>
        </p:nvSpPr>
        <p:spPr>
          <a:xfrm>
            <a:off x="539640" y="620640"/>
            <a:ext cx="8136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4646"/>
                </a:solidFill>
                <a:latin typeface="Times New Roman"/>
              </a:rPr>
              <a:t>我们的态度决定一切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怎样对待生活，生活就怎样对待我们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怎样对待别人，别人就怎样对待我们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在一项任务刚开始时的态度就决定了最后的多大成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的环境完全由我们自己的态度来创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4:10:23Z</dcterms:created>
  <dc:creator>CHangJianGuo</dc:creator>
  <dc:description/>
  <dc:language>en-US</dc:language>
  <cp:lastModifiedBy>USER-</cp:lastModifiedBy>
  <dcterms:modified xsi:type="dcterms:W3CDTF">2014-02-17T06:25:23Z</dcterms:modified>
  <cp:revision>37</cp:revision>
  <dc:subject/>
  <dc:title>PowerPoint 演示文稿</dc:title>
</cp:coreProperties>
</file>