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1BA-5974-4338-9419-1F3EB881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AB8-C806-4837-84A3-6D58BEE3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3C5-A3EE-4EF3-9340-21BE7F81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1FC-740F-45BC-9FF0-297E779B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2683-D145-4F1B-8BB0-690F6F35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6297-C359-492F-B82A-B20F6E47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28E-2E34-49C2-A7BA-CCBA8E70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36A5-1D3F-4D01-AE46-F7D6BF02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5B58-FE5B-4CBD-AF80-67283C1B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2450-C632-4A7C-A9DC-1454DB4C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039-E843-4C43-BADE-5CEE2DC8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7CF-F904-4449-A269-046C1775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D4C7-6E4D-4F62-896F-7F3DA1ED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5E70-4F81-41E6-AE3F-88AD68F9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445-2D81-464F-8975-D83EEBBA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14FB-D677-4CBB-86D0-CAA59CC6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8497-AD29-42F8-9E21-3A26404F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377-8F60-4E06-AF04-21354B6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B1B-046C-4A4D-9F45-75F42BDE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532-37CC-43E2-B48A-FB15FB70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19D-C70F-44C9-B531-EB78DFF0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5A3-A2F4-4794-B136-6E26EA38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683-CF6B-4A3F-9795-0DC5551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620-8141-4B90-9788-63B9C66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A592-13E6-4C70-A3B4-A64C7641C7B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1954-10FD-4747-BF82-36D0865162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508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Arial Black"/>
              </a:rPr>
              <a:t>开学第一课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518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数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4941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M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作业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堂作业：及时，独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课后作业：独立，质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自我介绍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36520" y="3933720"/>
            <a:ext cx="753912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高兴认识大家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很荣幸能担任五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班数学老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773360"/>
            <a:ext cx="482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姓名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电话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班级的简单情况：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数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男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女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它就是一门学科，一个需要我们去认识，去了解、掌握并加以应用的一个工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另一个角度来看，就像一扇门，看谁先进入它的世界，有人先进去了，有人刚踏进一只脚，还有人还徘徊在数学大门之外，想要学好数学就看谁先走到门口并找对工具，打开开这扇小门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4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对数学的看法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学生如何学好数学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2880" y="18302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方法很重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练习是保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思考是关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业是检测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怎样对待数学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可谓众说纷纭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之观：数学是一门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规律性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学科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优秀生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VS</a:t>
            </a: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后进生，</a:t>
            </a:r>
            <a:br>
              <a:rPr sz="4000"/>
            </a:br>
            <a:r>
              <a:rPr b="1" lang="zh-CN" sz="4000" spc="-1" strike="noStrike">
                <a:solidFill>
                  <a:srgbClr val="ffffb7"/>
                </a:solidFill>
                <a:latin typeface="Arial Black"/>
              </a:rPr>
              <a:t>            谁决定谁的前途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天生我材必有用”，“闻到有先后，术业有专攻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同样一道题目，只是你比我先知道而已，问问同学或者老师，我也就知道了，你只是比我早知道一天而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你昨天会了，我今天也会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学生常见心理问题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自卑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畏惧心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课堂要求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听讲    不做小动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做好笔记    不浪费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积极思考    不随意走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动发言    发言请举手    声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坐姿端正    不东张西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0:10:50Z</dcterms:created>
  <dc:creator>Tclsevers</dc:creator>
  <dc:description/>
  <dc:language>en-US</dc:language>
  <cp:lastModifiedBy>Tclsevers</cp:lastModifiedBy>
  <dcterms:modified xsi:type="dcterms:W3CDTF">2012-08-31T01:27:08Z</dcterms:modified>
  <cp:revision>5</cp:revision>
  <dc:subject/>
  <dc:title>开学第一课</dc:title>
</cp:coreProperties>
</file>