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4.gif" ContentType="image/gif"/>
  <Override PartName="/ppt/media/image29.gif" ContentType="image/gif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2CE4-AA30-4904-A557-0DE06070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80C0-C09B-46B6-A658-787635EA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9F96-4B67-4394-8784-C225E0A3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E9B0-19A2-4F40-8BE7-24ABC17F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9C15-F8BA-4C9E-A718-3649A7B4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BCF2-FA67-41D0-9C49-46ECC622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1C14-0BE9-4401-859D-D7503A24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879A-C4C1-48F1-8D50-4D744256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987C-AA68-4F27-ABC2-8691B3B3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BB2B-E017-4D10-8602-25E0EFD9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8E21-5B73-425D-B292-DAC2CB79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CDD1-F2C0-498F-BD3A-4A7F5860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A4E4-A84E-4696-A052-5EB93DBD6E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image.baidu.com/i?ct=503316480&amp;z=&amp;tn=baiduimagedetail&amp;word=apple&amp;in=14415&amp;cl=2&amp;lm=-1&amp;st=-1&amp;pn=6&amp;rn=1&amp;di=23034174975&amp;ln=1994&amp;fr=&amp;fm=result&amp;fmq=1329393894753_R&amp;ic=0&amp;s=0&amp;se=1&amp;sme=0&amp;tab=&amp;width=&amp;height=&amp;face=0&amp;is=&amp;istype=2" TargetMode="External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753480" cy="7124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63640" y="2133720"/>
            <a:ext cx="604836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华文中宋"/>
              </a:rPr>
              <a:t>我读书 我快乐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华文中宋"/>
              <a:ea typeface="华文中宋"/>
            </a:endParaRPr>
          </a:p>
        </p:txBody>
      </p:sp>
      <p:sp>
        <p:nvSpPr>
          <p:cNvPr id="43" name=""/>
          <p:cNvSpPr/>
          <p:nvPr/>
        </p:nvSpPr>
        <p:spPr>
          <a:xfrm>
            <a:off x="3203640" y="5661000"/>
            <a:ext cx="66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------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龙岩实小三年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班主题班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84360" cy="2924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751120" y="48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700360" y="404640"/>
            <a:ext cx="548640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霍格沃茨魔法学校</a:t>
            </a:r>
            <a:endParaRPr b="1" lang="en-US" sz="54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3" name=""/>
          <p:cNvSpPr/>
          <p:nvPr/>
        </p:nvSpPr>
        <p:spPr>
          <a:xfrm>
            <a:off x="2340000" y="1197000"/>
            <a:ext cx="65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华文新魏"/>
              </a:rPr>
              <a:t>飞行课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如何拿起扫帚开始，学习最基本的飞天扫帚飞行技巧。学校提供二十多把飞天扫帚，但这些扫帚的质量不尽理想，有的飞太高时会瑟瑟发抖，还有的总是微微向左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9680" y="2781360"/>
            <a:ext cx="87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华文新魏"/>
              </a:rPr>
              <a:t>魔药课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习配置各种常用药水和基本毒药的解药，要想成为傲罗，魔药考试必须达到优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8760" y="3645000"/>
            <a:ext cx="89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华文新魏"/>
              </a:rPr>
              <a:t>占卜课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包括占卜和算术占卜。前者通过观察茶叶的形状和水晶球等进行对未来的预测，后者则需要进行繁杂的数学计算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1120" y="4508640"/>
            <a:ext cx="873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天文课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观察行星和恒星方位，运动轨迹，互相的影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5084640"/>
            <a:ext cx="85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魔咒课和黑魔法防御术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校最主要的两门课程，学习各种常用魔咒和如何防御黑魔法的攻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91336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新魏"/>
              </a:rPr>
              <a:t>变形课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是一门主课，教学生学习如何让一样物体变形，也就是变形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408560" y="260280"/>
            <a:ext cx="47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一只名叫赛林的小谷仓猫头鹰，刚刚出生没多久，本应在爸爸妈妈的怀抱中撒娇，并等着最激动的时刻的到来——爸爸教他学飞——这也是所有小雏鸟最盼望的事情，赛林却在沉睡中遭受到暗算，被推出温暖的窝，并被邪恶的猫头鹰掳到圣灵枭猫头鹰孤儿院，并在那里亲身经历和目睹到一些极其可怕和残忍的事情，他意识到这股邪恶的力量即将打碎猫头鹰王国的安宁，于是，赛林的生活轨迹从此改变。于是，一个神奇的旅程就此开始。一路上，赛林和其朋友将一起找寻真理，与不可想象的危险战斗，由一只曾经弱不禁风的小雏鸟到最后王者归来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84720" y="515772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正因为赛林的自信，终于战胜了邪恶力量，守卫了猫头鹰王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105440" cy="4787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284720" y="40464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主人公名叫波西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杰克逊，是海神波塞冬和人类所生的混血人：一半是人、一半是神。宙斯的雷霆杖被偷后，他成为主要怀疑对象。从此，他与身怀绝技的朋友们在凡人和众神两个世界里穿梭，拯救着人间与神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27280" y="4221000"/>
            <a:ext cx="5905440" cy="2122560"/>
          </a:xfrm>
          <a:prstGeom prst="wedgeEllipseCallout">
            <a:avLst>
              <a:gd name="adj1" fmla="val -46370"/>
              <a:gd name="adj2" fmla="val 51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92360" y="4437000"/>
            <a:ext cx="47008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华文行楷"/>
              </a:rPr>
              <a:t>美国总统</a:t>
            </a:r>
            <a:r>
              <a:rPr b="0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奥巴马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华文行楷"/>
              </a:rPr>
              <a:t>亲自重点推荐给青少年的最佳读物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971640" y="2421000"/>
            <a:ext cx="75438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外国儿童经典小说</a:t>
            </a:r>
            <a:endParaRPr b="0" lang="en-US" sz="66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2736720" cy="3384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700360" y="549360"/>
            <a:ext cx="2376360" cy="2684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E·B·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怀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"/>
              </a:rPr>
              <a:t>美国著名作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楷体"/>
              </a:rPr>
              <a:t>一共只写了三部童话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《精灵鼠小弟》、《夏洛的网》、《吹小号的天鹅》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他的儿童文学作品被介绍到许多国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148360" y="3357720"/>
            <a:ext cx="3995640" cy="3284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48360" y="0"/>
            <a:ext cx="39956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5516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767120" y="281160"/>
            <a:ext cx="412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华文行楷"/>
                <a:ea typeface="华文行楷"/>
              </a:rPr>
              <a:t>主要内容</a:t>
            </a:r>
            <a:r>
              <a:rPr b="1" lang="zh-CN" sz="2400" spc="-1" strike="noStrike">
                <a:solidFill>
                  <a:srgbClr val="0000cc"/>
                </a:solidFill>
                <a:latin typeface="楷体"/>
                <a:ea typeface="楷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头小猪威伯与大灰蜘蛛夏洛同住在农场仓房的地窖中，聪明勇敢的夏洛在自己的网上编织“好猪”、“杰出”、“谦虚”等等字样，使得威伯在猪的比赛中荣获了大奖，救了他的性命。而威伯又怀着感激之情，保护了夏洛的孩子顺利诞生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724360" y="4149720"/>
            <a:ext cx="20196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乐于助人</a:t>
            </a:r>
            <a:endParaRPr b="0" lang="en-US" sz="40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651640" y="4869000"/>
            <a:ext cx="201924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聪明勇敢</a:t>
            </a:r>
            <a:endParaRPr b="0" lang="en-US" sz="40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780000" y="558972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为它们真挚的友情所感动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3120" y="19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840200" y="48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2276640"/>
            <a:ext cx="3981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作品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《长袜子皮皮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《小飞人尼尔斯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卡尔松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《米欧，我的米欧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《狮心兄弟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《绿林女儿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《淘气包埃米尔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《大侦探小卡莱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《疯丫头马迪根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《吵闹村的孩子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716360" y="836640"/>
            <a:ext cx="36576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童话外婆：林格伦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08200" y="914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9120" y="62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5292720" cy="5473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1187280" y="333360"/>
            <a:ext cx="6629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国际大奖小说系列（共</a:t>
            </a: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59</a:t>
            </a:r>
            <a:r>
              <a:rPr b="0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册）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06" name=""/>
          <p:cNvSpPr/>
          <p:nvPr/>
        </p:nvSpPr>
        <p:spPr>
          <a:xfrm>
            <a:off x="5940360" y="208116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本都获得国际儿童文学著名奖项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042920" y="2421000"/>
            <a:ext cx="7543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科普读物</a:t>
            </a:r>
            <a:endParaRPr b="0" lang="en-US" sz="66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0920" y="755640"/>
            <a:ext cx="4824360" cy="6102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219640" y="981000"/>
            <a:ext cx="392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套影响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行楷"/>
              </a:rPr>
              <a:t>奥巴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行楷"/>
              </a:rPr>
              <a:t>克林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几代人成长的经典科普作品 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3016080"/>
            <a:ext cx="392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股神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行楷"/>
              </a:rPr>
              <a:t>巴菲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唯一投资出版的百科全书！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72200" y="4384800"/>
            <a:ext cx="362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别从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行楷"/>
              </a:rPr>
              <a:t>动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行楷"/>
              </a:rPr>
              <a:t>植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行楷"/>
              </a:rPr>
              <a:t>地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行楷"/>
              </a:rPr>
              <a:t>宇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行楷"/>
              </a:rPr>
              <a:t>人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艺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行楷"/>
              </a:rPr>
              <a:t>世界人文地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方面进行精彩介绍 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56720" y="260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美国少年儿童百科全书（共七本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29163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433680" y="57456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51040" y="-170640"/>
            <a:ext cx="258804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华文新魏"/>
              </a:rPr>
              <a:t>知识就是力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       —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培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英国文学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197000"/>
            <a:ext cx="563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不读书的人，思想就会停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狄德罗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法国文学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859280" y="260280"/>
            <a:ext cx="41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三角形、矩形、正方形和圆——你能用形状做些什么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3860640"/>
            <a:ext cx="44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你如何为一场比赛记录统计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16560" y="1773360"/>
            <a:ext cx="74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何破解一个密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32360" y="2492280"/>
            <a:ext cx="38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枚硬币落下之后正面朝上的概率大还是反面朝上的概率大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5079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1187280" y="5300640"/>
            <a:ext cx="611532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00ff"/>
                </a:solidFill>
                <a:latin typeface="华文新魏"/>
              </a:rPr>
              <a:t>神奇校车系列</a:t>
            </a:r>
            <a:endParaRPr b="1" lang="en-US" sz="8000" spc="1" strike="noStrike">
              <a:ln w="9360">
                <a:solidFill>
                  <a:srgbClr val="00ff00"/>
                </a:solidFill>
                <a:miter/>
              </a:ln>
              <a:solidFill>
                <a:srgbClr val="0000ff"/>
              </a:solidFill>
              <a:latin typeface="华文新魏"/>
              <a:ea typeface="华文新魏"/>
            </a:endParaRPr>
          </a:p>
        </p:txBody>
      </p:sp>
      <p:sp>
        <p:nvSpPr>
          <p:cNvPr id="121" name=""/>
          <p:cNvSpPr/>
          <p:nvPr/>
        </p:nvSpPr>
        <p:spPr>
          <a:xfrm>
            <a:off x="3708360" y="338040"/>
            <a:ext cx="543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位浑身上下充满了</a:t>
            </a:r>
            <a:r>
              <a:rPr b="1" lang="zh-CN" sz="2800" spc="-1" strike="noStrike">
                <a:solidFill>
                  <a:srgbClr val="0000cc"/>
                </a:solidFill>
                <a:latin typeface="楷体"/>
                <a:ea typeface="楷体"/>
              </a:rPr>
              <a:t>魔幻色彩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科学课老师</a:t>
            </a:r>
            <a:r>
              <a:rPr b="1" lang="zh-CN" sz="2800" spc="-1" strike="noStrike">
                <a:solidFill>
                  <a:srgbClr val="800080"/>
                </a:solidFill>
                <a:latin typeface="楷体"/>
                <a:ea typeface="楷体"/>
              </a:rPr>
              <a:t>弗瑞丝小姐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每次上课都是开着一辆黄色校车四处游荡。这辆看起来似乎是美国最最常见的，学生们最主要的交通工具，但却充满了神奇的魔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“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神奇校车”能</a:t>
            </a:r>
            <a:r>
              <a:rPr b="1" lang="zh-CN" sz="2800" spc="-1" strike="noStrike">
                <a:solidFill>
                  <a:srgbClr val="800080"/>
                </a:solidFill>
                <a:latin typeface="楷体"/>
                <a:ea typeface="楷体"/>
              </a:rPr>
              <a:t>带领我们进入浩瀚的科学领域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游梭于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生物科学、地球科学、太空科学、气象学、古生物学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等各门学科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5003640" cy="5373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643280" y="692280"/>
            <a:ext cx="42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部书表面上看起来似乎很深奥，因为它是一本介绍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宇宙的结构、地球和其它行星的状况、核物理、相对论、生物、生命、进化、遗传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等知识的书。但如果你能静下心来看，你会发现并没有你想象中的难：因为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书中穿插了大量科学家、发明家的趣事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很少有科学术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4451400" cy="6093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1042920" y="189000"/>
            <a:ext cx="731520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可怕的科学之经典数学系列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26" name=""/>
          <p:cNvSpPr/>
          <p:nvPr/>
        </p:nvSpPr>
        <p:spPr>
          <a:xfrm>
            <a:off x="4767120" y="1052640"/>
            <a:ext cx="43768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数学常使你感到痛苦吗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?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在学习和考试中，你是不是常常为数字头痛，或者被图形搞得晕头转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现在好了，《要命的数学》将会为你摆平以上所有问题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51480" y="4653000"/>
            <a:ext cx="459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保证，你如果看完这套书，一定会大大增加对数学的兴趣的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812000" y="5589720"/>
            <a:ext cx="95256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1042920" y="2421000"/>
            <a:ext cx="7543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其它</a:t>
            </a:r>
            <a:endParaRPr b="0" lang="en-US" sz="66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4105440" cy="5084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492360" y="765000"/>
            <a:ext cx="55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读乔布斯的传记，你会发现乔布斯的成功也不是一帆风顺的，他经历了许多坎坷，最终才成就了非凡的苹果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0360" y="3429000"/>
            <a:ext cx="19432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6772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796000" y="0"/>
            <a:ext cx="33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轻松有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兼学英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51640" y="1628640"/>
            <a:ext cx="326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一本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漫画加上文字说明的另类日记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人公格雷是一个善良、诚实、聪明、爱玩，满脑子的鬼点子的初中生。他除了记述了有趣的或难忘的事情外，还画了许多漫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尤其是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中英文对照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对学习英文是一本很好的读物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9280" y="451476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只兔子，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想尽一切办法不再活下去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它透过放大镜静静地望着太阳；它义无反顾地袭击外星人；它炸掉比萨斜塔；它向核武器根据地进攻；它在直升机螺旋桨下玩蹦床；它从下面钻开硫酸瓶子；它口含唱片去撞墙；当其他动物都登上诺亚方舟的时候，它却在陆地上悠然自得…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11320" y="-191160"/>
            <a:ext cx="1399320" cy="43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Arial"/>
                <a:ea typeface="华文新魏"/>
              </a:rPr>
              <a:t>猜猜看，它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Arial"/>
                <a:ea typeface="华文新魏"/>
              </a:rPr>
              <a:t>终死成了吗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308720" y="342900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39640" y="1052640"/>
            <a:ext cx="794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华文行楷"/>
              </a:rPr>
              <a:t>结语：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"/>
              </a:rPr>
              <a:t>今天，我只是推荐了我喜欢的一部分书，其实，还有很多很多好看的书，让我们互相推荐吧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335480" y="1989000"/>
            <a:ext cx="480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华文新魏"/>
              </a:rPr>
              <a:t>我喜欢读书，也很享受读书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86320" y="260280"/>
            <a:ext cx="5356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（我的书橱一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547640" y="2781360"/>
            <a:ext cx="6096240" cy="123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推荐的书</a:t>
            </a:r>
            <a:endParaRPr b="0" lang="en-US" sz="96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042920" y="2421000"/>
            <a:ext cx="7543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奇幻小说</a:t>
            </a:r>
            <a:endParaRPr b="0" lang="en-US" sz="66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435640" y="0"/>
            <a:ext cx="3492360" cy="407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424008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《哈利﹒波特》是英国女作家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J﹒K·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罗琳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创作的系列小说，共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部。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J·K·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罗琳创造了出版史上的神话。至今，《哈利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波特》系列已被译成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种文字，在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个国家和地区累计销售达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亿多册。而她自己也凭借巨额版税成为英国最富有的女人之一，资产超过英国女王，达到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亿美元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3529080" cy="4076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215960" y="604440"/>
            <a:ext cx="911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J K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罗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911840" y="625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32360" y="1197000"/>
            <a:ext cx="408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哈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波特与魔法石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哈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波特与密室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哈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波特与阿兹卡班的囚徒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哈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波特与火焰杯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哈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波特与凤凰社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哈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波特与混血王子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哈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波特与死亡圣器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3760" y="260280"/>
            <a:ext cx="45100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5229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64000" y="189000"/>
            <a:ext cx="3656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长着绿眼睛、棕色头发，额上有一道闪电形伤疤，鼻梁上戴着一副断了架的宽边大眼镜的、瘦瘦的男孩，他总是手持一根神奇的魔杖，骑着一把看似普通的扫帚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——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新魏"/>
              </a:rPr>
              <a:t>一个风靡全球的、活灵活现的小巫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00000" y="5589720"/>
            <a:ext cx="342900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睿智、勇敢</a:t>
            </a:r>
            <a:endParaRPr b="0" lang="en-US" sz="54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84360" cy="2924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751120" y="48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132000" y="765000"/>
            <a:ext cx="548640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霍格沃茨魔法学校</a:t>
            </a:r>
            <a:endParaRPr b="1" lang="en-US" sz="54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8" name=""/>
          <p:cNvSpPr/>
          <p:nvPr/>
        </p:nvSpPr>
        <p:spPr>
          <a:xfrm>
            <a:off x="2859120" y="1700280"/>
            <a:ext cx="628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这是一所《哈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波特》系列小说中描写的专门培养巫师的魔法学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3789360"/>
            <a:ext cx="851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我很喜欢这个学校，因为它的课程设置很丰富有趣，如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飞行课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、魔药课、占卜课、天文课、魔咒课、变形课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08:38:34Z</dcterms:created>
  <dc:creator>hp</dc:creator>
  <dc:description/>
  <dc:language>en-US</dc:language>
  <cp:lastModifiedBy>hp</cp:lastModifiedBy>
  <dcterms:modified xsi:type="dcterms:W3CDTF">2012-02-16T23:08:35Z</dcterms:modified>
  <cp:revision>45</cp:revision>
  <dc:subject/>
  <dc:title>幻灯片 1</dc:title>
</cp:coreProperties>
</file>