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11.jpeg" ContentType="image/jpeg"/>
  <Override PartName="/ppt/media/gunshot.wav" ContentType="audio/x-wav"/>
  <Override PartName="/ppt/media/image1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DB5-90F5-448B-AE56-1FB71483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6E5-072E-4D95-A76D-ABCF19BB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66B-D0B7-4002-838D-89F718A0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A04-5ACC-4374-BDC6-7EE700D1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229-9564-4207-9B62-5744F329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B27-93B5-434B-B49F-33E8AB5E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8CF-4ABC-4CD1-B949-9B49E8A8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3E-CFB9-453E-B191-EA70ADB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67E-5D7B-4DBA-8306-8D5CFAE7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1C3-A822-4478-A3AC-CBDF55E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25E-D36E-4EB4-A59C-B2CA45B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0A-2DCC-4FF3-9C2E-8A7A7337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1F2-2D0C-4A77-B904-C2409D166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7.gif"/><Relationship Id="rId23" Type="http://schemas.openxmlformats.org/officeDocument/2006/relationships/image" Target="../media/image7.gif"/><Relationship Id="rId24" Type="http://schemas.openxmlformats.org/officeDocument/2006/relationships/image" Target="../media/image7.gif"/><Relationship Id="rId25" Type="http://schemas.openxmlformats.org/officeDocument/2006/relationships/image" Target="../media/image7.gif"/><Relationship Id="rId26" Type="http://schemas.openxmlformats.org/officeDocument/2006/relationships/image" Target="../media/image7.gif"/><Relationship Id="rId27" Type="http://schemas.openxmlformats.org/officeDocument/2006/relationships/image" Target="../media/image7.gif"/><Relationship Id="rId28" Type="http://schemas.openxmlformats.org/officeDocument/2006/relationships/image" Target="../media/image7.gif"/><Relationship Id="rId29" Type="http://schemas.openxmlformats.org/officeDocument/2006/relationships/image" Target="../media/image7.gif"/><Relationship Id="rId30" Type="http://schemas.openxmlformats.org/officeDocument/2006/relationships/image" Target="../media/image7.gif"/><Relationship Id="rId31" Type="http://schemas.openxmlformats.org/officeDocument/2006/relationships/image" Target="../media/image7.gif"/><Relationship Id="rId32" Type="http://schemas.openxmlformats.org/officeDocument/2006/relationships/image" Target="../media/image7.gif"/><Relationship Id="rId33" Type="http://schemas.openxmlformats.org/officeDocument/2006/relationships/image" Target="../media/image7.gif"/><Relationship Id="rId34" Type="http://schemas.openxmlformats.org/officeDocument/2006/relationships/image" Target="../media/image7.gif"/><Relationship Id="rId35" Type="http://schemas.openxmlformats.org/officeDocument/2006/relationships/image" Target="../media/image7.gif"/><Relationship Id="rId36" Type="http://schemas.openxmlformats.org/officeDocument/2006/relationships/image" Target="../media/image7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66ff"/>
                </a:solidFill>
                <a:latin typeface="Times New Roman"/>
                <a:ea typeface="黑体"/>
              </a:rPr>
              <a:t>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304920"/>
            <a:ext cx="6553440" cy="521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开学啦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80880" y="1066680"/>
            <a:ext cx="79250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好的开始是成功的一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-42012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" y="0"/>
            <a:ext cx="8610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珍惜现在我们所拥有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 rot="5400000">
            <a:off x="5257440" y="274320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你有何感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5400000">
            <a:off x="4914720" y="2476440"/>
            <a:ext cx="609588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你有何行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49120"/>
            <a:ext cx="90676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一、</a:t>
            </a:r>
            <a:r>
              <a:rPr b="1" lang="zh-CN" sz="45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明确目标</a:t>
            </a: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争当优秀集体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二、</a:t>
            </a:r>
            <a:r>
              <a:rPr b="1" lang="zh-CN" sz="45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培养二风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优良的班风、浓厚的学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三、</a:t>
            </a:r>
            <a:r>
              <a:rPr b="1" lang="zh-CN" sz="45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树立三感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荣誉感、责任感、竞争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黑体"/>
                <a:ea typeface="黑体"/>
              </a:rPr>
              <a:t>四、</a:t>
            </a:r>
            <a:r>
              <a:rPr b="1" lang="zh-CN" sz="45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5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四有四严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有理想、有道德、有文化、有纪律、严格要求、严格训练、严格管理、严格把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五、</a:t>
            </a:r>
            <a:r>
              <a:rPr b="1" lang="zh-CN" sz="3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五字班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敬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：尊敬老师、尊敬父母、尊敬同学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竞：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开展竞赛、比学赶帮、力争上游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静：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安心安静、遵规守纪、专心学习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净：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环境卫生、衣着整洁、言行文明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晶：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全面发展、保持全优、合格成才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六、</a:t>
            </a:r>
            <a:r>
              <a:rPr b="1" lang="zh-CN" sz="38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提高六能力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自学能力、记忆能力、想象能力、组织能力、表达能力、创造能力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080" y="325440"/>
            <a:ext cx="8626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七、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学习七认真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习态度认真、课前预习认真、课中听讲认真、课后作业认真、笔记书写认真、消化巩固认真、测验考核认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八、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常规八戒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戒骄、戒躁、戒懒、戒散、戒狂、戒混、戒脏、戒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2760" y="173160"/>
            <a:ext cx="8702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九、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九不言行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不出口骂人、不动手打人、不损坏公物、不迟到早退、不无故旷课、不追逐打闹、不看有害书画影视、不贪玩误学、不作业马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十、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十自要求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尊、自爱、自重、自信、自强、自静、自觉、自学、自理、自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9080" y="28908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新的学期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黑体"/>
              </a:rPr>
              <a:t>注意安全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黑体"/>
              </a:rPr>
              <a:t>从我做起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9080" y="173160"/>
            <a:ext cx="885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ff"/>
                </a:solidFill>
                <a:latin typeface="黑体"/>
                <a:ea typeface="黑体"/>
              </a:rPr>
              <a:t>安全格言：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7500" spc="-1" strike="noStrike">
                <a:solidFill>
                  <a:srgbClr val="ff0066"/>
                </a:solidFill>
                <a:latin typeface="黑体"/>
                <a:ea typeface="黑体"/>
              </a:rPr>
              <a:t>学校安全人人讲，安全学校个个赞。安全知识时时记，注意安全处处提。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新学期新景象，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新年级新希望。</a:t>
            </a:r>
            <a:endParaRPr b="1" lang="en-US" sz="40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31840" y="246240"/>
            <a:ext cx="891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Times New Roman"/>
                <a:ea typeface="黑体"/>
              </a:rPr>
              <a:t>愿同学们在新的学期乘上安全之舟，扬起生命之帆，在知识的海洋里乘风破浪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259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380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多力多推山倒，众人拾柴火焰高 。——谚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44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滴水只有放进大海里才永远不会干涸，一个人只有当他把自己和集体事业融合在一起的时候才能最有力量。                                            ——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581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是要有帮助的。荷花虽好，也要绿叶扶持。一个篱笆打三个桩，一个好汉要有三个帮。——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30064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说我看得远，那是因为我站在巨人们的肩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31840" y="246240"/>
            <a:ext cx="891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祝同学们在新的学期里</a:t>
            </a: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:            </a:t>
            </a:r>
            <a:r>
              <a:rPr b="1" i="1" lang="zh-CN" sz="9600" spc="-1" strike="noStrike">
                <a:solidFill>
                  <a:srgbClr val="0000ff"/>
                </a:solidFill>
                <a:latin typeface="Times New Roman"/>
                <a:ea typeface="黑体"/>
              </a:rPr>
              <a:t>学习进步！愉快成长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-34380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19320" y="304920"/>
            <a:ext cx="6553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天高任鸟飞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25280"/>
            <a:ext cx="9601200" cy="698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76520" y="0"/>
            <a:ext cx="6400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海阔任鱼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5638680"/>
            <a:ext cx="792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愿你们早日成为参天大树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4201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657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1905120" y="3276360"/>
            <a:ext cx="541008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改掉假期的生活方式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828800" y="1522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开学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5519520" y="3081240"/>
            <a:ext cx="55720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藏起暑假的闲适与懒散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9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0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2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3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4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5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6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7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8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9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0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83" name="" descr=""/>
            <p:cNvPicPr/>
            <p:nvPr/>
          </p:nvPicPr>
          <p:blipFill>
            <a:blip r:embed="rId21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2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3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4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5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7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8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9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0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1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2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3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4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5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6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7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8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9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0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9528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昨日的习惯，已经造就了今日的我们；今日的习惯，决定明天的我们。好习惯，益终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33400" y="2514600"/>
            <a:ext cx="567720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的习惯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 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4201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5400000">
            <a:off x="5715000" y="3276360"/>
            <a:ext cx="51814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总结假期的为人处事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3720" y="1522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起跑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1714320" y="31618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记住来校时亲人的嘱咐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905120" y="1447920"/>
            <a:ext cx="5562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42012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 rot="5400000">
            <a:off x="6057360" y="339084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你们准备好了吗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52280"/>
            <a:ext cx="8686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在新的起跑线上准备冲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1:13:16Z</dcterms:created>
  <dc:creator>微软用户</dc:creator>
  <dc:description/>
  <dc:language>en-US</dc:language>
  <cp:lastModifiedBy>微软用户</cp:lastModifiedBy>
  <dcterms:modified xsi:type="dcterms:W3CDTF">2009-08-27T08:50:28Z</dcterms:modified>
  <cp:revision>6</cp:revision>
  <dc:subject/>
  <dc:title>幻灯片 1</dc:title>
</cp:coreProperties>
</file>