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7.jpeg" ContentType="image/jpeg"/>
  <Override PartName="/ppt/media/image26.jpeg" ContentType="image/jpeg"/>
  <Override PartName="/ppt/media/image8.png" ContentType="image/png"/>
  <Override PartName="/ppt/media/image28.gif" ContentType="image/gif"/>
  <Override PartName="/ppt/media/image14.jpeg" ContentType="image/jpeg"/>
  <Override PartName="/ppt/media/image30.gif" ContentType="image/gif"/>
  <Override PartName="/ppt/media/image9.jpeg" ContentType="image/jpeg"/>
  <Override PartName="/ppt/media/image6.png" ContentType="image/png"/>
  <Override PartName="/ppt/media/image5.gif" ContentType="image/gif"/>
  <Override PartName="/ppt/media/image7.jpeg" ContentType="image/jpeg"/>
  <Override PartName="/ppt/media/image11.jpeg" ContentType="image/jpeg"/>
  <Override PartName="/ppt/media/image31.gif" ContentType="image/gif"/>
  <Override PartName="/ppt/media/image10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782-4112-48F6-94B6-C4B87543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6B3E-EA88-49B0-9076-72204474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0D73-4FE4-42F8-A473-39D0B95B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8DB-B6AA-45CA-93AA-B570AD8D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F58B-E883-4CD4-B8EB-8C0EEAC9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38C-ADE6-4D68-AD04-5B77C2C5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0E3-E43B-474D-ACED-181CADD2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D71-6DCB-411D-BE7F-78C96226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B5F-022E-43D3-B553-D824D727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C3A-8498-47B6-9544-484D4853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079-C9DE-46CE-97DB-27551E6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931-B430-418B-ABFA-3E8A9ADC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D711-DC9C-4DCF-B827-564837C9C1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&amp;tn=baiduimagedetail&amp;word=&#750;%CE%DB&#574;&#892;&#428;%C2%FE%BB%AD&amp;in=18746&amp;cl=2&amp;lm=-1&amp;pn=20&amp;rn=1&amp;di=69368998695&amp;ln=1283&amp;fr=&amp;fmq=&amp;ic=0&amp;s=0&amp;se=1&amp;sme=0&amp;tab=&amp;width=&amp;height=&amp;face=0&amp;is=&amp;istype=2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&amp;tn=baiduimagedetail&amp;word=%C0&#1019;%A2%B3%D4%D1%F2&amp;in=17207&amp;cl=2&amp;lm=-1&amp;pn=5&amp;rn=1&amp;di=49720189860&amp;ln=2000&amp;fr=&amp;fmq=&amp;ic=&amp;s=&amp;se=&amp;sme=0&amp;tab=&amp;width=&amp;height=&amp;face=&amp;is=&amp;istype=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24360" y="3213000"/>
            <a:ext cx="49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共创  视界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03640" y="1700280"/>
            <a:ext cx="388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用  环保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867280" y="306864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067280" y="1773360"/>
            <a:ext cx="100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心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 rot="14334600">
            <a:off x="6967080" y="4706280"/>
            <a:ext cx="118764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 rot="1220400">
            <a:off x="7380000" y="980640"/>
            <a:ext cx="13176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087640" y="1413000"/>
            <a:ext cx="7056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随时关上水龙头，别让水白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不浪费资源，让水重复使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随手关灯，省一度电，少一份污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少用电器，可以减缓地球温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减用空调，能够降低能源消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尽量人人都用节能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自备购物袋，少用塑料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844640"/>
            <a:ext cx="8985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措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40000" y="1413000"/>
            <a:ext cx="680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尽量少用清洁剂，选择用肥皂，减少水污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少用一次性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回收废纸—再造林木资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拒用野生动植物制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爱护花草树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爱护野生动物，拒食野生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推动垃圾分类回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2133720"/>
            <a:ext cx="89856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措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7416720" cy="4411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11280" y="907920"/>
            <a:ext cx="2808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垃圾分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1413000"/>
            <a:ext cx="2374920" cy="1584360"/>
          </a:xfrm>
          <a:prstGeom prst="cloudCallout">
            <a:avLst>
              <a:gd name="adj1" fmla="val -49462"/>
              <a:gd name="adj2" fmla="val 67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14840" y="184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护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908000" y="1052640"/>
            <a:ext cx="691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常见的可回收垃圾主要有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407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42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废纸、塑料、玻璃、金属和布料五大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废纸：主要包括报纸、期刊、图书、各种包装纸、办公用纸、广告纸、纸盒等等，但是要注意纸巾和厕所纸由于水溶性太强不可回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1773360"/>
            <a:ext cx="719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生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中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35280" y="2935080"/>
            <a:ext cx="692280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塑料：饮料瓶、矿泉水瓶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玻璃：包括各种玻璃瓶、碎玻片、镜子、灯泡、暖瓶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属物：主要包括易拉罐、罐头盒、牙膏皮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布料：主要包括废弃衣服、桌布、洗脸巾、书包、鞋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1125360"/>
            <a:ext cx="64818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下面我们即将进行一个小游戏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0" name=""/>
          <p:cNvSpPr/>
          <p:nvPr/>
        </p:nvSpPr>
        <p:spPr>
          <a:xfrm>
            <a:off x="2400480" y="2565360"/>
            <a:ext cx="33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游戏回答之前，先提问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谁知道刚刚说的环境污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要介绍了哪三个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76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4360" y="836640"/>
            <a:ext cx="338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游戏规则：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91628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根据下面的图片，说出是环境污染中的什么污染，一共有三个选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污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气污染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固体废物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到图片后，老师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一说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时候知道答案的同学立马站起来回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1880" y="4508640"/>
            <a:ext cx="374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：老师还没有念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时候就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起来的同学，属于犯规，失去这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回答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40000" y="1197000"/>
            <a:ext cx="6408720" cy="4579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684360" y="1989000"/>
            <a:ext cx="93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①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Administrator\Desktop\课件\图片\01300000209183122009454139561.jpg"/>
          <p:cNvPicPr/>
          <p:nvPr/>
        </p:nvPicPr>
        <p:blipFill>
          <a:blip r:embed="rId2"/>
          <a:stretch/>
        </p:blipFill>
        <p:spPr>
          <a:xfrm>
            <a:off x="2411280" y="1125360"/>
            <a:ext cx="6156360" cy="4692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755640" y="1844640"/>
            <a:ext cx="93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6623280" cy="4789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755640" y="220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③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8000" y="907920"/>
            <a:ext cx="496260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为什么要保护环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8" name="Picture 2" descr="C:\Users\Administrator\Desktop\课件\图片\ppt2067.jpg"/>
          <p:cNvPicPr/>
          <p:nvPr/>
        </p:nvPicPr>
        <p:blipFill>
          <a:blip r:embed="rId2"/>
          <a:stretch/>
        </p:blipFill>
        <p:spPr>
          <a:xfrm>
            <a:off x="179280" y="2060640"/>
            <a:ext cx="5256360" cy="394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24360" y="36104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因为环境发生了不利于人类生存和发展的变化，出现了环境问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052640"/>
            <a:ext cx="6363000" cy="4392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971640" y="2421000"/>
            <a:ext cx="93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6443640" cy="4873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826920" y="2060640"/>
            <a:ext cx="93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⑤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6697440" cy="47894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755640" y="2205000"/>
            <a:ext cx="936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⑥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728720" cy="1189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50920" y="1700280"/>
            <a:ext cx="8686800" cy="25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看图抢答的游戏现在结束，下面让我们来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段视频，然后大家根据这段视频，来抢答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个问题，游戏规则跟上面的一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736080" y="981000"/>
            <a:ext cx="188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视频开始的时候，小樱桃说因为什么差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不了学校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怎么样才能不受沙尘暴的袭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马老师说自然界与人类密切相关的三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哪三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树枝上像天使的翅膀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43360" y="4149720"/>
            <a:ext cx="6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雪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皮大瓜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小樱桃设计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9640" y="981000"/>
            <a:ext cx="158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答案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4447800" y="1965240"/>
            <a:ext cx="106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沙尘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加强环境保护，搞好绿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空气、水、阳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塑料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环保黑板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尾气净化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过度开采的地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380360" y="83664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627280" y="1413000"/>
            <a:ext cx="4392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我是环保小卫士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 rot="21381000">
            <a:off x="755640" y="2923920"/>
            <a:ext cx="387360" cy="772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8028000" y="4941720"/>
            <a:ext cx="45720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356640" y="249228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缕春风，让温暖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片绿色，让幸福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啦啦啦啦啦啦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是小卫士，我们都是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手拉手，爱护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是环保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971640" y="1341360"/>
            <a:ext cx="6220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565280" cy="2087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484360" y="1413000"/>
            <a:ext cx="439272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我是环保小卫士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387360" cy="772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72360" y="5013360"/>
            <a:ext cx="457200" cy="863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6640" y="256536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束鲜花，让欢乐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送你一片阳光，让希望伴着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啦啦啦啦啦啦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都是小卫士，我们都是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手拉手，爱护大自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是环保小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042920" y="1341360"/>
            <a:ext cx="62244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-304920" y="-471600"/>
            <a:ext cx="9753840" cy="78012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55640" y="2421000"/>
            <a:ext cx="777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让我们从身边的小事做起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916360" y="4365720"/>
            <a:ext cx="352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保护环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79640" y="2349360"/>
            <a:ext cx="2592360" cy="792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3716280"/>
            <a:ext cx="2737080" cy="936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5084640"/>
            <a:ext cx="3097080" cy="936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765000"/>
            <a:ext cx="3168720" cy="1297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836640"/>
            <a:ext cx="295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环境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4000" y="3860640"/>
            <a:ext cx="1866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空气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84360" y="2492280"/>
            <a:ext cx="151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水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292720" y="5229360"/>
            <a:ext cx="2087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固体废物污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076640"/>
            <a:ext cx="2808360" cy="1936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148360" y="907920"/>
            <a:ext cx="3746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16360" y="3429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工厂把废水排放到环境里去，就会污染河流、水渠、湖泊、水库，甚至是大海，这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水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58920" y="1197000"/>
            <a:ext cx="23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水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2435400"/>
            <a:ext cx="4392360" cy="358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98100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067280" y="3716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方说汽车从我们身边开过，会扬起灰尘，汽车还排放尾气，这就是一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空气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1280" y="1125360"/>
            <a:ext cx="3095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空气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2637000"/>
            <a:ext cx="3851280" cy="3328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572000" y="907920"/>
            <a:ext cx="367200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6360" y="234936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生活中也产生许多废渣，我们叫它生活垃圾，这些固体废弃物排放到环境中也会污染土壤、水域、空气，它在自然界还发生变化，有化学变化，也有物理变化，产生一些有害气体。这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固体废物污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51280" y="907920"/>
            <a:ext cx="33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固体废物污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28353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5640" y="3710160"/>
            <a:ext cx="662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05360"/>
            <a:ext cx="2195280" cy="200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56000" y="5013360"/>
            <a:ext cx="720720" cy="576360"/>
          </a:xfrm>
          <a:prstGeom prst="rightArrow">
            <a:avLst>
              <a:gd name="adj1" fmla="val 50000"/>
              <a:gd name="adj2" fmla="val 312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952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635280" y="4149720"/>
            <a:ext cx="1258920" cy="1727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148360" y="4869000"/>
            <a:ext cx="720720" cy="576000"/>
          </a:xfrm>
          <a:prstGeom prst="rightArrow">
            <a:avLst>
              <a:gd name="adj1" fmla="val 50000"/>
              <a:gd name="adj2" fmla="val 312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03520" y="4076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443640" y="443700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8360" y="907920"/>
            <a:ext cx="46814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生态平衡遭到破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0" name=""/>
          <p:cNvSpPr/>
          <p:nvPr/>
        </p:nvSpPr>
        <p:spPr>
          <a:xfrm>
            <a:off x="3736800" y="2205000"/>
            <a:ext cx="180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举个例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一片草原上，有食草动物：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羊、斑马、野牛等等，也有食肉动物：老虎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豹子、狮子等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9079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是如果我们把老虎、豹子、狮子这些食肉动物都消灭。那么食草动物就会无限制地繁殖，它们要吃大量的草，会把草原吃光，吃得没有草吃了，结果食草动物自己也就无法生存了，这就是破坏了生态平衡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:\Users\Administrator\Desktop\课件\图片\B485838949.jpg"/>
          <p:cNvPicPr/>
          <p:nvPr/>
        </p:nvPicPr>
        <p:blipFill>
          <a:blip r:embed="rId2"/>
          <a:stretch/>
        </p:blipFill>
        <p:spPr>
          <a:xfrm>
            <a:off x="179280" y="3500280"/>
            <a:ext cx="3306960" cy="2548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140360" y="3933720"/>
            <a:ext cx="338436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猎杀野生动物，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会使物种减少，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破坏生态环境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4059360" cy="5184720"/>
          </a:xfrm>
          <a:prstGeom prst="rect">
            <a:avLst/>
          </a:prstGeom>
          <a:ln w="0">
            <a:noFill/>
          </a:ln>
        </p:spPr>
      </p:pic>
      <p:sp>
        <p:nvSpPr>
          <p:cNvPr id="85" name="椭圆 2"/>
          <p:cNvSpPr/>
          <p:nvPr/>
        </p:nvSpPr>
        <p:spPr>
          <a:xfrm>
            <a:off x="5435640" y="981000"/>
            <a:ext cx="2643120" cy="4929120"/>
          </a:xfrm>
          <a:prstGeom prst="ellipse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那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应该怎么做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03:32:41Z</dcterms:created>
  <dc:creator>微软用户</dc:creator>
  <dc:description/>
  <dc:language>en-US</dc:language>
  <cp:lastModifiedBy>微软用户</cp:lastModifiedBy>
  <dcterms:modified xsi:type="dcterms:W3CDTF">2011-11-15T14:58:24Z</dcterms:modified>
  <cp:revision>17</cp:revision>
  <dc:subject/>
  <dc:title>幻灯片 1</dc:title>
</cp:coreProperties>
</file>