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916-BAEB-4DA7-91A3-ED74470F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16A-74F1-4AA0-8590-AA2F102A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CDB-9A0B-43A8-ABC1-1182FBA8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F89-8593-490D-9A2A-018E3548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942E2-8568-4D47-807D-AB136C4D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3C7B3-604C-453E-8FE7-5AB94590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C5B2C-34F6-42AA-835B-35BD9A3F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9711C-42D9-4C93-B849-CC2A336D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258D0-21C4-4127-B7A3-C79B20B2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89314-C7C2-434A-ACF4-E9758800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9FF5D-7717-445C-B91E-50F6F023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6E4-3B9F-4FA9-A5B9-48ABB0B5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591DC-DD9D-4DBE-BC69-EA9FBB5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85458-E74C-4BE3-A925-970ED5F3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E7F7C-A027-4297-9F37-1D43BB33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48C7A-B977-4A63-BAAA-659225A0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9A63B-4F27-4ACC-8D31-44A85CC2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6AE-5CEA-49A0-B0D1-40830DEF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B33-AABF-4357-81B0-DE0DE855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FD0-2C00-46C6-9EDD-9CE7A54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68C-269B-457C-B042-5120FA98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46B-8C97-4AED-B522-6AECB9C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95C-C70D-4C92-8D88-F2A6C96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A65-77CE-48B2-B8E0-C9DD518A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D83A-222D-4580-B222-D698D49B465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6F3F-50A9-48B1-89CD-67462AA5081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640" y="1773360"/>
            <a:ext cx="7200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Enjoy my English class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5734080"/>
            <a:ext cx="4105080" cy="642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044720" y="-316080"/>
            <a:ext cx="5616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00"/>
                </a:solidFill>
                <a:latin typeface="黑体"/>
                <a:ea typeface="黑体"/>
              </a:rPr>
              <a:t>上课要求：</a:t>
            </a:r>
            <a:endParaRPr b="0" lang="en-US" sz="4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认真听讲，积极发言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黑体"/>
                <a:ea typeface="黑体"/>
              </a:rPr>
              <a:t>英语课堂上尽量使用英语进行讨论和回答问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声音洪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互相尊重，别人发言的时候认真倾听，积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；互相鼓励：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Enjoy losing fac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做好笔记：写在书上，便于以后复习。字迹工整，清晰、有条理。老师定期检查，不合格者扣分、批评、重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每周回去整理课堂笔记，按要求写在英语笔记本上（软皮抄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24000" y="772920"/>
            <a:ext cx="39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作业要求：</a:t>
            </a:r>
            <a:endParaRPr b="0" lang="en-US" sz="4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课后必须及时复习，多记单词，多背课文！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师会用听写、课堂和课后抽背、小组比赛等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式考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按时并高质量地完成作业，绝不拖拉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每次作业、听写、练习等都要用英文写日期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期格式：写在开头，独占一行，右对齐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g.1</a:t>
            </a:r>
            <a:r>
              <a:rPr b="0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Septe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是附有答案的练习，要求用红笔修正，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视为未完成作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8000" y="76464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准备好以下学习用具</a:t>
            </a:r>
            <a:endParaRPr b="0" lang="en-US" sz="4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8996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五本英语练习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业本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写本，１堂上练习本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英汉字典一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ips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牛津字典第三版初中适用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黑色笔、红色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适合自己水平的课外英语阅读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二本大硬皮抄。（一本错题集，一本笔记本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8000" y="11556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本学期学习计划</a:t>
            </a:r>
            <a:endParaRPr b="0" lang="en-US" sz="4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064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学会音标，掌握拼读规律，学会自行拼读和记忆单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完成初一上册内容。 （初定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时刻为考试做准备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（第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周中段考；第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周期末考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每周两次进行英语早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每周两次进行英语听力训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每周一次整理一次笔记（周末作业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26920" y="1152360"/>
            <a:ext cx="266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etition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565360"/>
            <a:ext cx="92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华文新魏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416"/>
                </a:solidFill>
                <a:latin typeface="华文新魏"/>
                <a:ea typeface="华文新魏"/>
              </a:rPr>
              <a:t>给音标，流利朗读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华文新魏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416"/>
                </a:solidFill>
                <a:latin typeface="华文新魏"/>
                <a:ea typeface="华文新魏"/>
              </a:rPr>
              <a:t>给音标，拼单词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416"/>
                </a:solidFill>
                <a:latin typeface="华文新魏"/>
                <a:ea typeface="华文新魏"/>
              </a:rPr>
              <a:t>c) </a:t>
            </a:r>
            <a:r>
              <a:rPr b="1" lang="zh-CN" sz="3600" spc="-1" strike="noStrike">
                <a:solidFill>
                  <a:srgbClr val="463416"/>
                </a:solidFill>
                <a:latin typeface="华文新魏"/>
                <a:ea typeface="华文新魏"/>
              </a:rPr>
              <a:t>给生词，确定读音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280" y="5013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英语背书比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805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英语“故事大王”比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71640" y="1989000"/>
            <a:ext cx="26575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音标大比拼</a:t>
            </a: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: 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627280" y="144360"/>
            <a:ext cx="44658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本学期活动安排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593360" y="4292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英语书法比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908000" y="2852640"/>
            <a:ext cx="55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joy studying here !!!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619280" y="620640"/>
            <a:ext cx="532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elf-Introduction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1484280"/>
            <a:ext cx="3313080" cy="93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06920" y="1700280"/>
            <a:ext cx="2009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自我介绍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" y="2708280"/>
            <a:ext cx="88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o be your English teacher is my pleas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68360" y="3573360"/>
            <a:ext cx="52102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ve English, love me!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4000" y="4724280"/>
            <a:ext cx="448956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ve me, love English!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87280" y="620640"/>
            <a:ext cx="655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Have a try</a:t>
            </a:r>
            <a:endParaRPr b="1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1119600" y="2205000"/>
            <a:ext cx="731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Introduce yourself in Englis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or write an English senten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on the blackbo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479736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hat is your English Na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4508640"/>
            <a:ext cx="82224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63640" y="1052640"/>
            <a:ext cx="5832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Knowing English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686520" y="2349360"/>
            <a:ext cx="797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you study Englis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you learn it w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1052640"/>
            <a:ext cx="3745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hardworking</a:t>
            </a:r>
            <a:endParaRPr b="1" lang="en-US" sz="1800" spc="1" strike="noStrike">
              <a:ln w="381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76720" y="2708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rave</a:t>
            </a:r>
            <a:endParaRPr b="1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47640" y="4221000"/>
            <a:ext cx="383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elf-confident</a:t>
            </a:r>
            <a:endParaRPr b="1" lang="en-US" sz="1800" spc="1" strike="noStrike">
              <a:ln w="38160">
                <a:solidFill>
                  <a:srgbClr val="0066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35640" y="5516640"/>
            <a:ext cx="345744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ood habit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42920" y="1413000"/>
            <a:ext cx="705816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初中与小学英语学习的区别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4360" y="4005360"/>
            <a:ext cx="77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elieve yourself you can do it .</a:t>
            </a:r>
            <a:endParaRPr b="1" lang="en-US" sz="1800" spc="1" strike="noStrike">
              <a:ln w="38160">
                <a:solidFill>
                  <a:srgbClr val="0066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989000"/>
            <a:ext cx="914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Nothing is difficult if you are brave or careful enough.</a:t>
            </a:r>
            <a:endParaRPr b="1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0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懂老师用英语教学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敢用英语进行会话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口标准的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。每天坚持清晰大声快速地读英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多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语书籍和杂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手漂亮的英语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9280" y="333360"/>
            <a:ext cx="56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初一英语要达到的水平：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978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预习要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借用字典或资料，认识生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要标注新、难单词音标和中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思，并会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认真完成预习任务，并记录预习过程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遇到的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484360" y="189000"/>
            <a:ext cx="439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英语学习要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948120"/>
            <a:ext cx="9144000" cy="2288520"/>
          </a:xfrm>
          <a:prstGeom prst="rect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课前要求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准备好英语课堂学习用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提前准备好课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钟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跟着科代表大声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学唱英文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7:07:33Z</dcterms:created>
  <dc:creator>YlmF</dc:creator>
  <dc:description/>
  <dc:language>en-US</dc:language>
  <cp:lastModifiedBy>USER</cp:lastModifiedBy>
  <dcterms:modified xsi:type="dcterms:W3CDTF">2012-09-11T02:43:01Z</dcterms:modified>
  <cp:revision>34</cp:revision>
  <dc:subject/>
  <dc:title>幻灯片 1</dc:title>
</cp:coreProperties>
</file>