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B6AF-FBA8-4503-ABAD-9C1B0793F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61CA-C063-44F4-AEEC-A558C842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CD9F-AD94-4FEA-80A3-CF8A420B4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6EAB-437B-487E-B5E9-288FC3F6A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66B9-E6E6-46E9-ADF0-6D12E1F0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6F5F-237F-413C-B8E7-1DCE340A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0FC4-2285-48E3-B7A5-2C6BD69D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D757-693F-46B8-8BC7-9BE996B9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D6F4-75C6-49BD-8D63-28EAF396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0D21-45C3-4D71-9203-7C50517F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F09F-3246-4D39-AB48-9EC483C7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34AA-5100-49FC-B9F1-CDC2DD1D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B995-D5DB-4403-8D0C-D808698A00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aike.baidu.com/view/24126.htm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WordArt 2" descr=""/>
          <p:cNvPicPr/>
          <p:nvPr/>
        </p:nvPicPr>
        <p:blipFill>
          <a:blip r:embed="rId1"/>
          <a:stretch/>
        </p:blipFill>
        <p:spPr>
          <a:xfrm>
            <a:off x="3127320" y="3949560"/>
            <a:ext cx="3597480" cy="738360"/>
          </a:xfrm>
          <a:prstGeom prst="rect">
            <a:avLst/>
          </a:prstGeom>
          <a:ln w="0">
            <a:noFill/>
          </a:ln>
        </p:spPr>
      </p:pic>
      <p:sp>
        <p:nvSpPr>
          <p:cNvPr id="82" name="WordArt 2"/>
          <p:cNvSpPr txBox="1"/>
          <p:nvPr/>
        </p:nvSpPr>
        <p:spPr>
          <a:xfrm>
            <a:off x="1143000" y="1981080"/>
            <a:ext cx="70866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劳动最光荣</a:t>
            </a:r>
            <a:endParaRPr b="0" lang="en-US" sz="72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692280" y="4910040"/>
            <a:ext cx="7696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                         </a:t>
            </a:r>
            <a:r>
              <a:rPr b="0" lang="zh-CN" sz="3600" spc="-1" strike="noStrike">
                <a:solidFill>
                  <a:srgbClr val="0070c0"/>
                </a:solidFill>
                <a:latin typeface="Arial"/>
              </a:rPr>
              <a:t>东坡下载站编辑整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内容占位符 3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077320" cy="57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内容占位符 3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57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内容占位符 3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924680" cy="56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内容占位符 3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0100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内容占位符 3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30556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内容占位符 3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2296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内容占位符 3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内容占位符 3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7696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内容占位符 3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57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内容占位符 3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848720" cy="54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五一劳动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亦称“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五一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在每年的五月一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是全世界无产队级、劳动人民的共同节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小学生也要热爱劳动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内容占位符 3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5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内容占位符 3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9246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内容占位符 3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924680" cy="560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2743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谢谢老师和各位同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038480" y="137160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巴山蜀水多英雄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思德本是苦寒衣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革命事业无贵贱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伐薪烧炭一心红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虽言安邦赖股肱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平凡岗位亦建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石峡峪里埋忠骨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领袖名篇传域中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20081124115324367_2"/>
          <p:cNvPicPr/>
          <p:nvPr/>
        </p:nvPicPr>
        <p:blipFill>
          <a:blip r:embed="rId1"/>
          <a:stretch/>
        </p:blipFill>
        <p:spPr>
          <a:xfrm>
            <a:off x="685800" y="609480"/>
            <a:ext cx="3657600" cy="52578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190760" y="274680"/>
            <a:ext cx="38862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劳模张思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Photo"/>
          <p:cNvPicPr/>
          <p:nvPr/>
        </p:nvPicPr>
        <p:blipFill>
          <a:blip r:embed="rId1"/>
          <a:stretch/>
        </p:blipFill>
        <p:spPr>
          <a:xfrm>
            <a:off x="609480" y="1146240"/>
            <a:ext cx="3581640" cy="48006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生活中处处有劳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1056393642_1141813220"/>
          <p:cNvPicPr/>
          <p:nvPr/>
        </p:nvPicPr>
        <p:blipFill>
          <a:blip r:embed="rId2"/>
          <a:stretch/>
        </p:blipFill>
        <p:spPr>
          <a:xfrm>
            <a:off x="4724280" y="1222200"/>
            <a:ext cx="3810240" cy="46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2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内容占位符 3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00100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内容占位符 3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内容占位符 5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内容占位符 3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535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Sky123.Org</cp:lastModifiedBy>
  <dcterms:modified xsi:type="dcterms:W3CDTF">2015-04-20T01:11:50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  <property fmtid="{D5CDD505-2E9C-101B-9397-08002B2CF9AE}" pid="3" name="Version">
    <vt:r8>1</vt:r8>
  </property>
</Properties>
</file>