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040" y="2724120"/>
            <a:ext cx="32763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Name of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resentation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247320" y="3943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Company name</a:t>
            </a:r>
            <a:endParaRPr b="0" lang="en-US" sz="23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394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Slide master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3:10:00Z</dcterms:created>
  <dc:creator>微软用户</dc:creator>
  <dc:description/>
  <cp:keywords/>
  <dc:language>en-US</dc:language>
  <cp:lastModifiedBy>Administrator</cp:lastModifiedBy>
  <cp:lastPrinted>1899-12-30T00:00:00Z</cp:lastPrinted>
  <dcterms:modified xsi:type="dcterms:W3CDTF">2015-06-07T02:41:29Z</dcterms:modified>
  <cp:revision>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