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jpeg" ContentType="image/jpeg"/>
  <Override PartName="/ppt/media/image21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22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2.png" ContentType="image/png"/>
  <Override PartName="/ppt/media/image9.png" ContentType="image/png"/>
  <Override PartName="/ppt/media/image44.jpeg" ContentType="image/jpeg"/>
  <Override PartName="/ppt/media/image30.gif" ContentType="image/gif"/>
  <Override PartName="/ppt/media/image8.png" ContentType="image/png"/>
  <Override PartName="/ppt/media/image14.jpeg" ContentType="image/jpeg"/>
  <Override PartName="/ppt/media/image28.gif" ContentType="image/gif"/>
  <Override PartName="/ppt/media/image37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31.jpeg" ContentType="image/jpeg"/>
  <Override PartName="/ppt/media/image39.wmf" ContentType="image/x-wmf"/>
  <Override PartName="/ppt/media/image41.png" ContentType="image/png"/>
  <Override PartName="/ppt/media/image40.png" ContentType="image/png"/>
  <Override PartName="/ppt/media/image45.jpeg" ContentType="image/jpeg"/>
  <Override PartName="/ppt/media/image38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5.png" ContentType="image/png"/>
  <Override PartName="/ppt/media/image43.jpeg" ContentType="image/jpeg"/>
  <Override PartName="/ppt/media/image33.jpeg" ContentType="image/jpeg"/>
  <Override PartName="/ppt/media/image4.gif" ContentType="image/gif"/>
  <Override PartName="/ppt/media/image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081-77E7-45B0-B343-E77C184B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5456-231D-4150-B530-4327A782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E6F8-3905-4950-B581-CB1E0EE9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8F9-0CF1-4B7A-B73F-6A23E415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B501-F62D-4C5E-835C-90646A2B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C164-1766-456F-ADDB-7CA9BFF1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E631-0683-46EB-924A-C53316F8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F9A7-9C00-4A1F-8DDE-162BDCF9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F106-A170-4637-B95B-8BF63F33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3434-672A-4BA8-82E7-9D81A8B1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7A6D-306C-4FC1-8FA3-59E2EC67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5E6-670B-4940-9833-00549CAC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C2E0-9A92-454F-B395-FB41E669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D391-E207-4A17-AAF6-1C4092BE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133B-DB2F-4B0E-A73B-A6F263D0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4A02-4117-43F7-88FC-7DAF4218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0A78-32A3-4B55-A779-98DB9FCA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EA70D-9132-458B-9E17-173460FC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A09C2-A893-47C0-8438-34F2F4CD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79C2B-C9D3-45A0-A14D-1F523F6B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26617-82AC-44AE-B050-4C27D351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4C9E7-69AE-48BC-A567-104F958B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738-B59D-414F-ABC8-9C547057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D9346-3F3E-45DB-95B2-EE25B666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CC600-5F07-4A16-89D3-88F247B3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A29FC-B7D0-49FD-AF72-AE460322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095C1-B9DC-489D-9AF4-208C599A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47D2D-A59C-4711-A93A-2BEFC187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A4D3A-2450-44B0-A985-3D3DE534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A44C2-E62B-431B-A2B4-8CEE8C1C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2733-553A-4DD1-9496-25AA5A82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FBC-92BE-4813-A1B1-7294703A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21C-6502-49A4-A281-4942EEA5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E0A-23EB-40B7-8FB2-68FBC842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A7A-9608-45B1-9809-13DCF9EC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5D9-D365-4DDB-B76F-B3F042DF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4483-8BE3-4AD9-9A8B-6A0121D221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9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D7C1-B5BE-418B-91F9-CDCB1C782EDD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4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45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200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205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FAC1-DCD8-44CB-83BC-D78D0822294D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8.png"/><Relationship Id="rId4" Type="http://schemas.openxmlformats.org/officeDocument/2006/relationships/slide" Target="slide10.xml"/><Relationship Id="rId5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jpeg"/><Relationship Id="rId3" Type="http://schemas.openxmlformats.org/officeDocument/2006/relationships/slide" Target="slide23.xml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4.pn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4.pn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2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" Target="slide3.xm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" Target="slide3.xm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340000" y="3429000"/>
            <a:ext cx="43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金秋，门已打开！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187280" y="5300640"/>
            <a:ext cx="705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进入高中，你准备好了没有？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900000" y="3079080"/>
            <a:ext cx="7489800" cy="642600"/>
          </a:xfrm>
          <a:prstGeom prst="rect">
            <a:avLst/>
          </a:prstGeom>
          <a:solidFill>
            <a:srgbClr val="ffff99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语文的魅力在于读和写。当你静下心来，烹一壶清茶，煮一杯咖啡，放一曲悠扬的音乐，打开书卷，书中世界，洋洋大观，尽收眼底，可观宇宙之大，可察品类之盛，可神交于古人，可觅知音于今人，岂不雅哉？岂不乐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116000" y="1805760"/>
            <a:ext cx="7153200" cy="3385800"/>
          </a:xfrm>
          <a:prstGeom prst="rect">
            <a:avLst/>
          </a:prstGeom>
          <a:solidFill>
            <a:srgbClr val="ffff99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可以畅叙幽情，写可以净化心灵，升华理想，写可以感化同类，启迪世人，写可以展露才华，获得知音，写甚至可以写出百世之典范：“盖文章，经国之大业，不朽之盛事”，当自己的文章能为老百姓做点什么的时候，这就是“不朽之盛事”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484360" y="2852640"/>
            <a:ext cx="261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50920" y="1073160"/>
            <a:ext cx="6761160" cy="2139840"/>
            <a:chOff x="250920" y="1073160"/>
            <a:chExt cx="6761160" cy="2139840"/>
          </a:xfrm>
        </p:grpSpPr>
        <p:pic>
          <p:nvPicPr>
            <p:cNvPr id="310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50920" y="1073160"/>
              <a:ext cx="676116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82560" y="1436760"/>
              <a:ext cx="590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00"/>
                  </a:solidFill>
                  <a:latin typeface="Arial"/>
                  <a:ea typeface="方正舒体"/>
                </a:rPr>
                <a:t>丰富生命内蕴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635280" y="6206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我读小说是为了使自己更悲观。我不想变成畜生， 很大程度上要靠优美小说保护我的人性， 使我在衣食无忧一帆风顺中也有机会心情黯淡、绝望、眼泪汪汪。 一想起自己就觉得比别人善良、敏感、多情以及深沉。 这就是我的阅读趣味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613240" cy="340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6012000" y="3573360"/>
            <a:ext cx="2582640" cy="28400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0" y="404640"/>
            <a:ext cx="5924520" cy="647640"/>
            <a:chOff x="0" y="404640"/>
            <a:chExt cx="5924520" cy="647640"/>
          </a:xfrm>
        </p:grpSpPr>
        <p:pic>
          <p:nvPicPr>
            <p:cNvPr id="317" name="" descr=""/>
            <p:cNvPicPr/>
            <p:nvPr/>
          </p:nvPicPr>
          <p:blipFill>
            <a:blip r:embed="rId3"/>
            <a:stretch/>
          </p:blipFill>
          <p:spPr>
            <a:xfrm>
              <a:off x="0" y="404640"/>
              <a:ext cx="56721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>
              <a:hlinkClick r:id="rId4" action="ppaction://hlinksldjump"/>
            </p:cNvPr>
            <p:cNvSpPr/>
            <p:nvPr/>
          </p:nvSpPr>
          <p:spPr>
            <a:xfrm>
              <a:off x="395280" y="477720"/>
              <a:ext cx="552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你表达了自己，你才获得生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050920" y="1989000"/>
            <a:ext cx="4176720" cy="2520720"/>
            <a:chOff x="2050920" y="1989000"/>
            <a:chExt cx="4176720" cy="2520720"/>
          </a:xfrm>
        </p:grpSpPr>
        <p:sp>
          <p:nvSpPr>
            <p:cNvPr id="320" name=""/>
            <p:cNvSpPr/>
            <p:nvPr/>
          </p:nvSpPr>
          <p:spPr>
            <a:xfrm>
              <a:off x="2050920" y="1989000"/>
              <a:ext cx="4176720" cy="2520720"/>
            </a:xfrm>
            <a:prstGeom prst="cloudCallout">
              <a:avLst>
                <a:gd name="adj1" fmla="val 50152"/>
                <a:gd name="adj2" fmla="val 75662"/>
              </a:avLst>
            </a:prstGeom>
            <a:solidFill>
              <a:srgbClr val="cc99ff">
                <a:alpha val="62000"/>
              </a:srgbClr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97080" y="2563920"/>
              <a:ext cx="200952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b7c1e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  <a:ea typeface="方正舒体"/>
                </a:rPr>
                <a:t>表达自我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3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3059280" y="-334800"/>
            <a:ext cx="5689440" cy="5411520"/>
            <a:chOff x="3059280" y="-334800"/>
            <a:chExt cx="5689440" cy="5411520"/>
          </a:xfrm>
        </p:grpSpPr>
        <p:sp>
          <p:nvSpPr>
            <p:cNvPr id="326" name=""/>
            <p:cNvSpPr/>
            <p:nvPr/>
          </p:nvSpPr>
          <p:spPr>
            <a:xfrm>
              <a:off x="3059280" y="765000"/>
              <a:ext cx="5689440" cy="28083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79680" y="836640"/>
              <a:ext cx="2313360" cy="32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春日宴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绿酒一杯歌一遍，再拜陈三愿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愿郎君千岁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二愿妾身长健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三愿如同梁上燕，岁岁长相见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94880" y="-334800"/>
              <a:ext cx="1277640" cy="541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长命女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·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春日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                  </a:t>
              </a:r>
              <a:r>
                <a:rPr b="1" lang="zh-CN" sz="2000" spc="-1" strike="noStrike">
                  <a:solidFill>
                    <a:srgbClr val="40458c"/>
                  </a:solidFill>
                  <a:latin typeface="Arial"/>
                  <a:ea typeface="楷体_GB2312"/>
                </a:rPr>
                <a:t>冯延巳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755640" y="143640"/>
            <a:ext cx="3600360" cy="5070240"/>
            <a:chOff x="755640" y="143640"/>
            <a:chExt cx="3600360" cy="5070240"/>
          </a:xfrm>
        </p:grpSpPr>
        <p:sp>
          <p:nvSpPr>
            <p:cNvPr id="333" name=""/>
            <p:cNvSpPr/>
            <p:nvPr/>
          </p:nvSpPr>
          <p:spPr>
            <a:xfrm>
              <a:off x="755640" y="260280"/>
              <a:ext cx="3600360" cy="4392720"/>
            </a:xfrm>
            <a:prstGeom prst="verticalScrol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55200" y="143640"/>
              <a:ext cx="2008800" cy="50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门对青山摇钱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户迎绿水聚宝盆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600200" y="1752480"/>
            <a:ext cx="46483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热爱语文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692360" y="3500280"/>
            <a:ext cx="5943600" cy="14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学好语文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3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570560" y="4782960"/>
            <a:ext cx="4465440" cy="19591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2852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6804000" y="1341360"/>
            <a:ext cx="165564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学海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867280" y="2205000"/>
            <a:ext cx="1511280" cy="6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无涯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34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-108000" y="571500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684360" y="3078000"/>
            <a:ext cx="4895640" cy="20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舒体"/>
              </a:rPr>
              <a:t>何作舟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95280" y="260280"/>
            <a:ext cx="8070840" cy="3114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1619280" y="2060640"/>
            <a:ext cx="5761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语文的魅力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55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468360" y="5950080"/>
            <a:ext cx="8286840" cy="311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611280" y="692280"/>
            <a:ext cx="360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开学第一课：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1595520" y="4287960"/>
            <a:ext cx="1280880" cy="13096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173240" y="3828960"/>
            <a:ext cx="1282680" cy="13096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 rot="5400000">
            <a:off x="342360" y="133344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幼圆"/>
              </a:rPr>
              <a:t>兴趣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幼圆"/>
              <a:ea typeface="幼圆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2916360" y="765000"/>
            <a:ext cx="5451480" cy="6573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595520" y="4287960"/>
            <a:ext cx="1280880" cy="13096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Rectangle: Click to edit Master text styles&#13;&#10;Second level&#13;&#10;Third level&#13;&#10;Fourth level&#13;&#10;Fifth level"/>
          <p:cNvPicPr/>
          <p:nvPr/>
        </p:nvPicPr>
        <p:blipFill>
          <a:blip r:embed="rId4"/>
          <a:stretch/>
        </p:blipFill>
        <p:spPr>
          <a:xfrm>
            <a:off x="1173240" y="3828960"/>
            <a:ext cx="1282680" cy="13096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 rot="5400000">
            <a:off x="342360" y="133344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幼圆"/>
              </a:rPr>
              <a:t>方法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352" name=""/>
          <p:cNvSpPr/>
          <p:nvPr/>
        </p:nvSpPr>
        <p:spPr>
          <a:xfrm>
            <a:off x="3181320" y="2162160"/>
            <a:ext cx="547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积累（背、默、抄、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81320" y="3075120"/>
            <a:ext cx="5962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顿悟（悟性、思考、灵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81320" y="3867120"/>
            <a:ext cx="5635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创造（写作、读书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-900000" y="-677880"/>
            <a:ext cx="10045440" cy="75358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1595520" y="4287960"/>
            <a:ext cx="1280880" cy="13096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173240" y="3828960"/>
            <a:ext cx="1282680" cy="13096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 rot="5400000">
            <a:off x="342360" y="133344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幼圆"/>
              </a:rPr>
              <a:t>习惯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幼圆"/>
              <a:ea typeface="幼圆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2050920" y="1773360"/>
            <a:ext cx="5451480" cy="657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595520" y="4287960"/>
            <a:ext cx="1280880" cy="13096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Rectangle: Click to edit Master text styles&#13;&#10;Second level&#13;&#10;Third level&#13;&#10;Fourth level&#13;&#10;Fifth level"/>
          <p:cNvPicPr/>
          <p:nvPr/>
        </p:nvPicPr>
        <p:blipFill>
          <a:blip r:embed="rId4"/>
          <a:stretch/>
        </p:blipFill>
        <p:spPr>
          <a:xfrm>
            <a:off x="1173240" y="3828960"/>
            <a:ext cx="1282680" cy="13096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 rot="5400000">
            <a:off x="342360" y="133344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幼圆"/>
              </a:rPr>
              <a:t>坚持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幼圆"/>
              <a:ea typeface="幼圆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0200" cy="69372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2340000" y="404640"/>
            <a:ext cx="5451480" cy="657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595520" y="4287960"/>
            <a:ext cx="1280880" cy="13096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Rectangle: Click to edit Master text styles&#13;&#10;Second level&#13;&#10;Third level&#13;&#10;Fourth level&#13;&#10;Fifth level"/>
          <p:cNvPicPr/>
          <p:nvPr/>
        </p:nvPicPr>
        <p:blipFill>
          <a:blip r:embed="rId4"/>
          <a:stretch/>
        </p:blipFill>
        <p:spPr>
          <a:xfrm>
            <a:off x="1173240" y="3828960"/>
            <a:ext cx="1282680" cy="13096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 rot="5400000">
            <a:off x="342360" y="133344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幼圆"/>
              </a:rPr>
              <a:t>信心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幼圆"/>
              <a:ea typeface="幼圆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96440" cy="71150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034440" y="312408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40458c"/>
                </a:solidFill>
                <a:latin typeface="Times New Roman"/>
                <a:ea typeface="华文行楷"/>
              </a:rPr>
              <a:t>学会积累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3352680" cy="292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482560" y="380880"/>
            <a:ext cx="405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40458c"/>
                </a:solidFill>
                <a:latin typeface="Times New Roman"/>
                <a:ea typeface="华文行楷"/>
              </a:rPr>
              <a:t>学 会 欣 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0" y="0"/>
          <a:ext cx="9144000" cy="68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5029200" y="152388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24240" y="327960"/>
            <a:ext cx="164340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40458c"/>
                </a:solidFill>
                <a:latin typeface="Times New Roman"/>
                <a:ea typeface="华文行楷"/>
              </a:rPr>
              <a:t>学会写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492360" y="3716280"/>
            <a:ext cx="53755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40458c"/>
                </a:solidFill>
                <a:latin typeface="Times New Roman"/>
                <a:ea typeface="华文行楷"/>
              </a:rPr>
              <a:t> </a:t>
            </a:r>
            <a:r>
              <a:rPr b="0" lang="zh-CN" sz="10600" spc="-1" strike="noStrike">
                <a:solidFill>
                  <a:srgbClr val="9933ff"/>
                </a:solidFill>
                <a:latin typeface="Times New Roman"/>
                <a:ea typeface="华文行楷"/>
              </a:rPr>
              <a:t>规 范 字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355920" cy="44193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00720" y="1700280"/>
            <a:ext cx="2879640" cy="13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书写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119700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现代汉语词典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古汉语常用字字典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90720" y="304920"/>
            <a:ext cx="53337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必备工具书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383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4861080" y="5138640"/>
            <a:ext cx="3714480" cy="58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24000" y="327600"/>
            <a:ext cx="8712000" cy="18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　　语文学科的魅力在于语音的抑扬顿挫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文字的象形意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词语的丰富多彩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话语的妙趣横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06920" y="1697040"/>
            <a:ext cx="5689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－－朱学坤《语文的魅力 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48067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42764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411280" y="981000"/>
            <a:ext cx="6337440" cy="5256360"/>
          </a:xfrm>
          <a:prstGeom prst="parallelogram">
            <a:avLst>
              <a:gd name="adj" fmla="val 30142"/>
            </a:avLst>
          </a:prstGeom>
          <a:solidFill>
            <a:srgbClr val="666699"/>
          </a:solidFill>
          <a:ln w="12600">
            <a:solidFill>
              <a:srgbClr val="333399"/>
            </a:solidFill>
            <a:miter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389480" y="1773360"/>
            <a:ext cx="2009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Arial"/>
              </a:rPr>
              <a:t>一个年轻的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Arial"/>
              </a:rPr>
              <a:t>一股蕴藏的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Arial"/>
              </a:rPr>
              <a:t>一坛原封的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Arial"/>
              </a:rPr>
              <a:t>一个未完成的理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Arial"/>
              </a:rPr>
              <a:t>一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Arial"/>
              </a:rPr>
              <a:t>正待燃烧的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0099ff"/>
                </a:solidFill>
                <a:latin typeface="Tahoma"/>
                <a:ea typeface="华文行楷"/>
              </a:rPr>
              <a:t>蕾</a:t>
            </a:r>
            <a:endParaRPr b="0" lang="en-US" sz="15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-108000" y="2708280"/>
            <a:ext cx="385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ff"/>
                </a:solidFill>
                <a:latin typeface="Arial"/>
              </a:rPr>
              <a:t>一个年轻的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ff"/>
                </a:solidFill>
                <a:latin typeface="Arial"/>
              </a:rPr>
              <a:t>一股蕴藏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ff"/>
                </a:solidFill>
                <a:latin typeface="Arial"/>
              </a:rPr>
              <a:t>一坛原封的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ff"/>
                </a:solidFill>
                <a:latin typeface="Arial"/>
              </a:rPr>
              <a:t>一个未完成的理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ff"/>
                </a:solidFill>
                <a:latin typeface="Arial"/>
              </a:rPr>
              <a:t>一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ff"/>
                </a:solidFill>
                <a:latin typeface="Arial"/>
              </a:rPr>
              <a:t>正待燃烧的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55280" y="2127240"/>
            <a:ext cx="729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邹荻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-1800360" y="2725560"/>
            <a:ext cx="5508720" cy="4132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619280" y="404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季姬寂，集鸡，鸡即棘鸡。棘鸡饥叽，季姬及箕稷济鸡。鸡既济，跻姬笈，季姬忌，急咭鸡，鸡急，继圾几，季姬急，即籍箕击鸡，箕疾击几 伎，伎即齑，鸡叽集几基，季姬急极屐击鸡，鸡既殛，季姬激，即记《季姬击鸡记》。（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78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35280" y="2708280"/>
            <a:ext cx="51134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季姬感到寂寞，罗集了一些鸡来养，是那种出自荆棘丛中的野鸡。野鸡饿了叫叽叽，季姬就拿竹箕中的小米喂它们。鸡吃饱了，跳到季姬的书箱上，季姬怕脏，忙叱赶鸡，鸡吓急了，就接着跳到几桌上，季姬更着急了，就借竹箕为赶鸡的工具，投击野鸡，竹箕得投速很快，却打中了几桌上的陶伎俑，那陶伎俑掉到地下，竟粉碎了。季姬眼一瞧，鸡躲在几桌下乱叫，季姬一怒之下，脱下木屐鞋来打鸡，把鸡打死了。想着养鸡的经过，季姬激动起来，就写了这篇《 季 姬 击 鸡 记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39640" y="189000"/>
            <a:ext cx="1019160" cy="2232000"/>
            <a:chOff x="539640" y="189000"/>
            <a:chExt cx="1019160" cy="2232000"/>
          </a:xfrm>
        </p:grpSpPr>
        <p:pic>
          <p:nvPicPr>
            <p:cNvPr id="264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39640" y="18900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39640" y="18900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音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755640" y="189000"/>
            <a:ext cx="1019160" cy="2232000"/>
            <a:chOff x="755640" y="189000"/>
            <a:chExt cx="1019160" cy="2232000"/>
          </a:xfrm>
        </p:grpSpPr>
        <p:pic>
          <p:nvPicPr>
            <p:cNvPr id="267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55640" y="18900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55640" y="18900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字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 txBox="1"/>
          <p:nvPr/>
        </p:nvSpPr>
        <p:spPr>
          <a:xfrm rot="5400000">
            <a:off x="4747680" y="2238120"/>
            <a:ext cx="4255920" cy="115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黑体"/>
              </a:rPr>
              <a:t>屡战屡败的曾国藩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4716360" y="5157720"/>
            <a:ext cx="3934080" cy="6476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1579680" y="380880"/>
            <a:ext cx="4000320" cy="581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885080" y="-9360"/>
            <a:ext cx="2068560" cy="68673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851280" y="0"/>
            <a:ext cx="4633920" cy="685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2050920" y="0"/>
            <a:ext cx="2068560" cy="6867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826920" y="0"/>
            <a:ext cx="2068560" cy="6867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179280" y="-9360"/>
            <a:ext cx="2068560" cy="68673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007000" y="28681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愁断肝肠无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04200" y="64944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天长夜短门半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3840" y="2868120"/>
            <a:ext cx="66780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小姐等到月斜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67600" y="64944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山高路远没口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55640" y="189000"/>
            <a:ext cx="1019160" cy="2232000"/>
            <a:chOff x="755640" y="189000"/>
            <a:chExt cx="1019160" cy="2232000"/>
          </a:xfrm>
        </p:grpSpPr>
        <p:pic>
          <p:nvPicPr>
            <p:cNvPr id="28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55640" y="18900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55640" y="18900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字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秦观的回环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03280" y="2043720"/>
            <a:ext cx="5904000" cy="350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bcbc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暮    赏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　　     花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时　  　　　　归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醒　　  　　　　　去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微　　　　　　马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力　  　　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酒   飞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08000" y="3718080"/>
            <a:ext cx="3024000" cy="302400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755640" y="189000"/>
            <a:ext cx="1019160" cy="2232000"/>
            <a:chOff x="755640" y="189000"/>
            <a:chExt cx="1019160" cy="2232000"/>
          </a:xfrm>
        </p:grpSpPr>
        <p:pic>
          <p:nvPicPr>
            <p:cNvPr id="290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55640" y="18900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755640" y="18900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9999"/>
                  </a:solidFill>
                  <a:latin typeface="Arial"/>
                  <a:ea typeface="楷体_GB2312"/>
                </a:rPr>
                <a:t>句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3708360" y="1341360"/>
            <a:ext cx="3044880" cy="309564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3203640" y="907920"/>
            <a:ext cx="4465440" cy="4022640"/>
            <a:chOff x="3203640" y="907920"/>
            <a:chExt cx="4465440" cy="4022640"/>
          </a:xfrm>
        </p:grpSpPr>
        <p:sp>
          <p:nvSpPr>
            <p:cNvPr id="294" name=""/>
            <p:cNvSpPr/>
            <p:nvPr/>
          </p:nvSpPr>
          <p:spPr>
            <a:xfrm>
              <a:off x="3203640" y="907920"/>
              <a:ext cx="4465440" cy="402264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11640" y="1484280"/>
              <a:ext cx="2793600" cy="33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可以清心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以清心也可</a:t>
              </a:r>
              <a:br>
                <a:rPr sz="3600"/>
              </a:b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清心也可以</a:t>
              </a:r>
              <a:br>
                <a:rPr sz="3600"/>
              </a:b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心也可以清</a:t>
              </a:r>
              <a:br>
                <a:rPr sz="3600"/>
              </a:b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也可以清心</a:t>
              </a: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140360" y="1197000"/>
            <a:ext cx="3657600" cy="4919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-304920" y="2859120"/>
            <a:ext cx="5651640" cy="399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4479840" y="333360"/>
          <a:ext cx="3187800" cy="652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9840" y="333360"/>
                    <a:ext cx="318780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0" name=""/>
          <p:cNvGrpSpPr/>
          <p:nvPr/>
        </p:nvGrpSpPr>
        <p:grpSpPr>
          <a:xfrm>
            <a:off x="755640" y="189000"/>
            <a:ext cx="1019160" cy="2232000"/>
            <a:chOff x="755640" y="189000"/>
            <a:chExt cx="1019160" cy="2232000"/>
          </a:xfrm>
        </p:grpSpPr>
        <p:pic>
          <p:nvPicPr>
            <p:cNvPr id="301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55640" y="189000"/>
              <a:ext cx="64764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755640" y="189000"/>
              <a:ext cx="10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篇趣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45:30Z</dcterms:created>
  <dc:creator>xzmgq</dc:creator>
  <dc:description/>
  <dc:language>en-US</dc:language>
  <cp:lastModifiedBy>未知用户</cp:lastModifiedBy>
  <dcterms:modified xsi:type="dcterms:W3CDTF">2010-08-28T05:37:25Z</dcterms:modified>
  <cp:revision>76</cp:revision>
  <dc:subject/>
  <dc:title>萌</dc:title>
</cp:coreProperties>
</file>