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23.png" ContentType="image/png"/>
  <Override PartName="/ppt/media/image6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21.gif" ContentType="image/gif"/>
  <Override PartName="/ppt/media/image1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0E05-4D48-4C7F-B8B1-35C62446B9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4BE57-CE43-4370-BD1B-2454FA43E1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5E476-0DF8-4FA4-B079-15A2E0ACB4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279-59B0-45D7-869E-1DCB39B4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A4A-D2B9-4EAD-B473-A56CB218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432-DAAF-41E5-A604-E9A3AA8C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844-3FB8-4EE1-AE78-11CB31A6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1651B-2FFE-4022-B6BE-834665E6B7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832F2-BE7F-4345-81E0-1B4F4E6C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A49AF-2590-4396-A39E-6B8075D9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2FFDB-C45F-42EC-9614-73224416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F4E08-E316-4422-B2F4-317B8BC9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FC43E-0432-4DEA-8756-0D08F3C0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7DBB3-204D-4FB9-87E8-49147778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9B3-33D8-455A-A298-AA94B410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4EA94-A485-4988-BE9A-A779A96D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1FD29-BC43-42EA-818A-EA129CC7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CC826-6F8F-4020-888C-62A9B676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6A799-FC84-44FA-A501-DA2684FF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16D71-B687-438C-9E63-CB6F3F2FB6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631-FD8D-4BE4-96DF-ED400B9D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3B8-6F3E-49C8-9526-FDB9AA48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3F7-5751-4EBA-B23F-310B1DC7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3E0-5480-48B4-B5FE-8AA636D0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791-A6EA-45C6-B17D-35933594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D69-5496-4A8E-807E-FB1DAD2A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346-73ED-4FD3-947E-3F0BC1B8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8EC4-46AE-42CB-9168-F5ABEC506C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A567-F4A9-4BD8-B61C-9F11D7718642}" type="slidenum">
              <a:rPr b="0" lang="zh-CN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49" name="Group 9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50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Text Box 11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53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Text Box 14"/>
              <p:cNvSpPr/>
              <p:nvPr/>
            </p:nvSpPr>
            <p:spPr>
              <a:xfrm rot="21420000">
                <a:off x="-18720" y="52272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1.gif"/><Relationship Id="rId4" Type="http://schemas.openxmlformats.org/officeDocument/2006/relationships/slide" Target="slide8.xml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1.gif"/><Relationship Id="rId4" Type="http://schemas.openxmlformats.org/officeDocument/2006/relationships/slide" Target="slide8.xml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1.gif"/><Relationship Id="rId4" Type="http://schemas.openxmlformats.org/officeDocument/2006/relationships/slide" Target="slide8.xml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1.gif"/><Relationship Id="rId4" Type="http://schemas.openxmlformats.org/officeDocument/2006/relationships/slide" Target="slide8.xml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11280" y="1413000"/>
            <a:ext cx="7848360" cy="28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0066ff"/>
                    </a:gs>
                    <a:gs pos="50000">
                      <a:srgbClr val="66ccff"/>
                    </a:gs>
                    <a:gs pos="100000">
                      <a:srgbClr val="0066ff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隶书"/>
              </a:rPr>
              <a:t>读书伴我成长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0066ff"/>
                  </a:gs>
                  <a:gs pos="50000">
                    <a:srgbClr val="66ccff"/>
                  </a:gs>
                  <a:gs pos="100000">
                    <a:srgbClr val="0066ff"/>
                  </a:gs>
                </a:gsLst>
                <a:lin ang="1350000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66ff"/>
                    </a:gs>
                    <a:gs pos="50000">
                      <a:srgbClr val="66ccff"/>
                    </a:gs>
                    <a:gs pos="100000">
                      <a:srgbClr val="0066ff"/>
                    </a:gs>
                  </a:gsLst>
                  <a:lin ang="1350000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隶书"/>
              </a:rPr>
              <a:t>   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0066ff"/>
                  </a:gs>
                  <a:gs pos="50000">
                    <a:srgbClr val="66ccff"/>
                  </a:gs>
                  <a:gs pos="100000">
                    <a:srgbClr val="0066ff"/>
                  </a:gs>
                </a:gsLst>
                <a:lin ang="1350000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227640" y="4653000"/>
            <a:ext cx="16462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427640" y="4869000"/>
            <a:ext cx="4219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——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明德中学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194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班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40360" y="3068640"/>
            <a:ext cx="237348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主题班会</a:t>
            </a:r>
            <a:endParaRPr b="1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2340000" y="333360"/>
            <a:ext cx="4464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新細明體"/>
              </a:rPr>
              <a:t>读书测试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新細明體"/>
              <a:ea typeface="新細明體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PMingLiU"/>
              </a:rPr>
              <a:t>看看你们读书读得怎么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2708280"/>
          <a:ext cx="6096240" cy="2441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 u="sng">
                          <a:solidFill>
                            <a:srgbClr val="ccccff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国外名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 u="sng">
                          <a:solidFill>
                            <a:srgbClr val="ccccff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中国名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 u="sng">
                          <a:solidFill>
                            <a:srgbClr val="ccccff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课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历史故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魔幻小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卡通漫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315200" y="838080"/>
            <a:ext cx="129528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78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5000" spc="-1" strike="noStrike">
                <a:solidFill>
                  <a:srgbClr val="ff6600"/>
                </a:solidFill>
                <a:latin typeface="Calibri"/>
              </a:rPr>
              <a:t>国外名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PMingLiU"/>
              </a:rPr>
              <a:t>这我最了解（画外音：揍你个崇洋媚外的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13372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PMingLiU"/>
              </a:rPr>
              <a:t>１．＜茶花女＞的作者的父亲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大仲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6370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PMingLiU"/>
              </a:rPr>
              <a:t>２．保尔．柯察金的初恋情人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263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冬妮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31417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PMingLiU"/>
              </a:rPr>
              <a:t>３．＜钢铁是怎样炼成的＞的作者是哪国的哪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31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苏联的奥斯洛夫斯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37162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PMingLiU"/>
              </a:rPr>
              <a:t>４．＜童年＞中的阿寥沙的原型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716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作者本人，高尔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42926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PMingLiU"/>
              </a:rPr>
              <a:t>５．莫泊桑文学创作的启蒙导师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88000" y="4292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福楼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010280" y="990720"/>
            <a:ext cx="1295640" cy="102528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返幻灯片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5000" spc="-1" strike="noStrike">
                <a:solidFill>
                  <a:srgbClr val="ff6600"/>
                </a:solidFill>
                <a:latin typeface="Calibri"/>
              </a:rPr>
              <a:t>中国名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844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PMingLiU"/>
              </a:rPr>
              <a:t>是炎黄子孙就全答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2565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PMingLiU"/>
              </a:rPr>
              <a:t>１．＜封神演义＞中的哼哈二将是哪两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19640" y="2565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郑伦，陈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3068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PMingLiU"/>
              </a:rPr>
              <a:t>２．＜水浒传＞中的神火将军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306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魏定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35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PMingLiU"/>
              </a:rPr>
              <a:t>３．“过五关斩六将”斩的第一将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357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孔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407664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PMingLiU"/>
              </a:rPr>
              <a:t>４．托塔天王李靖的三个儿子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407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金吒，木吒，哪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458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PMingLiU"/>
              </a:rPr>
              <a:t>５．姜子牙的坐骑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4581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四不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315200" y="1143000"/>
            <a:ext cx="1295280" cy="10256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4" action="ppaction://hlinksldjump"/>
          </p:cNvPr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返幻灯片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5000" spc="-1" strike="noStrike">
                <a:solidFill>
                  <a:srgbClr val="ff6600"/>
                </a:solidFill>
                <a:latin typeface="Calibri"/>
              </a:rPr>
              <a:t>课文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177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PMingLiU"/>
              </a:rPr>
              <a:t>看你语文课上的怎么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PMingLiU"/>
              </a:rPr>
              <a:t>1.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木兰姓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59280" y="2421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299736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PMingLiU"/>
              </a:rPr>
              <a:t>2.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都德在写以普法战争为背景的两篇小说的时候，世界上有没有德国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3284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没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PMingLiU"/>
              </a:rPr>
              <a:t>3.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《孙权劝学》原文出自哪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378936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《三国志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429264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PMingLiU"/>
              </a:rPr>
              <a:t>4.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闻一多发表过一组爱国诗集，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42926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《七子之歌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479736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PMingLiU"/>
              </a:rPr>
              <a:t>5.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《黄河大合唱》最后一部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47973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《怒吼吧！黄河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553080" y="1219320"/>
            <a:ext cx="1295640" cy="102528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rId4" action="ppaction://hlinksldjump"/>
          </p:cNvPr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返幻灯片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5000" spc="-1" strike="noStrike">
                <a:solidFill>
                  <a:srgbClr val="ff6600"/>
                </a:solidFill>
                <a:latin typeface="Calibri"/>
              </a:rPr>
              <a:t>魔幻小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9162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PMingLiU"/>
              </a:rPr>
              <a:t>以龙的名义，答出这些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270828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PMingLiU"/>
              </a:rPr>
              <a:t>１．＜哈里．波特＞里最好的飞行扫帚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2000" y="2708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火箭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321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PMingLiU"/>
              </a:rPr>
              <a:t>２．＜哈里．波特＞的作者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32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J.K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罗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37162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PMingLiU"/>
              </a:rPr>
              <a:t>３．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希腊神话里的万神之神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59280" y="3716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宙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149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PMingLiU"/>
              </a:rPr>
              <a:t>４．希腊神话里造人偷火的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88000" y="4149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普罗米修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465300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PMingLiU"/>
              </a:rPr>
              <a:t>５．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希腊神话里掌管商业旅行的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赫尔墨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995640" y="1197000"/>
            <a:ext cx="1295640" cy="1025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返幻灯片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5000" spc="-1" strike="noStrike">
                <a:solidFill>
                  <a:srgbClr val="ff6600"/>
                </a:solidFill>
                <a:latin typeface="Calibri"/>
              </a:rPr>
              <a:t>卡通漫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2060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  <a:ea typeface="PMingLiU"/>
              </a:rPr>
              <a:t>１．唐老鸭有一个富的流淌又极端吝啬的叔叔，他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35280" y="234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PMingLiU"/>
              </a:rPr>
              <a:t>史高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2781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  <a:ea typeface="PMingLiU"/>
              </a:rPr>
              <a:t>２．柯南的全名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78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PMingLiU"/>
              </a:rPr>
              <a:t>江户川柯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84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  <a:ea typeface="PMingLiU"/>
              </a:rPr>
              <a:t>３．＜全职猎人＞里的库用的是什么武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3564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PMingLiU"/>
              </a:rPr>
              <a:t>钓鱼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3716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  <a:ea typeface="PMingLiU"/>
              </a:rPr>
              <a:t>４．＜钢之炼金术士＞里的机器人跟主人公是什么关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40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PMingLiU"/>
              </a:rPr>
              <a:t>他的弟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4508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  <a:ea typeface="PMingLiU"/>
              </a:rPr>
              <a:t>５．阿童木的创作者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5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PMingLiU"/>
              </a:rPr>
              <a:t>手琢治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7238880" y="1143000"/>
            <a:ext cx="1295640" cy="102564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返幻灯片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5000" spc="-1" strike="noStrike">
                <a:solidFill>
                  <a:srgbClr val="ff6600"/>
                </a:solidFill>
                <a:latin typeface="Calibri"/>
              </a:rPr>
              <a:t>历史故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844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PMingLiU"/>
              </a:rPr>
              <a:t>中国历史，我最清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1.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司马迁受过什么刑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2590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cc"/>
                </a:solidFill>
                <a:latin typeface="Arial"/>
              </a:rPr>
              <a:t>宫刑，也叫腐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124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2.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《孙子兵法》的作者的原名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12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cc"/>
                </a:solidFill>
                <a:latin typeface="Arial"/>
              </a:rPr>
              <a:t>孙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35053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3.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题扇桥”的名字有何典故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35053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cc"/>
                </a:solidFill>
                <a:latin typeface="Arial"/>
              </a:rPr>
              <a:t>王羲之曾在此桥上为一个老太太题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39625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PMingLiU"/>
              </a:rPr>
              <a:t>4.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从什么时候开始，皇帝开始用年号记年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3962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cc"/>
                </a:solidFill>
                <a:latin typeface="Arial"/>
              </a:rPr>
              <a:t>西汉汉武帝开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553080" y="1447920"/>
            <a:ext cx="1295640" cy="1025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4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24000" y="1413000"/>
            <a:ext cx="31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さような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15116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5229360"/>
            <a:ext cx="2057400" cy="1419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1700280"/>
            <a:ext cx="77756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读书破万卷，下笔如有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杜   甫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立身以立学为先，立学以读书为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欧阳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读万卷书，行万里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刘    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58760" y="825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7628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Arial"/>
                <a:ea typeface="楷体"/>
              </a:rPr>
              <a:t>读书格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934320" y="-533520"/>
            <a:ext cx="16858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8893080" cy="5013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81080" y="990720"/>
            <a:ext cx="5472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幼圆"/>
              </a:rPr>
              <a:t>       </a:t>
            </a:r>
            <a:r>
              <a:rPr b="1" lang="zh-CN" sz="2200" spc="-1" strike="noStrike">
                <a:solidFill>
                  <a:srgbClr val="ff33cc"/>
                </a:solidFill>
                <a:latin typeface="Arial"/>
                <a:ea typeface="幼圆"/>
              </a:rPr>
              <a:t>书籍便是这种改造灵魂的工具。人类所需要的，是富有启发性的养料。而阅读，则正是这种养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幼圆"/>
              </a:rPr>
              <a:t>——</a:t>
            </a: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幼圆"/>
              </a:rPr>
              <a:t>雨果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幼圆"/>
              </a:rPr>
              <a:t>       </a:t>
            </a:r>
            <a:r>
              <a:rPr b="1" lang="zh-CN" sz="2200" spc="-1" strike="noStrike">
                <a:solidFill>
                  <a:srgbClr val="ff33cc"/>
                </a:solidFill>
                <a:latin typeface="Arial"/>
                <a:ea typeface="幼圆"/>
              </a:rPr>
              <a:t>有创见的书籍传布在黑暗的时代里，犹如一些太阳光照耀在荒凉的沙漠上，为的是化黑暗为光明。这些书是人类精神史上划时代的作品，人们凭借它们的原则，向种种新的发现迈进。书本是将圣贤豪杰的心照射到我们心里的忠实的镜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幼圆"/>
              </a:rPr>
              <a:t>——</a:t>
            </a: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幼圆"/>
              </a:rPr>
              <a:t>吉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11280" y="5589720"/>
            <a:ext cx="5400720" cy="441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752480" y="5867280"/>
            <a:ext cx="511344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68360" y="0"/>
            <a:ext cx="27432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名人读书轶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1125360"/>
            <a:ext cx="7201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闻一多醉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闻一多读书成瘾，一看就“醉”，就在他结婚的那天，洞房里张灯结彩，热闹非凡。大清早亲朋好友都来登门贺喜，直到迎亲的花轿快到家时，人们还到处找不到新郎。急得大家东寻西找，结果在书房里找到了他。他仍穿着旧袍，手里捧着一本书人了迷。怪不得人家说他不能看书，一看就要“醉”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793800"/>
            <a:ext cx="6769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华罗庚猜书 </a:t>
            </a:r>
            <a:br>
              <a:rPr sz="36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著名数学家华罗庚读书的方法与众不同。他拿到一本书，不是翻开从头至尾地读，而是对着书思考一会，然后闭目静思。他猜想书的谋篇布局，斟酌完毕再打开书，如果作者的思路与自己猜想的一致，他就不再读了。华罗庚这种猜读法不仅节省了读书时间，而已培养了自己的思维力和想象力，不至于使自己沦为书的奴隶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981000"/>
            <a:ext cx="6985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广厚吃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数学家张广厚有一次看到了一篇关于亏值的论文，觉得对自己的研究工作有用处，就一遍又一遍地反复阅读。这篇论文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多页，他反反复复地念了半年多。因为经常的反复翻摸，洁白的书页上，留下一条明显的黑印。他的妻子对他开玩笑说，这哪叫念书啊，简直是吃书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765000"/>
            <a:ext cx="6767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宝林抄书 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相声语言大师侯宝林只上过三年小学，由于他勤奋好学，使他的艺术水平达到了炉火纯青的程度，成为有名的语言专家。有一次，他为了买到自己想买的一部明代笑话书《谑浪》，跑遍了北京城所有的旧书摊也未能如愿。后来，他得知北京图书馆有这部书，就决定把书抄回来。适值冬日，他顶着狂风，冒着大雪，一连十八天都跑到图书馆里去抄书，一部十多万字的书，终于被他抄录到手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547640" y="1125360"/>
            <a:ext cx="619308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说说你最爱的一本书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5856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1357200" y="2000160"/>
            <a:ext cx="7715520" cy="4822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547640" y="2133720"/>
            <a:ext cx="60487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推荐好书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"/>
          <p:cNvGrpSpPr/>
          <p:nvPr/>
        </p:nvGrpSpPr>
        <p:grpSpPr>
          <a:xfrm>
            <a:off x="684360" y="907920"/>
            <a:ext cx="3065400" cy="4619880"/>
            <a:chOff x="684360" y="907920"/>
            <a:chExt cx="3065400" cy="4619880"/>
          </a:xfrm>
        </p:grpSpPr>
        <p:pic>
          <p:nvPicPr>
            <p:cNvPr id="124" name="Picture 2" descr=""/>
            <p:cNvPicPr/>
            <p:nvPr/>
          </p:nvPicPr>
          <p:blipFill>
            <a:blip r:embed="rId2"/>
            <a:stretch/>
          </p:blipFill>
          <p:spPr>
            <a:xfrm>
              <a:off x="684360" y="907920"/>
              <a:ext cx="3065400" cy="46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3"/>
            <p:cNvSpPr/>
            <p:nvPr/>
          </p:nvSpPr>
          <p:spPr>
            <a:xfrm>
              <a:off x="684360" y="907920"/>
              <a:ext cx="3065400" cy="46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4"/>
          <p:cNvSpPr/>
          <p:nvPr/>
        </p:nvSpPr>
        <p:spPr>
          <a:xfrm>
            <a:off x="3924360" y="981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000" spc="-1" strike="noStrike">
                <a:solidFill>
                  <a:srgbClr val="990000"/>
                </a:solidFill>
                <a:latin typeface="黑体"/>
                <a:ea typeface="黑体"/>
              </a:rPr>
              <a:t>这是一本通俗易懂的历史书，</a:t>
            </a:r>
            <a:r>
              <a:rPr b="1" lang="zh-CN" sz="2000" spc="-1" strike="noStrike">
                <a:solidFill>
                  <a:srgbClr val="990000"/>
                </a:solidFill>
                <a:latin typeface="黑体"/>
                <a:ea typeface="黑体"/>
              </a:rPr>
              <a:t>它讲述了中国的历史，能让我们知道许多历史故事，认识许多历史人物。这些栩栩如生的历史人物，跌宕起伏的历史故事让人身临其境，如秦始皇统一中国、西安事变和张学良、中华民国和孙中山等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990000"/>
                </a:solidFill>
                <a:latin typeface="黑体"/>
                <a:ea typeface="黑体"/>
              </a:rPr>
              <a:t>这本书有</a:t>
            </a:r>
            <a:r>
              <a:rPr b="1" lang="zh-CN" sz="2000" spc="-1" strike="noStrike">
                <a:solidFill>
                  <a:srgbClr val="990000"/>
                </a:solidFill>
                <a:latin typeface="黑体"/>
                <a:ea typeface="黑体"/>
              </a:rPr>
              <a:t>600</a:t>
            </a:r>
            <a:r>
              <a:rPr b="1" lang="en-US" sz="2000" spc="-1" strike="noStrike">
                <a:solidFill>
                  <a:srgbClr val="990000"/>
                </a:solidFill>
                <a:latin typeface="黑体"/>
                <a:ea typeface="黑体"/>
              </a:rPr>
              <a:t>多幅插图，有著作书影、名人像、遗迹及历史文物等，</a:t>
            </a:r>
            <a:r>
              <a:rPr b="1" lang="zh-CN" sz="2000" spc="-1" strike="noStrike">
                <a:solidFill>
                  <a:srgbClr val="990000"/>
                </a:solidFill>
                <a:latin typeface="黑体"/>
                <a:ea typeface="黑体"/>
              </a:rPr>
              <a:t>加深我们对故事的理解和认识。而且这本书的页眉处还印有中国大事记和世界大事记，能让我们也能随时了解某年中国和世界上发生的大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黑体"/>
                <a:ea typeface="黑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3384720" cy="468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95640" y="765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有的人成功了，有的人失败了。成功有成功的原因，失败有失败的道理，可最核心的因素还是习惯！正如美国心理学家威廉</a:t>
            </a: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·</a:t>
            </a: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詹姆士所说：“播下一个行动，收获一种习惯；播下一个习惯，收获一种性格；播下一种性格</a:t>
            </a: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,</a:t>
            </a: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收获一种命运。” </a:t>
            </a:r>
            <a:br>
              <a:rPr sz="1800"/>
            </a:b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习惯作为行动、性格、命运的中心环节，起着核心的作用，因此当下流行着“习惯决定命运”的谚语！ </a:t>
            </a:r>
            <a:br>
              <a:rPr sz="1800"/>
            </a:b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一个人的习惯是不断养成的，正如《三字经》所说“性相近，习相远也”，所谓“少小若无性，习惯成自然”。拿破仑</a:t>
            </a: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·</a:t>
            </a: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希尔说：“习惯能成就一个人，也能够摧毁一个人”。 </a:t>
            </a:r>
            <a:br>
              <a:rPr sz="1800"/>
            </a:b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习惯的表现形式，不外乎思维、做人、做事三个方面。有什么样的思维习惯，就有什么样的做人习惯和做事习惯。思路决定做人，做人决定做事。思维要灵活机智，做人要积极上进，做事要善始善终，这就是成功的习惯。 </a:t>
            </a:r>
            <a:br>
              <a:rPr sz="1800"/>
            </a:b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836640"/>
            <a:ext cx="43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第一，思维必须自我更新。 </a:t>
            </a:r>
            <a:br>
              <a:rPr sz="1800"/>
            </a:b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思维是一个人习惯形成的出发点，必须灵活机智，补短创新，积极向上。只有善于思维，遇事多思考，才能不断地促好进习惯的形成。 </a:t>
            </a:r>
            <a:br>
              <a:rPr sz="1800"/>
            </a:b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第二，做人必须积极上进。 </a:t>
            </a:r>
            <a:br>
              <a:rPr sz="1800"/>
            </a:b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做人是一个人习惯的深刻表现，必须有一个良好的心态，必须有足够的自信，只有不断地激励自己，提高自己，诚实守信，助人为乐，才能最终走向成功。要做人，必须先养成好习惯。 </a:t>
            </a:r>
            <a:br>
              <a:rPr sz="1800"/>
            </a:b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第三，做事必须善始善终。 </a:t>
            </a:r>
            <a:br>
              <a:rPr sz="1800"/>
            </a:b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做人为了做事，做事必须慎终如始、坚持不懈、精益求精，只有重点突出、顾全大局，才能获得最大的效益。 </a:t>
            </a:r>
            <a:br>
              <a:rPr sz="1800"/>
            </a:b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养成思维、做人、做事的良好习惯，是每个人走向成功的必然要求。习惯虽小，影响却很深远，习惯决定命运，隐藏着人类本能的秘诀。好习惯成就了很多辉煌，而坏习惯又毁掉多少人生！习惯稳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723960"/>
            <a:ext cx="43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性很强，威力极大，能够左右一个人的思维、做人和做事。一个人的待人接物，行为方式，生活起居，都是由习惯决定的…… </a:t>
            </a:r>
            <a:br>
              <a:rPr sz="1800"/>
            </a:b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富有是一种习惯，贫穷也是一种习惯；成功是一种习惯，失败也是一种习惯…… </a:t>
            </a:r>
            <a:br>
              <a:rPr sz="1800"/>
            </a:b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习惯决定命运，正面思维、积极做人，精心做事，从阅读这本书开始，形成一个良好的习惯。 </a:t>
            </a:r>
            <a:br>
              <a:rPr sz="1800"/>
            </a:b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当开始阅读这本书的时候，可以从下面两点入手： </a:t>
            </a:r>
            <a:br>
              <a:rPr sz="1800"/>
            </a:b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一是认真阅读，循序渐进，反复领会，投身实践，不要像看小说那样一晃而过。只有这样，才能有所收获，发挥本书的作用。 </a:t>
            </a:r>
            <a:br>
              <a:rPr sz="1800"/>
            </a:b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二是变换角色，把自己当作者或批评家，尽量寻找本书的不足，并且提出宝贵意见，与朋友交流，与作者沟通。如果这样，即使本书有什么不足，你也能够超越本书，获得更多的收益。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xit" presetID="2" presetSubtype="4">
                                  <p:stCondLst>
                                    <p:cond delay="1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1280" y="18900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9900"/>
                </a:solidFill>
                <a:latin typeface="幼圆"/>
                <a:ea typeface="幼圆"/>
              </a:rPr>
              <a:t>一部不足百页的作品，却能让一代代人一读再读。我从那朴素、精确而又洋溢着浓郁生活气息的描写中，进入了老渔民桑提亚哥的晚年生活。我读出了他的贫穷、凄凉，也读出了他的倔强和不甘，同时，他虽已年老体衰，对生活却仍保持那份固有的信心。他出海了，在经历了一次次失败后，他捕到了一条大得惊人的鱼，这是他多少年来梦寐以求的事。经过了三天三夜的周旋，通过与大鱼的殊死搏斗，他在筋疲力尽的最后关头，终于战胜了大鱼，把它绑到了自己的船舷上。在搏斗的过程中，他心中一再出现一个念头：</a:t>
            </a:r>
            <a:r>
              <a:rPr b="1" lang="zh-CN" sz="1800" spc="-1" strike="noStrike">
                <a:solidFill>
                  <a:srgbClr val="669900"/>
                </a:solidFill>
                <a:latin typeface="幼圆"/>
                <a:ea typeface="幼圆"/>
              </a:rPr>
              <a:t>"</a:t>
            </a:r>
            <a:r>
              <a:rPr b="1" lang="zh-CN" sz="1800" spc="-1" strike="noStrike">
                <a:solidFill>
                  <a:srgbClr val="669900"/>
                </a:solidFill>
                <a:latin typeface="幼圆"/>
                <a:ea typeface="幼圆"/>
              </a:rPr>
              <a:t>人不是生来要给打败的。</a:t>
            </a:r>
            <a:r>
              <a:rPr b="1" lang="zh-CN" sz="1800" spc="-1" strike="noStrike">
                <a:solidFill>
                  <a:srgbClr val="669900"/>
                </a:solidFill>
                <a:latin typeface="幼圆"/>
                <a:ea typeface="幼圆"/>
              </a:rPr>
              <a:t>"</a:t>
            </a:r>
            <a:r>
              <a:rPr b="1" lang="zh-CN" sz="1800" spc="-1" strike="noStrike">
                <a:solidFill>
                  <a:srgbClr val="669900"/>
                </a:solidFill>
                <a:latin typeface="幼圆"/>
                <a:ea typeface="幼圆"/>
              </a:rPr>
              <a:t>他曾这样高喊着激励着自己：</a:t>
            </a:r>
            <a:r>
              <a:rPr b="1" lang="zh-CN" sz="1800" spc="-1" strike="noStrike">
                <a:solidFill>
                  <a:srgbClr val="669900"/>
                </a:solidFill>
                <a:latin typeface="幼圆"/>
                <a:ea typeface="幼圆"/>
              </a:rPr>
              <a:t>"</a:t>
            </a:r>
            <a:r>
              <a:rPr b="1" lang="zh-CN" sz="1800" spc="-1" strike="noStrike">
                <a:solidFill>
                  <a:srgbClr val="669900"/>
                </a:solidFill>
                <a:latin typeface="幼圆"/>
                <a:ea typeface="幼圆"/>
              </a:rPr>
              <a:t>你尽可把他消灭掉，可就是打不败他。</a:t>
            </a:r>
            <a:r>
              <a:rPr b="1" lang="zh-CN" sz="1800" spc="-1" strike="noStrike">
                <a:solidFill>
                  <a:srgbClr val="669900"/>
                </a:solidFill>
                <a:latin typeface="幼圆"/>
                <a:ea typeface="幼圆"/>
              </a:rPr>
              <a:t>"</a:t>
            </a:r>
            <a:r>
              <a:rPr b="1" lang="zh-CN" sz="1800" spc="-1" strike="noStrike">
                <a:solidFill>
                  <a:srgbClr val="669900"/>
                </a:solidFill>
                <a:latin typeface="幼圆"/>
                <a:ea typeface="幼圆"/>
              </a:rPr>
              <a:t>然而，最终，他还是失败了：在归途中，饥饿的鲨鱼接二连三地追上来，他拼尽全力，一条条地杀死这些掠夺者；老人回到岸边，他带回的只是一条巨大的鱼骨，一条残破的小船和一副疲惫不堪的躯体。他失败了，但他内心的骄傲丝毫不受损伤。他英勇地失败了，他是真正凯旋的英雄，一身伤痕则成了他非凡勇气的见证。在小小的窝棚中老人安然入睡。他没有失望，他没有被打败，睡梦中又要准备出海了，他梦见了狮子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309564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3:08:00Z</dcterms:created>
  <dc:creator>YlmF</dc:creator>
  <dc:description/>
  <dc:language>en-US</dc:language>
  <cp:lastModifiedBy>Lenovo User</cp:lastModifiedBy>
  <dcterms:modified xsi:type="dcterms:W3CDTF">2009-05-11T06:00:43Z</dcterms:modified>
  <cp:revision>3</cp:revision>
  <dc:subject/>
  <dc:title>幻灯片 1</dc:title>
</cp:coreProperties>
</file>