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2BE-C807-44F3-A919-2F37F320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D9A-5B0D-4EC3-A629-82302CF9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215-427F-41C9-B620-A1D1607F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8DD-746E-46A7-8E83-5245944E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6FC7-A148-4083-BF06-866B23B0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9B38-8934-4035-B030-9647D133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DABB-966D-417E-9C9D-C0BEA0CA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7073-1BDA-470B-8E18-86440320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D8F1-73D7-4351-BAE5-548683CA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26DB-1200-481E-B13B-E383FA09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2A68-5CAC-4A2C-9C4F-64ABC973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A05-729C-4B28-AA48-0CB77D11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A007-7D51-4786-8AC1-7B26E315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DB0A-0140-49F9-8CDF-0261E25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6704-512A-4147-A8DB-C1407F30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966D-557A-4235-ACFB-FA991499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450A-81DF-49C3-B4BE-7D39E3FA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7ACC3-1937-4734-9931-378C822A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83D8-A35B-4161-B318-FE0C1953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685F-829A-41E8-981A-9F5D556F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3AFB-F01C-4A3F-B06A-D5EEB86D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6F17-3A4D-45AC-B8C3-A8DC6A6C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60C-8489-404C-9E2A-6590B7FA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E0C9-1359-491B-9204-7DF16870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DB18F-019D-4204-A840-C3BE832A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D494-DC43-4842-98FA-4C8C4A76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ADE0-B40D-46C1-A5CA-9DE0E443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209A-C3BC-4AF2-9461-A7C213DC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DAF2-33F1-4A5B-9C44-9EB4909D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A839-4715-44F3-8B9E-3624CBAC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9156C-2771-41CD-ADC0-3A5778FB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1E70-CAE1-4D2C-AEEF-5BD4D877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9DD58-3EA3-4CB2-9C35-20629ED4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BDC-E4AD-4EE4-BB48-D766341C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75A4C-51E8-4E5F-A761-320DA6F2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DFADC-9427-4E3B-B806-72534469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2F1C6-733D-4AD7-8A0F-ECB52161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F46F-A9D5-44A4-B04D-E4CE2308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04320-4D40-4DAA-A93A-1EF2B98D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604DB-7B88-40FC-BF2B-F379A884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E172E-D979-4B36-8A47-579F63C2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3343-C596-46F6-8045-866FB8E3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C5A2-584A-4102-9974-832CCA15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5F0-459A-47BE-B303-3031BB78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903-D895-471A-BF9E-1EC7B59C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D82-E067-4934-AB2C-5ECB9B1A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BE9-B22B-46EF-B13A-7096BFA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B9E-1EA8-46A1-A950-3E0A62E2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2FE5-22F2-41F0-A015-F64FE0533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9B64-2231-4AD9-BDDA-92EF33BB36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3073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矩形 3074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4" name="组合 3075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矩形 3076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380880" y="1494000"/>
                <a:ext cx="8305920" cy="360"/>
                <a:chOff x="380880" y="1494000"/>
                <a:chExt cx="8305920" cy="360"/>
              </a:xfrm>
            </p:grpSpPr>
            <p:sp>
              <p:nvSpPr>
                <p:cNvPr id="87" name="直接连接符 3077"/>
                <p:cNvSpPr/>
                <p:nvPr/>
              </p:nvSpPr>
              <p:spPr>
                <a:xfrm>
                  <a:off x="380880" y="1494000"/>
                  <a:ext cx="8305920" cy="0"/>
                </a:xfrm>
                <a:prstGeom prst="line">
                  <a:avLst/>
                </a:prstGeom>
                <a:ln w="1908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380880" y="1494000"/>
                  <a:ext cx="8305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ACD3-AB51-4C66-84AD-2CD0C2723247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4C87-B937-4E2F-97C2-7FE2CB7438D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4876920"/>
            <a:ext cx="609480" cy="360"/>
            <a:chOff x="0" y="4876920"/>
            <a:chExt cx="609480" cy="360"/>
          </a:xfrm>
        </p:grpSpPr>
        <p:sp>
          <p:nvSpPr>
            <p:cNvPr id="95" name="直接连接符 3083"/>
            <p:cNvSpPr/>
            <p:nvPr/>
          </p:nvSpPr>
          <p:spPr>
            <a:xfrm>
              <a:off x="0" y="4876920"/>
              <a:ext cx="609480" cy="0"/>
            </a:xfrm>
            <a:prstGeom prst="line">
              <a:avLst/>
            </a:prstGeom>
            <a:ln w="44280">
              <a:solidFill>
                <a:srgbClr val="33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0" y="48769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4097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4" name="矩形 4098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5" name="组合 4099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6" name="矩形 4100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" name="矩形 4101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0" y="4876920"/>
                <a:ext cx="990720" cy="360"/>
                <a:chOff x="0" y="4876920"/>
                <a:chExt cx="990720" cy="360"/>
              </a:xfrm>
            </p:grpSpPr>
            <p:sp>
              <p:nvSpPr>
                <p:cNvPr id="139" name="直接连接符 4102"/>
                <p:cNvSpPr/>
                <p:nvPr/>
              </p:nvSpPr>
              <p:spPr>
                <a:xfrm>
                  <a:off x="0" y="4876920"/>
                  <a:ext cx="990720" cy="0"/>
                </a:xfrm>
                <a:prstGeom prst="line">
                  <a:avLst/>
                </a:prstGeom>
                <a:ln w="5076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 txBox="1"/>
                <p:nvPr/>
              </p:nvSpPr>
              <p:spPr>
                <a:xfrm>
                  <a:off x="0" y="4876920"/>
                  <a:ext cx="9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组合 4103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2" name="矩形 4104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635040" y="685440"/>
                <a:ext cx="8077320" cy="360"/>
                <a:chOff x="635040" y="685440"/>
                <a:chExt cx="8077320" cy="360"/>
              </a:xfrm>
            </p:grpSpPr>
            <p:sp>
              <p:nvSpPr>
                <p:cNvPr id="144" name="直接连接符 4105"/>
                <p:cNvSpPr/>
                <p:nvPr/>
              </p:nvSpPr>
              <p:spPr>
                <a:xfrm>
                  <a:off x="635040" y="685440"/>
                  <a:ext cx="8077320" cy="0"/>
                </a:xfrm>
                <a:prstGeom prst="line">
                  <a:avLst/>
                </a:prstGeom>
                <a:ln w="4428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 txBox="1"/>
                <p:nvPr/>
              </p:nvSpPr>
              <p:spPr>
                <a:xfrm>
                  <a:off x="635040" y="685440"/>
                  <a:ext cx="8077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2752-A4B0-4087-9057-8A1142DA720F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1196-EE39-44EE-AA22-F1C6C73C764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校同心，</a:t>
            </a:r>
            <a:br>
              <a:rPr sz="8800"/>
            </a:b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师生同行</a:t>
            </a:r>
            <a:endParaRPr b="0" lang="en-US" sz="8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633680" y="4805280"/>
            <a:ext cx="604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西西软件园编辑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62160" y="2133360"/>
            <a:ext cx="4647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学生现状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1﹑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学习成绩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  在学习上，初二是一个分水岭，一部分同学在初二进步很快，由成绩中等上升为优秀，但也有一部分学生存在畏难情绪，将心思用在学习之外，成绩迅速下降，对学习失去兴趣，自暴自弃，从此一蹶不振。这样的同学到了初三往往很难有所突破，中孝的失利难以避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这些孩子在初中学习将近二年，老本基本吃光了，但是有些孩子不肯吃苦，课堂上老师讲的知识还一知半解就满足了，自以为我会了，不在跟着老师讲课的步伐进行下去。真问到头上，支支吾吾说不出个一二三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流于作业形式，白纸画黑道，作业我写了，对与错是老师的事情，明显感觉写作业很盲目，没目标，对自己不负责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的学生学习本末倒置。有些科目应该温习课上知识后，再通过练习检查掌握的程度，然后弥补不足。但是他们只忙于书面作业，不会去翻书，翻笔记，只达到完成作业这一表面任务，力气没少用，效果不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学无章法，老师讲老师的，我做我的，有些孩子只学习自己感兴趣的学科，不均衡发展。而且有的孩子玩心太重，心思都在玩上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之所以学习成绩和优秀生落差很大，源于习惯极其不好，缺乏耐心、恒心、专心，即使大型公开课，大型活动，也都是我行我素，瞻前顾后，左顾右盼，这样的场合他都肆无忌惮，反映出长期的养成教育不足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不仅需要我们督促，作为父母的你们在日常生活中也要强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71800" y="9140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对家长的建议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895120" y="3580920"/>
            <a:ext cx="6985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从学校及教师的角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也许有偏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457200" y="1447920"/>
            <a:ext cx="81532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不做准备的人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就是准备失败的人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找准孩子学习的短板，要真正知道了解自己的孩子，在哪一学科是弱项。和其他孩子们横向、纵向比较一下，我究竟差到哪里，差到哪个学科，什么原因，并要积极应对，及时的查漏补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抓住学习的主次，比如数学 物理初二下学期知识逻辑性比较强，有的习题比较深，所以对于数学物理等学科的习题量一定要保证。并要保证即学即会，不留死角，不要单纯追求数量，而忽视做题的质量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长会的主题 ：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是介绍前阶段同学们在校表现和学习情况。结合本学期期中考试的情况，分析学生的学习和心理状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是和家长们探讨今后学生的教育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掌握学习方法。对于英语等学科，要夯实基础，无论学习时间怎么紧张，必要的英语单词，最基本的句型，语法，都要熟练掌握，达到零失误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政治历史等学科，要充分利用课堂的主阵地，把考点要及时的勾画好，积累好，以备考试之用。同时也要利用一定的时间对阶段学习内容进行复习。从而保证在闭卷考试的时候，能有一定的知识储备。在开卷考试时能够积累全面知识点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语文学科，要训练好孩子把握基础知识的能力，各类的书上的文言文，古诗词，老师要求背好记好的，一个字也不能差。同时也要鼓励孩子认认真真的去完成老师布置的作文和阅读，掌握阅读和作文的能力。考试的时候不发慌，等心应手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正确看待孩子的学习成绩。有的孩子学习各科成绩不算太高，比如说能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分 但是很难达到高分，这样的孩子还有很大提升的潜力，所以就要帮助孩子找出出现差距的原因。而不要一味的指责。有的孩子可能学习成绩差点，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0-9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这个时候到了学业临界点，所以家长就要携同老师全方位的，对各学科学习进行监控。严防持续下滑的现象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保证家中一切为孩子的学习让路，例如四平市实验中学高考状元的班主任在谈体会的时候说，孩子回家的时候一般情况下应该有一位家长在家，让他感觉到一种依靠，使他能够全身心的投入到学习当中。中午孩子回家要及时吃上饭菜，保证孩子有合适的休息时间和空间。从而保证孩子学习充沛的经历。这个时候我们家长有的时候做些必要的牺牲，对于意义不重大应酬活动尽量避免参加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关注孩子的日常表现，防止思想出现波动，家长和孩子之间要建立互信，保持经常的有效沟通。比如说有的孩子情绪低落，那么要弄清楚什么原因造成，是不是和同学发生矛盾还是被老师误解啊，还是学习上遇到了困难，家长都要在第一时间掌握情况，做好疏导。如果发现孩子近期在某个时间段爱美，总是特别注意自己的仪表，上学前在镜子旁边照个半天，没事发呆，情绪无常，这个时候家长要和老师及时的沟通，是不是孩子出现感情问题，因为这个阶段正是青春期，以便及时应对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关于安全问题。掌握放学时间　规定到家时间，很多学生放学在街上游荡，容易接触社会青年，不给过多零花钱　，不允许到朋友家过夜，尤其周末，不带贵重物品到校，例如手机，提醒安全过马路，严查抽烟现象，放在课后班的家长也不要撒手不管，要及时和老师保持联系掌握放学时间，有家长接送的还好，要是不接送的容易出现差错，老师这放学了，结果孩子没回家去哪里玩，可是家长还以为在老师这上课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培养孩子吃苦耐劳的精神。初二属于攻坚阶段，初三属于冲刺阶段，虽然我们将来面对的是高考，但是初中阶段的成绩，对于一个人的知识储备和未来形成的心理暗示，非常的重要。如果中考取得好成绩孩子就会在学习上有种优越感，到高中也会形成自信，进取的学习状态，认为我能行，而不是我不行，我不如别人。神童和特殊的尖子生毕竟是少数，绝大多数的孩子还需要有铁杵磨成针的精神。家长要保证孩子晚上必要的学习时间。我感觉中午要是午睡的话，晚上学习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1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没什么问题。这样到初三就能适应这种学习生活，到高中更会适应。现在的学习不能是只写完作业就完事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要严格规范孩子的学习习惯。平时做的习题要保证步骤完整，书写规范，不似是而非，培养孩子答题精准的习惯。会的题要做对。到了这个时候应该尽量不能出现马虎现像。不要从孩子历次考试的失利中单纯的寻求客观原因，而忽视主观因素。要知道考的不好只能证明平时学的不好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每周找一定时间和孩子聊一聊各科学习上有什么问题，给孩子创造良好的学习环境，多鼓励孩子，多与孩子一同学习。哪怕不是经常性的沟通，聊天，那么对于孩子也是莫大的鼓励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8193"/>
          <p:cNvSpPr txBox="1"/>
          <p:nvPr/>
        </p:nvSpPr>
        <p:spPr>
          <a:xfrm>
            <a:off x="1066680" y="68580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排名榜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2" name="矩形 8194"/>
          <p:cNvSpPr txBox="1"/>
          <p:nvPr/>
        </p:nvSpPr>
        <p:spPr>
          <a:xfrm>
            <a:off x="2133720" y="3886200"/>
            <a:ext cx="4459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种瓜得瓜 种豆得豆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1"/>
          <p:cNvSpPr/>
          <p:nvPr/>
        </p:nvSpPr>
        <p:spPr>
          <a:xfrm>
            <a:off x="838080" y="76212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加强与老师的联系。个别学生不愿意与家长交流，尤其不想和家长说学校里的情况，这样一来，家长往往不能从孩子那里知道他们最近的表现和变化，这就需要家长能够经常和老师联系，了解孩子的全面情况，就一些问题和老师沟通，双方合作，为孩子保驾护航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掌握好孩子的上学时间 早上 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，中午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注意孩子的衣着，男生不留长发，女生不穿时髦衣服，不许带首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努力一定会有成效，放弃必定要失败，无论什么时候都要对自己的孩子有信心，只是在家长的心目当中一定要找准孩子发展的目标换和方向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0520" y="1218960"/>
            <a:ext cx="8078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 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家长们，我们的目标是统一的，我们的任务是一致的，愿我们相互合作，把我们的学生，您的孩子，培养成学习勤奋，品质优良的优秀人才，为将来学生的升学、就业、乃至整个人生的发展打下坚实的良好的基础。在此衷心祝愿我们每一个孩子健康成长，每一个家庭幸福平安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54273" descr="0570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54274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文本框 54275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文本框 54276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6"/>
          <p:cNvSpPr/>
          <p:nvPr/>
        </p:nvSpPr>
        <p:spPr>
          <a:xfrm>
            <a:off x="312408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4894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3" name="矩形 7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期中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，前三名是咱班的。第一名付晏升、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二名张效明，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三名孙璐瑶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第五名佟彩瑜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六名 王子越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7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 咱班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3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0---119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8---11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---1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 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2---1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—10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矩形 60419"/>
          <p:cNvSpPr txBox="1"/>
          <p:nvPr/>
        </p:nvSpPr>
        <p:spPr>
          <a:xfrm>
            <a:off x="1143000" y="91440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1.5---1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9.5—106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6---10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4.5—103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3—10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矩形 61443"/>
          <p:cNvSpPr txBox="1"/>
          <p:nvPr/>
        </p:nvSpPr>
        <p:spPr>
          <a:xfrm>
            <a:off x="1295280" y="76212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语文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9---11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7---115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—11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3.5—110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矩形 62467"/>
          <p:cNvSpPr txBox="1"/>
          <p:nvPr/>
        </p:nvSpPr>
        <p:spPr>
          <a:xfrm>
            <a:off x="1066680" y="5335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英语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--9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8—9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5—9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矩形 63491"/>
          <p:cNvSpPr txBox="1"/>
          <p:nvPr/>
        </p:nvSpPr>
        <p:spPr>
          <a:xfrm>
            <a:off x="762120" y="83808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理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政治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历史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1:08:10Z</dcterms:created>
  <dc:creator>Administrator</dc:creator>
  <dc:description/>
  <dc:language>en-US</dc:language>
  <cp:lastModifiedBy>Administrator</cp:lastModifiedBy>
  <dcterms:modified xsi:type="dcterms:W3CDTF">2016-03-21T07:42:32Z</dcterms:modified>
  <cp:revision>1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  <property fmtid="{D5CDD505-2E9C-101B-9397-08002B2CF9AE}" pid="3" name="Version">
    <vt:r8>1</vt:r8>
  </property>
</Properties>
</file>