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63A-763E-48E5-8EF6-766AFAA3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21C-C134-4324-9033-DB64771E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BC6-71BA-44A6-8BF3-B22DFB7B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182-0341-477D-BA47-18636427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250-5E0E-4070-B5C0-7027E906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A18-D924-47D9-86D9-759C64FE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099-02DB-4A50-9016-7EA44B88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781-5FBE-44E7-8D61-AC996839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334-E892-454A-8250-B259C52D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E80-BC95-46DF-84BA-299DB55C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BE7-392C-4FD2-A406-9644716D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C5F-6BDD-40C0-9AB6-94D426E2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C08A-E880-4971-AE1D-807F8FC692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8647;&#22768;.swf" TargetMode="Externa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0360" y="1628640"/>
            <a:ext cx="429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传授知识启蒙思想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带领我们扬帆起航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又像蜡烛又似春蚕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一生之中最是难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68360" y="404640"/>
            <a:ext cx="41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谜语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551664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楷体_GB2312"/>
              </a:rPr>
              <a:t>老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50040" y="1096920"/>
            <a:ext cx="4935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老师解开蒙古袍衣襟，把达丽玛搂在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身旁，在绵绵春雨中送她回家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7280" y="263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蒙古袍衣襟，把达丽玛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身旁，在绵绵春雨中送她回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1484280"/>
            <a:ext cx="928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是的，她只听到（            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没听到（                     ），只看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（               ），没看到（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404640"/>
            <a:ext cx="3166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ff"/>
                </a:solidFill>
                <a:latin typeface="Arial"/>
                <a:ea typeface="黑体"/>
              </a:rPr>
              <a:t>练习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36800" y="1773360"/>
            <a:ext cx="49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方正楷体_GBK"/>
              </a:rPr>
              <a:t>春天的雨点落在草原上，也落在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方正楷体_GBK"/>
              </a:rPr>
              <a:t>老师和达丽玛的心上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500280"/>
            <a:ext cx="8604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老师对学生的爱犹如春天的雨点。达丽玛在爱的浇灌下，像草原上的春草一般，萌发出勃勃生机，天天向上，茁壮成长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32000" y="1916280"/>
            <a:ext cx="6227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是谁</a:t>
            </a: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把无知的我们领进宽敞的教室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教给我们丰富的知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是您！老师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您用辛勤的汗水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哺育了春日刚破土的嫩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是谁</a:t>
            </a: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把调皮的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教育成能体贴帮助别人的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是您！老师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您的关怀就好似和煦的春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ccff"/>
                </a:solidFill>
                <a:latin typeface="Arial"/>
              </a:rPr>
              <a:t>温暖我们的心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60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403200"/>
            <a:ext cx="8064720" cy="605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58920" y="178272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是谁</a:t>
            </a: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把幼小的我们培育成懂事的少年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是您！老师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您的保护让我们健康成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在金秋时节结下硕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老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您在我们心灵构思最美的诗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您在我们心灵谱写最雄伟的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老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您为人类灵魂的工程洒下汗滴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您为人类灵魂的塑造耗尽心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老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您用热血浇灌着美丽的春天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祖国才因此而生机勃勃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ccff"/>
                </a:solidFill>
                <a:latin typeface="Arial"/>
              </a:rPr>
              <a:t>遍地春色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00000" y="1197000"/>
            <a:ext cx="7345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春天的雨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" presetSubtype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3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064360" cy="5397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8064360" cy="5761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87640" y="6021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美丽的草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楷体_GBK"/>
              </a:rPr>
              <a:t>自学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划出最能表现老师关心爱护学生的句子，并说说你从这些句子中体会到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达丽玛的神态如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当时怎么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0" b="18518"/>
          <a:stretch/>
        </p:blipFill>
        <p:spPr>
          <a:xfrm>
            <a:off x="196920" y="260280"/>
            <a:ext cx="8839080" cy="5943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90720" y="838080"/>
            <a:ext cx="1269720" cy="952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认一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33680" y="2209680"/>
            <a:ext cx="10666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ā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1488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y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22050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tiá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50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4419720"/>
            <a:ext cx="17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小羊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8464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抑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0064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调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1988640"/>
            <a:ext cx="8893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达丽玛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回答这个问题。”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师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眼睛里，发现了达丽玛那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溜了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眼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836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0200" y="1434960"/>
            <a:ext cx="51735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孩子们</a:t>
            </a:r>
            <a:r>
              <a:rPr b="1" lang="zh-CN" sz="40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活蹦乱跳</a:t>
            </a: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地背上书包回家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达丽玛</a:t>
            </a:r>
            <a:r>
              <a:rPr b="1" lang="zh-CN" sz="40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低着头</a:t>
            </a: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走进了老师的办公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老师让达丽玛坐在自己对面，</a:t>
            </a:r>
            <a:r>
              <a:rPr b="1" lang="zh-CN" sz="39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就像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对着</a:t>
            </a:r>
            <a:r>
              <a:rPr b="1" lang="zh-CN" sz="39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42</a:t>
            </a:r>
            <a:r>
              <a:rPr b="1" lang="zh-CN" sz="39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位学生</a:t>
            </a:r>
            <a:r>
              <a:rPr b="1" lang="zh-CN" sz="39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，又开始讲起课来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292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就像是对着</a:t>
            </a: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42</a:t>
            </a: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位学生”</a:t>
            </a:r>
            <a:r>
              <a:rPr b="1" lang="zh-CN" sz="3600" spc="-1" strike="noStrike">
                <a:solidFill>
                  <a:srgbClr val="0000ff"/>
                </a:solidFill>
                <a:latin typeface="方正楷体_GBK"/>
                <a:ea typeface="方正楷体_GBK"/>
              </a:rPr>
              <a:t>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75240" y="1881360"/>
            <a:ext cx="49359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方正楷体_GBK"/>
              </a:rPr>
              <a:t>达丽玛望着老师善良的面容、认真的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方正楷体_GBK"/>
              </a:rPr>
              <a:t>表情，心里</a:t>
            </a:r>
            <a:r>
              <a:rPr b="1" lang="zh-CN" sz="3900" spc="-1" strike="noStrike">
                <a:solidFill>
                  <a:srgbClr val="ff0000"/>
                </a:solidFill>
                <a:latin typeface="Arial"/>
                <a:ea typeface="方正楷体_GBK"/>
              </a:rPr>
              <a:t>暗暗发誓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方正楷体_GBK"/>
              </a:rPr>
              <a:t>：再也不能在课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方正楷体_GBK"/>
              </a:rPr>
              <a:t>堂上让心跑向大草原了。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把老师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的每一句话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楷体_GBK"/>
              </a:rPr>
              <a:t>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在心里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052640"/>
            <a:ext cx="8604000" cy="25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你没听见远处的雷声吗？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达丽玛摇摇头。说：“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老师，我只听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您给我讲课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时，老师忘记了疲劳，抑制住心中的激动：“达丽玛，你学得很好，我放心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0:44:43Z</dcterms:created>
  <dc:creator>　     </dc:creator>
  <dc:description>　     </dc:description>
  <cp:keywords>　</cp:keywords>
  <dc:language>en-US</dc:language>
  <cp:lastModifiedBy>User</cp:lastModifiedBy>
  <dcterms:modified xsi:type="dcterms:W3CDTF">2013-03-27T18:26:13Z</dcterms:modified>
  <cp:revision>0</cp:revision>
  <dc:subject>　     </dc:subject>
  <dc:title>　     </dc:title>
</cp:coreProperties>
</file>