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65FB-58F9-4988-9766-6F6E808E2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599E-87C7-4FCD-969F-D63686404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61B5D2-4910-469C-BD03-1EED7DDA3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F7224E-E7C9-4A0B-83C5-ABDF88358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4B108C-4E46-403A-81D1-297A5E0B5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3A5670-6905-4FF3-A849-6BB69F1E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5FF868-DECB-4492-A0C5-4B3CE682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0C29F0-3477-4E56-A3BD-C9B48EEF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702C61-EF2E-4029-A9A5-99C78687F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85E8CC-9402-44EA-BD1E-547BB4DFA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E1CBA1-EB3A-4CDA-B666-DCD3BBB51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43598F-CF09-4147-8E30-C7E34B3AF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16E6-0060-4F0A-A860-05B88A409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0566B1-81A7-4594-BDA0-613ECE8FD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912FE1-CD59-4E8A-8462-11F3DD212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F0F632-5A60-455E-BE0A-11FA06A2B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320336-BEA6-409B-9512-B76656A28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3D1C50-A0D6-4310-8A4A-C960E9BA0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760E85-AB79-498F-81A2-11FD5B011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277B77-EFAD-44A4-8434-19957342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58C5B5-7451-40E2-AC82-079F2AA5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015E9E-906C-46F5-9FA0-D74D650BA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7C6FD1-AE3F-43F1-B666-898653091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413A-4CD6-40B5-91C5-2B694EEFE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609093-A21C-4C9F-B791-990E0CA25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C4D3F1-2587-45E7-ABC1-B81E604B7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C36869-1F6A-4C6A-B886-BC4BBA643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19994B-B77B-42E1-92BA-033C6700F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E7EC3D-3A59-4966-ADC1-020E53862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8C7407-696F-4749-8839-5C5619C5F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516CEA-490A-499E-B756-C89B3D7C5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98C242-5CFD-411D-BC0D-104923D06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022D11-3EC7-4C60-8367-1E1CFE83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202C55-920E-45FB-84B4-41799454E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AF926-8BE9-41B9-8794-CACF5D723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417473-ABA1-4916-873D-F2144D5D7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F4CC84-B70B-473C-A47E-9F9C057F9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DB617B-5C3D-4FB4-8AB4-A0315563C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890FC2-B2EE-4364-A5F6-B70C33271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99081A-3096-4FB1-9701-BD794FE8D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4561A4-A23D-47DA-8CA8-3AA410067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A897DC-9257-43CF-86F7-343DA551E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571C1C-F281-4249-AE73-DF716D15E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0EC2F4-F375-498C-A881-99FCDD2CF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3BA393-C1C0-4D95-AB4E-A74D9BF8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B3F2E-2951-4945-9AC3-D8485DCA9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83B293-294E-4E4B-951C-69448D0E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F78A55-8BA4-428C-8B2A-FD9341F3E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8C7FAD-CFE3-4A39-A859-B2829187F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F53834-4E54-4B87-BA14-09175652F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86171E-6047-454A-9DB9-3A9C7BD27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64F4B-F0CD-4BA2-B3CA-35CACBE7F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09C24-F7E8-4856-96E7-1042AB554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E6BD9-5F3C-4C07-8A18-EA5047D34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A20C0-2991-4869-9AAA-A2759BF05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BA4B3-425B-4AAE-BCA5-61606DD50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3DD9-9C9C-4AB2-A280-4E743CACE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44FB0-1D45-4856-99E6-DD38F89A0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C43EB-C2B8-4DAD-B205-5443D5EC0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DB0BC-7A81-4443-9CC2-4580C4FAC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63801-FF6B-40E4-8127-447E23C86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FFC08-5C8A-4209-A48C-B45FE97BA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72D5A-BAEB-453D-A072-A2B47E782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4D06F-D6EB-42BC-8618-BCCD8DA7B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A611C-396E-4980-8C92-FA925A470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FB661-BC25-4ED8-93BF-366BA2731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9FF1B-FD39-4BD5-BECC-300641C9E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BA8B-7C50-4B85-99A2-C1C5DDC91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EEE65-8C89-48D7-B900-B6C4F0968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408C4-1E46-4DD5-9129-B917044A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A6FC1-8339-4EB0-8A71-473048D9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23E1D-48BD-4C2B-A8AF-7173E74A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1C124-CD06-4285-8B43-D0848C537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799D5-591C-4C35-9273-A71BEC22F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740A1-7967-4841-9F56-D34AE4459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0B2DC-4FA1-449B-9C64-1473FBE01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EF0BB-C6FD-4A7C-A9BA-505E0F202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8130B-9805-466C-90D5-7BB2C0386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5646-3801-46DC-A0B7-8F6102280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FEBC6-B31C-4722-9134-A644FD068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04FDD-D2A7-4167-A1E0-56BD3F78A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0DC62-6A2C-4AC4-B200-A9D524789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224D8-8114-4F2D-BE43-8F331747B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65F74-3E4F-463F-B18D-1B2856D8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8B1D0-A0B9-468F-AF97-72E02EE5D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E6563-B97D-487C-858A-ABE383525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1FC93-B332-47A3-9C4E-37442EAD7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62944-25FB-4AE5-A562-F8540D424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15D40-7B85-4EF6-88BA-7616FB281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AF59-48BF-47F7-A3B0-FA870567D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811F4-7BC8-4E69-B501-7A7AC5E51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48F8CC-66CA-4D4F-9959-C63E2B513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A73BA9-B73E-4080-8ED9-FACC65BAD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58E2F-FBF3-45AF-BDD3-8533A4057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D9EF9-112D-4700-A13F-980913C22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1CD51D-FBD2-4D53-9853-F7F8A13C8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A16CCF-3E5D-4C5C-BC51-946957040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4D4AD-F408-40B5-BF42-2BA6C56B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80938-10D0-4524-898D-08F3B3F90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236CAE-B7A2-4843-A044-D107B5074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0D9D-D0CB-4D93-A4C5-B04C944C6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A8C592-DF61-4B57-A7E6-B062A7CF7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83DE72-AFAF-425F-8DF2-8A1184A2C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A24076-731E-4C83-BE99-92F08A226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8AD58C-4743-4F66-A1B9-FE6C7ADD4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E4541-8105-4C08-9CB4-948CF2CB1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77D372-F9F4-49F3-8442-34091FBB0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8AD607-DED7-4C6D-8C1C-B8F1B6A08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2B5410-7F71-4EA2-8AFC-80789B81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909313-130E-4C62-A0D7-A230248F5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8AFE25-86A3-416A-B737-E23171EB8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7917-BDB0-49A7-9EE0-5331872C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212C4E-AB37-473F-A81A-251076102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82E6F7-E92C-4DBB-8A1B-798448080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084BDC-3EC0-42FD-B716-67F267309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2F4A87-5345-476C-9850-2B7C70F8E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CAF163-4423-43F1-9E35-C60025ADE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BF1CEA-5CB4-4B40-B280-A3A9823A7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B0E684-E6A4-4345-8899-4FD0C9966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C8A7CB-3D12-4408-A5EA-378E4F916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EB393B-495E-4A37-812B-2D299C75C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4E53DE-75F7-4832-BC03-C928601B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9D06-9162-43C9-BDB6-19566DF1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3F24D5-3E69-4D4E-9E49-BFBFB2798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4972A2-D6FA-4F42-8812-8D8CDA6FE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30635B-2E91-447D-AB6C-4523FBE24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8DD316-2E30-44F4-A172-D37E6926E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EF90D0-5E05-48AF-9AAB-3E8C1ACBB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6240F6-FEFD-435F-A6D5-A88FC2130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E3E6DB-5EFD-440F-BB21-39BBDAD59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812A62-CFB2-4E1C-BD1C-0A19DD557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3A58B1-AC18-4795-A3E4-7CD3463F1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16B827-FD30-42F2-B993-AA93DEA05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42D0-3A0B-4743-800A-55CB3D13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B2F205-9AE0-42AA-957B-F76BA3277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758EA7-D75A-4B06-8AF4-25F768DEC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242839-E8DA-4999-BD5D-6CAEA0C7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D27AAB-2ABD-4903-A66E-E881DD092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BA64A7-DD55-4DCA-993B-93E54EABA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73E4E3-69CD-471F-A316-F6B4016CC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23D7B6-9709-4943-8E4B-0718A4B91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9A3D34-A71A-4351-812A-4D2BAFFF6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BD5E96-E109-44B4-9461-0E963F80E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588FDC-77CF-46CF-8E21-36D795DB5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12368-8EF2-4111-90A1-0A797F31D84B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B7958-6BCC-400B-AEFF-03DC215D4764}" type="slidenum">
              <a:rPr b="1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073D6-330D-498E-AFC6-98A5E12B3334}" type="slidenum">
              <a:rPr b="1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A262F-D37A-47E8-8F93-169D6FCB887D}" type="slidenum">
              <a:rPr b="1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D76F8-3D61-46FD-B644-CF861E0F225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0FE95-3EBF-4B3E-A3AC-1F043B9F5359}" type="slidenum">
              <a:rPr b="1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F607E-257F-422E-A4E7-17D773BAB2E6}" type="slidenum">
              <a:rPr b="1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9AC90-4658-44F3-8F06-964506CD6263}" type="slidenum">
              <a:rPr b="1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ACC36-B708-4511-A026-05376D317038}" type="slidenum">
              <a:rPr b="1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1DA58-E5ED-4BB3-8C84-9E9CDDEC9F8F}" type="slidenum">
              <a:rPr b="1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F8729-8B09-4546-8368-CF2D0D2087AD}" type="slidenum">
              <a:rPr b="1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CECD4-97A9-4902-A24C-06DD868AD878}" type="slidenum">
              <a:rPr b="1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矩形 8"/>
          <p:cNvSpPr/>
          <p:nvPr/>
        </p:nvSpPr>
        <p:spPr>
          <a:xfrm>
            <a:off x="7740720" y="609300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.glzy8.com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海量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免费下载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10"/>
          <p:cNvSpPr/>
          <p:nvPr/>
        </p:nvSpPr>
        <p:spPr>
          <a:xfrm>
            <a:off x="0" y="3213000"/>
            <a:ext cx="9144000" cy="3645000"/>
          </a:xfrm>
          <a:prstGeom prst="rect">
            <a:avLst/>
          </a:prstGeom>
          <a:solidFill>
            <a:srgbClr val="fa2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3" descr="C:\Users\Nir\Desktop\未vv标题-1.png"/>
          <p:cNvPicPr/>
          <p:nvPr/>
        </p:nvPicPr>
        <p:blipFill>
          <a:blip r:embed="rId1"/>
          <a:srcRect l="0" t="7576" r="0" b="0"/>
          <a:stretch/>
        </p:blipFill>
        <p:spPr>
          <a:xfrm>
            <a:off x="2135160" y="1258920"/>
            <a:ext cx="5389560" cy="497844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6" descr="矢量图目录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179280" y="1052640"/>
            <a:ext cx="1284480" cy="1039680"/>
          </a:xfrm>
          <a:prstGeom prst="rect">
            <a:avLst/>
          </a:prstGeom>
          <a:ln w="0">
            <a:noFill/>
          </a:ln>
        </p:spPr>
      </p:pic>
      <p:sp>
        <p:nvSpPr>
          <p:cNvPr id="496" name="Text Box 7"/>
          <p:cNvSpPr/>
          <p:nvPr/>
        </p:nvSpPr>
        <p:spPr>
          <a:xfrm>
            <a:off x="272880" y="209232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e643a"/>
                </a:solidFill>
                <a:latin typeface="微软雅黑"/>
                <a:ea typeface="微软雅黑"/>
              </a:rPr>
              <a:t>艺术</a:t>
            </a:r>
            <a:r>
              <a:rPr b="0" lang="en-US" sz="2000" spc="-1" strike="noStrike">
                <a:solidFill>
                  <a:srgbClr val="8e643a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8e643a"/>
                </a:solidFill>
                <a:latin typeface="微软雅黑"/>
                <a:ea typeface="微软雅黑"/>
              </a:rPr>
              <a:t>模板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8"/>
          <p:cNvSpPr/>
          <p:nvPr/>
        </p:nvSpPr>
        <p:spPr>
          <a:xfrm>
            <a:off x="555480" y="251136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艺术展示幻灯片演示模板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8"/>
          <p:cNvSpPr/>
          <p:nvPr/>
        </p:nvSpPr>
        <p:spPr>
          <a:xfrm>
            <a:off x="1676520" y="5713560"/>
            <a:ext cx="3110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2"/>
          <p:cNvSpPr/>
          <p:nvPr/>
        </p:nvSpPr>
        <p:spPr>
          <a:xfrm>
            <a:off x="12600" y="0"/>
            <a:ext cx="9180720" cy="6886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矩形 34"/>
          <p:cNvSpPr/>
          <p:nvPr/>
        </p:nvSpPr>
        <p:spPr>
          <a:xfrm rot="3153000">
            <a:off x="664560" y="4190760"/>
            <a:ext cx="3146400" cy="12600"/>
          </a:xfrm>
          <a:prstGeom prst="rect">
            <a:avLst/>
          </a:prstGeom>
          <a:gradFill rotWithShape="0">
            <a:gsLst>
              <a:gs pos="0">
                <a:srgbClr val="f2f2f2"/>
              </a:gs>
              <a:gs pos="100000">
                <a:srgbClr val="f2f2f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 anchorCtr="1" vert="eaVert" rot="10800000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椭圆 3"/>
          <p:cNvSpPr/>
          <p:nvPr/>
        </p:nvSpPr>
        <p:spPr>
          <a:xfrm rot="3153000">
            <a:off x="851400" y="4040640"/>
            <a:ext cx="2955960" cy="192240"/>
          </a:xfrm>
          <a:custGeom>
            <a:avLst/>
            <a:gdLst/>
            <a:ahLst/>
            <a:rect l="l" t="t" r="r" b="b"/>
            <a:pathLst>
              <a:path w="5967726" h="372256">
                <a:moveTo>
                  <a:pt x="2983863" y="0"/>
                </a:moveTo>
                <a:cubicBezTo>
                  <a:pt x="4505610" y="0"/>
                  <a:pt x="5763890" y="161740"/>
                  <a:pt x="5967726" y="372256"/>
                </a:cubicBezTo>
                <a:lnTo>
                  <a:pt x="0" y="372256"/>
                </a:lnTo>
                <a:cubicBezTo>
                  <a:pt x="203837" y="161740"/>
                  <a:pt x="1462116" y="0"/>
                  <a:pt x="2983863" y="0"/>
                </a:cubicBezTo>
                <a:close/>
              </a:path>
            </a:pathLst>
          </a:custGeom>
          <a:solidFill>
            <a:srgbClr val="fa2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椭圆 6"/>
          <p:cNvSpPr/>
          <p:nvPr/>
        </p:nvSpPr>
        <p:spPr>
          <a:xfrm rot="3153000">
            <a:off x="1879200" y="3095640"/>
            <a:ext cx="1621080" cy="1274760"/>
          </a:xfrm>
          <a:custGeom>
            <a:avLst/>
            <a:gdLst/>
            <a:ahLst/>
            <a:rect l="l" t="t" r="r" b="b"/>
            <a:pathLst>
              <a:path w="2448272" h="1925181">
                <a:moveTo>
                  <a:pt x="1224136" y="0"/>
                </a:moveTo>
                <a:cubicBezTo>
                  <a:pt x="1900208" y="0"/>
                  <a:pt x="2448272" y="548064"/>
                  <a:pt x="2448272" y="1224136"/>
                </a:cubicBezTo>
                <a:cubicBezTo>
                  <a:pt x="2448272" y="1485100"/>
                  <a:pt x="2366613" y="1726991"/>
                  <a:pt x="2226782" y="1925181"/>
                </a:cubicBezTo>
                <a:lnTo>
                  <a:pt x="221490" y="1925181"/>
                </a:lnTo>
                <a:cubicBezTo>
                  <a:pt x="81659" y="1726991"/>
                  <a:pt x="0" y="1485100"/>
                  <a:pt x="0" y="1224136"/>
                </a:cubicBezTo>
                <a:cubicBezTo>
                  <a:pt x="0" y="548064"/>
                  <a:pt x="548064" y="0"/>
                  <a:pt x="122413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椭圆 6"/>
          <p:cNvSpPr/>
          <p:nvPr/>
        </p:nvSpPr>
        <p:spPr>
          <a:xfrm rot="3153000">
            <a:off x="1899000" y="3153240"/>
            <a:ext cx="1528560" cy="1203480"/>
          </a:xfrm>
          <a:custGeom>
            <a:avLst/>
            <a:gdLst/>
            <a:ahLst/>
            <a:rect l="l" t="t" r="r" b="b"/>
            <a:pathLst>
              <a:path w="2448272" h="1925181">
                <a:moveTo>
                  <a:pt x="1224136" y="0"/>
                </a:moveTo>
                <a:cubicBezTo>
                  <a:pt x="1900208" y="0"/>
                  <a:pt x="2448272" y="548064"/>
                  <a:pt x="2448272" y="1224136"/>
                </a:cubicBezTo>
                <a:cubicBezTo>
                  <a:pt x="2448272" y="1485100"/>
                  <a:pt x="2366613" y="1726991"/>
                  <a:pt x="2226782" y="1925181"/>
                </a:cubicBezTo>
                <a:lnTo>
                  <a:pt x="221490" y="1925181"/>
                </a:lnTo>
                <a:cubicBezTo>
                  <a:pt x="81659" y="1726991"/>
                  <a:pt x="0" y="1485100"/>
                  <a:pt x="0" y="1224136"/>
                </a:cubicBezTo>
                <a:cubicBezTo>
                  <a:pt x="0" y="548064"/>
                  <a:pt x="548064" y="0"/>
                  <a:pt x="1224136" y="0"/>
                </a:cubicBezTo>
                <a:close/>
              </a:path>
            </a:pathLst>
          </a:custGeom>
          <a:solidFill>
            <a:srgbClr val="a6a6a6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2289240" y="3333600"/>
            <a:ext cx="17280" cy="743040"/>
            <a:chOff x="2289240" y="3333600"/>
            <a:chExt cx="17280" cy="743040"/>
          </a:xfrm>
        </p:grpSpPr>
        <p:pic>
          <p:nvPicPr>
            <p:cNvPr id="505" name="矩形 48" descr=""/>
            <p:cNvPicPr/>
            <p:nvPr/>
          </p:nvPicPr>
          <p:blipFill>
            <a:blip r:embed="rId2"/>
            <a:stretch/>
          </p:blipFill>
          <p:spPr>
            <a:xfrm>
              <a:off x="2289240" y="3333600"/>
              <a:ext cx="1728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Text Box 10"/>
            <p:cNvSpPr/>
            <p:nvPr/>
          </p:nvSpPr>
          <p:spPr>
            <a:xfrm rot="5400000">
              <a:off x="1926720" y="3698640"/>
              <a:ext cx="740160" cy="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 anchorCtr="1" vert="eaVert" rot="10800000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7" name="TextBox 49"/>
          <p:cNvSpPr/>
          <p:nvPr/>
        </p:nvSpPr>
        <p:spPr>
          <a:xfrm>
            <a:off x="2266920" y="3351240"/>
            <a:ext cx="960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aaa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50"/>
          <p:cNvSpPr/>
          <p:nvPr/>
        </p:nvSpPr>
        <p:spPr>
          <a:xfrm>
            <a:off x="1484280" y="4040280"/>
            <a:ext cx="84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Bauhaus 93"/>
                <a:ea typeface="微软雅黑"/>
              </a:rPr>
              <a:t>0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65"/>
          <p:cNvSpPr/>
          <p:nvPr/>
        </p:nvSpPr>
        <p:spPr>
          <a:xfrm>
            <a:off x="1967040" y="344664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冬青黑体简体中文 W3"/>
                <a:ea typeface="冬青黑体简体中文 W3"/>
              </a:rPr>
              <a:t>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矩形 39"/>
          <p:cNvSpPr/>
          <p:nvPr/>
        </p:nvSpPr>
        <p:spPr>
          <a:xfrm rot="3153000">
            <a:off x="2896560" y="4190760"/>
            <a:ext cx="3146400" cy="12600"/>
          </a:xfrm>
          <a:prstGeom prst="rect">
            <a:avLst/>
          </a:prstGeom>
          <a:gradFill rotWithShape="0">
            <a:gsLst>
              <a:gs pos="0">
                <a:srgbClr val="f2f2f2"/>
              </a:gs>
              <a:gs pos="100000">
                <a:srgbClr val="f2f2f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 anchorCtr="1" vert="eaVert" rot="10800000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椭圆 3"/>
          <p:cNvSpPr/>
          <p:nvPr/>
        </p:nvSpPr>
        <p:spPr>
          <a:xfrm rot="3153000">
            <a:off x="3071520" y="4039920"/>
            <a:ext cx="2955960" cy="193680"/>
          </a:xfrm>
          <a:custGeom>
            <a:avLst/>
            <a:gdLst/>
            <a:ahLst/>
            <a:rect l="l" t="t" r="r" b="b"/>
            <a:pathLst>
              <a:path w="5967726" h="372256">
                <a:moveTo>
                  <a:pt x="2983863" y="0"/>
                </a:moveTo>
                <a:cubicBezTo>
                  <a:pt x="4505610" y="0"/>
                  <a:pt x="5763890" y="161740"/>
                  <a:pt x="5967726" y="372256"/>
                </a:cubicBezTo>
                <a:lnTo>
                  <a:pt x="0" y="372256"/>
                </a:lnTo>
                <a:cubicBezTo>
                  <a:pt x="203837" y="161740"/>
                  <a:pt x="1462116" y="0"/>
                  <a:pt x="2983863" y="0"/>
                </a:cubicBezTo>
                <a:close/>
              </a:path>
            </a:pathLst>
          </a:custGeom>
          <a:solidFill>
            <a:srgbClr val="fa2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椭圆 6"/>
          <p:cNvSpPr/>
          <p:nvPr/>
        </p:nvSpPr>
        <p:spPr>
          <a:xfrm rot="3153000">
            <a:off x="4111200" y="3095640"/>
            <a:ext cx="1621080" cy="1274760"/>
          </a:xfrm>
          <a:custGeom>
            <a:avLst/>
            <a:gdLst/>
            <a:ahLst/>
            <a:rect l="l" t="t" r="r" b="b"/>
            <a:pathLst>
              <a:path w="2448272" h="1925181">
                <a:moveTo>
                  <a:pt x="1224136" y="0"/>
                </a:moveTo>
                <a:cubicBezTo>
                  <a:pt x="1900208" y="0"/>
                  <a:pt x="2448272" y="548064"/>
                  <a:pt x="2448272" y="1224136"/>
                </a:cubicBezTo>
                <a:cubicBezTo>
                  <a:pt x="2448272" y="1485100"/>
                  <a:pt x="2366613" y="1726991"/>
                  <a:pt x="2226782" y="1925181"/>
                </a:cubicBezTo>
                <a:lnTo>
                  <a:pt x="221490" y="1925181"/>
                </a:lnTo>
                <a:cubicBezTo>
                  <a:pt x="81659" y="1726991"/>
                  <a:pt x="0" y="1485100"/>
                  <a:pt x="0" y="1224136"/>
                </a:cubicBezTo>
                <a:cubicBezTo>
                  <a:pt x="0" y="548064"/>
                  <a:pt x="548064" y="0"/>
                  <a:pt x="122413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椭圆 6"/>
          <p:cNvSpPr/>
          <p:nvPr/>
        </p:nvSpPr>
        <p:spPr>
          <a:xfrm rot="3153000">
            <a:off x="4131000" y="3153240"/>
            <a:ext cx="1528560" cy="1203480"/>
          </a:xfrm>
          <a:custGeom>
            <a:avLst/>
            <a:gdLst/>
            <a:ahLst/>
            <a:rect l="l" t="t" r="r" b="b"/>
            <a:pathLst>
              <a:path w="2448272" h="1925181">
                <a:moveTo>
                  <a:pt x="1224136" y="0"/>
                </a:moveTo>
                <a:cubicBezTo>
                  <a:pt x="1900208" y="0"/>
                  <a:pt x="2448272" y="548064"/>
                  <a:pt x="2448272" y="1224136"/>
                </a:cubicBezTo>
                <a:cubicBezTo>
                  <a:pt x="2448272" y="1485100"/>
                  <a:pt x="2366613" y="1726991"/>
                  <a:pt x="2226782" y="1925181"/>
                </a:cubicBezTo>
                <a:lnTo>
                  <a:pt x="221490" y="1925181"/>
                </a:lnTo>
                <a:cubicBezTo>
                  <a:pt x="81659" y="1726991"/>
                  <a:pt x="0" y="1485100"/>
                  <a:pt x="0" y="1224136"/>
                </a:cubicBezTo>
                <a:cubicBezTo>
                  <a:pt x="0" y="548064"/>
                  <a:pt x="548064" y="0"/>
                  <a:pt x="1224136" y="0"/>
                </a:cubicBez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60"/>
          <p:cNvSpPr/>
          <p:nvPr/>
        </p:nvSpPr>
        <p:spPr>
          <a:xfrm>
            <a:off x="4491000" y="3340080"/>
            <a:ext cx="959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bbbbbbbbb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4495680" y="3321000"/>
            <a:ext cx="17640" cy="743040"/>
            <a:chOff x="4495680" y="3321000"/>
            <a:chExt cx="17640" cy="743040"/>
          </a:xfrm>
        </p:grpSpPr>
        <p:pic>
          <p:nvPicPr>
            <p:cNvPr id="516" name="矩形 66" descr=""/>
            <p:cNvPicPr/>
            <p:nvPr/>
          </p:nvPicPr>
          <p:blipFill>
            <a:blip r:embed="rId3"/>
            <a:stretch/>
          </p:blipFill>
          <p:spPr>
            <a:xfrm>
              <a:off x="4495680" y="3321000"/>
              <a:ext cx="1764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7" name="Text Box 22"/>
            <p:cNvSpPr/>
            <p:nvPr/>
          </p:nvSpPr>
          <p:spPr>
            <a:xfrm rot="5400000">
              <a:off x="4134240" y="3685680"/>
              <a:ext cx="740160" cy="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 anchorCtr="1" vert="eaVert" rot="10800000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8" name="TextBox 67"/>
          <p:cNvSpPr/>
          <p:nvPr/>
        </p:nvSpPr>
        <p:spPr>
          <a:xfrm>
            <a:off x="4173480" y="3433680"/>
            <a:ext cx="4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冬青黑体简体中文 W3"/>
                <a:ea typeface="冬青黑体简体中文 W3"/>
              </a:rPr>
              <a:t>0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Box 72"/>
          <p:cNvSpPr/>
          <p:nvPr/>
        </p:nvSpPr>
        <p:spPr>
          <a:xfrm>
            <a:off x="3681360" y="4040280"/>
            <a:ext cx="84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Bauhaus 93"/>
                <a:ea typeface="微软雅黑"/>
              </a:rPr>
              <a:t>0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矩形 44"/>
          <p:cNvSpPr/>
          <p:nvPr/>
        </p:nvSpPr>
        <p:spPr>
          <a:xfrm rot="3153000">
            <a:off x="5040000" y="4190400"/>
            <a:ext cx="3146400" cy="12960"/>
          </a:xfrm>
          <a:prstGeom prst="rect">
            <a:avLst/>
          </a:prstGeom>
          <a:gradFill rotWithShape="0">
            <a:gsLst>
              <a:gs pos="0">
                <a:srgbClr val="f2f2f2"/>
              </a:gs>
              <a:gs pos="100000">
                <a:srgbClr val="f2f2f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 anchorCtr="1" vert="eaVert" rot="10800000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椭圆 3"/>
          <p:cNvSpPr/>
          <p:nvPr/>
        </p:nvSpPr>
        <p:spPr>
          <a:xfrm rot="3153000">
            <a:off x="5214600" y="4039920"/>
            <a:ext cx="2955960" cy="193680"/>
          </a:xfrm>
          <a:custGeom>
            <a:avLst/>
            <a:gdLst/>
            <a:ahLst/>
            <a:rect l="l" t="t" r="r" b="b"/>
            <a:pathLst>
              <a:path w="5967726" h="372256">
                <a:moveTo>
                  <a:pt x="2983863" y="0"/>
                </a:moveTo>
                <a:cubicBezTo>
                  <a:pt x="4505610" y="0"/>
                  <a:pt x="5763890" y="161740"/>
                  <a:pt x="5967726" y="372256"/>
                </a:cubicBezTo>
                <a:lnTo>
                  <a:pt x="0" y="372256"/>
                </a:lnTo>
                <a:cubicBezTo>
                  <a:pt x="203837" y="161740"/>
                  <a:pt x="1462116" y="0"/>
                  <a:pt x="2983863" y="0"/>
                </a:cubicBezTo>
                <a:close/>
              </a:path>
            </a:pathLst>
          </a:custGeom>
          <a:solidFill>
            <a:srgbClr val="fa2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椭圆 6"/>
          <p:cNvSpPr/>
          <p:nvPr/>
        </p:nvSpPr>
        <p:spPr>
          <a:xfrm rot="3153000">
            <a:off x="6254280" y="3095640"/>
            <a:ext cx="1621080" cy="1274760"/>
          </a:xfrm>
          <a:custGeom>
            <a:avLst/>
            <a:gdLst/>
            <a:ahLst/>
            <a:rect l="l" t="t" r="r" b="b"/>
            <a:pathLst>
              <a:path w="2448272" h="1925181">
                <a:moveTo>
                  <a:pt x="1224136" y="0"/>
                </a:moveTo>
                <a:cubicBezTo>
                  <a:pt x="1900208" y="0"/>
                  <a:pt x="2448272" y="548064"/>
                  <a:pt x="2448272" y="1224136"/>
                </a:cubicBezTo>
                <a:cubicBezTo>
                  <a:pt x="2448272" y="1485100"/>
                  <a:pt x="2366613" y="1726991"/>
                  <a:pt x="2226782" y="1925181"/>
                </a:cubicBezTo>
                <a:lnTo>
                  <a:pt x="221490" y="1925181"/>
                </a:lnTo>
                <a:cubicBezTo>
                  <a:pt x="81659" y="1726991"/>
                  <a:pt x="0" y="1485100"/>
                  <a:pt x="0" y="1224136"/>
                </a:cubicBezTo>
                <a:cubicBezTo>
                  <a:pt x="0" y="548064"/>
                  <a:pt x="548064" y="0"/>
                  <a:pt x="122413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椭圆 6"/>
          <p:cNvSpPr/>
          <p:nvPr/>
        </p:nvSpPr>
        <p:spPr>
          <a:xfrm rot="3153000">
            <a:off x="6274080" y="3153240"/>
            <a:ext cx="1528560" cy="1203480"/>
          </a:xfrm>
          <a:custGeom>
            <a:avLst/>
            <a:gdLst/>
            <a:ahLst/>
            <a:rect l="l" t="t" r="r" b="b"/>
            <a:pathLst>
              <a:path w="2448272" h="1925181">
                <a:moveTo>
                  <a:pt x="1224136" y="0"/>
                </a:moveTo>
                <a:cubicBezTo>
                  <a:pt x="1900208" y="0"/>
                  <a:pt x="2448272" y="548064"/>
                  <a:pt x="2448272" y="1224136"/>
                </a:cubicBezTo>
                <a:cubicBezTo>
                  <a:pt x="2448272" y="1485100"/>
                  <a:pt x="2366613" y="1726991"/>
                  <a:pt x="2226782" y="1925181"/>
                </a:cubicBezTo>
                <a:lnTo>
                  <a:pt x="221490" y="1925181"/>
                </a:lnTo>
                <a:cubicBezTo>
                  <a:pt x="81659" y="1726991"/>
                  <a:pt x="0" y="1485100"/>
                  <a:pt x="0" y="1224136"/>
                </a:cubicBezTo>
                <a:cubicBezTo>
                  <a:pt x="0" y="548064"/>
                  <a:pt x="548064" y="0"/>
                  <a:pt x="1224136" y="0"/>
                </a:cubicBez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Box 61"/>
          <p:cNvSpPr/>
          <p:nvPr/>
        </p:nvSpPr>
        <p:spPr>
          <a:xfrm>
            <a:off x="6696000" y="3362400"/>
            <a:ext cx="959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ccccccccc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6738840" y="3344760"/>
            <a:ext cx="10800" cy="738360"/>
            <a:chOff x="6738840" y="3344760"/>
            <a:chExt cx="10800" cy="738360"/>
          </a:xfrm>
        </p:grpSpPr>
        <p:pic>
          <p:nvPicPr>
            <p:cNvPr id="526" name="矩形 68" descr=""/>
            <p:cNvPicPr/>
            <p:nvPr/>
          </p:nvPicPr>
          <p:blipFill>
            <a:blip r:embed="rId4"/>
            <a:stretch/>
          </p:blipFill>
          <p:spPr>
            <a:xfrm>
              <a:off x="6738840" y="3347280"/>
              <a:ext cx="9720" cy="73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" name="Text Box 33"/>
            <p:cNvSpPr/>
            <p:nvPr/>
          </p:nvSpPr>
          <p:spPr>
            <a:xfrm rot="5400000">
              <a:off x="6375240" y="3708720"/>
              <a:ext cx="738360" cy="1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 anchorCtr="1" vert="eaVert" rot="10800000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TextBox 69"/>
          <p:cNvSpPr/>
          <p:nvPr/>
        </p:nvSpPr>
        <p:spPr>
          <a:xfrm>
            <a:off x="6415200" y="344160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冬青黑体简体中文 W3"/>
                <a:ea typeface="冬青黑体简体中文 W3"/>
              </a:rPr>
              <a:t>0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Box 73"/>
          <p:cNvSpPr/>
          <p:nvPr/>
        </p:nvSpPr>
        <p:spPr>
          <a:xfrm>
            <a:off x="5913360" y="4040280"/>
            <a:ext cx="84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Bauhaus 93"/>
                <a:ea typeface="微软雅黑"/>
              </a:rPr>
              <a:t>0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矩形 64512"/>
          <p:cNvSpPr/>
          <p:nvPr/>
        </p:nvSpPr>
        <p:spPr>
          <a:xfrm>
            <a:off x="655560" y="2565360"/>
            <a:ext cx="8097840" cy="3146400"/>
          </a:xfrm>
          <a:prstGeom prst="rect">
            <a:avLst/>
          </a:prstGeom>
          <a:noFill/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文本占位符 3"/>
          <p:cNvSpPr/>
          <p:nvPr/>
        </p:nvSpPr>
        <p:spPr>
          <a:xfrm>
            <a:off x="539640" y="2060640"/>
            <a:ext cx="33958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冬青黑体简体中文 W3"/>
                <a:ea typeface="冬青黑体简体中文 W3"/>
              </a:rPr>
              <a:t>目录文字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38"/>
          <p:cNvSpPr/>
          <p:nvPr/>
        </p:nvSpPr>
        <p:spPr>
          <a:xfrm>
            <a:off x="468360" y="601560"/>
            <a:ext cx="1262160" cy="1279800"/>
          </a:xfrm>
          <a:prstGeom prst="wedgeEllipseCallout">
            <a:avLst>
              <a:gd name="adj1" fmla="val 43333"/>
              <a:gd name="adj2" fmla="val 47148"/>
            </a:avLst>
          </a:prstGeom>
          <a:solidFill>
            <a:srgbClr val="d01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39"/>
          <p:cNvSpPr/>
          <p:nvPr/>
        </p:nvSpPr>
        <p:spPr>
          <a:xfrm>
            <a:off x="630360" y="878040"/>
            <a:ext cx="99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2"/>
          <p:cNvSpPr/>
          <p:nvPr/>
        </p:nvSpPr>
        <p:spPr>
          <a:xfrm>
            <a:off x="12600" y="0"/>
            <a:ext cx="9180720" cy="6886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19"/>
          <p:cNvSpPr/>
          <p:nvPr/>
        </p:nvSpPr>
        <p:spPr>
          <a:xfrm>
            <a:off x="430200" y="601560"/>
            <a:ext cx="1262160" cy="1279800"/>
          </a:xfrm>
          <a:prstGeom prst="wedgeEllipseCallout">
            <a:avLst>
              <a:gd name="adj1" fmla="val 43333"/>
              <a:gd name="adj2" fmla="val 47148"/>
            </a:avLst>
          </a:prstGeom>
          <a:solidFill>
            <a:srgbClr val="d01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20"/>
          <p:cNvSpPr/>
          <p:nvPr/>
        </p:nvSpPr>
        <p:spPr>
          <a:xfrm>
            <a:off x="592200" y="87804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文字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矩形 2"/>
          <p:cNvSpPr/>
          <p:nvPr/>
        </p:nvSpPr>
        <p:spPr>
          <a:xfrm>
            <a:off x="539640" y="2398680"/>
            <a:ext cx="7993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2"/>
          <p:cNvSpPr/>
          <p:nvPr/>
        </p:nvSpPr>
        <p:spPr>
          <a:xfrm>
            <a:off x="12600" y="0"/>
            <a:ext cx="9180720" cy="6886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16"/>
          <p:cNvSpPr/>
          <p:nvPr/>
        </p:nvSpPr>
        <p:spPr>
          <a:xfrm>
            <a:off x="0" y="4119480"/>
            <a:ext cx="9191520" cy="2782800"/>
          </a:xfrm>
          <a:prstGeom prst="rect">
            <a:avLst/>
          </a:prstGeom>
          <a:solidFill>
            <a:srgbClr val="d01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4114800" y="2349360"/>
            <a:ext cx="12193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谢谢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/>
  <dc:description/>
  <dc:language>en-US</dc:language>
  <cp:lastModifiedBy>ABC</cp:lastModifiedBy>
  <cp:lastPrinted>1899-12-30T00:00:00Z</cp:lastPrinted>
  <dcterms:modified xsi:type="dcterms:W3CDTF">2016-03-02T08:13:50Z</dcterms:modified>
  <cp:revision>45</cp:revision>
  <dc:subject/>
  <dc:title>ppt.glzy8.com提供海量PPT模板免费下载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60</vt:lpwstr>
  </property>
</Properties>
</file>