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4.jpeg" ContentType="image/jpeg"/>
  <Override PartName="/ppt/media/image12.jpeg" ContentType="image/jpeg"/>
  <Override PartName="/ppt/media/image7.jpeg" ContentType="image/jpeg"/>
  <Override PartName="/ppt/media/camera.wav" ContentType="audio/x-wav"/>
  <Override PartName="/ppt/media/image21.jpeg" ContentType="image/jpeg"/>
  <Override PartName="/ppt/media/image3.png" ContentType="image/png"/>
  <Override PartName="/ppt/media/image24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4.jpeg" ContentType="image/jpeg"/>
  <Override PartName="/ppt/media/image23.png" ContentType="image/png"/>
  <Override PartName="/ppt/media/image13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A841-684C-484C-9AAC-C49C2C537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41F3-3F04-486A-A35D-539A58AF9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0B12-6D91-4253-BCDB-89245545A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DF86-1C29-4C80-8CD8-667F1D614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1A1D6-328A-43E8-8E1F-2124380C6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1D468-F74B-4251-85A8-835EBD288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F1DAD-DA6B-437B-8745-BFAF72947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DC04D-1901-4EB0-95D8-DD077D602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E36C3-4D6B-44A5-86C7-0B1AF2ED4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56DF8-559F-4F47-9A93-9E57DB14B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74446-22EF-41B8-813B-4E423C2CC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5165-5F35-4ACD-AD55-2D3F28E8B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3853E-5023-4EC2-AE04-EDBD47ABA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43BD4-CAB6-41D4-B585-D40160792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5931E-348E-4927-B8A3-0C8B078CE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1CD41-ED80-4D95-9D25-E32681B22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40800-1CF7-4CAE-B259-C0B72FE70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9FD0-4BE9-4CBB-A0F3-D078A2CFC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212A-1550-48B7-B7BC-C0FC3B962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EBED-D590-4BAA-91E6-3ED217D2D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6D27-223B-49FE-A921-8742844E6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05B1-1121-4568-A039-1BDE65764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475A-D07A-457D-A53C-2F402BD82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D896-2FF3-4CEF-B913-C2A85E3D7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78E1A-B4B0-4B89-9154-13916D9B2D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55F85-A114-4155-AB8F-2476B5EB1D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audio" Target="file:///tmp/home/.config/libreoffice/4/user/gallery/camera.wav" TargetMode="External"/><Relationship Id="rId4" Type="http://schemas.microsoft.com/office/2007/relationships/media" Target="file:///tmp/home/.config/libreoffice/4/user/gallery/camera.wav" TargetMode="External"/><Relationship Id="rId5" Type="http://schemas.openxmlformats.org/officeDocument/2006/relationships/image" Target="../media/image17.png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403280" y="549360"/>
            <a:ext cx="68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f20ec"/>
                </a:solidFill>
                <a:latin typeface="Times New Roman"/>
              </a:rPr>
              <a:t>人民解放军百万大军横渡长江的背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00000" y="1197000"/>
            <a:ext cx="738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解放战争时期，中国人民解放军第二、第三野战军和第四野战军一部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在长江中下游强渡长江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对国民党军汤恩伯、白崇禧两集团进行的战略性进攻战役。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月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15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日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国共双方代表团拟定了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国内和平协定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最后修正案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》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并商定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月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0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日签字。但南京国民党政府却拒绝签字，人民解放军即遵照中共中央军委命令，于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0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日夜发起渡江作战。其中突击集团第一梯队第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4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、第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5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、第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7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、第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1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军在强大炮火掩护下，冒着国民党军军舰和江防炮火的拦截，在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100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余公里的正面上，首先登船起渡，迅速攻占了鲫鱼洲等江心洲。接着，突破鲁港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芜湖西南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至铜陵段国民党军江防阵地，连续打退守军的多次反击，巩固了滩头阵地，尔后向纵深发展攻势，至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1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日，占领铜陵、繁昌、顺安等地。</a:t>
            </a:r>
            <a:r>
              <a:rPr b="0" lang="zh-CN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6372360" y="5229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6" name="camera.wav"/>
      </p:stSnd>
    </p:sndAc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0" dur="112274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1908000" y="765000"/>
            <a:ext cx="25196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solidFill>
                    <a:srgbClr val="000000"/>
                  </a:solidFill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>
                        <a:alpha val="96078"/>
                      </a:srgbClr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作者简介</a:t>
            </a:r>
            <a:endParaRPr b="0" lang="en-US" sz="2400" spc="-1" strike="noStrike">
              <a:ln w="0">
                <a:solidFill>
                  <a:srgbClr val="000000"/>
                </a:solidFill>
              </a:ln>
              <a:gradFill rotWithShape="0">
                <a:gsLst>
                  <a:gs pos="0">
                    <a:srgbClr val="4d0808"/>
                  </a:gs>
                  <a:gs pos="50000">
                    <a:srgbClr val="fff200">
                      <a:alpha val="96078"/>
                    </a:srgbClr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003640" y="1916280"/>
            <a:ext cx="3529080" cy="46796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16" name=""/>
          <p:cNvSpPr/>
          <p:nvPr/>
        </p:nvSpPr>
        <p:spPr>
          <a:xfrm>
            <a:off x="0" y="1557360"/>
            <a:ext cx="5292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ahoma"/>
              </a:rPr>
              <a:t>毛泽东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1893-1976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），中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人民共和国的缔造者，伟大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无产阶级革命家、军事家、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想家，中华人民共和国第一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国家主席，中国人民第一代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导集体的核心。他的讲话稿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在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《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毛泽东选集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》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（共五卷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里，他的诗词收在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《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毛泽东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词文集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》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里，他撰写的新闻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收在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《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毛泽东新闻工作文选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3" name="camera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547640" y="836640"/>
            <a:ext cx="2519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solidFill>
                    <a:srgbClr val="000000"/>
                  </a:solidFill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>
                        <a:alpha val="96078"/>
                      </a:srgbClr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文体知识</a:t>
            </a:r>
            <a:endParaRPr b="0" lang="en-US" sz="2400" spc="-1" strike="noStrike">
              <a:ln w="0">
                <a:solidFill>
                  <a:srgbClr val="000000"/>
                </a:solidFill>
              </a:ln>
              <a:gradFill rotWithShape="0">
                <a:gsLst>
                  <a:gs pos="0">
                    <a:srgbClr val="4d0808"/>
                  </a:gs>
                  <a:gs pos="50000">
                    <a:srgbClr val="fff200">
                      <a:alpha val="96078"/>
                    </a:srgbClr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18" name=""/>
          <p:cNvSpPr/>
          <p:nvPr/>
        </p:nvSpPr>
        <p:spPr>
          <a:xfrm>
            <a:off x="592200" y="1844640"/>
            <a:ext cx="855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1" lang="zh-CN" sz="1800" spc="-1" strike="noStrike">
                <a:solidFill>
                  <a:srgbClr val="333399"/>
                </a:solidFill>
                <a:latin typeface="Tahoma"/>
              </a:rPr>
              <a:t>、新闻：</a:t>
            </a: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又称消息，是报纸最常用的文章样式。它用事实说话，及时报道最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发生的有社会价值的事实。从广义上讲，包括：消息、通讯、报告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学；从狭义上讲，就是指消息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1280" y="270828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1" lang="zh-CN" sz="1800" spc="-1" strike="noStrike">
                <a:solidFill>
                  <a:srgbClr val="333399"/>
                </a:solidFill>
                <a:latin typeface="Tahoma"/>
              </a:rPr>
              <a:t>、新闻六要素：</a:t>
            </a: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人物、时间、地点、事件发生的原因、经过、结果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11280" y="3068640"/>
            <a:ext cx="68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3</a:t>
            </a:r>
            <a:r>
              <a:rPr b="1" lang="zh-CN" sz="1800" spc="-1" strike="noStrike">
                <a:solidFill>
                  <a:srgbClr val="333399"/>
                </a:solidFill>
                <a:latin typeface="Tahoma"/>
              </a:rPr>
              <a:t>、新闻结构五部分：标题、导语、主体、背景、结语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26920" y="350028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Tahoma"/>
              </a:rPr>
              <a:t>（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1" lang="zh-CN" sz="1800" spc="-1" strike="noStrike">
                <a:solidFill>
                  <a:srgbClr val="333399"/>
                </a:solidFill>
                <a:latin typeface="Tahoma"/>
              </a:rPr>
              <a:t>）标题</a:t>
            </a:r>
            <a:r>
              <a:rPr b="1" lang="zh-CN" sz="1800" spc="-1" strike="noStrike">
                <a:solidFill>
                  <a:srgbClr val="b2b2b2"/>
                </a:solidFill>
                <a:latin typeface="Tahoma"/>
              </a:rPr>
              <a:t>：</a:t>
            </a: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常利用多行形式。分为：</a:t>
            </a:r>
            <a:r>
              <a:rPr b="1" lang="zh-CN" sz="1800" spc="-1" strike="noStrike">
                <a:solidFill>
                  <a:srgbClr val="333399"/>
                </a:solidFill>
                <a:latin typeface="Tahoma"/>
              </a:rPr>
              <a:t>主标、引标、副标</a:t>
            </a: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三种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26920" y="3860640"/>
            <a:ext cx="83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Tahoma"/>
              </a:rPr>
              <a:t>（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1" lang="zh-CN" sz="1800" spc="-1" strike="noStrike">
                <a:solidFill>
                  <a:srgbClr val="333399"/>
                </a:solidFill>
                <a:latin typeface="Tahoma"/>
              </a:rPr>
              <a:t>）导语</a:t>
            </a:r>
            <a:r>
              <a:rPr b="1" lang="zh-CN" sz="1800" spc="-1" strike="noStrike">
                <a:solidFill>
                  <a:srgbClr val="b2b2b2"/>
                </a:solidFill>
                <a:latin typeface="Tahoma"/>
              </a:rPr>
              <a:t>：</a:t>
            </a: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消息开头的第一段或第一句话，它扼要地揭示消息的核心内容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26920" y="414972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Tahoma"/>
              </a:rPr>
              <a:t>（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3</a:t>
            </a:r>
            <a:r>
              <a:rPr b="1" lang="zh-CN" sz="1800" spc="-1" strike="noStrike">
                <a:solidFill>
                  <a:srgbClr val="333399"/>
                </a:solidFill>
                <a:latin typeface="Tahoma"/>
              </a:rPr>
              <a:t>）主体：</a:t>
            </a: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消息的躯干，它用充足的事实表现主题，是对导语内容的进一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扩展和阐释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26920" y="4724280"/>
            <a:ext cx="83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Tahoma"/>
              </a:rPr>
              <a:t>（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4</a:t>
            </a:r>
            <a:r>
              <a:rPr b="1" lang="zh-CN" sz="1800" spc="-1" strike="noStrike">
                <a:solidFill>
                  <a:srgbClr val="333399"/>
                </a:solidFill>
                <a:latin typeface="Tahoma"/>
              </a:rPr>
              <a:t>）背景和结语：</a:t>
            </a: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背景指的是消息发生的社会环境和自然环境。</a:t>
            </a:r>
            <a:r>
              <a:rPr b="1" lang="zh-CN" sz="1800" spc="-1" strike="noStrike">
                <a:solidFill>
                  <a:srgbClr val="333399"/>
                </a:solidFill>
                <a:latin typeface="Tahoma"/>
              </a:rPr>
              <a:t>背景和结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Tahoma"/>
              </a:rPr>
              <a:t>                              </a:t>
            </a:r>
            <a:r>
              <a:rPr b="1" lang="zh-CN" sz="1800" spc="-1" strike="noStrike">
                <a:solidFill>
                  <a:srgbClr val="333399"/>
                </a:solidFill>
                <a:latin typeface="Tahoma"/>
              </a:rPr>
              <a:t>有时可以暗含在主体中，没有明显标志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4360" y="5373720"/>
            <a:ext cx="773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4</a:t>
            </a:r>
            <a:r>
              <a:rPr b="1" lang="zh-CN" sz="1800" spc="-1" strike="noStrike">
                <a:solidFill>
                  <a:srgbClr val="333399"/>
                </a:solidFill>
                <a:latin typeface="Tahoma"/>
              </a:rPr>
              <a:t>、新闻的特征：</a:t>
            </a: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用事实说话（</a:t>
            </a:r>
            <a:r>
              <a:rPr b="1" lang="zh-CN" sz="1800" spc="-1" strike="noStrike">
                <a:solidFill>
                  <a:srgbClr val="333399"/>
                </a:solidFill>
                <a:latin typeface="Tahoma"/>
              </a:rPr>
              <a:t>基本特征</a:t>
            </a: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）、迅速及时、简明扼要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4360" y="5734080"/>
            <a:ext cx="701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5</a:t>
            </a:r>
            <a:r>
              <a:rPr b="1" lang="zh-CN" sz="1800" spc="-1" strike="noStrike">
                <a:solidFill>
                  <a:srgbClr val="333399"/>
                </a:solidFill>
                <a:latin typeface="Tahoma"/>
              </a:rPr>
              <a:t>、新闻在表达方式上的特点：</a:t>
            </a: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以记叙为主，可适当议论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26920" y="3573360"/>
            <a:ext cx="144720" cy="863640"/>
          </a:xfrm>
          <a:custGeom>
            <a:avLst/>
            <a:gdLst>
              <a:gd name="textAreaLeft" fmla="*/ 92520 w 144720"/>
              <a:gd name="textAreaRight" fmla="*/ 145080 w 14472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3800" y="3645000"/>
            <a:ext cx="4550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Tahoma"/>
              </a:rPr>
              <a:t>必不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Tahoma"/>
              </a:rPr>
              <a:t>可少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16360" y="1190520"/>
            <a:ext cx="42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ahoma"/>
              </a:rPr>
              <a:t>“ </a:t>
            </a:r>
            <a:r>
              <a:rPr b="1" lang="zh-CN" sz="2400" spc="-1" strike="noStrike">
                <a:solidFill>
                  <a:srgbClr val="333399"/>
                </a:solidFill>
                <a:latin typeface="Tahoma"/>
              </a:rPr>
              <a:t>三特征、五结构、六要素 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" name="camera.wav"/>
      </p:stSnd>
    </p:sndAc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971640" y="692280"/>
            <a:ext cx="33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0700a"/>
                </a:solidFill>
                <a:latin typeface="Times New Roman"/>
              </a:rPr>
              <a:t>新闻的结构要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26920" y="1268280"/>
            <a:ext cx="136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导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结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背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47640" y="1268280"/>
            <a:ext cx="67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0700a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2f20ec"/>
                </a:solidFill>
                <a:latin typeface="Times New Roman"/>
              </a:rPr>
              <a:t>高度概括事件（迅速了解新闻主要内容，要看标题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403280" y="1963800"/>
            <a:ext cx="69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0700a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2f20ec"/>
                </a:solidFill>
                <a:latin typeface="Times New Roman"/>
              </a:rPr>
              <a:t>简洁明了的叙述事件。一般指“电头”后的第一句话或第一段。（较详细了解新闻内容，要看导语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403280" y="2708280"/>
            <a:ext cx="7236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0700a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2f20ec"/>
                </a:solidFill>
                <a:latin typeface="Times New Roman"/>
              </a:rPr>
              <a:t>导语后集中叙述</a:t>
            </a:r>
            <a:r>
              <a:rPr b="1" lang="zh-CN" sz="2400" spc="-1" strike="noStrike">
                <a:solidFill>
                  <a:srgbClr val="2f20ec"/>
                </a:solidFill>
                <a:latin typeface="Times New Roman"/>
              </a:rPr>
              <a:t>事件、阐发问题和表明观点的中心部分。（详细地的了解新闻内容，要看主体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332000" y="4221000"/>
            <a:ext cx="67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814bc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2f20ec"/>
                </a:solidFill>
                <a:latin typeface="Times New Roman"/>
              </a:rPr>
              <a:t>是事物的历史状况或存在的环境、条件，是从属部分，一般插在主体中，也插在“导语”或“结语”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76360" y="350028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f20ec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2f20ec"/>
                </a:solidFill>
                <a:latin typeface="Times New Roman"/>
              </a:rPr>
              <a:t>是新闻的结尾，一般指新闻的最后一句或一段。（依内容的需要，可有可无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3" name="camera.wav"/>
      </p:stSnd>
    </p:sndAc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990720" y="990720"/>
            <a:ext cx="30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隶书"/>
              </a:rPr>
              <a:t>教学目标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58920" y="1628640"/>
            <a:ext cx="71294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、把握课文中的人物、事件，认识中国革命胜利来之不易，并从中获得有益启示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、了解新闻的特点、新闻的结构、新闻的六大要素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" name="camera.wav"/>
      </p:stSnd>
    </p:sndAc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5" dur="3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2000" cy="74167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187280" y="1341360"/>
            <a:ext cx="683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请给下面红色的字标上正确的读音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476360" y="692280"/>
            <a:ext cx="244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42818"/>
                </a:solidFill>
                <a:latin typeface="Times New Roman"/>
                <a:ea typeface="华文隶书"/>
              </a:rPr>
              <a:t>检查预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332000" y="1989000"/>
            <a:ext cx="25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阻</a:t>
            </a:r>
            <a:r>
              <a:rPr b="1" lang="zh-CN" sz="2800" spc="-1" strike="noStrike">
                <a:solidFill>
                  <a:srgbClr val="f42818"/>
                </a:solidFill>
                <a:latin typeface="Times New Roman"/>
              </a:rPr>
              <a:t>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    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356000" y="1916280"/>
            <a:ext cx="33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芜</a:t>
            </a:r>
            <a:r>
              <a:rPr b="1" lang="zh-CN" sz="2800" spc="-1" strike="noStrike">
                <a:solidFill>
                  <a:srgbClr val="f42818"/>
                </a:solidFill>
                <a:latin typeface="Times New Roman"/>
              </a:rPr>
              <a:t>湖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    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32000" y="263700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42818"/>
                </a:solidFill>
                <a:latin typeface="Times New Roman"/>
              </a:rPr>
              <a:t>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港（    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56000" y="256536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42818"/>
                </a:solidFill>
                <a:latin typeface="Times New Roman"/>
              </a:rPr>
              <a:t>溃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退（      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403280" y="335772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42818"/>
                </a:solidFill>
                <a:latin typeface="Times New Roman"/>
              </a:rPr>
              <a:t>歼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灭（     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 rot="10756800">
            <a:off x="4355280" y="335736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42818"/>
                </a:solidFill>
                <a:latin typeface="Times New Roman"/>
              </a:rPr>
              <a:t>绥靖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           ）（       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403280" y="407664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42818"/>
                </a:solidFill>
                <a:latin typeface="Times New Roman"/>
              </a:rPr>
              <a:t>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宝（    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356000" y="4076640"/>
            <a:ext cx="32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负</a:t>
            </a:r>
            <a:r>
              <a:rPr b="1" lang="zh-CN" sz="2800" spc="-1" strike="noStrike">
                <a:solidFill>
                  <a:srgbClr val="f42818"/>
                </a:solidFill>
                <a:latin typeface="Times New Roman"/>
              </a:rPr>
              <a:t>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顽抗（    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03280" y="486900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高屋建</a:t>
            </a:r>
            <a:r>
              <a:rPr b="1" lang="zh-CN" sz="2800" spc="-1" strike="noStrike">
                <a:solidFill>
                  <a:srgbClr val="f42818"/>
                </a:solidFill>
                <a:latin typeface="Times New Roman"/>
              </a:rPr>
              <a:t>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    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356000" y="479736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气势</a:t>
            </a:r>
            <a:r>
              <a:rPr b="1" lang="zh-CN" sz="2800" spc="-1" strike="noStrike">
                <a:solidFill>
                  <a:srgbClr val="f42818"/>
                </a:solidFill>
                <a:latin typeface="Times New Roman"/>
              </a:rPr>
              <a:t>磅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            ）（  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771640" y="197316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0ec"/>
                </a:solidFill>
                <a:latin typeface="Times New Roman"/>
              </a:rPr>
              <a:t>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653080" y="184464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f20ec"/>
                </a:solidFill>
                <a:latin typeface="Times New Roman"/>
              </a:rPr>
              <a:t>w</a:t>
            </a:r>
            <a:r>
              <a:rPr b="1" lang="zh-CN" sz="1800" spc="-1" strike="noStrike">
                <a:solidFill>
                  <a:srgbClr val="2f20ec"/>
                </a:solidFill>
                <a:latin typeface="Times New Roman"/>
              </a:rPr>
              <a:t>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771640" y="263700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0ec"/>
                </a:solidFill>
                <a:latin typeface="Times New Roman"/>
              </a:rPr>
              <a:t>d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651640" y="249228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0ec"/>
                </a:solidFill>
                <a:latin typeface="Times New Roman"/>
              </a:rPr>
              <a:t>ku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627280" y="3284640"/>
            <a:ext cx="13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0ec"/>
                </a:solidFill>
                <a:latin typeface="Times New Roman"/>
              </a:rPr>
              <a:t>jiā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651640" y="32846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0ec"/>
                </a:solidFill>
                <a:latin typeface="Times New Roman"/>
              </a:rPr>
              <a:t>su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380360" y="328464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0ec"/>
                </a:solidFill>
                <a:latin typeface="Times New Roman"/>
              </a:rPr>
              <a:t>jì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627280" y="400536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0ec"/>
                </a:solidFill>
                <a:latin typeface="Times New Roman"/>
              </a:rPr>
              <a:t>gu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443640" y="40053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0ec"/>
                </a:solidFill>
                <a:latin typeface="Times New Roman"/>
              </a:rPr>
              <a:t>y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76720" y="479736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0ec"/>
                </a:solidFill>
                <a:latin typeface="Times New Roman"/>
              </a:rPr>
              <a:t>lí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300720" y="47242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0ec"/>
                </a:solidFill>
                <a:latin typeface="Times New Roman"/>
              </a:rPr>
              <a:t>pá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028000" y="4781520"/>
            <a:ext cx="6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0ec"/>
                </a:solidFill>
                <a:latin typeface="Times New Roman"/>
              </a:rPr>
              <a:t>b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833840" y="57340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锐不可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15520" y="5681520"/>
            <a:ext cx="9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0ec"/>
                </a:solidFill>
                <a:latin typeface="Times New Roman"/>
              </a:rPr>
              <a:t>dà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3" name="camera.wav"/>
      </p:stSnd>
    </p:sndAc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2000" cy="74167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979640" y="981000"/>
            <a:ext cx="56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请解析下面的词语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19280" y="1700280"/>
            <a:ext cx="172728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高屋建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负隅顽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气势磅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阻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溃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悍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348000" y="1670040"/>
            <a:ext cx="57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0ec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2f20ec"/>
                </a:solidFill>
                <a:latin typeface="Times New Roman"/>
              </a:rPr>
              <a:t>形容居高临下，无法阻挡的有利形势。“瓴”，古代一种盛水的瓶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419640" y="2421000"/>
            <a:ext cx="52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0ec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2f20ec"/>
                </a:solidFill>
                <a:latin typeface="Times New Roman"/>
              </a:rPr>
              <a:t>垂死挣扎，顽固抵抗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419640" y="2924280"/>
            <a:ext cx="57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0ec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2f20ec"/>
                </a:solidFill>
                <a:latin typeface="Times New Roman"/>
              </a:rPr>
              <a:t>形容气势雄伟壮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627280" y="364500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0ec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2f20ec"/>
                </a:solidFill>
                <a:latin typeface="Times New Roman"/>
              </a:rPr>
              <a:t>阻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700360" y="429264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0ec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2f20ec"/>
                </a:solidFill>
                <a:latin typeface="Times New Roman"/>
              </a:rPr>
              <a:t>败退。“溃”，溃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00360" y="501336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0ec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2f20ec"/>
                </a:solidFill>
                <a:latin typeface="Times New Roman"/>
              </a:rPr>
              <a:t>蛮横的样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3" name="camera.wav"/>
      </p:stSnd>
    </p:sndAc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4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5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6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1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2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3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8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9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0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5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6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7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2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3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4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9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0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1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2268360" y="2276640"/>
            <a:ext cx="456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f20ec"/>
                </a:solidFill>
                <a:latin typeface="Times New Roman"/>
              </a:rPr>
              <a:t>㈠、自读课文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f20ec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2f20ec"/>
                </a:solidFill>
                <a:latin typeface="Times New Roman"/>
              </a:rPr>
              <a:t>对照地图，复述三路大军的渡江情况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03280" y="1557360"/>
            <a:ext cx="597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cc"/>
                </a:solidFill>
                <a:latin typeface="Times New Roman"/>
                <a:ea typeface="华文隶书"/>
              </a:rPr>
              <a:t>整体把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3" name="camera.wav"/>
      </p:stSnd>
    </p:sndAc>
  </p:transition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"/>
          <p:cNvGrpSpPr/>
          <p:nvPr/>
        </p:nvGrpSpPr>
        <p:grpSpPr>
          <a:xfrm>
            <a:off x="0" y="0"/>
            <a:ext cx="9144000" cy="6857640"/>
            <a:chOff x="0" y="0"/>
            <a:chExt cx="9144000" cy="6857640"/>
          </a:xfrm>
        </p:grpSpPr>
        <p:pic>
          <p:nvPicPr>
            <p:cNvPr id="180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0" y="5732640"/>
              <a:ext cx="914400" cy="50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九江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229600" y="1309680"/>
              <a:ext cx="900000" cy="45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江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6000" y="3700080"/>
              <a:ext cx="99072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安庆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410080" y="2094840"/>
              <a:ext cx="114300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芜湖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0" y="5867280"/>
            <a:ext cx="91440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九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153280" y="1371600"/>
            <a:ext cx="9144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江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86000" y="3672000"/>
            <a:ext cx="990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安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435640" y="21337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芜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rot="19495800">
            <a:off x="540000" y="40050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Times New Roman"/>
                <a:ea typeface="方正行楷简体"/>
              </a:rPr>
              <a:t>西路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rot="19681800">
            <a:off x="611640" y="4507920"/>
            <a:ext cx="229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6600ff"/>
                </a:solidFill>
                <a:latin typeface="Times New Roman"/>
              </a:rPr>
              <a:t>35</a:t>
            </a: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万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rot="19011000">
            <a:off x="2362320" y="205704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方正行楷简体"/>
              </a:rPr>
              <a:t>中路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rot="19104000">
            <a:off x="2988360" y="2420640"/>
            <a:ext cx="16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万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rot="19011000">
            <a:off x="3734280" y="19656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方正行楷简体"/>
              </a:rPr>
              <a:t>东路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rot="18946200">
            <a:off x="4141080" y="764280"/>
            <a:ext cx="163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cc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35</a:t>
            </a:r>
            <a:r>
              <a:rPr b="1" lang="zh-CN" sz="2400" spc="-1" strike="noStrike">
                <a:solidFill>
                  <a:srgbClr val="ff66cc"/>
                </a:solidFill>
                <a:latin typeface="Times New Roman"/>
              </a:rPr>
              <a:t>万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258920" y="404640"/>
            <a:ext cx="7391520" cy="5562720"/>
            <a:chOff x="1258920" y="404640"/>
            <a:chExt cx="7391520" cy="5562720"/>
          </a:xfrm>
        </p:grpSpPr>
        <p:sp>
          <p:nvSpPr>
            <p:cNvPr id="196" name="未知"/>
            <p:cNvSpPr/>
            <p:nvPr/>
          </p:nvSpPr>
          <p:spPr>
            <a:xfrm>
              <a:off x="1258920" y="4330440"/>
              <a:ext cx="2038320" cy="1636920"/>
            </a:xfrm>
            <a:custGeom>
              <a:avLst/>
              <a:gdLst/>
              <a:ahLst/>
              <a:rect l="l" t="t" r="r" b="b"/>
              <a:pathLst>
                <a:path w="1284" h="1008">
                  <a:moveTo>
                    <a:pt x="0" y="1008"/>
                  </a:moveTo>
                  <a:cubicBezTo>
                    <a:pt x="8" y="984"/>
                    <a:pt x="3" y="950"/>
                    <a:pt x="24" y="936"/>
                  </a:cubicBezTo>
                  <a:cubicBezTo>
                    <a:pt x="60" y="912"/>
                    <a:pt x="96" y="900"/>
                    <a:pt x="132" y="876"/>
                  </a:cubicBezTo>
                  <a:cubicBezTo>
                    <a:pt x="175" y="890"/>
                    <a:pt x="223" y="892"/>
                    <a:pt x="264" y="912"/>
                  </a:cubicBezTo>
                  <a:cubicBezTo>
                    <a:pt x="357" y="959"/>
                    <a:pt x="246" y="918"/>
                    <a:pt x="336" y="948"/>
                  </a:cubicBezTo>
                  <a:cubicBezTo>
                    <a:pt x="360" y="940"/>
                    <a:pt x="391" y="933"/>
                    <a:pt x="408" y="912"/>
                  </a:cubicBezTo>
                  <a:cubicBezTo>
                    <a:pt x="455" y="854"/>
                    <a:pt x="377" y="890"/>
                    <a:pt x="456" y="864"/>
                  </a:cubicBezTo>
                  <a:cubicBezTo>
                    <a:pt x="520" y="767"/>
                    <a:pt x="704" y="691"/>
                    <a:pt x="804" y="624"/>
                  </a:cubicBezTo>
                  <a:cubicBezTo>
                    <a:pt x="833" y="605"/>
                    <a:pt x="911" y="518"/>
                    <a:pt x="924" y="480"/>
                  </a:cubicBezTo>
                  <a:cubicBezTo>
                    <a:pt x="928" y="468"/>
                    <a:pt x="927" y="453"/>
                    <a:pt x="936" y="444"/>
                  </a:cubicBezTo>
                  <a:cubicBezTo>
                    <a:pt x="956" y="424"/>
                    <a:pt x="1008" y="396"/>
                    <a:pt x="1008" y="396"/>
                  </a:cubicBezTo>
                  <a:cubicBezTo>
                    <a:pt x="1054" y="327"/>
                    <a:pt x="1046" y="307"/>
                    <a:pt x="1020" y="228"/>
                  </a:cubicBezTo>
                  <a:cubicBezTo>
                    <a:pt x="1033" y="161"/>
                    <a:pt x="1024" y="145"/>
                    <a:pt x="1080" y="108"/>
                  </a:cubicBezTo>
                  <a:cubicBezTo>
                    <a:pt x="1107" y="27"/>
                    <a:pt x="1069" y="104"/>
                    <a:pt x="1200" y="60"/>
                  </a:cubicBezTo>
                  <a:cubicBezTo>
                    <a:pt x="1238" y="47"/>
                    <a:pt x="1259" y="25"/>
                    <a:pt x="1284" y="0"/>
                  </a:cubicBezTo>
                </a:path>
              </a:pathLst>
            </a:custGeom>
            <a:noFill/>
            <a:ln w="14292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未知"/>
            <p:cNvSpPr/>
            <p:nvPr/>
          </p:nvSpPr>
          <p:spPr>
            <a:xfrm>
              <a:off x="3240000" y="2425680"/>
              <a:ext cx="2192400" cy="1981080"/>
            </a:xfrm>
            <a:custGeom>
              <a:avLst/>
              <a:gdLst/>
              <a:ahLst/>
              <a:rect l="l" t="t" r="r" b="b"/>
              <a:pathLst>
                <a:path w="1381" h="1248">
                  <a:moveTo>
                    <a:pt x="1344" y="0"/>
                  </a:moveTo>
                  <a:cubicBezTo>
                    <a:pt x="1356" y="62"/>
                    <a:pt x="1381" y="108"/>
                    <a:pt x="1308" y="132"/>
                  </a:cubicBezTo>
                  <a:cubicBezTo>
                    <a:pt x="1261" y="116"/>
                    <a:pt x="1195" y="127"/>
                    <a:pt x="1152" y="156"/>
                  </a:cubicBezTo>
                  <a:cubicBezTo>
                    <a:pt x="1128" y="172"/>
                    <a:pt x="1080" y="204"/>
                    <a:pt x="1080" y="204"/>
                  </a:cubicBezTo>
                  <a:cubicBezTo>
                    <a:pt x="1076" y="216"/>
                    <a:pt x="1077" y="231"/>
                    <a:pt x="1068" y="240"/>
                  </a:cubicBezTo>
                  <a:cubicBezTo>
                    <a:pt x="1059" y="249"/>
                    <a:pt x="1043" y="246"/>
                    <a:pt x="1032" y="252"/>
                  </a:cubicBezTo>
                  <a:cubicBezTo>
                    <a:pt x="967" y="288"/>
                    <a:pt x="968" y="292"/>
                    <a:pt x="924" y="336"/>
                  </a:cubicBezTo>
                  <a:cubicBezTo>
                    <a:pt x="920" y="348"/>
                    <a:pt x="921" y="363"/>
                    <a:pt x="912" y="372"/>
                  </a:cubicBezTo>
                  <a:cubicBezTo>
                    <a:pt x="870" y="414"/>
                    <a:pt x="874" y="366"/>
                    <a:pt x="852" y="348"/>
                  </a:cubicBezTo>
                  <a:cubicBezTo>
                    <a:pt x="842" y="340"/>
                    <a:pt x="828" y="340"/>
                    <a:pt x="816" y="336"/>
                  </a:cubicBezTo>
                  <a:cubicBezTo>
                    <a:pt x="766" y="353"/>
                    <a:pt x="765" y="378"/>
                    <a:pt x="720" y="408"/>
                  </a:cubicBezTo>
                  <a:cubicBezTo>
                    <a:pt x="650" y="513"/>
                    <a:pt x="669" y="451"/>
                    <a:pt x="684" y="600"/>
                  </a:cubicBezTo>
                  <a:cubicBezTo>
                    <a:pt x="668" y="709"/>
                    <a:pt x="681" y="657"/>
                    <a:pt x="648" y="756"/>
                  </a:cubicBezTo>
                  <a:cubicBezTo>
                    <a:pt x="640" y="780"/>
                    <a:pt x="600" y="772"/>
                    <a:pt x="576" y="780"/>
                  </a:cubicBezTo>
                  <a:cubicBezTo>
                    <a:pt x="514" y="801"/>
                    <a:pt x="451" y="815"/>
                    <a:pt x="396" y="852"/>
                  </a:cubicBezTo>
                  <a:cubicBezTo>
                    <a:pt x="356" y="912"/>
                    <a:pt x="384" y="880"/>
                    <a:pt x="300" y="936"/>
                  </a:cubicBezTo>
                  <a:cubicBezTo>
                    <a:pt x="273" y="954"/>
                    <a:pt x="204" y="960"/>
                    <a:pt x="204" y="960"/>
                  </a:cubicBezTo>
                  <a:cubicBezTo>
                    <a:pt x="192" y="972"/>
                    <a:pt x="176" y="981"/>
                    <a:pt x="168" y="996"/>
                  </a:cubicBezTo>
                  <a:cubicBezTo>
                    <a:pt x="150" y="1029"/>
                    <a:pt x="153" y="1072"/>
                    <a:pt x="132" y="1104"/>
                  </a:cubicBezTo>
                  <a:cubicBezTo>
                    <a:pt x="116" y="1128"/>
                    <a:pt x="100" y="1152"/>
                    <a:pt x="84" y="1176"/>
                  </a:cubicBezTo>
                  <a:cubicBezTo>
                    <a:pt x="77" y="1187"/>
                    <a:pt x="59" y="1182"/>
                    <a:pt x="48" y="1188"/>
                  </a:cubicBezTo>
                  <a:cubicBezTo>
                    <a:pt x="35" y="1194"/>
                    <a:pt x="24" y="1204"/>
                    <a:pt x="12" y="1212"/>
                  </a:cubicBezTo>
                  <a:cubicBezTo>
                    <a:pt x="8" y="1224"/>
                    <a:pt x="0" y="1248"/>
                    <a:pt x="0" y="1248"/>
                  </a:cubicBezTo>
                </a:path>
              </a:pathLst>
            </a:custGeom>
            <a:noFill/>
            <a:ln w="1494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未知"/>
            <p:cNvSpPr/>
            <p:nvPr/>
          </p:nvSpPr>
          <p:spPr>
            <a:xfrm>
              <a:off x="5392800" y="404640"/>
              <a:ext cx="3257640" cy="2057400"/>
            </a:xfrm>
            <a:custGeom>
              <a:avLst/>
              <a:gdLst/>
              <a:ahLst/>
              <a:rect l="l" t="t" r="r" b="b"/>
              <a:pathLst>
                <a:path w="2052" h="1296">
                  <a:moveTo>
                    <a:pt x="2052" y="552"/>
                  </a:moveTo>
                  <a:cubicBezTo>
                    <a:pt x="1994" y="545"/>
                    <a:pt x="1903" y="546"/>
                    <a:pt x="1848" y="516"/>
                  </a:cubicBezTo>
                  <a:cubicBezTo>
                    <a:pt x="1724" y="447"/>
                    <a:pt x="1821" y="483"/>
                    <a:pt x="1740" y="456"/>
                  </a:cubicBezTo>
                  <a:cubicBezTo>
                    <a:pt x="1723" y="404"/>
                    <a:pt x="1690" y="361"/>
                    <a:pt x="1668" y="312"/>
                  </a:cubicBezTo>
                  <a:cubicBezTo>
                    <a:pt x="1643" y="255"/>
                    <a:pt x="1633" y="192"/>
                    <a:pt x="1620" y="132"/>
                  </a:cubicBezTo>
                  <a:cubicBezTo>
                    <a:pt x="1612" y="97"/>
                    <a:pt x="1603" y="37"/>
                    <a:pt x="1572" y="12"/>
                  </a:cubicBezTo>
                  <a:cubicBezTo>
                    <a:pt x="1562" y="4"/>
                    <a:pt x="1548" y="4"/>
                    <a:pt x="1536" y="0"/>
                  </a:cubicBezTo>
                  <a:cubicBezTo>
                    <a:pt x="1516" y="4"/>
                    <a:pt x="1493" y="1"/>
                    <a:pt x="1476" y="12"/>
                  </a:cubicBezTo>
                  <a:cubicBezTo>
                    <a:pt x="1465" y="19"/>
                    <a:pt x="1470" y="37"/>
                    <a:pt x="1464" y="48"/>
                  </a:cubicBezTo>
                  <a:cubicBezTo>
                    <a:pt x="1458" y="61"/>
                    <a:pt x="1449" y="73"/>
                    <a:pt x="1440" y="84"/>
                  </a:cubicBezTo>
                  <a:cubicBezTo>
                    <a:pt x="1409" y="121"/>
                    <a:pt x="1377" y="141"/>
                    <a:pt x="1332" y="156"/>
                  </a:cubicBezTo>
                  <a:cubicBezTo>
                    <a:pt x="1258" y="107"/>
                    <a:pt x="1245" y="122"/>
                    <a:pt x="1140" y="132"/>
                  </a:cubicBezTo>
                  <a:cubicBezTo>
                    <a:pt x="986" y="123"/>
                    <a:pt x="904" y="110"/>
                    <a:pt x="756" y="132"/>
                  </a:cubicBezTo>
                  <a:cubicBezTo>
                    <a:pt x="688" y="142"/>
                    <a:pt x="631" y="187"/>
                    <a:pt x="564" y="204"/>
                  </a:cubicBezTo>
                  <a:cubicBezTo>
                    <a:pt x="519" y="234"/>
                    <a:pt x="518" y="259"/>
                    <a:pt x="468" y="276"/>
                  </a:cubicBezTo>
                  <a:cubicBezTo>
                    <a:pt x="451" y="328"/>
                    <a:pt x="450" y="342"/>
                    <a:pt x="396" y="360"/>
                  </a:cubicBezTo>
                  <a:cubicBezTo>
                    <a:pt x="380" y="384"/>
                    <a:pt x="357" y="405"/>
                    <a:pt x="348" y="432"/>
                  </a:cubicBezTo>
                  <a:cubicBezTo>
                    <a:pt x="340" y="456"/>
                    <a:pt x="342" y="486"/>
                    <a:pt x="324" y="504"/>
                  </a:cubicBezTo>
                  <a:cubicBezTo>
                    <a:pt x="293" y="535"/>
                    <a:pt x="221" y="611"/>
                    <a:pt x="204" y="648"/>
                  </a:cubicBezTo>
                  <a:cubicBezTo>
                    <a:pt x="172" y="720"/>
                    <a:pt x="164" y="798"/>
                    <a:pt x="120" y="864"/>
                  </a:cubicBezTo>
                  <a:cubicBezTo>
                    <a:pt x="95" y="1011"/>
                    <a:pt x="0" y="1145"/>
                    <a:pt x="0" y="1296"/>
                  </a:cubicBezTo>
                </a:path>
              </a:pathLst>
            </a:custGeom>
            <a:noFill/>
            <a:ln w="200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未知"/>
          <p:cNvSpPr/>
          <p:nvPr/>
        </p:nvSpPr>
        <p:spPr>
          <a:xfrm>
            <a:off x="1258920" y="4292640"/>
            <a:ext cx="2038320" cy="1636560"/>
          </a:xfrm>
          <a:custGeom>
            <a:avLst/>
            <a:gdLst/>
            <a:ahLst/>
            <a:rect l="l" t="t" r="r" b="b"/>
            <a:pathLst>
              <a:path w="1284" h="1008">
                <a:moveTo>
                  <a:pt x="0" y="1008"/>
                </a:moveTo>
                <a:cubicBezTo>
                  <a:pt x="8" y="984"/>
                  <a:pt x="3" y="950"/>
                  <a:pt x="24" y="936"/>
                </a:cubicBezTo>
                <a:cubicBezTo>
                  <a:pt x="60" y="912"/>
                  <a:pt x="96" y="900"/>
                  <a:pt x="132" y="876"/>
                </a:cubicBezTo>
                <a:cubicBezTo>
                  <a:pt x="175" y="890"/>
                  <a:pt x="223" y="892"/>
                  <a:pt x="264" y="912"/>
                </a:cubicBezTo>
                <a:cubicBezTo>
                  <a:pt x="357" y="959"/>
                  <a:pt x="246" y="918"/>
                  <a:pt x="336" y="948"/>
                </a:cubicBezTo>
                <a:cubicBezTo>
                  <a:pt x="360" y="940"/>
                  <a:pt x="391" y="933"/>
                  <a:pt x="408" y="912"/>
                </a:cubicBezTo>
                <a:cubicBezTo>
                  <a:pt x="455" y="854"/>
                  <a:pt x="377" y="890"/>
                  <a:pt x="456" y="864"/>
                </a:cubicBezTo>
                <a:cubicBezTo>
                  <a:pt x="520" y="767"/>
                  <a:pt x="704" y="691"/>
                  <a:pt x="804" y="624"/>
                </a:cubicBezTo>
                <a:cubicBezTo>
                  <a:pt x="833" y="605"/>
                  <a:pt x="911" y="518"/>
                  <a:pt x="924" y="480"/>
                </a:cubicBezTo>
                <a:cubicBezTo>
                  <a:pt x="928" y="468"/>
                  <a:pt x="927" y="453"/>
                  <a:pt x="936" y="444"/>
                </a:cubicBezTo>
                <a:cubicBezTo>
                  <a:pt x="956" y="424"/>
                  <a:pt x="1008" y="396"/>
                  <a:pt x="1008" y="396"/>
                </a:cubicBezTo>
                <a:cubicBezTo>
                  <a:pt x="1054" y="327"/>
                  <a:pt x="1046" y="307"/>
                  <a:pt x="1020" y="228"/>
                </a:cubicBezTo>
                <a:cubicBezTo>
                  <a:pt x="1033" y="161"/>
                  <a:pt x="1024" y="145"/>
                  <a:pt x="1080" y="108"/>
                </a:cubicBezTo>
                <a:cubicBezTo>
                  <a:pt x="1107" y="27"/>
                  <a:pt x="1069" y="104"/>
                  <a:pt x="1200" y="60"/>
                </a:cubicBezTo>
                <a:cubicBezTo>
                  <a:pt x="1238" y="47"/>
                  <a:pt x="1259" y="25"/>
                  <a:pt x="1284" y="0"/>
                </a:cubicBezTo>
              </a:path>
            </a:pathLst>
          </a:custGeom>
          <a:noFill/>
          <a:ln w="203040">
            <a:solidFill>
              <a:srgbClr val="54b1b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未知"/>
          <p:cNvSpPr/>
          <p:nvPr/>
        </p:nvSpPr>
        <p:spPr>
          <a:xfrm>
            <a:off x="3276720" y="2349360"/>
            <a:ext cx="2192040" cy="1981440"/>
          </a:xfrm>
          <a:custGeom>
            <a:avLst/>
            <a:gdLst/>
            <a:ahLst/>
            <a:rect l="l" t="t" r="r" b="b"/>
            <a:pathLst>
              <a:path w="1381" h="1248">
                <a:moveTo>
                  <a:pt x="1344" y="0"/>
                </a:moveTo>
                <a:cubicBezTo>
                  <a:pt x="1356" y="62"/>
                  <a:pt x="1381" y="108"/>
                  <a:pt x="1308" y="132"/>
                </a:cubicBezTo>
                <a:cubicBezTo>
                  <a:pt x="1261" y="116"/>
                  <a:pt x="1195" y="127"/>
                  <a:pt x="1152" y="156"/>
                </a:cubicBezTo>
                <a:cubicBezTo>
                  <a:pt x="1128" y="172"/>
                  <a:pt x="1080" y="204"/>
                  <a:pt x="1080" y="204"/>
                </a:cubicBezTo>
                <a:cubicBezTo>
                  <a:pt x="1076" y="216"/>
                  <a:pt x="1077" y="231"/>
                  <a:pt x="1068" y="240"/>
                </a:cubicBezTo>
                <a:cubicBezTo>
                  <a:pt x="1059" y="249"/>
                  <a:pt x="1043" y="246"/>
                  <a:pt x="1032" y="252"/>
                </a:cubicBezTo>
                <a:cubicBezTo>
                  <a:pt x="967" y="288"/>
                  <a:pt x="968" y="292"/>
                  <a:pt x="924" y="336"/>
                </a:cubicBezTo>
                <a:cubicBezTo>
                  <a:pt x="920" y="348"/>
                  <a:pt x="921" y="363"/>
                  <a:pt x="912" y="372"/>
                </a:cubicBezTo>
                <a:cubicBezTo>
                  <a:pt x="870" y="414"/>
                  <a:pt x="874" y="366"/>
                  <a:pt x="852" y="348"/>
                </a:cubicBezTo>
                <a:cubicBezTo>
                  <a:pt x="842" y="340"/>
                  <a:pt x="828" y="340"/>
                  <a:pt x="816" y="336"/>
                </a:cubicBezTo>
                <a:cubicBezTo>
                  <a:pt x="766" y="353"/>
                  <a:pt x="765" y="378"/>
                  <a:pt x="720" y="408"/>
                </a:cubicBezTo>
                <a:cubicBezTo>
                  <a:pt x="650" y="513"/>
                  <a:pt x="669" y="451"/>
                  <a:pt x="684" y="600"/>
                </a:cubicBezTo>
                <a:cubicBezTo>
                  <a:pt x="668" y="709"/>
                  <a:pt x="681" y="657"/>
                  <a:pt x="648" y="756"/>
                </a:cubicBezTo>
                <a:cubicBezTo>
                  <a:pt x="640" y="780"/>
                  <a:pt x="600" y="772"/>
                  <a:pt x="576" y="780"/>
                </a:cubicBezTo>
                <a:cubicBezTo>
                  <a:pt x="514" y="801"/>
                  <a:pt x="451" y="815"/>
                  <a:pt x="396" y="852"/>
                </a:cubicBezTo>
                <a:cubicBezTo>
                  <a:pt x="356" y="912"/>
                  <a:pt x="384" y="880"/>
                  <a:pt x="300" y="936"/>
                </a:cubicBezTo>
                <a:cubicBezTo>
                  <a:pt x="273" y="954"/>
                  <a:pt x="204" y="960"/>
                  <a:pt x="204" y="960"/>
                </a:cubicBezTo>
                <a:cubicBezTo>
                  <a:pt x="192" y="972"/>
                  <a:pt x="176" y="981"/>
                  <a:pt x="168" y="996"/>
                </a:cubicBezTo>
                <a:cubicBezTo>
                  <a:pt x="150" y="1029"/>
                  <a:pt x="153" y="1072"/>
                  <a:pt x="132" y="1104"/>
                </a:cubicBezTo>
                <a:cubicBezTo>
                  <a:pt x="116" y="1128"/>
                  <a:pt x="100" y="1152"/>
                  <a:pt x="84" y="1176"/>
                </a:cubicBezTo>
                <a:cubicBezTo>
                  <a:pt x="77" y="1187"/>
                  <a:pt x="59" y="1182"/>
                  <a:pt x="48" y="1188"/>
                </a:cubicBezTo>
                <a:cubicBezTo>
                  <a:pt x="35" y="1194"/>
                  <a:pt x="24" y="1204"/>
                  <a:pt x="12" y="1212"/>
                </a:cubicBezTo>
                <a:cubicBezTo>
                  <a:pt x="8" y="1224"/>
                  <a:pt x="0" y="1248"/>
                  <a:pt x="0" y="1248"/>
                </a:cubicBezTo>
              </a:path>
            </a:pathLst>
          </a:custGeom>
          <a:noFill/>
          <a:ln w="2030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未知"/>
          <p:cNvSpPr/>
          <p:nvPr/>
        </p:nvSpPr>
        <p:spPr>
          <a:xfrm>
            <a:off x="5364000" y="404640"/>
            <a:ext cx="3257640" cy="2057400"/>
          </a:xfrm>
          <a:custGeom>
            <a:avLst/>
            <a:gdLst/>
            <a:ahLst/>
            <a:rect l="l" t="t" r="r" b="b"/>
            <a:pathLst>
              <a:path w="2052" h="1296">
                <a:moveTo>
                  <a:pt x="2052" y="552"/>
                </a:moveTo>
                <a:cubicBezTo>
                  <a:pt x="1994" y="545"/>
                  <a:pt x="1903" y="546"/>
                  <a:pt x="1848" y="516"/>
                </a:cubicBezTo>
                <a:cubicBezTo>
                  <a:pt x="1724" y="447"/>
                  <a:pt x="1821" y="483"/>
                  <a:pt x="1740" y="456"/>
                </a:cubicBezTo>
                <a:cubicBezTo>
                  <a:pt x="1723" y="404"/>
                  <a:pt x="1690" y="361"/>
                  <a:pt x="1668" y="312"/>
                </a:cubicBezTo>
                <a:cubicBezTo>
                  <a:pt x="1643" y="255"/>
                  <a:pt x="1633" y="192"/>
                  <a:pt x="1620" y="132"/>
                </a:cubicBezTo>
                <a:cubicBezTo>
                  <a:pt x="1612" y="97"/>
                  <a:pt x="1603" y="37"/>
                  <a:pt x="1572" y="12"/>
                </a:cubicBezTo>
                <a:cubicBezTo>
                  <a:pt x="1562" y="4"/>
                  <a:pt x="1548" y="4"/>
                  <a:pt x="1536" y="0"/>
                </a:cubicBezTo>
                <a:cubicBezTo>
                  <a:pt x="1516" y="4"/>
                  <a:pt x="1493" y="1"/>
                  <a:pt x="1476" y="12"/>
                </a:cubicBezTo>
                <a:cubicBezTo>
                  <a:pt x="1465" y="19"/>
                  <a:pt x="1470" y="37"/>
                  <a:pt x="1464" y="48"/>
                </a:cubicBezTo>
                <a:cubicBezTo>
                  <a:pt x="1458" y="61"/>
                  <a:pt x="1449" y="73"/>
                  <a:pt x="1440" y="84"/>
                </a:cubicBezTo>
                <a:cubicBezTo>
                  <a:pt x="1409" y="121"/>
                  <a:pt x="1377" y="141"/>
                  <a:pt x="1332" y="156"/>
                </a:cubicBezTo>
                <a:cubicBezTo>
                  <a:pt x="1258" y="107"/>
                  <a:pt x="1245" y="122"/>
                  <a:pt x="1140" y="132"/>
                </a:cubicBezTo>
                <a:cubicBezTo>
                  <a:pt x="986" y="123"/>
                  <a:pt x="904" y="110"/>
                  <a:pt x="756" y="132"/>
                </a:cubicBezTo>
                <a:cubicBezTo>
                  <a:pt x="688" y="142"/>
                  <a:pt x="631" y="187"/>
                  <a:pt x="564" y="204"/>
                </a:cubicBezTo>
                <a:cubicBezTo>
                  <a:pt x="519" y="234"/>
                  <a:pt x="518" y="259"/>
                  <a:pt x="468" y="276"/>
                </a:cubicBezTo>
                <a:cubicBezTo>
                  <a:pt x="451" y="328"/>
                  <a:pt x="450" y="342"/>
                  <a:pt x="396" y="360"/>
                </a:cubicBezTo>
                <a:cubicBezTo>
                  <a:pt x="380" y="384"/>
                  <a:pt x="357" y="405"/>
                  <a:pt x="348" y="432"/>
                </a:cubicBezTo>
                <a:cubicBezTo>
                  <a:pt x="340" y="456"/>
                  <a:pt x="342" y="486"/>
                  <a:pt x="324" y="504"/>
                </a:cubicBezTo>
                <a:cubicBezTo>
                  <a:pt x="293" y="535"/>
                  <a:pt x="221" y="611"/>
                  <a:pt x="204" y="648"/>
                </a:cubicBezTo>
                <a:cubicBezTo>
                  <a:pt x="172" y="720"/>
                  <a:pt x="164" y="798"/>
                  <a:pt x="120" y="864"/>
                </a:cubicBezTo>
                <a:cubicBezTo>
                  <a:pt x="95" y="1011"/>
                  <a:pt x="0" y="1145"/>
                  <a:pt x="0" y="1296"/>
                </a:cubicBezTo>
              </a:path>
            </a:pathLst>
          </a:custGeom>
          <a:noFill/>
          <a:ln w="2001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3" name="camera.wav"/>
      </p:stSnd>
    </p:sndAc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75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500"/>
                            </p:stCondLst>
                            <p:childTnLst>
                              <p:par>
                                <p:cTn id="5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500"/>
                            </p:stCondLst>
                            <p:childTnLst>
                              <p:par>
                                <p:cTn id="5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500"/>
                            </p:stCondLst>
                            <p:childTnLst>
                              <p:par>
                                <p:cTn id="5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1187280" y="2637000"/>
            <a:ext cx="33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700a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20700a"/>
                </a:solidFill>
                <a:latin typeface="Times New Roman"/>
              </a:rPr>
              <a:t>、新闻的记叙要素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117440" y="2924280"/>
            <a:ext cx="2806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时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地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事件的起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事件的经过和结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19280" y="47304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㈡新闻的有关知识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187280" y="1052640"/>
            <a:ext cx="69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700a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20700a"/>
                </a:solidFill>
                <a:latin typeface="Times New Roman"/>
              </a:rPr>
              <a:t>、广义新闻泛指消息、通讯、报告文学等；狭义新闻，专指消息。消息，是报纸常用的一种文章样式。</a:t>
            </a:r>
            <a:r>
              <a:rPr b="1" lang="en-US" sz="2400" spc="-1" strike="noStrike">
                <a:solidFill>
                  <a:srgbClr val="20700a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20700a"/>
                </a:solidFill>
                <a:latin typeface="Times New Roman"/>
              </a:rPr>
              <a:t>人民解放军百万大军横渡长江</a:t>
            </a:r>
            <a:r>
              <a:rPr b="1" lang="en-US" sz="2400" spc="-1" strike="noStrike">
                <a:solidFill>
                  <a:srgbClr val="20700a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20700a"/>
                </a:solidFill>
                <a:latin typeface="Times New Roman"/>
              </a:rPr>
              <a:t>是狭义新闻，即消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042920" y="565164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0700a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2f20ec"/>
                </a:solidFill>
                <a:latin typeface="Times New Roman"/>
              </a:rPr>
              <a:t>试分析本文的新闻六要素（小组讨论解决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11280" y="2997360"/>
            <a:ext cx="32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7450d"/>
                </a:solidFill>
                <a:latin typeface="Times New Roman"/>
              </a:rPr>
              <a:t>人民解放军百万大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411280" y="3332160"/>
            <a:ext cx="51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450d"/>
                </a:solidFill>
                <a:latin typeface="Times New Roman"/>
              </a:rPr>
              <a:t>1949</a:t>
            </a:r>
            <a:r>
              <a:rPr b="1" lang="zh-CN" sz="2400" spc="-1" strike="noStrike">
                <a:solidFill>
                  <a:srgbClr val="f7450d"/>
                </a:solidFill>
                <a:latin typeface="Times New Roman"/>
              </a:rPr>
              <a:t>年</a:t>
            </a:r>
            <a:r>
              <a:rPr b="1" lang="en-US" sz="2400" spc="-1" strike="noStrike">
                <a:solidFill>
                  <a:srgbClr val="f7450d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f7450d"/>
                </a:solidFill>
                <a:latin typeface="Times New Roman"/>
              </a:rPr>
              <a:t>月</a:t>
            </a:r>
            <a:r>
              <a:rPr b="1" lang="en-US" sz="2400" spc="-1" strike="noStrike">
                <a:solidFill>
                  <a:srgbClr val="f7450d"/>
                </a:solidFill>
                <a:latin typeface="Times New Roman"/>
              </a:rPr>
              <a:t>20</a:t>
            </a:r>
            <a:r>
              <a:rPr b="1" lang="zh-CN" sz="2400" spc="-1" strike="noStrike">
                <a:solidFill>
                  <a:srgbClr val="f7450d"/>
                </a:solidFill>
                <a:latin typeface="Times New Roman"/>
              </a:rPr>
              <a:t>日夜起止</a:t>
            </a:r>
            <a:r>
              <a:rPr b="1" lang="en-US" sz="2400" spc="-1" strike="noStrike">
                <a:solidFill>
                  <a:srgbClr val="f7450d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f7450d"/>
                </a:solidFill>
                <a:latin typeface="Times New Roman"/>
              </a:rPr>
              <a:t>月</a:t>
            </a:r>
            <a:r>
              <a:rPr b="1" lang="en-US" sz="2400" spc="-1" strike="noStrike">
                <a:solidFill>
                  <a:srgbClr val="f7450d"/>
                </a:solidFill>
                <a:latin typeface="Times New Roman"/>
              </a:rPr>
              <a:t>22</a:t>
            </a:r>
            <a:r>
              <a:rPr b="1" lang="zh-CN" sz="2400" spc="-1" strike="noStrike">
                <a:solidFill>
                  <a:srgbClr val="f7450d"/>
                </a:solidFill>
                <a:latin typeface="Times New Roman"/>
              </a:rPr>
              <a:t>日</a:t>
            </a:r>
            <a:r>
              <a:rPr b="1" lang="en-US" sz="2400" spc="-1" strike="noStrike">
                <a:solidFill>
                  <a:srgbClr val="f7450d"/>
                </a:solidFill>
                <a:latin typeface="Times New Roman"/>
              </a:rPr>
              <a:t>22</a:t>
            </a:r>
            <a:r>
              <a:rPr b="1" lang="zh-CN" sz="2400" spc="-1" strike="noStrike">
                <a:solidFill>
                  <a:srgbClr val="f7450d"/>
                </a:solidFill>
                <a:latin typeface="Times New Roman"/>
              </a:rPr>
              <a:t>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411280" y="364500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7450d"/>
                </a:solidFill>
                <a:latin typeface="Times New Roman"/>
              </a:rPr>
              <a:t>西起九江（不含）东至江阴一千余华里战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987640" y="400536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7450d"/>
                </a:solidFill>
                <a:latin typeface="Times New Roman"/>
              </a:rPr>
              <a:t>反动派拒签和平协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4437000"/>
            <a:ext cx="75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7450d"/>
                </a:solidFill>
                <a:latin typeface="Times New Roman"/>
              </a:rPr>
              <a:t>                                         </a:t>
            </a:r>
            <a:r>
              <a:rPr b="1" lang="zh-CN" sz="2400" spc="-1" strike="noStrike">
                <a:solidFill>
                  <a:srgbClr val="f7450d"/>
                </a:solidFill>
                <a:latin typeface="Times New Roman"/>
              </a:rPr>
              <a:t>中路军首先突破</a:t>
            </a:r>
            <a:r>
              <a:rPr b="1" lang="en-US" sz="2400" spc="-1" strike="noStrike">
                <a:solidFill>
                  <a:srgbClr val="f7450d"/>
                </a:solidFill>
                <a:latin typeface="Times New Roman"/>
              </a:rPr>
              <a:t>30</a:t>
            </a:r>
            <a:r>
              <a:rPr b="1" lang="zh-CN" sz="2400" spc="-1" strike="noStrike">
                <a:solidFill>
                  <a:srgbClr val="f7450d"/>
                </a:solidFill>
                <a:latin typeface="Times New Roman"/>
              </a:rPr>
              <a:t>万人全渡过，西路军</a:t>
            </a:r>
            <a:r>
              <a:rPr b="1" lang="en-US" sz="2400" spc="-1" strike="noStrike">
                <a:solidFill>
                  <a:srgbClr val="f7450d"/>
                </a:solidFill>
                <a:latin typeface="Times New Roman"/>
              </a:rPr>
              <a:t>35</a:t>
            </a:r>
            <a:r>
              <a:rPr b="1" lang="zh-CN" sz="2400" spc="-1" strike="noStrike">
                <a:solidFill>
                  <a:srgbClr val="f7450d"/>
                </a:solidFill>
                <a:latin typeface="Times New Roman"/>
              </a:rPr>
              <a:t>万已渡三分之二 ，东路军</a:t>
            </a:r>
            <a:r>
              <a:rPr b="1" lang="en-US" sz="2400" spc="-1" strike="noStrike">
                <a:solidFill>
                  <a:srgbClr val="f7450d"/>
                </a:solidFill>
                <a:latin typeface="Times New Roman"/>
              </a:rPr>
              <a:t>35</a:t>
            </a:r>
            <a:r>
              <a:rPr b="1" lang="zh-CN" sz="2400" spc="-1" strike="noStrike">
                <a:solidFill>
                  <a:srgbClr val="f7450d"/>
                </a:solidFill>
                <a:latin typeface="Times New Roman"/>
              </a:rPr>
              <a:t>万大部渡过，占领、控制广大南岸阵地及要塞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3" name="camera.wav"/>
      </p:stSnd>
    </p:sndAc>
  </p:transition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8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9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0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时代背景：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bde"/>
                </a:solidFill>
                <a:latin typeface="华文新魏"/>
                <a:ea typeface="华文新魏"/>
              </a:rPr>
              <a:t>一九四九年初，淮海、辽沈、平津三大战役结束， 我人民解放军在全国取得胜利已成定局。但国民党反动派依然负隅顽抗， 在对长江防线经过三个月的苦心经营后，于</a:t>
            </a:r>
            <a:r>
              <a:rPr b="0" lang="en-US" sz="3200" spc="-1" strike="noStrike">
                <a:solidFill>
                  <a:srgbClr val="161bde"/>
                </a:solidFill>
                <a:latin typeface="华文新魏"/>
                <a:ea typeface="华文新魏"/>
              </a:rPr>
              <a:t>4</a:t>
            </a:r>
            <a:r>
              <a:rPr b="0" lang="en-US" sz="3200" spc="-1" strike="noStrike">
                <a:solidFill>
                  <a:srgbClr val="161bde"/>
                </a:solidFill>
                <a:latin typeface="华文新魏"/>
                <a:ea typeface="华文新魏"/>
              </a:rPr>
              <a:t>月</a:t>
            </a:r>
            <a:r>
              <a:rPr b="0" lang="en-US" sz="3200" spc="-1" strike="noStrike">
                <a:solidFill>
                  <a:srgbClr val="161bde"/>
                </a:solidFill>
                <a:latin typeface="华文新魏"/>
                <a:ea typeface="华文新魏"/>
              </a:rPr>
              <a:t>20</a:t>
            </a:r>
            <a:r>
              <a:rPr b="0" lang="en-US" sz="3200" spc="-1" strike="noStrike">
                <a:solidFill>
                  <a:srgbClr val="161bde"/>
                </a:solidFill>
                <a:latin typeface="华文新魏"/>
                <a:ea typeface="华文新魏"/>
              </a:rPr>
              <a:t>日悍然拒绝签订国内和平协定。</a:t>
            </a:r>
            <a:r>
              <a:rPr b="0" lang="en-US" sz="3200" spc="-1" strike="noStrike">
                <a:solidFill>
                  <a:srgbClr val="161bde"/>
                </a:solidFill>
                <a:latin typeface="华文新魏"/>
                <a:ea typeface="华文新魏"/>
              </a:rPr>
              <a:t>4</a:t>
            </a:r>
            <a:r>
              <a:rPr b="0" lang="en-US" sz="3200" spc="-1" strike="noStrike">
                <a:solidFill>
                  <a:srgbClr val="161bde"/>
                </a:solidFill>
                <a:latin typeface="华文新魏"/>
                <a:ea typeface="华文新魏"/>
              </a:rPr>
              <a:t>月</a:t>
            </a:r>
            <a:r>
              <a:rPr b="0" lang="en-US" sz="3200" spc="-1" strike="noStrike">
                <a:solidFill>
                  <a:srgbClr val="161bde"/>
                </a:solidFill>
                <a:latin typeface="华文新魏"/>
                <a:ea typeface="华文新魏"/>
              </a:rPr>
              <a:t>21</a:t>
            </a:r>
            <a:r>
              <a:rPr b="0" lang="en-US" sz="3200" spc="-1" strike="noStrike">
                <a:solidFill>
                  <a:srgbClr val="161bde"/>
                </a:solidFill>
                <a:latin typeface="华文新魏"/>
                <a:ea typeface="华文新魏"/>
              </a:rPr>
              <a:t>日， 毛泽东和朱德立即发布了《向全国进军的命令》，于该日凌晨发起了渡江战役。</a:t>
            </a:r>
            <a:r>
              <a:rPr b="0" lang="en-US" sz="3200" spc="-1" strike="noStrike">
                <a:solidFill>
                  <a:srgbClr val="161bde"/>
                </a:solidFill>
                <a:latin typeface="华文新魏"/>
                <a:ea typeface="华文新魏"/>
              </a:rPr>
              <a:t>22</a:t>
            </a:r>
            <a:r>
              <a:rPr b="0" lang="en-US" sz="3200" spc="-1" strike="noStrike">
                <a:solidFill>
                  <a:srgbClr val="161bde"/>
                </a:solidFill>
                <a:latin typeface="华文新魏"/>
                <a:ea typeface="华文新魏"/>
              </a:rPr>
              <a:t>日</a:t>
            </a:r>
            <a:r>
              <a:rPr b="0" lang="en-US" sz="3200" spc="-1" strike="noStrike">
                <a:solidFill>
                  <a:srgbClr val="161bde"/>
                </a:solidFill>
                <a:latin typeface="华文新魏"/>
                <a:ea typeface="华文新魏"/>
              </a:rPr>
              <a:t>2</a:t>
            </a:r>
            <a:r>
              <a:rPr b="0" lang="en-US" sz="3200" spc="-1" strike="noStrike">
                <a:solidFill>
                  <a:srgbClr val="161bde"/>
                </a:solidFill>
                <a:latin typeface="华文新魏"/>
                <a:ea typeface="华文新魏"/>
              </a:rPr>
              <a:t>时， 新华社播发了毛泽东撰写的消息《 我三十万大军胜利渡过长江》，报道了中路军战况。</a:t>
            </a:r>
            <a:r>
              <a:rPr b="0" lang="en-US" sz="3200" spc="-1" strike="noStrike">
                <a:solidFill>
                  <a:srgbClr val="161bde"/>
                </a:solidFill>
                <a:latin typeface="华文新魏"/>
                <a:ea typeface="华文新魏"/>
              </a:rPr>
              <a:t>22</a:t>
            </a:r>
            <a:r>
              <a:rPr b="0" lang="en-US" sz="3200" spc="-1" strike="noStrike">
                <a:solidFill>
                  <a:srgbClr val="161bde"/>
                </a:solidFill>
                <a:latin typeface="华文新魏"/>
                <a:ea typeface="华文新魏"/>
              </a:rPr>
              <a:t>日夜，毛泽东又写了这则全面报道前线最新战况的新闻稿——《人民解放军百万大军横渡长江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3" name="camera.wav"/>
      </p:stSnd>
    </p:sndAc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阅读课文，思考问题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626436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marL="202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1bde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161bde"/>
                </a:solidFill>
                <a:latin typeface="Times New Roman"/>
              </a:rPr>
              <a:t>、在课文中圈出记叙的六要素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2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1280" y="1628640"/>
            <a:ext cx="56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61bde"/>
                </a:solidFill>
                <a:latin typeface="Arial"/>
              </a:rPr>
              <a:t>人物</a:t>
            </a:r>
            <a:r>
              <a:rPr b="0" lang="en-US" sz="2000" spc="-1" strike="noStrike">
                <a:solidFill>
                  <a:srgbClr val="161bde"/>
                </a:solidFill>
                <a:latin typeface="Arial"/>
              </a:rPr>
              <a:t>:</a:t>
            </a:r>
            <a:r>
              <a:rPr b="1" lang="zh-CN" sz="1800" spc="-1" strike="noStrike">
                <a:solidFill>
                  <a:srgbClr val="a50021"/>
                </a:solidFill>
                <a:latin typeface="Arial"/>
              </a:rPr>
              <a:t>（</a:t>
            </a:r>
            <a:r>
              <a:rPr b="1" lang="zh-CN" sz="1800" spc="-1" strike="noStrike">
                <a:solidFill>
                  <a:srgbClr val="a50021"/>
                </a:solidFill>
                <a:latin typeface="Arial"/>
              </a:rPr>
              <a:t>人民解放军百万大军</a:t>
            </a:r>
            <a:r>
              <a:rPr b="1" lang="zh-CN" sz="1800" spc="-1" strike="noStrike">
                <a:solidFill>
                  <a:srgbClr val="a50021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11280" y="2060640"/>
            <a:ext cx="62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61bde"/>
                </a:solidFill>
                <a:latin typeface="Arial"/>
              </a:rPr>
              <a:t>时间</a:t>
            </a:r>
            <a:r>
              <a:rPr b="0" lang="en-US" sz="2000" spc="-1" strike="noStrike">
                <a:solidFill>
                  <a:srgbClr val="161bde"/>
                </a:solidFill>
                <a:latin typeface="Arial"/>
              </a:rPr>
              <a:t>: 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(1949</a:t>
            </a:r>
            <a:r>
              <a:rPr b="1" lang="zh-CN" sz="1800" spc="-1" strike="noStrike">
                <a:solidFill>
                  <a:srgbClr val="a50021"/>
                </a:solidFill>
                <a:latin typeface="Arial"/>
              </a:rPr>
              <a:t>年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a50021"/>
                </a:solidFill>
                <a:latin typeface="Arial"/>
              </a:rPr>
              <a:t>月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20</a:t>
            </a:r>
            <a:r>
              <a:rPr b="1" lang="zh-CN" sz="1800" spc="-1" strike="noStrike">
                <a:solidFill>
                  <a:srgbClr val="a50021"/>
                </a:solidFill>
                <a:latin typeface="Arial"/>
              </a:rPr>
              <a:t>日夜起止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a50021"/>
                </a:solidFill>
                <a:latin typeface="Arial"/>
              </a:rPr>
              <a:t>月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22</a:t>
            </a:r>
            <a:r>
              <a:rPr b="1" lang="zh-CN" sz="1800" spc="-1" strike="noStrike">
                <a:solidFill>
                  <a:srgbClr val="a50021"/>
                </a:solidFill>
                <a:latin typeface="Arial"/>
              </a:rPr>
              <a:t>日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22</a:t>
            </a:r>
            <a:r>
              <a:rPr b="1" lang="zh-CN" sz="1800" spc="-1" strike="noStrike">
                <a:solidFill>
                  <a:srgbClr val="a50021"/>
                </a:solidFill>
                <a:latin typeface="Arial"/>
              </a:rPr>
              <a:t>时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11280" y="2421000"/>
            <a:ext cx="638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61bde"/>
                </a:solidFill>
                <a:latin typeface="Arial"/>
              </a:rPr>
              <a:t>地点</a:t>
            </a:r>
            <a:r>
              <a:rPr b="0" lang="en-US" sz="2000" spc="-1" strike="noStrike">
                <a:solidFill>
                  <a:srgbClr val="161bde"/>
                </a:solidFill>
                <a:latin typeface="Arial"/>
              </a:rPr>
              <a:t>:</a:t>
            </a:r>
            <a:r>
              <a:rPr b="1" lang="zh-CN" sz="1800" spc="-1" strike="noStrike">
                <a:solidFill>
                  <a:srgbClr val="a50021"/>
                </a:solidFill>
                <a:latin typeface="Arial"/>
              </a:rPr>
              <a:t>（ 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1000</a:t>
            </a:r>
            <a:r>
              <a:rPr b="1" lang="zh-CN" sz="1800" spc="-1" strike="noStrike">
                <a:solidFill>
                  <a:srgbClr val="a50021"/>
                </a:solidFill>
                <a:latin typeface="Arial"/>
              </a:rPr>
              <a:t>余华里的战线</a:t>
            </a:r>
            <a:r>
              <a:rPr b="1" lang="zh-CN" sz="1800" spc="-1" strike="noStrike">
                <a:solidFill>
                  <a:srgbClr val="a50021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280" y="2781360"/>
            <a:ext cx="62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61bde"/>
                </a:solidFill>
                <a:latin typeface="Arial"/>
              </a:rPr>
              <a:t>事情的起因</a:t>
            </a:r>
            <a:r>
              <a:rPr b="0" lang="en-US" sz="2000" spc="-1" strike="noStrike">
                <a:solidFill>
                  <a:srgbClr val="161bde"/>
                </a:solidFill>
                <a:latin typeface="Arial"/>
              </a:rPr>
              <a:t>:</a:t>
            </a:r>
            <a:r>
              <a:rPr b="1" lang="zh-CN" sz="1800" spc="-1" strike="noStrike">
                <a:solidFill>
                  <a:srgbClr val="a50021"/>
                </a:solidFill>
                <a:latin typeface="Arial"/>
              </a:rPr>
              <a:t>（</a:t>
            </a:r>
            <a:r>
              <a:rPr b="1" lang="zh-CN" sz="1800" spc="-1" strike="noStrike">
                <a:solidFill>
                  <a:srgbClr val="a50021"/>
                </a:solidFill>
                <a:latin typeface="Arial"/>
              </a:rPr>
              <a:t>人民解放军要横渡长江，进而解放全中国</a:t>
            </a:r>
            <a:r>
              <a:rPr b="1" lang="zh-CN" sz="1800" spc="-1" strike="noStrike">
                <a:solidFill>
                  <a:srgbClr val="a50021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11280" y="3141720"/>
            <a:ext cx="61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61bde"/>
                </a:solidFill>
                <a:latin typeface="Arial"/>
              </a:rPr>
              <a:t>事情的经过</a:t>
            </a:r>
            <a:r>
              <a:rPr b="0" lang="en-US" sz="2000" spc="-1" strike="noStrike">
                <a:solidFill>
                  <a:srgbClr val="161bde"/>
                </a:solidFill>
                <a:latin typeface="Arial"/>
              </a:rPr>
              <a:t>:</a:t>
            </a:r>
            <a:r>
              <a:rPr b="1" lang="zh-CN" sz="1800" spc="-1" strike="noStrike">
                <a:solidFill>
                  <a:srgbClr val="a50021"/>
                </a:solidFill>
                <a:latin typeface="Arial"/>
              </a:rPr>
              <a:t>（</a:t>
            </a:r>
            <a:r>
              <a:rPr b="1" lang="zh-CN" sz="1800" spc="-1" strike="noStrike">
                <a:solidFill>
                  <a:srgbClr val="a50021"/>
                </a:solidFill>
                <a:latin typeface="Arial"/>
              </a:rPr>
              <a:t>分三路大军横渡长江，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23</a:t>
            </a:r>
            <a:r>
              <a:rPr b="1" lang="zh-CN" sz="1800" spc="-1" strike="noStrike">
                <a:solidFill>
                  <a:srgbClr val="a50021"/>
                </a:solidFill>
                <a:latin typeface="Arial"/>
              </a:rPr>
              <a:t>日可全部渡</a:t>
            </a:r>
            <a:r>
              <a:rPr b="1" lang="zh-CN" sz="1800" spc="-1" strike="noStrike">
                <a:solidFill>
                  <a:srgbClr val="a50021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11280" y="35002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61bde"/>
                </a:solidFill>
                <a:latin typeface="Arial"/>
              </a:rPr>
              <a:t>事情的结果</a:t>
            </a:r>
            <a:r>
              <a:rPr b="0" lang="en-US" sz="2000" spc="-1" strike="noStrike">
                <a:solidFill>
                  <a:srgbClr val="161bde"/>
                </a:solidFill>
                <a:latin typeface="Arial"/>
              </a:rPr>
              <a:t>:</a:t>
            </a:r>
            <a:r>
              <a:rPr b="1" lang="zh-CN" sz="2000" spc="-1" strike="noStrike">
                <a:solidFill>
                  <a:srgbClr val="a50021"/>
                </a:solidFill>
                <a:latin typeface="Arial"/>
              </a:rPr>
              <a:t>（</a:t>
            </a:r>
            <a:r>
              <a:rPr b="1" lang="zh-CN" sz="1800" spc="-1" strike="noStrike">
                <a:solidFill>
                  <a:srgbClr val="a50021"/>
                </a:solidFill>
                <a:latin typeface="Arial"/>
              </a:rPr>
              <a:t>人民解放军全线告捷</a:t>
            </a:r>
            <a:r>
              <a:rPr b="1" lang="zh-CN" sz="1800" spc="-1" strike="noStrike">
                <a:solidFill>
                  <a:srgbClr val="a50021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4000" y="3860640"/>
            <a:ext cx="88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1bde"/>
                </a:solidFill>
                <a:latin typeface="宋体"/>
              </a:rPr>
              <a:t>b</a:t>
            </a:r>
            <a:r>
              <a:rPr b="1" lang="zh-CN" sz="2400" spc="-1" strike="noStrike">
                <a:solidFill>
                  <a:srgbClr val="161bde"/>
                </a:solidFill>
                <a:latin typeface="宋体"/>
              </a:rPr>
              <a:t>、用简洁的语言概括课文的主要内容。说说表达了作者怎样的思想感情。</a:t>
            </a:r>
            <a:r>
              <a:rPr b="0" lang="zh-CN" sz="2800" spc="-1" strike="noStrike">
                <a:solidFill>
                  <a:srgbClr val="161bde"/>
                </a:solidFill>
                <a:latin typeface="华文新魏"/>
                <a:ea typeface="华文新魏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11280" y="4581360"/>
            <a:ext cx="85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a50021"/>
                </a:solidFill>
                <a:latin typeface="Arial"/>
              </a:rPr>
              <a:t>本文通过全面报道震惊中外的渡江战役的概况，赞扬了中国人民解放军的司令部和各路军指挥部运筹于帷幄之中，决胜于千里之外的指挥才能．表明了全党全军团结一心，同仇敌忾，所向无敌的大无畏的革命精神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 rot="10800000">
            <a:off x="394920" y="5660640"/>
            <a:ext cx="82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1bde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161bde"/>
                </a:solidFill>
                <a:latin typeface="Arial"/>
              </a:rPr>
              <a:t>、找出本文的标题、电头及其作用、导语、主体，给主体部分分层，找出主体中的议论句子并说说它的作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3" name="camera.wav"/>
      </p:stSnd>
    </p:sndAc>
  </p:transition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0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5" dur="1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2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2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0" y="-16992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611280" y="189000"/>
            <a:ext cx="7993080" cy="33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黑体"/>
              </a:rPr>
              <a:t>人民解放军百万大军横渡长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1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新华社长江前线</a:t>
            </a:r>
            <a:r>
              <a:rPr b="1" lang="en-US" sz="1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22</a:t>
            </a:r>
            <a:r>
              <a:rPr b="1" lang="zh-CN" sz="1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日</a:t>
            </a:r>
            <a:r>
              <a:rPr b="1" lang="en-US" sz="1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22</a:t>
            </a:r>
            <a:r>
              <a:rPr b="1" lang="zh-CN" sz="1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时电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zh-CN" sz="1800" spc="-1" strike="noStrike">
                <a:solidFill>
                  <a:srgbClr val="a50021"/>
                </a:solidFill>
                <a:latin typeface="Tahoma"/>
              </a:rPr>
              <a:t>人民解放军百万大军，</a:t>
            </a:r>
            <a:r>
              <a:rPr b="1" lang="zh-CN" sz="1800" spc="-1" strike="noStrike">
                <a:solidFill>
                  <a:srgbClr val="7ba600"/>
                </a:solidFill>
                <a:latin typeface="Tahoma"/>
              </a:rPr>
              <a:t>从</a:t>
            </a:r>
            <a:r>
              <a:rPr b="1" lang="en-US" sz="1800" spc="-1" strike="noStrike">
                <a:solidFill>
                  <a:srgbClr val="7ba600"/>
                </a:solidFill>
                <a:latin typeface="Tahoma"/>
              </a:rPr>
              <a:t>1000</a:t>
            </a:r>
            <a:r>
              <a:rPr b="1" lang="zh-CN" sz="1800" spc="-1" strike="noStrike">
                <a:solidFill>
                  <a:srgbClr val="7ba600"/>
                </a:solidFill>
                <a:latin typeface="Tahoma"/>
              </a:rPr>
              <a:t>余华里的战线上，冲破敌阵，横渡长江 。西起九江（不含），东至江阴，均是人民解放军的渡江区域。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0</a:t>
            </a: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日夜起，长江北岸人民解放军</a:t>
            </a:r>
            <a:r>
              <a:rPr b="1" lang="zh-CN" sz="1800" spc="-1" strike="noStrike">
                <a:solidFill>
                  <a:srgbClr val="ff3300"/>
                </a:solidFill>
                <a:latin typeface="Tahoma"/>
              </a:rPr>
              <a:t>中路军</a:t>
            </a: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首先突破安庆、芜湖线 ， 渡至繁昌、铜陵、青阳、荻港、鲁港地区 ，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4</a:t>
            </a: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小时内即已渡过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万人。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1</a:t>
            </a: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日下午五时起，我</a:t>
            </a:r>
            <a:r>
              <a:rPr b="1" lang="zh-CN" sz="1800" spc="-1" strike="noStrike">
                <a:solidFill>
                  <a:srgbClr val="ff3300"/>
                </a:solidFill>
                <a:latin typeface="Tahoma"/>
              </a:rPr>
              <a:t>西路军</a:t>
            </a: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开始渡江，地点在九江、安庆段。至发电时止，该路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5</a:t>
            </a: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万人民解放军已渡过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/3</a:t>
            </a: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，余部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3</a:t>
            </a: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日可渡完。这一路现已占领贵池、殷家汇、东流、至德、彭泽之线的广大南岸阵地，正向南扩展中。 和中路军所遇敌情一样，我西路军当面之敌亦纷纷溃退，毫无斗志 ，我军所遇之抵抗，甚为微弱。</a:t>
            </a:r>
            <a:r>
              <a:rPr b="1" lang="zh-CN" sz="1800" spc="-1" strike="noStrike">
                <a:solidFill>
                  <a:srgbClr val="ff3300"/>
                </a:solidFill>
                <a:latin typeface="Tahoma"/>
              </a:rPr>
              <a:t>此种情况，一方面由于人民解放军英勇善战 ，锐不可当 ；另一方面，这和国民党反动派拒绝签订和平协定，有很大关系。国民党的广大官兵一致希望和平，不想再打了，听见南京拒绝和平，都很泄气。</a:t>
            </a: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战犯汤恩伯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1</a:t>
            </a: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日到芜湖督战，不起丝毫作用。汤恩伯认为南京江阴段防线是很巩固的，弱点只存在于南京九江一线。不料正是汤恩伯到芜湖的那一天，东面防线又被我军突破了。我</a:t>
            </a:r>
            <a:r>
              <a:rPr b="1" lang="zh-CN" sz="1800" spc="-1" strike="noStrike">
                <a:solidFill>
                  <a:srgbClr val="ff3300"/>
                </a:solidFill>
                <a:latin typeface="Tahoma"/>
              </a:rPr>
              <a:t>东路</a:t>
            </a: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35</a:t>
            </a:r>
            <a:r>
              <a:rPr b="1" lang="zh-CN" sz="1800" spc="-1" strike="noStrike">
                <a:solidFill>
                  <a:srgbClr val="ff3300"/>
                </a:solidFill>
                <a:latin typeface="Tahoma"/>
              </a:rPr>
              <a:t>万大军</a:t>
            </a: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与西路同日同时发起渡江作战。所有预定计划，都已实现。至发电时止，我东路各军已大部渡过南岸，余部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3</a:t>
            </a: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日可以渡完。此处敌军抵抗较为顽强，然在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1</a:t>
            </a: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日下午至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2</a:t>
            </a: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日下午的整天激战中，我已歼灭及击溃一切抵抗之敌，占领扬中、镇江、江阴诸县的广大地区，并控制江阴要塞，封锁长江。我军前锋，业已切断镇江无锡段铁路线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484360" y="1700280"/>
            <a:ext cx="0" cy="361800"/>
          </a:xfrm>
          <a:prstGeom prst="line">
            <a:avLst/>
          </a:prstGeom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042920" y="2349360"/>
            <a:ext cx="0" cy="287640"/>
          </a:xfrm>
          <a:prstGeom prst="line">
            <a:avLst/>
          </a:prstGeom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16000" y="2349360"/>
            <a:ext cx="0" cy="287640"/>
          </a:xfrm>
          <a:prstGeom prst="line">
            <a:avLst/>
          </a:prstGeom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140360" y="4437000"/>
            <a:ext cx="0" cy="287280"/>
          </a:xfrm>
          <a:prstGeom prst="line">
            <a:avLst/>
          </a:prstGeom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211640" y="4437000"/>
            <a:ext cx="0" cy="287280"/>
          </a:xfrm>
          <a:prstGeom prst="line">
            <a:avLst/>
          </a:prstGeom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380360" y="404640"/>
            <a:ext cx="914400" cy="503280"/>
          </a:xfrm>
          <a:prstGeom prst="wedgeRectCallout">
            <a:avLst>
              <a:gd name="adj1" fmla="val -323958"/>
              <a:gd name="adj2" fmla="val 18312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导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500720" y="4869000"/>
            <a:ext cx="914400" cy="503280"/>
          </a:xfrm>
          <a:prstGeom prst="wedgeRectCallout">
            <a:avLst>
              <a:gd name="adj1" fmla="val 376041"/>
              <a:gd name="adj2" fmla="val -19384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主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459640" y="1916280"/>
            <a:ext cx="144720" cy="4537080"/>
          </a:xfrm>
          <a:custGeom>
            <a:avLst/>
            <a:gdLst>
              <a:gd name="textAreaLeft" fmla="*/ 0 w 144720"/>
              <a:gd name="textAreaRight" fmla="*/ 52200 w 144720"/>
              <a:gd name="textAreaTop" fmla="*/ 118080 h 4537080"/>
              <a:gd name="textAreaBottom" fmla="*/ 4419000 h 453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3" name="camera.wav"/>
      </p:stSnd>
    </p:sndAc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6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6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6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1258920" y="836640"/>
            <a:ext cx="3673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solidFill>
                    <a:srgbClr val="000000"/>
                  </a:solidFill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>
                        <a:alpha val="96078"/>
                      </a:srgbClr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重点研讨</a:t>
            </a:r>
            <a:endParaRPr b="0" lang="en-US" sz="2400" spc="-1" strike="noStrike">
              <a:ln w="0">
                <a:solidFill>
                  <a:srgbClr val="000000"/>
                </a:solidFill>
              </a:ln>
              <a:gradFill rotWithShape="0">
                <a:gsLst>
                  <a:gs pos="0">
                    <a:srgbClr val="4d0808"/>
                  </a:gs>
                  <a:gs pos="50000">
                    <a:srgbClr val="fff200">
                      <a:alpha val="96078"/>
                    </a:srgbClr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237" name=""/>
          <p:cNvSpPr/>
          <p:nvPr/>
        </p:nvSpPr>
        <p:spPr>
          <a:xfrm>
            <a:off x="539640" y="220968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标题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124000" y="2247840"/>
            <a:ext cx="665964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ahoma"/>
                <a:ea typeface="楷体_GB2312"/>
              </a:rPr>
              <a:t>简洁、概括 。其中 “百万”、“横渡” 二词气势磅礴，胜利豪情跃然纸上。表现了人民解放军无坚不摧的力量和压倒一切敌人的气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39640" y="354348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电头：“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新华社长江前线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22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日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22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时电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042920" y="402732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交代了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通讯社名称、发电地点和发电时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116000" y="5646600"/>
            <a:ext cx="75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电头的作用：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楷体_GB2312"/>
              </a:rPr>
              <a:t>表明材料真实，报道及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116000" y="4581360"/>
            <a:ext cx="77040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著名通讯社名称：</a:t>
            </a:r>
            <a:r>
              <a:rPr b="1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新华社（中国）   美联社（美国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               </a:t>
            </a:r>
            <a:r>
              <a:rPr b="1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路透社（法国）   塔斯社（俄罗斯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               </a:t>
            </a:r>
            <a:r>
              <a:rPr b="1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共同社（日本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3" name="camera.wav"/>
      </p:stSnd>
    </p:sndAc>
  </p:transition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539640" y="112536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导语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52520" y="1628640"/>
            <a:ext cx="869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ba600"/>
                </a:solidFill>
                <a:latin typeface="Tahoma"/>
              </a:rPr>
              <a:t>        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人民解放军百万大军，从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1000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余华里的战线上，冲破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阵，横渡长江 。西起九江（不含），东至江阴，均是人民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放军的渡江区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59920" y="117144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简述渡江战役胜利成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031760" y="2781360"/>
            <a:ext cx="771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从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  <a:ea typeface="楷体_GB2312"/>
              </a:rPr>
              <a:t>渡江人数、战线及渡江区域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三个方面总领全文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5280" y="3220920"/>
            <a:ext cx="87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“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不含”，是“不包括”的意思。用在表明地点的句子内，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意明确，不发生歧义。（因为当时“九江”还没有解放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68360" y="4013280"/>
            <a:ext cx="86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Tahoma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西起九江，东至江阴”为什么不宜改为“东起江阴，西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九江”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39640" y="4721400"/>
            <a:ext cx="860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  <a:ea typeface="楷体_GB2312"/>
              </a:rPr>
              <a:t>答：这样才与主体部分介绍西、东两路大军渡江情况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ahoma"/>
                <a:ea typeface="楷体_GB2312"/>
              </a:rPr>
              <a:t>顺序相吻合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3" name="camera.wav"/>
      </p:stSnd>
    </p:sndAc>
  </p:transition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539640" y="126828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主体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247840" y="1312920"/>
            <a:ext cx="664524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ahoma"/>
                <a:ea typeface="楷体_GB2312"/>
              </a:rPr>
              <a:t>详述三路大军渡江战斗经过，并指出我军渡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ahoma"/>
                <a:ea typeface="楷体_GB2312"/>
              </a:rPr>
              <a:t>胜利的重要意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476360" y="2178000"/>
            <a:ext cx="518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一层：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  <a:ea typeface="楷体_GB2312"/>
              </a:rPr>
              <a:t>写中路军渡江情况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476360" y="2610000"/>
            <a:ext cx="63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二层：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  <a:ea typeface="楷体_GB2312"/>
              </a:rPr>
              <a:t>写西路军渡江情况并加以评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476360" y="304164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三层：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  <a:ea typeface="楷体_GB2312"/>
              </a:rPr>
              <a:t>写东路军渡江情况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900000" y="3630600"/>
            <a:ext cx="75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ahoma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找出主体中的议论句子，并说说它的作用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042920" y="4116240"/>
            <a:ext cx="842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ahoma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  <a:ea typeface="楷体_GB2312"/>
              </a:rPr>
              <a:t>此种情况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……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都很泄气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  <a:ea typeface="楷体_GB2312"/>
              </a:rPr>
              <a:t>”    （“此种情况”指代什么？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68360" y="4549680"/>
            <a:ext cx="867564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ahoma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  <a:ea typeface="楷体_GB2312"/>
              </a:rPr>
              <a:t>答：揭露了敌军溃败的原因，突出了我军的英勇善战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ahoma"/>
                <a:ea typeface="楷体_GB2312"/>
              </a:rPr>
              <a:t>大长了我军士气，灭掉了敌人的威风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3" name="camera.wav"/>
      </p:stSnd>
    </p:sndAc>
  </p:transition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找出文章的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主体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部分，可分为几个层次？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930600" y="170028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第一层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610360" y="1700280"/>
            <a:ext cx="417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从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日夜起”到“即已渡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万人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709000" y="2421000"/>
            <a:ext cx="370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Arial"/>
                <a:ea typeface="华文中宋"/>
              </a:rPr>
              <a:t>（写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中路军</a:t>
            </a:r>
            <a:r>
              <a:rPr b="1" lang="zh-CN" sz="2800" spc="-1" strike="noStrike">
                <a:solidFill>
                  <a:srgbClr val="6600ff"/>
                </a:solidFill>
                <a:latin typeface="Arial"/>
                <a:ea typeface="华文中宋"/>
              </a:rPr>
              <a:t>渡江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时间</a:t>
            </a:r>
            <a:r>
              <a:rPr b="1" lang="zh-CN" sz="2800" spc="-1" strike="noStrike">
                <a:solidFill>
                  <a:srgbClr val="6600ff"/>
                </a:solidFill>
                <a:latin typeface="Arial"/>
                <a:ea typeface="华文中宋"/>
              </a:rPr>
              <a:t>、突破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地点</a:t>
            </a:r>
            <a:r>
              <a:rPr b="1" lang="zh-CN" sz="2800" spc="-1" strike="noStrike">
                <a:solidFill>
                  <a:srgbClr val="6600ff"/>
                </a:solidFill>
                <a:latin typeface="Arial"/>
                <a:ea typeface="华文中宋"/>
              </a:rPr>
              <a:t>、渡过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人数</a:t>
            </a:r>
            <a:r>
              <a:rPr b="1" lang="zh-CN" sz="2800" spc="-1" strike="noStrike">
                <a:solidFill>
                  <a:srgbClr val="6600ff"/>
                </a:solidFill>
                <a:latin typeface="Arial"/>
                <a:ea typeface="华文中宋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81480" y="31417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第二层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789280" y="3141720"/>
            <a:ext cx="440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从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2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日下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时起”到“不起丝毫作用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968480" y="386064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Arial"/>
                <a:ea typeface="华文中宋"/>
              </a:rPr>
              <a:t>（写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西路军</a:t>
            </a:r>
            <a:r>
              <a:rPr b="1" lang="zh-CN" sz="2800" spc="-1" strike="noStrike">
                <a:solidFill>
                  <a:srgbClr val="6600ff"/>
                </a:solidFill>
                <a:latin typeface="Arial"/>
                <a:ea typeface="华文中宋"/>
              </a:rPr>
              <a:t>渡江情况并加以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评论</a:t>
            </a:r>
            <a:r>
              <a:rPr b="1" lang="zh-CN" sz="2800" spc="-1" strike="noStrike">
                <a:solidFill>
                  <a:srgbClr val="6600ff"/>
                </a:solidFill>
                <a:latin typeface="Arial"/>
                <a:ea typeface="华文中宋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81480" y="4508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第三层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683800" y="4581360"/>
            <a:ext cx="235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从“汤恩伯认为”到篇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611000" y="522936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Arial"/>
                <a:ea typeface="华文中宋"/>
              </a:rPr>
              <a:t>（写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东路军</a:t>
            </a:r>
            <a:r>
              <a:rPr b="1" lang="zh-CN" sz="2800" spc="-1" strike="noStrike">
                <a:solidFill>
                  <a:srgbClr val="6600ff"/>
                </a:solidFill>
                <a:latin typeface="Arial"/>
                <a:ea typeface="华文中宋"/>
              </a:rPr>
              <a:t>的渡江情况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" name="camera.wav"/>
      </p:stSnd>
    </p:sndAc>
  </p:transition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4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4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324000" y="2565360"/>
            <a:ext cx="718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Times New Roman"/>
              </a:rPr>
              <a:t>课文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476360" y="16286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标题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900000" y="1773360"/>
            <a:ext cx="576360" cy="4103640"/>
          </a:xfrm>
          <a:custGeom>
            <a:avLst/>
            <a:gdLst>
              <a:gd name="textAreaLeft" fmla="*/ 368280 w 576360"/>
              <a:gd name="textAreaRight" fmla="*/ 576720 w 576360"/>
              <a:gd name="textAreaTop" fmla="*/ 106920 h 4103640"/>
              <a:gd name="textAreaBottom" fmla="*/ 399672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050920" y="2852640"/>
            <a:ext cx="210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f20ec"/>
                </a:solidFill>
                <a:latin typeface="Times New Roman"/>
              </a:rPr>
              <a:t>（第</a:t>
            </a:r>
            <a:r>
              <a:rPr b="1" lang="en-US" sz="2800" spc="-1" strike="noStrike">
                <a:solidFill>
                  <a:srgbClr val="2f20e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2f20ec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2f20e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2f20ec"/>
                </a:solidFill>
                <a:latin typeface="Times New Roman"/>
              </a:rPr>
              <a:t>两句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390400" y="479736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f20ec"/>
                </a:solidFill>
                <a:latin typeface="Times New Roman"/>
              </a:rPr>
              <a:t>（剩余部分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472280" y="4076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中路军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472280" y="4724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西路军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327920" y="55897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东路军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116000" y="4797360"/>
            <a:ext cx="16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42818"/>
                </a:solidFill>
                <a:latin typeface="Times New Roman"/>
              </a:rPr>
              <a:t>主体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116000" y="285264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42818"/>
                </a:solidFill>
                <a:latin typeface="Times New Roman"/>
              </a:rPr>
              <a:t>导语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068720" y="4365720"/>
            <a:ext cx="71640" cy="1584360"/>
          </a:xfrm>
          <a:custGeom>
            <a:avLst/>
            <a:gdLst>
              <a:gd name="textAreaLeft" fmla="*/ 45720 w 71640"/>
              <a:gd name="textAreaRight" fmla="*/ 72000 w 7164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e12b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635280" y="2637000"/>
            <a:ext cx="324180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渡江概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f20ec"/>
                </a:solidFill>
                <a:latin typeface="Times New Roman"/>
              </a:rPr>
              <a:t>（从四个方面概括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588000" y="2997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冲破敌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588000" y="342900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横渡长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364000" y="407664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路军首战告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362560" y="4724280"/>
            <a:ext cx="28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西路军所向无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666200" y="4076640"/>
            <a:ext cx="147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f20ec"/>
                </a:solidFill>
                <a:latin typeface="Times New Roman"/>
              </a:rPr>
              <a:t>（略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669080" y="472428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f20ec"/>
                </a:solidFill>
                <a:latin typeface="Times New Roman"/>
              </a:rPr>
              <a:t>（详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8029800" y="5516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f20ec"/>
                </a:solidFill>
                <a:latin typeface="Times New Roman"/>
              </a:rPr>
              <a:t>（重点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292720" y="5589720"/>
            <a:ext cx="302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东路军战绩辉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124000" y="162864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人民解放军百万大军横渡长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372360" y="2276640"/>
            <a:ext cx="71280" cy="1512720"/>
          </a:xfrm>
          <a:custGeom>
            <a:avLst/>
            <a:gdLst>
              <a:gd name="textAreaLeft" fmla="*/ 45720 w 71280"/>
              <a:gd name="textAreaRight" fmla="*/ 71640 w 71280"/>
              <a:gd name="textAreaTop" fmla="*/ 39240 h 1512720"/>
              <a:gd name="textAreaBottom" fmla="*/ 147348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e12b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39640" y="260280"/>
            <a:ext cx="80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f20ec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2f20ec"/>
                </a:solidFill>
                <a:latin typeface="Times New Roman"/>
              </a:rPr>
              <a:t>试找出本文的标题、导语、主体，并划分主体的层次和慨括导语、主体的层意</a:t>
            </a:r>
            <a:r>
              <a:rPr b="1" lang="zh-CN" sz="2800" spc="-1" strike="noStrike">
                <a:solidFill>
                  <a:srgbClr val="2f20ec"/>
                </a:solidFill>
                <a:latin typeface="Times New Roman"/>
              </a:rPr>
              <a:t>（小组讨论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588000" y="204624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渡江区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588000" y="247824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战役全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3" name="camera.wav"/>
      </p:stSnd>
    </p:sndAc>
  </p:transition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1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2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3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4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5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7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8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速读课文，填写表格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396720" y="1125360"/>
            <a:ext cx="8496360" cy="5040360"/>
            <a:chOff x="396720" y="1125360"/>
            <a:chExt cx="8496360" cy="5040360"/>
          </a:xfrm>
        </p:grpSpPr>
        <p:sp>
          <p:nvSpPr>
            <p:cNvPr id="298" name=""/>
            <p:cNvSpPr/>
            <p:nvPr/>
          </p:nvSpPr>
          <p:spPr>
            <a:xfrm>
              <a:off x="396720" y="1125360"/>
              <a:ext cx="8496360" cy="504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96720" y="1773000"/>
              <a:ext cx="849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96720" y="3141360"/>
              <a:ext cx="849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96720" y="4654440"/>
              <a:ext cx="849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763640" y="1125360"/>
              <a:ext cx="0" cy="504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203280" y="1125360"/>
              <a:ext cx="0" cy="504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859280" y="1125360"/>
              <a:ext cx="0" cy="504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804000" y="1125360"/>
              <a:ext cx="0" cy="504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009160" y="11966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6600ff"/>
                  </a:solidFill>
                  <a:latin typeface="Arial"/>
                  <a:ea typeface="华文中宋"/>
                </a:rPr>
                <a:t>渡江区域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551040" y="119664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Arial"/>
                  <a:ea typeface="华文中宋"/>
                </a:rPr>
                <a:t>时    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385600" y="1196640"/>
              <a:ext cx="78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6600ff"/>
                  </a:solidFill>
                  <a:latin typeface="Arial"/>
                  <a:ea typeface="华文中宋"/>
                </a:rPr>
                <a:t>兵   力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374960" y="11966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Arial"/>
                  <a:ea typeface="华文中宋"/>
                </a:rPr>
                <a:t>渡过兵力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82920" y="22050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华文中宋"/>
                </a:rPr>
                <a:t>中路军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82920" y="36306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华文中宋"/>
                </a:rPr>
                <a:t>西路军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82920" y="515772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华文中宋"/>
                </a:rPr>
                <a:t>东路军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2174400" y="1773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安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411280" y="2205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174400" y="25401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芜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526200" y="1846440"/>
            <a:ext cx="95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中宋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日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中宋"/>
              </a:rPr>
              <a:t>2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日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462280" y="2278080"/>
            <a:ext cx="7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华文中宋"/>
              </a:rPr>
              <a:t>3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478280" y="2278080"/>
            <a:ext cx="7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华文中宋"/>
              </a:rPr>
              <a:t>3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174400" y="3286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九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411280" y="37180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174400" y="4052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安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291840" y="3286080"/>
            <a:ext cx="144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中宋"/>
              </a:rPr>
              <a:t>2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中宋"/>
              </a:rPr>
              <a:t>1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中宋"/>
              </a:rPr>
              <a:t>2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中宋"/>
              </a:rPr>
              <a:t>2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462280" y="3718080"/>
            <a:ext cx="7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华文中宋"/>
              </a:rPr>
              <a:t>3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301520" y="3502080"/>
            <a:ext cx="112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中宋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华文中宋"/>
              </a:rPr>
              <a:t>3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万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三分之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174400" y="4797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南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411280" y="522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174400" y="55641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江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291840" y="4797360"/>
            <a:ext cx="144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中宋"/>
              </a:rPr>
              <a:t>2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中宋"/>
              </a:rPr>
              <a:t>1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中宋"/>
              </a:rPr>
              <a:t>2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中宋"/>
              </a:rPr>
              <a:t>2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462280" y="5205240"/>
            <a:ext cx="7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华文中宋"/>
              </a:rPr>
              <a:t>3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611840" y="52052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中宋"/>
              </a:rPr>
              <a:t>大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" name="camera.wav"/>
      </p:stSnd>
    </p:sndAc>
  </p:transition>
  <p:timing>
    <p:tnLst>
      <p:par>
        <p:cTn id="1111" dur="indefinite" restart="never" nodeType="tmRoot">
          <p:childTnLst>
            <p:seq>
              <p:cTn id="1112" dur="indefinite" nodeType="mainSeq">
                <p:childTnLst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2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2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5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2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7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2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82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2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7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2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1868760" y="692280"/>
            <a:ext cx="518400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本文的主体部分，着重报道人民解放军渡江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战斗情况，是按照什么顺序来安排材料的？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27040" y="1916280"/>
            <a:ext cx="84376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从其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华文中宋"/>
              </a:rPr>
              <a:t>结构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来看，它是按照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华文中宋"/>
              </a:rPr>
              <a:t>事件发生的先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，以及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华文中宋"/>
              </a:rPr>
              <a:t>各路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华文中宋"/>
              </a:rPr>
              <a:t>进展情况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来安排结构顺序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219040" y="3309840"/>
            <a:ext cx="503928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</a:t>
            </a:r>
            <a:r>
              <a:rPr b="0" lang="zh-CN" sz="2400" spc="-1" strike="noStrike">
                <a:solidFill>
                  <a:srgbClr val="6600ff"/>
                </a:solidFill>
                <a:latin typeface="华文中宋"/>
                <a:ea typeface="华文中宋"/>
              </a:rPr>
              <a:t>中路军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和</a:t>
            </a:r>
            <a:r>
              <a:rPr b="0" lang="zh-CN" sz="2400" spc="-1" strike="noStrike">
                <a:solidFill>
                  <a:srgbClr val="6600ff"/>
                </a:solidFill>
                <a:latin typeface="华文中宋"/>
                <a:ea typeface="华文中宋"/>
              </a:rPr>
              <a:t>西路军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所遇到的</a:t>
            </a:r>
            <a:r>
              <a:rPr b="0" lang="zh-CN" sz="2400" spc="-1" strike="noStrike">
                <a:solidFill>
                  <a:srgbClr val="6600ff"/>
                </a:solidFill>
                <a:latin typeface="华文中宋"/>
                <a:ea typeface="华文中宋"/>
              </a:rPr>
              <a:t>敌军的抵抗，都比较小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</a:t>
            </a:r>
            <a:r>
              <a:rPr b="0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东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军所遇之</a:t>
            </a:r>
            <a:r>
              <a:rPr b="0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抵抗较为顽固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所以中路军、西路军放在一起写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东路军后写。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55640" y="5051520"/>
            <a:ext cx="78487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而中路军渡长江行动在前，西路军在后，因此，先写中路军，再写西路军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" name="camera.wav"/>
      </p:stSnd>
    </p:sndAc>
  </p:transition>
  <p:timing>
    <p:tnLst>
      <p:par>
        <p:cTn id="1203" dur="indefinite" restart="never" nodeType="tmRoot">
          <p:childTnLst>
            <p:seq>
              <p:cTn id="1204" dur="indefinite" nodeType="mainSeq">
                <p:childTnLst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9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4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9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2682360" y="907920"/>
            <a:ext cx="466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哪是详写的？哪是略写的？为什么要这样安排？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84360" y="1844640"/>
            <a:ext cx="82803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Arial"/>
                <a:ea typeface="华文中宋"/>
              </a:rPr>
              <a:t>       </a:t>
            </a:r>
            <a:r>
              <a:rPr b="1" lang="zh-CN" sz="2400" spc="-1" strike="noStrike">
                <a:solidFill>
                  <a:srgbClr val="6600ff"/>
                </a:solidFill>
                <a:latin typeface="Arial"/>
                <a:ea typeface="华文中宋"/>
              </a:rPr>
              <a:t>中路军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写得</a:t>
            </a:r>
            <a:r>
              <a:rPr b="1" lang="zh-CN" sz="2400" spc="-1" strike="noStrike">
                <a:solidFill>
                  <a:srgbClr val="6600ff"/>
                </a:solidFill>
                <a:latin typeface="Arial"/>
                <a:ea typeface="华文中宋"/>
              </a:rPr>
              <a:t>简略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，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中宋"/>
              </a:rPr>
              <a:t>西路大军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写得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中宋"/>
              </a:rPr>
              <a:t>稍详，东路大军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写得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中宋"/>
              </a:rPr>
              <a:t>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397960" y="321300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Arial"/>
                <a:ea typeface="华文中宋"/>
              </a:rPr>
              <a:t>此处敌人的防线比较巩固，敌人的抵抗较顽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9640" y="3933720"/>
            <a:ext cx="81378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Arial"/>
                <a:ea typeface="华文中宋"/>
              </a:rPr>
              <a:t>       </a:t>
            </a:r>
            <a:r>
              <a:rPr b="1" lang="zh-CN" sz="2400" spc="-1" strike="noStrike">
                <a:solidFill>
                  <a:srgbClr val="a50021"/>
                </a:solidFill>
                <a:latin typeface="Arial"/>
                <a:ea typeface="华文中宋"/>
              </a:rPr>
              <a:t>而且这一地区有包围敌军、解放南京的关键的战略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Arial"/>
                <a:ea typeface="华文中宋"/>
              </a:rPr>
              <a:t>要意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" name="camera.wav"/>
      </p:stSnd>
    </p:sndAc>
  </p:transition>
  <p:timing>
    <p:tnLst>
      <p:par>
        <p:cTn id="1220" dur="indefinite" restart="never" nodeType="tmRoot">
          <p:childTnLst>
            <p:seq>
              <p:cTn id="1221" dur="indefinite" nodeType="mainSeq">
                <p:childTnLst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6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95280" y="3645000"/>
            <a:ext cx="6121440" cy="28796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7380360" y="260280"/>
            <a:ext cx="898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12bba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e12bba"/>
                </a:solidFill>
                <a:latin typeface="Times New Roman"/>
              </a:rPr>
              <a:t>人民解放军占领南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395280" y="836640"/>
            <a:ext cx="6048360" cy="259236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4" name="camera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-251280" y="475920"/>
            <a:ext cx="889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本文的语言特点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868760" y="1341360"/>
            <a:ext cx="518400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从文中找出例子来进行分析，自由讨论，概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出本文语言方面的特点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67440" y="2492280"/>
            <a:ext cx="161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）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准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071440" y="5299200"/>
            <a:ext cx="52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Arial"/>
                <a:ea typeface="华文中宋"/>
              </a:rPr>
              <a:t>（“不含”在这个表明地点的句子里，准确反映了当时的情况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Arial"/>
                <a:ea typeface="华文中宋"/>
              </a:rPr>
              <a:t>因为九江尚未解放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820960" y="3068640"/>
            <a:ext cx="35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中宋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、题目是“百万大军横渡长江”。这“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华文中宋"/>
              </a:rPr>
              <a:t>百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”是实数，还是虚数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95280" y="3645000"/>
            <a:ext cx="849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Arial"/>
                <a:ea typeface="华文中宋"/>
              </a:rPr>
              <a:t>（是实数。中路军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华文中宋"/>
              </a:rPr>
              <a:t>30</a:t>
            </a:r>
            <a:r>
              <a:rPr b="1" lang="zh-CN" sz="2400" spc="-1" strike="noStrike">
                <a:solidFill>
                  <a:srgbClr val="003366"/>
                </a:solidFill>
                <a:latin typeface="Arial"/>
                <a:ea typeface="华文中宋"/>
              </a:rPr>
              <a:t>万人；西路军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华文中宋"/>
              </a:rPr>
              <a:t>35</a:t>
            </a:r>
            <a:r>
              <a:rPr b="1" lang="zh-CN" sz="2400" spc="-1" strike="noStrike">
                <a:solidFill>
                  <a:srgbClr val="003366"/>
                </a:solidFill>
                <a:latin typeface="Arial"/>
                <a:ea typeface="华文中宋"/>
              </a:rPr>
              <a:t>万人；东路军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华文中宋"/>
              </a:rPr>
              <a:t>35</a:t>
            </a:r>
            <a:r>
              <a:rPr b="1" lang="zh-CN" sz="2400" spc="-1" strike="noStrike">
                <a:solidFill>
                  <a:srgbClr val="003366"/>
                </a:solidFill>
                <a:latin typeface="Arial"/>
                <a:ea typeface="华文中宋"/>
              </a:rPr>
              <a:t>万人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Arial"/>
                <a:ea typeface="华文中宋"/>
              </a:rPr>
              <a:t>   </a:t>
            </a:r>
            <a:r>
              <a:rPr b="1" lang="zh-CN" sz="2400" spc="-1" strike="noStrike">
                <a:solidFill>
                  <a:srgbClr val="003366"/>
                </a:solidFill>
                <a:latin typeface="Arial"/>
                <a:ea typeface="华文中宋"/>
              </a:rPr>
              <a:t>人数的确切，更体现了报道的真实、准确、严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95280" y="4508640"/>
            <a:ext cx="856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中宋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、“西起九江（不含），东至江阴，均是人民解放军的渡江区域。”其中“</a:t>
            </a:r>
            <a:r>
              <a:rPr b="0" lang="zh-CN" sz="2400" spc="-1" strike="noStrike">
                <a:solidFill>
                  <a:srgbClr val="6600ff"/>
                </a:solidFill>
                <a:latin typeface="Arial"/>
                <a:ea typeface="华文中宋"/>
              </a:rPr>
              <a:t>不含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”有什么作用？去掉它，行不行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" name="camera.wav"/>
      </p:stSnd>
    </p:sndAc>
  </p:transition>
  <p:timing>
    <p:tnLst>
      <p:par>
        <p:cTn id="1237" dur="indefinite" restart="never" nodeType="tmRoot">
          <p:childTnLst>
            <p:seq>
              <p:cTn id="1238" dur="indefinite" nodeType="mainSeq">
                <p:childTnLst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3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8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3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-132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本文的语言特点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84360" y="486900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华文中宋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）字里行间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中宋"/>
              </a:rPr>
              <a:t>洋溢着胜利的豪情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490760" y="1316160"/>
            <a:ext cx="33973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华文中宋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中宋"/>
              </a:rPr>
              <a:t>简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而具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中宋"/>
              </a:rPr>
              <a:t>有气势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。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55640" y="1989000"/>
            <a:ext cx="7956720" cy="20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如导语中“百万大军”“冲破敌阵”“横渡长江”，再比如“英勇善战，锐不可当”，“敌军则纷纷溃退，毫无斗志”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521520" y="62064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本文的语言特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" name="camera.wav"/>
      </p:stSnd>
    </p:sndAc>
  </p:transition>
  <p:timing>
    <p:tnLst>
      <p:par>
        <p:cTn id="1254" dur="indefinite" restart="never" nodeType="tmRoot">
          <p:childTnLst>
            <p:seq>
              <p:cTn id="1255" dur="indefinite" nodeType="mainSeq">
                <p:childTnLst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0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0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-11415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突破”“渡至”能否换成“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越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”“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到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” 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623960" y="692280"/>
            <a:ext cx="595800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二十日夜起，长江北岸人民解放军中路军首先</a:t>
            </a:r>
            <a:r>
              <a:rPr b="1" lang="zh-CN" sz="2800" spc="-1" strike="noStrike">
                <a:solidFill>
                  <a:srgbClr val="6600ff"/>
                </a:solidFill>
                <a:latin typeface="Arial"/>
                <a:ea typeface="华文中宋"/>
              </a:rPr>
              <a:t>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Arial"/>
                <a:ea typeface="华文中宋"/>
              </a:rPr>
              <a:t>   </a:t>
            </a:r>
            <a:r>
              <a:rPr b="1" lang="zh-CN" sz="2800" spc="-1" strike="noStrike">
                <a:solidFill>
                  <a:srgbClr val="6600ff"/>
                </a:solidFill>
                <a:latin typeface="Arial"/>
                <a:ea typeface="华文中宋"/>
              </a:rPr>
              <a:t>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安庆、芜湖线，</a:t>
            </a:r>
            <a:r>
              <a:rPr b="1" lang="zh-CN" sz="2800" spc="-1" strike="noStrike">
                <a:solidFill>
                  <a:srgbClr val="6600ff"/>
                </a:solidFill>
                <a:latin typeface="Arial"/>
                <a:ea typeface="华文中宋"/>
              </a:rPr>
              <a:t>渡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繁昌、铜陵、青阳、荻港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鲁港地区，</a:t>
            </a:r>
            <a:r>
              <a:rPr b="1" lang="zh-CN" sz="2800" spc="-1" strike="noStrike">
                <a:solidFill>
                  <a:srgbClr val="6600ff"/>
                </a:solidFill>
                <a:latin typeface="Arial"/>
                <a:ea typeface="华文中宋"/>
              </a:rPr>
              <a:t>二十四小时内即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渡过三十万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</a:t>
            </a:r>
            <a:r>
              <a:rPr b="1" lang="zh-CN" sz="2400" spc="-1" strike="noStrike">
                <a:solidFill>
                  <a:srgbClr val="a50021"/>
                </a:solidFill>
                <a:latin typeface="Arial"/>
                <a:ea typeface="华文中宋"/>
              </a:rPr>
              <a:t>“</a:t>
            </a:r>
            <a:r>
              <a:rPr b="1" lang="zh-CN" sz="2400" spc="-1" strike="noStrike">
                <a:solidFill>
                  <a:srgbClr val="a50021"/>
                </a:solidFill>
                <a:latin typeface="Arial"/>
                <a:ea typeface="华文中宋"/>
              </a:rPr>
              <a:t>突破”“渡至”能否换成“越过”“到达” ？去掉“二十四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Arial"/>
                <a:ea typeface="华文中宋"/>
              </a:rPr>
              <a:t>    </a:t>
            </a:r>
            <a:r>
              <a:rPr b="1" lang="zh-CN" sz="2400" spc="-1" strike="noStrike">
                <a:solidFill>
                  <a:srgbClr val="a50021"/>
                </a:solidFill>
                <a:latin typeface="Arial"/>
                <a:ea typeface="华文中宋"/>
              </a:rPr>
              <a:t>时即已”，换成“共”好不好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091960" y="2852640"/>
            <a:ext cx="49888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Arial"/>
                <a:ea typeface="华文中宋"/>
              </a:rPr>
              <a:t>①</a:t>
            </a:r>
            <a:r>
              <a:rPr b="1" lang="zh-CN" sz="2400" spc="-1" strike="noStrike">
                <a:solidFill>
                  <a:srgbClr val="003366"/>
                </a:solidFill>
                <a:latin typeface="Arial"/>
                <a:ea typeface="华文中宋"/>
              </a:rPr>
              <a:t>句中“突破”表明有敌军防守，我军歼灭或击溃守敌，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Arial"/>
                <a:ea typeface="华文中宋"/>
              </a:rPr>
              <a:t>破敌阵。用“越过”表现不出经过战斗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036160" y="4005360"/>
            <a:ext cx="521604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003366"/>
                </a:solidFill>
                <a:latin typeface="Arial"/>
                <a:ea typeface="华文中宋"/>
              </a:rPr>
              <a:t>“</a:t>
            </a:r>
            <a:r>
              <a:rPr b="1" lang="zh-CN" sz="2400" spc="-1" strike="noStrike">
                <a:solidFill>
                  <a:srgbClr val="003366"/>
                </a:solidFill>
                <a:latin typeface="Arial"/>
                <a:ea typeface="华文中宋"/>
              </a:rPr>
              <a:t>渡至”比“到达”含义丰富，有横渡与到达两层意思，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Arial"/>
                <a:ea typeface="华文中宋"/>
              </a:rPr>
              <a:t>文字简洁有力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082600" y="5013360"/>
            <a:ext cx="520704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Arial"/>
                <a:ea typeface="华文中宋"/>
              </a:rPr>
              <a:t>      “</a:t>
            </a:r>
            <a:r>
              <a:rPr b="1" lang="zh-CN" sz="2400" spc="-1" strike="noStrike">
                <a:solidFill>
                  <a:srgbClr val="003366"/>
                </a:solidFill>
                <a:latin typeface="Arial"/>
                <a:ea typeface="华文中宋"/>
              </a:rPr>
              <a:t>二十四小时内即已”，时间明确，且含渡江迅疾，作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Arial"/>
                <a:ea typeface="华文中宋"/>
              </a:rPr>
              <a:t>顺利之意。用“共”字不能表达这些意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" name="camera.wav"/>
      </p:stSnd>
    </p:sndAc>
  </p:transition>
  <p:timing>
    <p:tnLst>
      <p:par>
        <p:cTn id="1271" dur="indefinite" restart="never" nodeType="tmRoot">
          <p:childTnLst>
            <p:seq>
              <p:cTn id="1272" dur="indefinite" nodeType="mainSeq">
                <p:childTnLst>
                  <p:par>
                    <p:cTn id="1273" fill="hold">
                      <p:stCondLst>
                        <p:cond delay="indefinite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7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2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7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0" y="-11415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加划线的句子换成“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</a:rPr>
              <a:t>结果就在二十日那一天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”好不好？</a:t>
            </a:r>
            <a:br>
              <a:rPr sz="4000"/>
            </a:b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861280" y="474840"/>
            <a:ext cx="342108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②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  <a:ea typeface="华文中宋"/>
              </a:rPr>
              <a:t>不料正是汤恩伯到芜湖的那一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，东面防线又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我军突破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加划线的句子换成“</a:t>
            </a:r>
            <a:r>
              <a:rPr b="1" lang="zh-CN" sz="2400" spc="-1" strike="noStrike">
                <a:solidFill>
                  <a:srgbClr val="6600ff"/>
                </a:solidFill>
                <a:latin typeface="Arial"/>
                <a:ea typeface="华文中宋"/>
              </a:rPr>
              <a:t>结果就在二十日那一天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”好不好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097080" y="2851200"/>
            <a:ext cx="325296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可从语句的感情色彩入手。“不料正是汤恩伯到芜湖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那一天”，有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中宋"/>
              </a:rPr>
              <a:t>嘲讽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意味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84360" y="3860640"/>
            <a:ext cx="792144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嘲讽汤恩伯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中宋"/>
              </a:rPr>
              <a:t>过高估计东面防线的巩固性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，</a:t>
            </a:r>
            <a:r>
              <a:rPr b="1" lang="zh-CN" sz="2400" spc="-1" strike="noStrike">
                <a:solidFill>
                  <a:srgbClr val="6600ff"/>
                </a:solidFill>
                <a:latin typeface="Arial"/>
                <a:ea typeface="华文中宋"/>
              </a:rPr>
              <a:t>过低估计人民解放军的战斗力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，如果换成“结果就在二十一日那天”，毫无感情色彩，且与上一句“二十一日”重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" name="camera.wav"/>
      </p:stSnd>
    </p:sndAc>
  </p:transition>
  <p:timing>
    <p:tnLst>
      <p:par>
        <p:cTn id="1288" dur="indefinite" restart="never" nodeType="tmRoot">
          <p:childTnLst>
            <p:seq>
              <p:cTn id="1289" dur="indefinite" nodeType="mainSeq">
                <p:childTnLst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4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9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1241280" y="2708280"/>
            <a:ext cx="680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ahoma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主体部分先写西路军后写东路军的主要原因是（ 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568680" y="3357720"/>
            <a:ext cx="212724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ff3300"/>
                </a:solidFill>
                <a:latin typeface="Tahoma"/>
                <a:ea typeface="楷体_GB2312"/>
              </a:rPr>
              <a:t>长江是自西向东流的。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ff3300"/>
                </a:solidFill>
                <a:latin typeface="Tahoma"/>
                <a:ea typeface="楷体_GB2312"/>
              </a:rPr>
              <a:t>西路军在东路军之前渡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ff3300"/>
                </a:solidFill>
                <a:latin typeface="Tahoma"/>
                <a:ea typeface="楷体_GB2312"/>
              </a:rPr>
              <a:t>为了详写东路军。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ff3300"/>
                </a:solidFill>
                <a:latin typeface="Tahoma"/>
                <a:ea typeface="楷体_GB2312"/>
              </a:rPr>
              <a:t>西路军和中路军所遇敌情一样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105040" y="270828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851480" y="404640"/>
            <a:ext cx="555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ahoma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楷体_GB2312"/>
              </a:rPr>
              <a:t>最能反映国民党广大官兵厌战情绪的句子是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566000" y="1262160"/>
            <a:ext cx="5397120" cy="13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Tahoma"/>
              </a:rPr>
              <a:t>          </a:t>
            </a:r>
            <a:r>
              <a:rPr b="1" lang="zh-CN" sz="2800" spc="-1" strike="noStrike">
                <a:solidFill>
                  <a:srgbClr val="ff3300"/>
                </a:solidFill>
                <a:latin typeface="Tahoma"/>
              </a:rPr>
              <a:t>答：“国民党的广大官兵一致希望和平，不想再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ahoma"/>
              </a:rPr>
              <a:t>                </a:t>
            </a:r>
            <a:r>
              <a:rPr b="1" lang="zh-CN" sz="2800" spc="-1" strike="noStrike">
                <a:solidFill>
                  <a:srgbClr val="ff3300"/>
                </a:solidFill>
                <a:latin typeface="Tahoma"/>
              </a:rPr>
              <a:t>了，听 见南京拒绝和平，都很泄气。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3" name="camera.wav"/>
      </p:stSnd>
    </p:sndAc>
  </p:transition>
  <p:timing>
    <p:tnLst>
      <p:par>
        <p:cTn id="1300" dur="indefinite" restart="never" nodeType="tmRoot">
          <p:childTnLst>
            <p:seq>
              <p:cTn id="1301" dur="indefinite" nodeType="mainSeq">
                <p:childTnLst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1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fill="hold">
                      <p:stCondLst>
                        <p:cond delay="indefinite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24000" y="9806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　　</a:t>
            </a:r>
            <a:r>
              <a:rPr b="1" lang="zh-CN" sz="3600" spc="-1" strike="noStrike">
                <a:solidFill>
                  <a:srgbClr val="a50021"/>
                </a:solidFill>
                <a:latin typeface="Times New Roman"/>
                <a:ea typeface="华文新魏"/>
              </a:rPr>
              <a:t>中路、西路大军的渡江情况，哪是详写的？哪是略写的？为什么要这样安排？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78920" y="2349000"/>
            <a:ext cx="8541000" cy="42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　　</a:t>
            </a:r>
            <a:r>
              <a:rPr b="0" lang="en-US" sz="3600" spc="-1" strike="noStrike">
                <a:solidFill>
                  <a:srgbClr val="003366"/>
                </a:solidFill>
                <a:latin typeface="华文行楷"/>
                <a:ea typeface="华文行楷"/>
              </a:rPr>
              <a:t>中路军写得简略，是因为新华社在此前已经有关于中路军的详细报道（见《我三十万大军胜利渡过长江》）。</a:t>
            </a:r>
            <a:br>
              <a:rPr sz="3600"/>
            </a:br>
            <a:r>
              <a:rPr b="0" lang="en-US" sz="3600" spc="-1" strike="noStrike">
                <a:solidFill>
                  <a:srgbClr val="003366"/>
                </a:solidFill>
                <a:latin typeface="华文行楷"/>
                <a:ea typeface="华文行楷"/>
              </a:rPr>
              <a:t>　　西路大军写得稍详，是因为渡江正在进行中，有些事情需要交待，如“至发电时止，该路</a:t>
            </a:r>
            <a:r>
              <a:rPr b="0" lang="en-US" sz="3600" spc="-1" strike="noStrike">
                <a:solidFill>
                  <a:srgbClr val="003366"/>
                </a:solidFill>
                <a:latin typeface="华文行楷"/>
                <a:ea typeface="华文行楷"/>
              </a:rPr>
              <a:t>35</a:t>
            </a:r>
            <a:r>
              <a:rPr b="0" lang="en-US" sz="3600" spc="-1" strike="noStrike">
                <a:solidFill>
                  <a:srgbClr val="003366"/>
                </a:solidFill>
                <a:latin typeface="华文行楷"/>
                <a:ea typeface="华文行楷"/>
              </a:rPr>
              <a:t>万人民解放军已渡过</a:t>
            </a:r>
            <a:r>
              <a:rPr b="0" lang="en-US" sz="3600" spc="-1" strike="noStrike">
                <a:solidFill>
                  <a:srgbClr val="003366"/>
                </a:solidFill>
                <a:latin typeface="华文行楷"/>
                <a:ea typeface="华文行楷"/>
              </a:rPr>
              <a:t>2</a:t>
            </a:r>
            <a:r>
              <a:rPr b="0" lang="en-US" sz="3600" spc="-1" strike="noStrike">
                <a:solidFill>
                  <a:srgbClr val="003366"/>
                </a:solidFill>
                <a:latin typeface="华文行楷"/>
                <a:ea typeface="华文行楷"/>
              </a:rPr>
              <a:t>／</a:t>
            </a:r>
            <a:r>
              <a:rPr b="0" lang="en-US" sz="3600" spc="-1" strike="noStrike">
                <a:solidFill>
                  <a:srgbClr val="003366"/>
                </a:solidFill>
                <a:latin typeface="华文行楷"/>
                <a:ea typeface="华文行楷"/>
              </a:rPr>
              <a:t>3</a:t>
            </a:r>
            <a:r>
              <a:rPr b="0" lang="en-US" sz="3600" spc="-1" strike="noStrike">
                <a:solidFill>
                  <a:srgbClr val="003366"/>
                </a:solidFill>
                <a:latin typeface="华文行楷"/>
                <a:ea typeface="华文行楷"/>
              </a:rPr>
              <a:t>，余部</a:t>
            </a:r>
            <a:r>
              <a:rPr b="0" lang="en-US" sz="3600" spc="-1" strike="noStrike">
                <a:solidFill>
                  <a:srgbClr val="003366"/>
                </a:solidFill>
                <a:latin typeface="华文行楷"/>
                <a:ea typeface="华文行楷"/>
              </a:rPr>
              <a:t>23</a:t>
            </a:r>
            <a:r>
              <a:rPr b="0" lang="en-US" sz="3600" spc="-1" strike="noStrike">
                <a:solidFill>
                  <a:srgbClr val="003366"/>
                </a:solidFill>
                <a:latin typeface="华文行楷"/>
                <a:ea typeface="华文行楷"/>
              </a:rPr>
              <a:t>日可渡完”。已渡过的“正向南扩展中”，预示了战役的前景。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3366"/>
                </a:solidFill>
                <a:latin typeface="华文行楷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3" name="camera.wav"/>
      </p:stSnd>
    </p:sndAc>
  </p:transition>
  <p:timing>
    <p:tnLst>
      <p:par>
        <p:cTn id="1325" dur="indefinite" restart="never" nodeType="tmRoot">
          <p:childTnLst>
            <p:seq>
              <p:cTn id="1326" dur="indefinite" nodeType="mainSeq">
                <p:childTnLst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1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6" dur="20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50920" y="-11415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“横渡”的“渡”有关的词语有哪些？</a:t>
            </a:r>
            <a:br>
              <a:rPr sz="4000"/>
            </a:b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747080" y="692280"/>
            <a:ext cx="4868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思考：文章是抓住“</a:t>
            </a:r>
            <a:r>
              <a:rPr b="1" lang="zh-CN" sz="2800" spc="-1" strike="noStrike">
                <a:solidFill>
                  <a:srgbClr val="6600ff"/>
                </a:solidFill>
                <a:latin typeface="Arial"/>
                <a:ea typeface="华文中宋"/>
              </a:rPr>
              <a:t>横渡长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”来写的，与“横渡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的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”有关的词语有哪些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748480" y="1901880"/>
            <a:ext cx="118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华文中宋"/>
              </a:rPr>
              <a:t>“</a:t>
            </a: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华文中宋"/>
              </a:rPr>
              <a:t>渡完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等均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523880" y="1901880"/>
            <a:ext cx="10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华文中宋"/>
              </a:rPr>
              <a:t>“</a:t>
            </a: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华文中宋"/>
              </a:rPr>
              <a:t>冲破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747880" y="1901880"/>
            <a:ext cx="10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华文中宋"/>
              </a:rPr>
              <a:t>“</a:t>
            </a: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华文中宋"/>
              </a:rPr>
              <a:t>渡至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919320" y="1901880"/>
            <a:ext cx="10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华文中宋"/>
              </a:rPr>
              <a:t>“</a:t>
            </a: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华文中宋"/>
              </a:rPr>
              <a:t>渡过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9640" y="2852640"/>
            <a:ext cx="79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在课文中勾画表现我军英勇的词语和敌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溃不成军的词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700360" y="5157720"/>
            <a:ext cx="82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Arial"/>
                <a:ea typeface="华文中宋"/>
              </a:rPr>
              <a:t>“</a:t>
            </a:r>
            <a:r>
              <a:rPr b="1" lang="zh-CN" sz="2400" spc="-1" strike="noStrike">
                <a:solidFill>
                  <a:srgbClr val="a50021"/>
                </a:solidFill>
                <a:latin typeface="Arial"/>
                <a:ea typeface="华文中宋"/>
              </a:rPr>
              <a:t>纷纷溃退” “毫无斗志” “抵抗微弱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Arial"/>
                <a:ea typeface="华文中宋"/>
              </a:rPr>
              <a:t> “</a:t>
            </a:r>
            <a:r>
              <a:rPr b="1" lang="zh-CN" sz="2400" spc="-1" strike="noStrike">
                <a:solidFill>
                  <a:srgbClr val="a50021"/>
                </a:solidFill>
                <a:latin typeface="Arial"/>
                <a:ea typeface="华文中宋"/>
              </a:rPr>
              <a:t>泄气” “毫无作用” 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897120" y="39895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写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我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的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627280" y="3916440"/>
            <a:ext cx="590544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Arial"/>
                <a:ea typeface="华文中宋"/>
              </a:rPr>
              <a:t>“</a:t>
            </a:r>
            <a:r>
              <a:rPr b="1" lang="zh-CN" sz="2400" spc="-1" strike="noStrike">
                <a:solidFill>
                  <a:srgbClr val="a50021"/>
                </a:solidFill>
                <a:latin typeface="Arial"/>
                <a:ea typeface="华文中宋"/>
              </a:rPr>
              <a:t>英勇善战”“锐不可当” “歼灭” “击溃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Arial"/>
                <a:ea typeface="华文中宋"/>
              </a:rPr>
              <a:t> “</a:t>
            </a:r>
            <a:r>
              <a:rPr b="1" lang="zh-CN" sz="2400" spc="-1" strike="noStrike">
                <a:solidFill>
                  <a:srgbClr val="a50021"/>
                </a:solidFill>
                <a:latin typeface="Arial"/>
                <a:ea typeface="华文中宋"/>
              </a:rPr>
              <a:t>控制” “封锁” “切断”等；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897120" y="51134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写</a:t>
            </a:r>
            <a:r>
              <a:rPr b="1" lang="zh-CN" sz="2800" spc="-1" strike="noStrike">
                <a:solidFill>
                  <a:srgbClr val="6600ff"/>
                </a:solidFill>
                <a:latin typeface="Arial"/>
                <a:ea typeface="华文中宋"/>
              </a:rPr>
              <a:t>敌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的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" name="camera.wav"/>
      </p:stSnd>
    </p:sndAc>
  </p:transition>
  <p:timing>
    <p:tnLst>
      <p:par>
        <p:cTn id="1337" dur="indefinite" restart="never" nodeType="tmRoot">
          <p:childTnLst>
            <p:seq>
              <p:cTn id="1338" dur="indefinite" nodeType="mainSeq">
                <p:childTnLst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3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4" fill="hold">
                      <p:stCondLst>
                        <p:cond delay="indefinite"/>
                      </p:stCondLst>
                      <p:childTnLst>
                        <p:par>
                          <p:cTn id="1365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8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1908000" y="836640"/>
            <a:ext cx="2519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solidFill>
                    <a:srgbClr val="000000"/>
                  </a:solidFill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>
                        <a:alpha val="96078"/>
                      </a:srgbClr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作业处理</a:t>
            </a:r>
            <a:endParaRPr b="0" lang="en-US" sz="2400" spc="-1" strike="noStrike">
              <a:ln w="0">
                <a:solidFill>
                  <a:srgbClr val="000000"/>
                </a:solidFill>
              </a:ln>
              <a:gradFill rotWithShape="0">
                <a:gsLst>
                  <a:gs pos="0">
                    <a:srgbClr val="4d0808"/>
                  </a:gs>
                  <a:gs pos="50000">
                    <a:srgbClr val="fff200">
                      <a:alpha val="96078"/>
                    </a:srgbClr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381" name=""/>
          <p:cNvSpPr/>
          <p:nvPr/>
        </p:nvSpPr>
        <p:spPr>
          <a:xfrm>
            <a:off x="3452400" y="170028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ahoma"/>
                <a:ea typeface="楷体_GB2312"/>
              </a:rPr>
              <a:t>一、试理清这篇消息的六要素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330920" y="1844640"/>
            <a:ext cx="820800" cy="38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ahoma"/>
                <a:ea typeface="楷体_GB2312"/>
              </a:rPr>
              <a:t>人物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ahoma"/>
                <a:ea typeface="楷体_GB2312"/>
              </a:rPr>
              <a:t>时间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ahoma"/>
                <a:ea typeface="楷体_GB2312"/>
              </a:rPr>
              <a:t>地点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ahoma"/>
                <a:ea typeface="楷体_GB2312"/>
              </a:rPr>
              <a:t>原因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ahoma"/>
                <a:ea typeface="楷体_GB2312"/>
              </a:rPr>
              <a:t>经过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ahoma"/>
                <a:ea typeface="楷体_GB2312"/>
              </a:rPr>
              <a:t>结果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340000" y="242100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人民解放军百万大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340000" y="292428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从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日夜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340000" y="357336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00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余华里的战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268360" y="4076640"/>
            <a:ext cx="64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人民解放军要横渡长江，进而解放全中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40000" y="4724280"/>
            <a:ext cx="63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分三路大军横渡长江，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3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日可全部渡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411280" y="530064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人民解放军全线告捷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" name="camera.wav"/>
      </p:stSnd>
    </p:sndAc>
  </p:transition>
  <p:timing>
    <p:tnLst>
      <p:par>
        <p:cTn id="1369" dur="indefinite" restart="never" nodeType="tmRoot">
          <p:childTnLst>
            <p:seq>
              <p:cTn id="1370" dur="indefinite" nodeType="mainSeq">
                <p:childTnLst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0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fill="hold">
                      <p:stCondLst>
                        <p:cond delay="indefinite"/>
                      </p:stCondLst>
                      <p:childTnLst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5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6" fill="hold">
                      <p:stCondLst>
                        <p:cond delay="indefinite"/>
                      </p:stCondLst>
                      <p:childTnLst>
                        <p:par>
                          <p:cTn id="1397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1908000" y="836640"/>
            <a:ext cx="2519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solidFill>
                    <a:srgbClr val="000000"/>
                  </a:solidFill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>
                        <a:alpha val="96078"/>
                      </a:srgbClr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作业处理</a:t>
            </a:r>
            <a:endParaRPr b="0" lang="en-US" sz="2400" spc="-1" strike="noStrike">
              <a:ln w="0">
                <a:solidFill>
                  <a:srgbClr val="000000"/>
                </a:solidFill>
              </a:ln>
              <a:gradFill rotWithShape="0">
                <a:gsLst>
                  <a:gs pos="0">
                    <a:srgbClr val="4d0808"/>
                  </a:gs>
                  <a:gs pos="50000">
                    <a:srgbClr val="fff200">
                      <a:alpha val="96078"/>
                    </a:srgbClr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390" name=""/>
          <p:cNvSpPr/>
          <p:nvPr/>
        </p:nvSpPr>
        <p:spPr>
          <a:xfrm>
            <a:off x="4549320" y="170028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Tahoma"/>
                <a:ea typeface="楷体_GB2312"/>
              </a:rPr>
              <a:t>二、主体部分分为三个层次，是怎样衔接在一起的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187280" y="2205000"/>
            <a:ext cx="74170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1</a:t>
            </a:r>
            <a:r>
              <a:rPr b="1" lang="zh-CN" sz="2400" spc="-1" strike="noStrike">
                <a:solidFill>
                  <a:srgbClr val="003366"/>
                </a:solidFill>
                <a:latin typeface="Tahoma"/>
              </a:rPr>
              <a:t>、时间上的衔接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ahoma"/>
              </a:rPr>
              <a:t>    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20</a:t>
            </a:r>
            <a:r>
              <a:rPr b="1" lang="zh-CN" sz="2400" spc="-1" strike="noStrike">
                <a:solidFill>
                  <a:srgbClr val="003366"/>
                </a:solidFill>
                <a:latin typeface="Tahoma"/>
              </a:rPr>
              <a:t>日夜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—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21</a:t>
            </a:r>
            <a:r>
              <a:rPr b="1" lang="zh-CN" sz="2400" spc="-1" strike="noStrike">
                <a:solidFill>
                  <a:srgbClr val="003366"/>
                </a:solidFill>
                <a:latin typeface="Tahoma"/>
              </a:rPr>
              <a:t>日下午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5</a:t>
            </a:r>
            <a:r>
              <a:rPr b="1" lang="zh-CN" sz="2400" spc="-1" strike="noStrike">
                <a:solidFill>
                  <a:srgbClr val="003366"/>
                </a:solidFill>
                <a:latin typeface="Tahoma"/>
              </a:rPr>
              <a:t>点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—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21</a:t>
            </a:r>
            <a:r>
              <a:rPr b="1" lang="zh-CN" sz="2400" spc="-1" strike="noStrike">
                <a:solidFill>
                  <a:srgbClr val="003366"/>
                </a:solidFill>
                <a:latin typeface="Tahoma"/>
              </a:rPr>
              <a:t>日下午至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22</a:t>
            </a:r>
            <a:r>
              <a:rPr b="1" lang="zh-CN" sz="2400" spc="-1" strike="noStrike">
                <a:solidFill>
                  <a:srgbClr val="003366"/>
                </a:solidFill>
                <a:latin typeface="Tahoma"/>
              </a:rPr>
              <a:t>日下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258920" y="321300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003366"/>
                </a:solidFill>
                <a:latin typeface="Tahoma"/>
              </a:rPr>
              <a:t>、渡江部队的衔接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ahoma"/>
              </a:rPr>
              <a:t>     </a:t>
            </a:r>
            <a:r>
              <a:rPr b="1" lang="zh-CN" sz="2400" spc="-1" strike="noStrike">
                <a:solidFill>
                  <a:srgbClr val="003366"/>
                </a:solidFill>
                <a:latin typeface="Tahoma"/>
              </a:rPr>
              <a:t>中路军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—</a:t>
            </a:r>
            <a:r>
              <a:rPr b="1" lang="zh-CN" sz="2400" spc="-1" strike="noStrike">
                <a:solidFill>
                  <a:srgbClr val="003366"/>
                </a:solidFill>
                <a:latin typeface="Tahoma"/>
              </a:rPr>
              <a:t>西路军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—</a:t>
            </a:r>
            <a:r>
              <a:rPr b="1" lang="zh-CN" sz="2400" spc="-1" strike="noStrike">
                <a:solidFill>
                  <a:srgbClr val="003366"/>
                </a:solidFill>
                <a:latin typeface="Tahoma"/>
              </a:rPr>
              <a:t>东路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187280" y="3933720"/>
            <a:ext cx="7417080" cy="21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3</a:t>
            </a:r>
            <a:r>
              <a:rPr b="1" lang="zh-CN" sz="2400" spc="-1" strike="noStrike">
                <a:solidFill>
                  <a:srgbClr val="003366"/>
                </a:solidFill>
                <a:latin typeface="Tahoma"/>
              </a:rPr>
              <a:t>、内容上的衔接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66"/>
                </a:solidFill>
                <a:latin typeface="Tahoma"/>
              </a:rPr>
              <a:t>第二层有“和东路军所遇敌情一样”与第一层衔接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66"/>
                </a:solidFill>
                <a:latin typeface="Tahoma"/>
              </a:rPr>
              <a:t>第三层有“与西路同日同时发起渡江作战”与第二层衔接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66"/>
                </a:solidFill>
                <a:latin typeface="Tahoma"/>
              </a:rPr>
              <a:t>第三层有“正是汤恩伯到芜湖的那一天”与第二层的“汤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66"/>
                </a:solidFill>
                <a:latin typeface="Tahoma"/>
              </a:rPr>
              <a:t>伯</a:t>
            </a: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21</a:t>
            </a:r>
            <a:r>
              <a:rPr b="1" lang="zh-CN" sz="2000" spc="-1" strike="noStrike">
                <a:solidFill>
                  <a:srgbClr val="003366"/>
                </a:solidFill>
                <a:latin typeface="Tahoma"/>
              </a:rPr>
              <a:t>日到芜湖”衔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" name="camera.wav"/>
      </p:stSnd>
    </p:sndAc>
  </p:transition>
  <p:timing>
    <p:tnLst>
      <p:par>
        <p:cTn id="1401" dur="indefinite" restart="never" nodeType="tmRoot">
          <p:childTnLst>
            <p:seq>
              <p:cTn id="1402" dur="indefinite" nodeType="mainSeq">
                <p:childTnLst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fill="hold">
                      <p:stCondLst>
                        <p:cond delay="indefinite"/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7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fill="hold">
                      <p:stCondLst>
                        <p:cond delay="indefinite"/>
                      </p:stCondLst>
                      <p:childTnLst>
                        <p:par>
                          <p:cTn id="1419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2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1908000" y="836640"/>
            <a:ext cx="2519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solidFill>
                    <a:srgbClr val="000000"/>
                  </a:solidFill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>
                        <a:alpha val="96078"/>
                      </a:srgbClr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作业处理</a:t>
            </a:r>
            <a:endParaRPr b="0" lang="en-US" sz="2400" spc="-1" strike="noStrike">
              <a:ln w="0">
                <a:solidFill>
                  <a:srgbClr val="000000"/>
                </a:solidFill>
              </a:ln>
              <a:gradFill rotWithShape="0">
                <a:gsLst>
                  <a:gs pos="0">
                    <a:srgbClr val="4d0808"/>
                  </a:gs>
                  <a:gs pos="50000">
                    <a:srgbClr val="fff200">
                      <a:alpha val="96078"/>
                    </a:srgbClr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395" name=""/>
          <p:cNvSpPr/>
          <p:nvPr/>
        </p:nvSpPr>
        <p:spPr>
          <a:xfrm>
            <a:off x="380880" y="1773360"/>
            <a:ext cx="894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ahoma"/>
                <a:ea typeface="楷体_GB2312"/>
              </a:rPr>
              <a:t>三、分别比较下列每组中的两个句子，说说哪一句好，为什么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50920" y="2205000"/>
            <a:ext cx="9074160" cy="23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2b2b2"/>
                </a:solidFill>
                <a:latin typeface="Tahoma"/>
              </a:rPr>
              <a:t>       </a:t>
            </a:r>
            <a:r>
              <a:rPr b="1" lang="zh-CN" sz="2400" spc="-1" strike="noStrike">
                <a:solidFill>
                  <a:srgbClr val="003366"/>
                </a:solidFill>
                <a:latin typeface="Tahoma"/>
              </a:rPr>
              <a:t>第一组：</a:t>
            </a:r>
            <a:r>
              <a:rPr b="1" lang="zh-CN" sz="2400" spc="-1" strike="noStrike">
                <a:solidFill>
                  <a:srgbClr val="003366"/>
                </a:solidFill>
                <a:latin typeface="Tahoma"/>
              </a:rPr>
              <a:t>第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003366"/>
                </a:solidFill>
                <a:latin typeface="Tahoma"/>
              </a:rPr>
              <a:t>句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ahoma"/>
              </a:rPr>
              <a:t> “</a:t>
            </a:r>
            <a:r>
              <a:rPr b="1" lang="zh-CN" sz="2400" spc="-1" strike="noStrike">
                <a:solidFill>
                  <a:srgbClr val="003366"/>
                </a:solidFill>
                <a:latin typeface="Tahoma"/>
              </a:rPr>
              <a:t>越过”只写出了经过；“突破”则表现了经过战斗所取得的进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ahoma"/>
              </a:rPr>
              <a:t>“</a:t>
            </a:r>
            <a:r>
              <a:rPr b="1" lang="zh-CN" sz="2400" spc="-1" strike="noStrike">
                <a:solidFill>
                  <a:srgbClr val="003366"/>
                </a:solidFill>
                <a:latin typeface="Tahoma"/>
              </a:rPr>
              <a:t>到达”只表示一般的到了、抵达之意；“渡至”则表现的是从水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ahoma"/>
              </a:rPr>
              <a:t>进军，来到了。“共”只表示一般的总结性的统计；“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24</a:t>
            </a:r>
            <a:r>
              <a:rPr b="1" lang="zh-CN" sz="2400" spc="-1" strike="noStrike">
                <a:solidFill>
                  <a:srgbClr val="003366"/>
                </a:solidFill>
                <a:latin typeface="Tahoma"/>
              </a:rPr>
              <a:t>小时内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ahoma"/>
              </a:rPr>
              <a:t>已”则强调了时间之短，进军之神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0" y="4508640"/>
            <a:ext cx="9468000" cy="12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2b2b2"/>
                </a:solidFill>
                <a:latin typeface="Tahoma"/>
              </a:rPr>
              <a:t>       </a:t>
            </a:r>
            <a:r>
              <a:rPr b="1" lang="zh-CN" sz="2400" spc="-1" strike="noStrike">
                <a:solidFill>
                  <a:srgbClr val="a50021"/>
                </a:solidFill>
                <a:latin typeface="Tahoma"/>
              </a:rPr>
              <a:t>第二组：</a:t>
            </a:r>
            <a:r>
              <a:rPr b="1" lang="zh-CN" sz="2400" spc="-1" strike="noStrike">
                <a:solidFill>
                  <a:srgbClr val="a50021"/>
                </a:solidFill>
                <a:latin typeface="Tahoma"/>
              </a:rPr>
              <a:t>第</a:t>
            </a:r>
            <a:r>
              <a:rPr b="1" lang="en-US" sz="2400" spc="-1" strike="noStrike">
                <a:solidFill>
                  <a:srgbClr val="a50021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a50021"/>
                </a:solidFill>
                <a:latin typeface="Tahoma"/>
              </a:rPr>
              <a:t>句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ahoma"/>
              </a:rPr>
              <a:t>      </a:t>
            </a:r>
            <a:r>
              <a:rPr b="1" lang="zh-CN" sz="2400" spc="-1" strike="noStrike">
                <a:solidFill>
                  <a:srgbClr val="a50021"/>
                </a:solidFill>
                <a:latin typeface="Tahoma"/>
              </a:rPr>
              <a:t>句</a:t>
            </a:r>
            <a:r>
              <a:rPr b="1" lang="en-US" sz="2400" spc="-1" strike="noStrike">
                <a:solidFill>
                  <a:srgbClr val="a50021"/>
                </a:solidFill>
                <a:latin typeface="Tahoma"/>
              </a:rPr>
              <a:t>1</a:t>
            </a:r>
            <a:r>
              <a:rPr b="1" lang="zh-CN" sz="2400" spc="-1" strike="noStrike">
                <a:solidFill>
                  <a:srgbClr val="a50021"/>
                </a:solidFill>
                <a:latin typeface="Tahoma"/>
              </a:rPr>
              <a:t>只是一般的交代了时间；句</a:t>
            </a:r>
            <a:r>
              <a:rPr b="1" lang="en-US" sz="2400" spc="-1" strike="noStrike">
                <a:solidFill>
                  <a:srgbClr val="a50021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a50021"/>
                </a:solidFill>
                <a:latin typeface="Tahoma"/>
              </a:rPr>
              <a:t>则充满了嘲讽。敌军的“不料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ahoma"/>
              </a:rPr>
              <a:t>，正显示出我军的神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" name="camera.wav"/>
      </p:stSnd>
    </p:sndAc>
  </p:transition>
  <p:timing>
    <p:tnLst>
      <p:par>
        <p:cTn id="1423" dur="indefinite" restart="never" nodeType="tmRoot">
          <p:childTnLst>
            <p:seq>
              <p:cTn id="1424" dur="indefinite" nodeType="mainSeq">
                <p:childTnLst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fill="hold">
                      <p:stCondLst>
                        <p:cond delay="indefinite"/>
                      </p:stCondLst>
                      <p:childTnLst>
                        <p:par>
                          <p:cTn id="1431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4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fill="hold">
                      <p:stCondLst>
                        <p:cond delay="indefinite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9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457200"/>
            <a:ext cx="4572000" cy="27558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0" y="3505320"/>
            <a:ext cx="4500720" cy="31240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4495680" y="3505320"/>
            <a:ext cx="4648320" cy="31478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4572000" y="457200"/>
            <a:ext cx="4572000" cy="274320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6" name="camera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1908000" y="836640"/>
            <a:ext cx="2519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solidFill>
                    <a:srgbClr val="000000"/>
                  </a:solidFill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>
                        <a:alpha val="96078"/>
                      </a:srgbClr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作业处理</a:t>
            </a:r>
            <a:endParaRPr b="0" lang="en-US" sz="2400" spc="-1" strike="noStrike">
              <a:ln w="0">
                <a:solidFill>
                  <a:srgbClr val="000000"/>
                </a:solidFill>
              </a:ln>
              <a:gradFill rotWithShape="0">
                <a:gsLst>
                  <a:gs pos="0">
                    <a:srgbClr val="4d0808"/>
                  </a:gs>
                  <a:gs pos="50000">
                    <a:srgbClr val="fff200">
                      <a:alpha val="96078"/>
                    </a:srgbClr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399" name=""/>
          <p:cNvSpPr/>
          <p:nvPr/>
        </p:nvSpPr>
        <p:spPr>
          <a:xfrm>
            <a:off x="425520" y="1557360"/>
            <a:ext cx="904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ahoma"/>
                <a:ea typeface="楷体_GB2312"/>
              </a:rPr>
              <a:t>三、分别比较下列每组中的两个句子，说说哪一句好，为什么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0" y="1916280"/>
            <a:ext cx="9828360" cy="43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2b2b2"/>
                </a:solidFill>
                <a:latin typeface="Tahoma"/>
              </a:rPr>
              <a:t>       </a:t>
            </a:r>
            <a:r>
              <a:rPr b="1" lang="zh-CN" sz="2400" spc="-1" strike="noStrike">
                <a:solidFill>
                  <a:srgbClr val="a50021"/>
                </a:solidFill>
                <a:latin typeface="Tahoma"/>
              </a:rPr>
              <a:t>第三组：</a:t>
            </a:r>
            <a:r>
              <a:rPr b="1" lang="zh-CN" sz="2400" spc="-1" strike="noStrike">
                <a:solidFill>
                  <a:srgbClr val="a50021"/>
                </a:solidFill>
                <a:latin typeface="Tahoma"/>
              </a:rPr>
              <a:t>第</a:t>
            </a:r>
            <a:r>
              <a:rPr b="1" lang="en-US" sz="2400" spc="-1" strike="noStrike">
                <a:solidFill>
                  <a:srgbClr val="a50021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a50021"/>
                </a:solidFill>
                <a:latin typeface="Tahoma"/>
              </a:rPr>
              <a:t>句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ahoma"/>
              </a:rPr>
              <a:t>       </a:t>
            </a:r>
            <a:r>
              <a:rPr b="1" lang="zh-CN" sz="2400" spc="-1" strike="noStrike">
                <a:solidFill>
                  <a:srgbClr val="a50021"/>
                </a:solidFill>
                <a:latin typeface="Tahoma"/>
              </a:rPr>
              <a:t>句</a:t>
            </a:r>
            <a:r>
              <a:rPr b="1" lang="en-US" sz="2400" spc="-1" strike="noStrike">
                <a:solidFill>
                  <a:srgbClr val="a50021"/>
                </a:solidFill>
                <a:latin typeface="Tahoma"/>
              </a:rPr>
              <a:t>1</a:t>
            </a:r>
            <a:r>
              <a:rPr b="1" lang="zh-CN" sz="2400" spc="-1" strike="noStrike">
                <a:solidFill>
                  <a:srgbClr val="a50021"/>
                </a:solidFill>
                <a:latin typeface="Tahoma"/>
              </a:rPr>
              <a:t>只交代了我军取得胜利并占领了哪些地区，没有讲敌军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ahoma"/>
              </a:rPr>
              <a:t>情况和取胜的程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ahoma"/>
              </a:rPr>
              <a:t>       </a:t>
            </a:r>
            <a:r>
              <a:rPr b="1" lang="zh-CN" sz="2400" spc="-1" strike="noStrike">
                <a:solidFill>
                  <a:srgbClr val="a50021"/>
                </a:solidFill>
                <a:latin typeface="Tahoma"/>
              </a:rPr>
              <a:t>句</a:t>
            </a:r>
            <a:r>
              <a:rPr b="1" lang="en-US" sz="2400" spc="-1" strike="noStrike">
                <a:solidFill>
                  <a:srgbClr val="a50021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a50021"/>
                </a:solidFill>
                <a:latin typeface="Tahoma"/>
              </a:rPr>
              <a:t>用“整天激战”概述了战斗的艰巨，  表现我军的英勇无敌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ahoma"/>
              </a:rPr>
              <a:t>“ </a:t>
            </a:r>
            <a:r>
              <a:rPr b="1" lang="zh-CN" sz="2400" spc="-1" strike="noStrike">
                <a:solidFill>
                  <a:srgbClr val="a50021"/>
                </a:solidFill>
                <a:latin typeface="Tahoma"/>
              </a:rPr>
              <a:t>歼灭及击溃”表现敌军失败之大；（“歼灭” 指全部被消灭；“击溃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a50021"/>
                </a:solidFill>
                <a:latin typeface="Tahoma"/>
              </a:rPr>
              <a:t>指敌军已完全丧失战斗力。）“占领</a:t>
            </a:r>
            <a:r>
              <a:rPr b="1" lang="en-US" sz="2400" spc="-1" strike="noStrike">
                <a:solidFill>
                  <a:srgbClr val="a50021"/>
                </a:solidFill>
                <a:latin typeface="宋体"/>
              </a:rPr>
              <a:t>……</a:t>
            </a:r>
            <a:r>
              <a:rPr b="1" lang="zh-CN" sz="2400" spc="-1" strike="noStrike">
                <a:solidFill>
                  <a:srgbClr val="a50021"/>
                </a:solidFill>
                <a:latin typeface="宋体"/>
              </a:rPr>
              <a:t>广大地区</a:t>
            </a:r>
            <a:r>
              <a:rPr b="1" lang="zh-CN" sz="2400" spc="-1" strike="noStrike">
                <a:solidFill>
                  <a:srgbClr val="a50021"/>
                </a:solidFill>
                <a:latin typeface="Tahoma"/>
              </a:rPr>
              <a:t>”所指并非全部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ahoma"/>
              </a:rPr>
              <a:t>但大势已成定居局；“控制江阴要塞”，指关键的军事设施已在我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ahoma"/>
              </a:rPr>
              <a:t>握之中。     可见</a:t>
            </a:r>
            <a:r>
              <a:rPr b="1" lang="en-US" sz="2400" spc="-1" strike="noStrike">
                <a:solidFill>
                  <a:srgbClr val="a50021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a50021"/>
                </a:solidFill>
                <a:latin typeface="Tahoma"/>
              </a:rPr>
              <a:t>句语言具体详明，事实确凿可信，具有震撼人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ahoma"/>
              </a:rPr>
              <a:t>的力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" name="camera.wav"/>
      </p:stSnd>
    </p:sndAc>
  </p:transition>
  <p:timing>
    <p:tnLst>
      <p:par>
        <p:cTn id="1440" dur="indefinite" restart="never" nodeType="tmRoot">
          <p:childTnLst>
            <p:seq>
              <p:cTn id="1441" dur="indefinite" nodeType="mainSeq">
                <p:childTnLst>
                  <p:par>
                    <p:cTn id="1442" fill="hold">
                      <p:stCondLst>
                        <p:cond delay="indefinite"/>
                      </p:stCondLst>
                      <p:childTnLst>
                        <p:par>
                          <p:cTn id="1443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/>
          <p:nvPr/>
        </p:nvSpPr>
        <p:spPr>
          <a:xfrm>
            <a:off x="826920" y="115920"/>
            <a:ext cx="66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f20ec"/>
                </a:solidFill>
                <a:latin typeface="Times New Roman"/>
              </a:rPr>
              <a:t>㈣、你能概括这则新闻的中心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12720" y="620640"/>
            <a:ext cx="820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20700a"/>
                </a:solidFill>
                <a:latin typeface="Times New Roman"/>
              </a:rPr>
              <a:t>这篇新闻，气势磅礴，全面地报道了人民解放军的渡江战役，这是中国解放战争战略进攻阶段具有关键意义的胜利。这一历史，让我们看到正义战争的威力，认识到中国革命的胜利来之不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692360" y="2276640"/>
            <a:ext cx="57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Times New Roman"/>
                <a:ea typeface="华文隶书"/>
              </a:rPr>
              <a:t>问题探究</a:t>
            </a:r>
            <a:r>
              <a:rPr b="1" lang="zh-CN" sz="2800" spc="-1" strike="noStrike">
                <a:solidFill>
                  <a:srgbClr val="ff33cc"/>
                </a:solidFill>
                <a:latin typeface="Times New Roman"/>
                <a:ea typeface="华文隶书"/>
              </a:rPr>
              <a:t>（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华文隶书"/>
              </a:rPr>
              <a:t>小组讨论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971640" y="2852640"/>
            <a:ext cx="74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本文主体部分的三个层次是怎样衔接的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84360" y="494172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找出本文的议论句，看看它属新闻结构的哪个部分，有什么表达效果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47640" y="3284640"/>
            <a:ext cx="810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1d6709"/>
                </a:solidFill>
                <a:latin typeface="Times New Roman"/>
              </a:rPr>
              <a:t>第二层开头“二十日下午五时起”与第一层开头“二十日夜起”紧相衔接；第三层开头“不料正是汤恩伯到芜湖的那一天</a:t>
            </a:r>
            <a:r>
              <a:rPr b="1" lang="en-US" sz="2800" spc="-1" strike="noStrike">
                <a:solidFill>
                  <a:srgbClr val="1d6709"/>
                </a:solidFill>
                <a:latin typeface="Times New Roman"/>
              </a:rPr>
              <a:t>……</a:t>
            </a:r>
            <a:r>
              <a:rPr b="1" lang="zh-CN" sz="2800" spc="-1" strike="noStrike">
                <a:solidFill>
                  <a:srgbClr val="1d6709"/>
                </a:solidFill>
                <a:latin typeface="Times New Roman"/>
              </a:rPr>
              <a:t>我军突破了”一句起了承上启下的作用，把第二层与第三层衔接起来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84360" y="5877000"/>
            <a:ext cx="82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1d6709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1d6709"/>
                </a:solidFill>
                <a:latin typeface="Times New Roman"/>
              </a:rPr>
              <a:t>此种情况</a:t>
            </a:r>
            <a:r>
              <a:rPr b="1" lang="en-US" sz="2800" spc="-1" strike="noStrike">
                <a:solidFill>
                  <a:srgbClr val="1d6709"/>
                </a:solidFill>
                <a:latin typeface="Times New Roman"/>
              </a:rPr>
              <a:t>……</a:t>
            </a:r>
            <a:r>
              <a:rPr b="1" lang="zh-CN" sz="2800" spc="-1" strike="noStrike">
                <a:solidFill>
                  <a:srgbClr val="1d6709"/>
                </a:solidFill>
                <a:latin typeface="Times New Roman"/>
              </a:rPr>
              <a:t>都很泄气”。属“背景”部分。分析了敌溃我胜的原因，突出了文章</a:t>
            </a:r>
            <a:r>
              <a:rPr b="1" lang="zh-CN" sz="2800" spc="-1" strike="noStrike">
                <a:solidFill>
                  <a:srgbClr val="20700a"/>
                </a:solidFill>
                <a:latin typeface="Times New Roman"/>
              </a:rPr>
              <a:t>中心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3" name="camera.wav"/>
      </p:stSnd>
    </p:sndAc>
  </p:transition>
  <p:timing>
    <p:tnLst>
      <p:par>
        <p:cTn id="1447" dur="indefinite" restart="never" nodeType="tmRoot">
          <p:childTnLst>
            <p:seq>
              <p:cTn id="1448" dur="indefinite" nodeType="mainSeq">
                <p:childTnLst>
                  <p:par>
                    <p:cTn id="1449" fill="hold">
                      <p:stCondLst>
                        <p:cond delay="indefinite"/>
                      </p:stCondLst>
                      <p:childTnLst>
                        <p:par>
                          <p:cTn id="1450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7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8" fill="hold">
                      <p:stCondLst>
                        <p:cond delay="indefinite"/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2" dur="8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3" dur="8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4" dur="8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5" fill="hold">
                      <p:stCondLst>
                        <p:cond delay="indefinite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3" fill="hold">
                      <p:stCondLst>
                        <p:cond delay="indefinite"/>
                      </p:stCondLst>
                      <p:childTnLst>
                        <p:par>
                          <p:cTn id="1474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1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2" fill="hold">
                      <p:stCondLst>
                        <p:cond delay="indefinite"/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9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0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5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6" fill="hold">
                      <p:stCondLst>
                        <p:cond delay="indefinite"/>
                      </p:stCondLst>
                      <p:childTnLst>
                        <p:par>
                          <p:cTn id="1497" fill="hold">
                            <p:stCondLst>
                              <p:cond delay="0"/>
                            </p:stCondLst>
                            <p:childTnLst>
                              <p:par>
                                <p:cTn id="14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0" dur="8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1" dur="8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2" dur="8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395280" y="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华文新魏"/>
              </a:rPr>
              <a:t>揣摩语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55640" y="4762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2f20ec"/>
                </a:solidFill>
                <a:latin typeface="Times New Roman"/>
              </a:rPr>
              <a:t>请比较下面每组中的句子，看哪句好，说说理由。（</a:t>
            </a:r>
            <a:r>
              <a:rPr b="1" lang="zh-CN" sz="2400" spc="-1" strike="noStrike">
                <a:solidFill>
                  <a:srgbClr val="2f20ec"/>
                </a:solidFill>
                <a:latin typeface="Times New Roman"/>
              </a:rPr>
              <a:t>提示：第一组注意</a:t>
            </a:r>
            <a:r>
              <a:rPr b="1" lang="zh-CN" sz="2400" spc="-1" strike="noStrike">
                <a:solidFill>
                  <a:srgbClr val="f7450d"/>
                </a:solidFill>
                <a:latin typeface="Times New Roman"/>
              </a:rPr>
              <a:t>红色</a:t>
            </a:r>
            <a:r>
              <a:rPr b="1" lang="zh-CN" sz="2400" spc="-1" strike="noStrike">
                <a:solidFill>
                  <a:srgbClr val="2f20ec"/>
                </a:solidFill>
                <a:latin typeface="Times New Roman"/>
              </a:rPr>
              <a:t>词语的不同表达效果；第二组注意比较语句的感情色彩。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826920" y="170028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二十日夜起，长江北岸人民解放军中路军首先</a:t>
            </a:r>
            <a:r>
              <a:rPr b="1" lang="zh-CN" sz="2800" spc="-1" strike="noStrike">
                <a:solidFill>
                  <a:srgbClr val="f7450d"/>
                </a:solidFill>
                <a:latin typeface="Times New Roman"/>
              </a:rPr>
              <a:t>越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安庆、芜湖线，</a:t>
            </a:r>
            <a:r>
              <a:rPr b="1" lang="zh-CN" sz="2800" spc="-1" strike="noStrike">
                <a:solidFill>
                  <a:srgbClr val="f7450d"/>
                </a:solidFill>
                <a:latin typeface="Times New Roman"/>
              </a:rPr>
              <a:t>到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繁昌、铜陵、青阳、荻港、鲁港地区，</a:t>
            </a:r>
            <a:r>
              <a:rPr b="1" lang="zh-CN" sz="2800" spc="-1" strike="noStrike">
                <a:solidFill>
                  <a:srgbClr val="f7450d"/>
                </a:solidFill>
                <a:latin typeface="Times New Roman"/>
              </a:rPr>
              <a:t>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渡过三十万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55640" y="299736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二十日夜起，长江北岸人民解放军中路军首先</a:t>
            </a:r>
            <a:r>
              <a:rPr b="1" lang="zh-CN" sz="2800" spc="-1" strike="noStrike">
                <a:solidFill>
                  <a:srgbClr val="f7450d"/>
                </a:solidFill>
                <a:latin typeface="Times New Roman"/>
              </a:rPr>
              <a:t>突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安庆、芜湖线，</a:t>
            </a:r>
            <a:r>
              <a:rPr b="1" lang="zh-CN" sz="2800" spc="-1" strike="noStrike">
                <a:solidFill>
                  <a:srgbClr val="f7450d"/>
                </a:solidFill>
                <a:latin typeface="Times New Roman"/>
              </a:rPr>
              <a:t>渡至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繁昌、铜陵、青阳、荻港、鲁港地区，</a:t>
            </a:r>
            <a:r>
              <a:rPr b="1" lang="zh-CN" sz="2800" spc="-1" strike="noStrike">
                <a:solidFill>
                  <a:srgbClr val="f7450d"/>
                </a:solidFill>
                <a:latin typeface="Times New Roman"/>
              </a:rPr>
              <a:t>二十四小时内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渡过三十万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1844640"/>
            <a:ext cx="144360" cy="1655640"/>
          </a:xfrm>
          <a:custGeom>
            <a:avLst/>
            <a:gdLst>
              <a:gd name="textAreaLeft" fmla="*/ 92160 w 144360"/>
              <a:gd name="textAreaRight" fmla="*/ 144360 w 144360"/>
              <a:gd name="textAreaTop" fmla="*/ 42840 h 1655640"/>
              <a:gd name="textAreaBottom" fmla="*/ 1612800 h 165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e12b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50920" y="2421000"/>
            <a:ext cx="35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20ec"/>
                </a:solidFill>
                <a:latin typeface="Times New Roman"/>
              </a:rPr>
              <a:t>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55640" y="4437000"/>
            <a:ext cx="7921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20700a"/>
                </a:solidFill>
                <a:latin typeface="Times New Roman"/>
              </a:rPr>
              <a:t>Ⅰ</a:t>
            </a:r>
            <a:r>
              <a:rPr b="1" lang="zh-CN" sz="2800" spc="-1" strike="noStrike">
                <a:solidFill>
                  <a:srgbClr val="20700a"/>
                </a:solidFill>
                <a:latin typeface="Times New Roman"/>
              </a:rPr>
              <a:t>组的</a:t>
            </a:r>
            <a:r>
              <a:rPr b="1" lang="zh-CN" sz="2400" spc="-1" strike="noStrike">
                <a:solidFill>
                  <a:srgbClr val="20700a"/>
                </a:solidFill>
                <a:latin typeface="Times New Roman"/>
              </a:rPr>
              <a:t>②句好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f7450d"/>
                </a:solidFill>
                <a:latin typeface="Times New Roman"/>
              </a:rPr>
              <a:t>突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20700a"/>
                </a:solidFill>
                <a:latin typeface="Times New Roman"/>
              </a:rPr>
              <a:t>表明我军歼灭或击溃守敌冲破敌阵。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2f20ec"/>
                </a:solidFill>
                <a:latin typeface="Times New Roman"/>
              </a:rPr>
              <a:t>越过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20700a"/>
                </a:solidFill>
                <a:latin typeface="Times New Roman"/>
              </a:rPr>
              <a:t>表现不出经过战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“</a:t>
            </a:r>
            <a:r>
              <a:rPr b="1" lang="zh-CN" sz="2400" spc="-1" strike="noStrike">
                <a:solidFill>
                  <a:srgbClr val="f7450d"/>
                </a:solidFill>
                <a:latin typeface="Times New Roman"/>
              </a:rPr>
              <a:t>渡至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20700a"/>
                </a:solidFill>
                <a:latin typeface="Times New Roman"/>
              </a:rPr>
              <a:t>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2f20ec"/>
                </a:solidFill>
                <a:latin typeface="Times New Roman"/>
              </a:rPr>
              <a:t>到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20700a"/>
                </a:solidFill>
                <a:latin typeface="Times New Roman"/>
              </a:rPr>
              <a:t>含义丰富，有横渡与到达两层意思，且文字简洁有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“</a:t>
            </a:r>
            <a:r>
              <a:rPr b="1" lang="zh-CN" sz="2800" spc="-1" strike="noStrike">
                <a:solidFill>
                  <a:srgbClr val="f7450d"/>
                </a:solidFill>
                <a:latin typeface="Times New Roman"/>
              </a:rPr>
              <a:t>二十四小时内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20700a"/>
                </a:solidFill>
                <a:latin typeface="Times New Roman"/>
              </a:rPr>
              <a:t>，时间明确，且含渡江迅速，作战顺利之意。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2f20ec"/>
                </a:solidFill>
                <a:latin typeface="Times New Roman"/>
              </a:rPr>
              <a:t>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20700a"/>
                </a:solidFill>
                <a:latin typeface="Times New Roman"/>
              </a:rPr>
              <a:t>字不能表达这些意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3" name="camera.wav"/>
      </p:stSnd>
    </p:sndAc>
  </p:transition>
  <p:timing>
    <p:tnLst>
      <p:par>
        <p:cTn id="1503" dur="indefinite" restart="never" nodeType="tmRoot">
          <p:childTnLst>
            <p:seq>
              <p:cTn id="1504" dur="indefinite" nodeType="mainSeq">
                <p:childTnLst>
                  <p:par>
                    <p:cTn id="1505" fill="hold">
                      <p:stCondLst>
                        <p:cond delay="indefinite"/>
                      </p:stCondLst>
                      <p:childTnLst>
                        <p:par>
                          <p:cTn id="1506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3" fill="hold">
                      <p:stCondLst>
                        <p:cond delay="indefinite"/>
                      </p:stCondLst>
                      <p:childTnLst>
                        <p:par>
                          <p:cTn id="1514" fill="hold">
                            <p:stCondLst>
                              <p:cond delay="0"/>
                            </p:stCondLst>
                            <p:childTnLst>
                              <p:par>
                                <p:cTn id="15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8" fill="hold">
                      <p:stCondLst>
                        <p:cond delay="indefinite"/>
                      </p:stCondLst>
                      <p:childTnLst>
                        <p:par>
                          <p:cTn id="1519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7" fill="hold">
                      <p:stCondLst>
                        <p:cond delay="indefinite"/>
                      </p:stCondLst>
                      <p:childTnLst>
                        <p:par>
                          <p:cTn id="1528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7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8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9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0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1" fill="hold">
                      <p:stCondLst>
                        <p:cond delay="indefinite"/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5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6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7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8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9" fill="hold">
                      <p:stCondLst>
                        <p:cond delay="indefinite"/>
                      </p:stCondLst>
                      <p:childTnLst>
                        <p:par>
                          <p:cTn id="1550" fill="hold">
                            <p:stCondLst>
                              <p:cond delay="0"/>
                            </p:stCondLst>
                            <p:childTnLst>
                              <p:par>
                                <p:cTn id="15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3" dur="8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4" dur="8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5" dur="8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645480" y="692280"/>
            <a:ext cx="52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20ec"/>
                </a:solidFill>
                <a:latin typeface="Times New Roman"/>
              </a:rPr>
              <a:t>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403280" y="260280"/>
            <a:ext cx="70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1" lang="zh-CN" sz="2800" spc="-1" strike="noStrike">
                <a:solidFill>
                  <a:srgbClr val="f7450d"/>
                </a:solidFill>
                <a:latin typeface="Times New Roman"/>
              </a:rPr>
              <a:t>结果就在二十日那一天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东面防线又被我军突破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476360" y="1197000"/>
            <a:ext cx="6912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1" lang="zh-CN" sz="2800" spc="-1" strike="noStrike">
                <a:solidFill>
                  <a:srgbClr val="f7450d"/>
                </a:solidFill>
                <a:latin typeface="Times New Roman"/>
              </a:rPr>
              <a:t>不料正是汤恩伯到芜湖的那一天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东面防线又被我军突破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332000" y="404640"/>
            <a:ext cx="71280" cy="1152720"/>
          </a:xfrm>
          <a:custGeom>
            <a:avLst/>
            <a:gdLst>
              <a:gd name="textAreaLeft" fmla="*/ 45720 w 71280"/>
              <a:gd name="textAreaRight" fmla="*/ 71640 w 71280"/>
              <a:gd name="textAreaTop" fmla="*/ 29880 h 1152720"/>
              <a:gd name="textAreaBottom" fmla="*/ 1122840 h 11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e12b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900000" y="2133720"/>
            <a:ext cx="763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0700a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20700a"/>
                </a:solidFill>
                <a:latin typeface="Times New Roman"/>
              </a:rPr>
              <a:t>Ⅱ</a:t>
            </a:r>
            <a:r>
              <a:rPr b="1" lang="zh-CN" sz="2800" spc="-1" strike="noStrike">
                <a:solidFill>
                  <a:srgbClr val="20700a"/>
                </a:solidFill>
                <a:latin typeface="Times New Roman"/>
              </a:rPr>
              <a:t>组的②句好。</a:t>
            </a:r>
            <a:r>
              <a:rPr b="1" lang="zh-CN" sz="2800" spc="-1" strike="noStrike">
                <a:solidFill>
                  <a:srgbClr val="2f20ec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f7450d"/>
                </a:solidFill>
                <a:latin typeface="Times New Roman"/>
              </a:rPr>
              <a:t>不料正是汤恩伯到芜湖的那一天</a:t>
            </a:r>
            <a:r>
              <a:rPr b="1" lang="zh-CN" sz="2800" spc="-1" strike="noStrike">
                <a:solidFill>
                  <a:srgbClr val="2f20ec"/>
                </a:solidFill>
                <a:latin typeface="Times New Roman"/>
              </a:rPr>
              <a:t>”，</a:t>
            </a:r>
            <a:r>
              <a:rPr b="1" lang="zh-CN" sz="2800" spc="-1" strike="noStrike">
                <a:solidFill>
                  <a:srgbClr val="20700a"/>
                </a:solidFill>
                <a:latin typeface="Times New Roman"/>
              </a:rPr>
              <a:t>有嘲讽意味，嘲讽汤恩伯过高估计东面防线的巩固性，过低估计人民解放军的战斗力</a:t>
            </a:r>
            <a:r>
              <a:rPr b="1" lang="zh-CN" sz="2800" spc="-1" strike="noStrike">
                <a:solidFill>
                  <a:srgbClr val="2f20ec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20700a"/>
                </a:solidFill>
                <a:latin typeface="Times New Roman"/>
              </a:rPr>
              <a:t>倘说</a:t>
            </a:r>
            <a:r>
              <a:rPr b="1" lang="zh-CN" sz="2800" spc="-1" strike="noStrike">
                <a:solidFill>
                  <a:srgbClr val="2f20ec"/>
                </a:solidFill>
                <a:latin typeface="Times New Roman"/>
              </a:rPr>
              <a:t>“结果就在二十日那一天”，</a:t>
            </a:r>
            <a:r>
              <a:rPr b="1" lang="zh-CN" sz="2800" spc="-1" strike="noStrike">
                <a:solidFill>
                  <a:srgbClr val="20700a"/>
                </a:solidFill>
                <a:latin typeface="Times New Roman"/>
              </a:rPr>
              <a:t>毫无感情色彩，且与上句“</a:t>
            </a:r>
            <a:r>
              <a:rPr b="1" lang="zh-CN" sz="2800" spc="-1" strike="noStrike">
                <a:solidFill>
                  <a:srgbClr val="2f20ec"/>
                </a:solidFill>
                <a:latin typeface="Times New Roman"/>
              </a:rPr>
              <a:t>二十一日</a:t>
            </a:r>
            <a:r>
              <a:rPr b="1" lang="zh-CN" sz="2800" spc="-1" strike="noStrike">
                <a:solidFill>
                  <a:srgbClr val="20700a"/>
                </a:solidFill>
                <a:latin typeface="Times New Roman"/>
              </a:rPr>
              <a:t>”重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901800" y="4292640"/>
            <a:ext cx="784692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2f20ec"/>
                </a:solidFill>
                <a:latin typeface="华文隶书"/>
                <a:ea typeface="华文隶书"/>
              </a:rPr>
              <a:t> </a:t>
            </a:r>
            <a:r>
              <a:rPr b="1" lang="zh-CN" sz="3600" spc="-1" strike="noStrike">
                <a:solidFill>
                  <a:srgbClr val="2f20ec"/>
                </a:solidFill>
                <a:latin typeface="华文隶书"/>
                <a:ea typeface="华文隶书"/>
              </a:rPr>
              <a:t>小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 可见这则新闻的</a:t>
            </a:r>
            <a:r>
              <a:rPr b="1" lang="zh-CN" sz="2800" spc="-1" strike="noStrike">
                <a:solidFill>
                  <a:srgbClr val="e933c6"/>
                </a:solidFill>
                <a:latin typeface="Times New Roman"/>
              </a:rPr>
              <a:t>语言用词准确精练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e933c6"/>
                </a:solidFill>
                <a:latin typeface="Times New Roman"/>
              </a:rPr>
              <a:t>铿锵有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另外还有</a:t>
            </a:r>
            <a:r>
              <a:rPr b="1" lang="zh-CN" sz="2800" spc="-1" strike="noStrike">
                <a:solidFill>
                  <a:srgbClr val="e933c6"/>
                </a:solidFill>
                <a:latin typeface="Times New Roman"/>
              </a:rPr>
              <a:t>书面语和口头语相穿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相益得彰（如“敌亦纷纷溃退，毫无斗志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文气十足；“不想再打了”“都很泄气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非常口语化），各有妙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3" name="camera.wav"/>
      </p:stSnd>
    </p:sndAc>
  </p:transition>
  <p:timing>
    <p:tnLst>
      <p:par>
        <p:cTn id="1556" dur="indefinite" restart="never" nodeType="tmRoot">
          <p:childTnLst>
            <p:seq>
              <p:cTn id="1557" dur="indefinite" nodeType="mainSeq">
                <p:childTnLst>
                  <p:par>
                    <p:cTn id="1558" fill="hold">
                      <p:stCondLst>
                        <p:cond delay="indefinite"/>
                      </p:stCondLst>
                      <p:childTnLst>
                        <p:par>
                          <p:cTn id="1559" fill="hold">
                            <p:stCondLst>
                              <p:cond delay="0"/>
                            </p:stCondLst>
                            <p:childTnLst>
                              <p:par>
                                <p:cTn id="156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6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7" fill="hold">
                      <p:stCondLst>
                        <p:cond delay="indefinite"/>
                      </p:stCondLst>
                      <p:childTnLst>
                        <p:par>
                          <p:cTn id="1568" fill="hold">
                            <p:stCondLst>
                              <p:cond delay="0"/>
                            </p:stCondLst>
                            <p:childTnLst>
                              <p:par>
                                <p:cTn id="156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1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2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3" fill="hold">
                      <p:stCondLst>
                        <p:cond delay="indefinite"/>
                      </p:stCondLst>
                      <p:childTnLst>
                        <p:par>
                          <p:cTn id="1574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7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8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9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0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1" fill="hold">
                      <p:stCondLst>
                        <p:cond delay="indefinite"/>
                      </p:stCondLst>
                      <p:childTnLst>
                        <p:par>
                          <p:cTn id="1582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5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7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fill="hold">
                      <p:stCondLst>
                        <p:cond delay="indefinite"/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3" dur="8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4" dur="8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5" dur="8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fill="hold">
                      <p:stCondLst>
                        <p:cond delay="indefinite"/>
                      </p:stCondLst>
                      <p:childTnLst>
                        <p:par>
                          <p:cTn id="1597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0" y="0"/>
            <a:ext cx="31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933c6"/>
                </a:solidFill>
                <a:latin typeface="Times New Roman"/>
                <a:ea typeface="华文新魏"/>
              </a:rPr>
              <a:t>质疑析疑</a:t>
            </a:r>
            <a:r>
              <a:rPr b="1" lang="en-US" sz="4000" spc="-1" strike="noStrike">
                <a:solidFill>
                  <a:srgbClr val="e933c6"/>
                </a:solidFill>
                <a:latin typeface="Times New Roman"/>
                <a:ea typeface="华文新魏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5640" y="549360"/>
            <a:ext cx="77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0e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2f20ec"/>
                </a:solidFill>
                <a:latin typeface="Times New Roman"/>
              </a:rPr>
              <a:t>、为什么按中、西、东的顺序叙述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65120" y="981000"/>
            <a:ext cx="857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路军首先发起渡江作战，所以先说。西路军和中路军所遇敌情一样，敌军抵抗甚为微弱，而东线敌军抵抗较为顽强，所以西路接着中路说，合在一起，可以议一议。最后说东路激战，文势也涌起高潮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55640" y="270828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0e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2f20ec"/>
                </a:solidFill>
                <a:latin typeface="Times New Roman"/>
              </a:rPr>
              <a:t>、东路与西路是同时发起渡江作战的，为什么先说西路军，再说东路军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84360" y="364500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新闻的主体里，中路军和西路军都从时间说起，中路一层开头是“二十日夜起”，西路一层开头是“二十一日下午五时起”，层次分明而又紧相衔接。说了西路战况之后，又合起来有所议论，议论最后一句是“汤恩伯认为南京江阴段防线是很巩固的，弱点只存在于南京九江一线。</a:t>
            </a:r>
            <a:r>
              <a:rPr b="1" lang="zh-CN" sz="2800" spc="-1" strike="noStrike">
                <a:solidFill>
                  <a:srgbClr val="f7450d"/>
                </a:solidFill>
                <a:latin typeface="Times New Roman"/>
              </a:rPr>
              <a:t>不料正是汤恩伯到芜湖的那一天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东面防线又被我军突破了”。话题巧妙而自然地从“西面”转到“东面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3" name="camera.wav"/>
      </p:stSnd>
    </p:sndAc>
  </p:transition>
  <p:timing>
    <p:tnLst>
      <p:par>
        <p:cTn id="1604" dur="indefinite" restart="never" nodeType="tmRoot">
          <p:childTnLst>
            <p:seq>
              <p:cTn id="1605" dur="indefinite" nodeType="mainSeq">
                <p:childTnLst>
                  <p:par>
                    <p:cTn id="1606" fill="hold">
                      <p:stCondLst>
                        <p:cond delay="indefinite"/>
                      </p:stCondLst>
                      <p:childTnLst>
                        <p:par>
                          <p:cTn id="1607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4" fill="hold">
                      <p:stCondLst>
                        <p:cond delay="indefinite"/>
                      </p:stCondLst>
                      <p:childTnLst>
                        <p:par>
                          <p:cTn id="1615" fill="hold">
                            <p:stCondLst>
                              <p:cond delay="0"/>
                            </p:stCondLst>
                            <p:childTnLst>
                              <p:par>
                                <p:cTn id="16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0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2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3" fill="hold">
                      <p:stCondLst>
                        <p:cond delay="indefinite"/>
                      </p:stCondLst>
                      <p:childTnLst>
                        <p:par>
                          <p:cTn id="1624" fill="hold">
                            <p:stCondLst>
                              <p:cond delay="0"/>
                            </p:stCondLst>
                            <p:childTnLst>
                              <p:par>
                                <p:cTn id="162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7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0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2" fill="hold">
                      <p:stCondLst>
                        <p:cond delay="indefinite"/>
                      </p:stCondLst>
                      <p:childTnLst>
                        <p:par>
                          <p:cTn id="1633" fill="hold">
                            <p:stCondLst>
                              <p:cond delay="0"/>
                            </p:stCondLst>
                            <p:childTnLst>
                              <p:par>
                                <p:cTn id="16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6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7" fill="hold">
                      <p:stCondLst>
                        <p:cond delay="indefinite"/>
                      </p:stCondLst>
                      <p:childTnLst>
                        <p:par>
                          <p:cTn id="1638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/>
          <p:nvPr/>
        </p:nvSpPr>
        <p:spPr>
          <a:xfrm>
            <a:off x="826920" y="189000"/>
            <a:ext cx="777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0ec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2f20ec"/>
                </a:solidFill>
                <a:latin typeface="Times New Roman"/>
              </a:rPr>
              <a:t>、主体分述三路情况，为什么又能一气呵成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900000" y="61596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主体分述三路情况，三路三个层次，从上题的分析中可看到作者是很注意一层与一层之间的衔接的，所以全文流转顺畅，一气呵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24000" y="184464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933c6"/>
                </a:solidFill>
                <a:latin typeface="Times New Roman"/>
                <a:ea typeface="华文隶书"/>
              </a:rPr>
              <a:t>拓展延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116000" y="2333520"/>
            <a:ext cx="75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f20ec"/>
                </a:solidFill>
                <a:latin typeface="Times New Roman"/>
              </a:rPr>
              <a:t>请找出下面这则新闻的标题、导语和主体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68360" y="2722680"/>
            <a:ext cx="83548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zh-CN" sz="2800" spc="-1" strike="noStrike">
                <a:solidFill>
                  <a:srgbClr val="20700a"/>
                </a:solidFill>
                <a:latin typeface="Times New Roman"/>
              </a:rPr>
              <a:t>温家宝强调加强应急管理工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0700a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20700a"/>
                </a:solidFill>
                <a:latin typeface="Times New Roman"/>
              </a:rPr>
              <a:t>国务院于</a:t>
            </a:r>
            <a:r>
              <a:rPr b="1" lang="en-US" sz="2800" spc="-1" strike="noStrike">
                <a:solidFill>
                  <a:srgbClr val="20700a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20700a"/>
                </a:solidFill>
                <a:latin typeface="Times New Roman"/>
              </a:rPr>
              <a:t>月</a:t>
            </a:r>
            <a:r>
              <a:rPr b="1" lang="en-US" sz="2800" spc="-1" strike="noStrike">
                <a:solidFill>
                  <a:srgbClr val="20700a"/>
                </a:solidFill>
                <a:latin typeface="Times New Roman"/>
              </a:rPr>
              <a:t>23</a:t>
            </a:r>
            <a:r>
              <a:rPr b="1" lang="zh-CN" sz="2800" spc="-1" strike="noStrike">
                <a:solidFill>
                  <a:srgbClr val="20700a"/>
                </a:solidFill>
                <a:latin typeface="Times New Roman"/>
              </a:rPr>
              <a:t>日在京召开全国应急管理工作会议。中共中央政治局常委、国务院总理温家宝强调，加强全国应急体系建设和应急管理工作，必须做好健全组织体系、运行机制、保障制度等工作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24000" y="27082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7450d"/>
                </a:solidFill>
                <a:latin typeface="Times New Roman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50920" y="5084640"/>
            <a:ext cx="12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7450d"/>
                </a:solidFill>
                <a:latin typeface="Times New Roman"/>
              </a:rPr>
              <a:t>导语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042920" y="5141880"/>
            <a:ext cx="80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国务院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日在京召开全国应急管理工作会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24000" y="56610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7450d"/>
                </a:solidFill>
                <a:latin typeface="Times New Roman"/>
              </a:rPr>
              <a:t>主体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332000" y="5722920"/>
            <a:ext cx="73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中共中央政治局常委、国务院总理温家宝强调，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保障制度等工作。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187280" y="2924280"/>
            <a:ext cx="505080" cy="144360"/>
          </a:xfrm>
          <a:prstGeom prst="rightArrow">
            <a:avLst>
              <a:gd name="adj1" fmla="val 50000"/>
              <a:gd name="adj2" fmla="val 87469"/>
            </a:avLst>
          </a:prstGeom>
          <a:solidFill>
            <a:srgbClr val="00cc9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3" name="camera.wav"/>
      </p:stSnd>
    </p:sndAc>
  </p:transition>
  <p:timing>
    <p:tnLst>
      <p:par>
        <p:cTn id="1642" dur="indefinite" restart="never" nodeType="tmRoot">
          <p:childTnLst>
            <p:seq>
              <p:cTn id="1643" dur="indefinite" nodeType="mainSeq">
                <p:childTnLst>
                  <p:par>
                    <p:cTn id="1644" fill="hold">
                      <p:stCondLst>
                        <p:cond delay="indefinite"/>
                      </p:stCondLst>
                      <p:childTnLst>
                        <p:par>
                          <p:cTn id="1645" fill="hold">
                            <p:stCondLst>
                              <p:cond delay="0"/>
                            </p:stCondLst>
                            <p:childTnLst>
                              <p:par>
                                <p:cTn id="164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8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9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0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1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2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3" fill="hold">
                      <p:stCondLst>
                        <p:cond delay="indefinite"/>
                      </p:stCondLst>
                      <p:childTnLst>
                        <p:par>
                          <p:cTn id="1654" fill="hold">
                            <p:stCondLst>
                              <p:cond delay="0"/>
                            </p:stCondLst>
                            <p:childTnLst>
                              <p:par>
                                <p:cTn id="165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1" fill="hold">
                      <p:stCondLst>
                        <p:cond delay="indefinite"/>
                      </p:stCondLst>
                      <p:childTnLst>
                        <p:par>
                          <p:cTn id="1662" fill="hold">
                            <p:stCondLst>
                              <p:cond delay="0"/>
                            </p:stCondLst>
                            <p:childTnLst>
                              <p:par>
                                <p:cTn id="166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9" fill="hold">
                      <p:stCondLst>
                        <p:cond delay="indefinite"/>
                      </p:stCondLst>
                      <p:childTnLst>
                        <p:par>
                          <p:cTn id="1670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3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4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5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6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7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8" fill="hold">
                      <p:stCondLst>
                        <p:cond delay="indefinite"/>
                      </p:stCondLst>
                      <p:childTnLst>
                        <p:par>
                          <p:cTn id="1679" fill="hold">
                            <p:stCondLst>
                              <p:cond delay="0"/>
                            </p:stCondLst>
                            <p:childTnLst>
                              <p:par>
                                <p:cTn id="16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2" dur="8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3" dur="8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4" dur="8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5" fill="hold">
                      <p:stCondLst>
                        <p:cond delay="indefinite"/>
                      </p:stCondLst>
                      <p:childTnLst>
                        <p:par>
                          <p:cTn id="1686" fill="hold">
                            <p:stCondLst>
                              <p:cond delay="0"/>
                            </p:stCondLst>
                            <p:childTnLst>
                              <p:par>
                                <p:cTn id="168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4" fill="hold">
                      <p:stCondLst>
                        <p:cond delay="indefinite"/>
                      </p:stCondLst>
                      <p:childTnLst>
                        <p:par>
                          <p:cTn id="1695" fill="hold">
                            <p:stCondLst>
                              <p:cond delay="0"/>
                            </p:stCondLst>
                            <p:childTnLst>
                              <p:par>
                                <p:cTn id="169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8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0" fill="hold">
                      <p:stCondLst>
                        <p:cond delay="indefinite"/>
                      </p:stCondLst>
                      <p:childTnLst>
                        <p:par>
                          <p:cTn id="1701" fill="hold">
                            <p:stCondLst>
                              <p:cond delay="0"/>
                            </p:stCondLst>
                            <p:childTnLst>
                              <p:par>
                                <p:cTn id="170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0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9" fill="hold">
                      <p:stCondLst>
                        <p:cond delay="indefinite"/>
                      </p:stCondLst>
                      <p:childTnLst>
                        <p:par>
                          <p:cTn id="1710" fill="hold">
                            <p:stCondLst>
                              <p:cond delay="0"/>
                            </p:stCondLst>
                            <p:childTnLst>
                              <p:par>
                                <p:cTn id="171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7" fill="hold">
                      <p:stCondLst>
                        <p:cond delay="indefinite"/>
                      </p:stCondLst>
                      <p:childTnLst>
                        <p:par>
                          <p:cTn id="1718" fill="hold">
                            <p:stCondLst>
                              <p:cond delay="0"/>
                            </p:stCondLst>
                            <p:childTnLst>
                              <p:par>
                                <p:cTn id="171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2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6" fill="hold">
                      <p:stCondLst>
                        <p:cond delay="indefinite"/>
                      </p:stCondLst>
                      <p:childTnLst>
                        <p:par>
                          <p:cTn id="1727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0" dur="8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31" dur="8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2" dur="8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>
            <a:off x="2916360" y="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933c6"/>
                </a:solidFill>
                <a:latin typeface="Times New Roman"/>
                <a:ea typeface="华文隶书"/>
              </a:rPr>
              <a:t>小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826920" y="836640"/>
            <a:ext cx="73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本文是一篇消息（狭义新闻），它真实、及时、简要地报道人民解放军百万大军横渡长江的情况。全面介绍了渡江三路军的进军的时间、地点、战线、战况，使人对震惊中外的渡江战役之概貌有所了解。这则新闻的标题、导语和主体部分的结构安排等都颇有讲究，值得细心体味。文中的语言准确精练，铿锵有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916360" y="378936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933c6"/>
                </a:solidFill>
                <a:latin typeface="Times New Roman"/>
                <a:ea typeface="华文隶书"/>
              </a:rPr>
              <a:t>作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971640" y="443700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完成课后练习三的第三组句子的比较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971640" y="501336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预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原我军解放南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则新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971640" y="5589720"/>
            <a:ext cx="7524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写一则新闻报道学校或班上某人、某事或某项活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3" name="camera.wav"/>
      </p:stSnd>
    </p:sndAc>
  </p:transition>
  <p:timing>
    <p:tnLst>
      <p:par>
        <p:cTn id="1733" dur="indefinite" restart="never" nodeType="tmRoot">
          <p:childTnLst>
            <p:seq>
              <p:cTn id="1734" dur="indefinite" nodeType="mainSeq">
                <p:childTnLst>
                  <p:par>
                    <p:cTn id="1735" fill="hold">
                      <p:stCondLst>
                        <p:cond delay="indefinite"/>
                      </p:stCondLst>
                      <p:childTnLst>
                        <p:par>
                          <p:cTn id="1736" fill="hold">
                            <p:stCondLst>
                              <p:cond delay="0"/>
                            </p:stCondLst>
                            <p:childTnLst>
                              <p:par>
                                <p:cTn id="173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3" fill="hold">
                      <p:stCondLst>
                        <p:cond delay="indefinite"/>
                      </p:stCondLst>
                      <p:childTnLst>
                        <p:par>
                          <p:cTn id="1744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47" dur="80"/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8" dur="80"/>
                                        <p:tgtEl>
                                          <p:spTgt spid="4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9" dur="80"/>
                                        <p:tgtEl>
                                          <p:spTgt spid="4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0" fill="hold">
                      <p:stCondLst>
                        <p:cond delay="indefinite"/>
                      </p:stCondLst>
                      <p:childTnLst>
                        <p:par>
                          <p:cTn id="1751" fill="hold">
                            <p:stCondLst>
                              <p:cond delay="0"/>
                            </p:stCondLst>
                            <p:childTnLst>
                              <p:par>
                                <p:cTn id="175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8" fill="hold">
                      <p:stCondLst>
                        <p:cond delay="indefinite"/>
                      </p:stCondLst>
                      <p:childTnLst>
                        <p:par>
                          <p:cTn id="1759" fill="hold">
                            <p:stCondLst>
                              <p:cond delay="0"/>
                            </p:stCondLst>
                            <p:childTnLst>
                              <p:par>
                                <p:cTn id="176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2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7" fill="hold">
                      <p:stCondLst>
                        <p:cond delay="indefinite"/>
                      </p:stCondLst>
                      <p:childTnLst>
                        <p:par>
                          <p:cTn id="1768" fill="hold">
                            <p:stCondLst>
                              <p:cond delay="0"/>
                            </p:stCondLst>
                            <p:childTnLst>
                              <p:par>
                                <p:cTn id="176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1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2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3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4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5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6" fill="hold">
                      <p:stCondLst>
                        <p:cond delay="indefinite"/>
                      </p:stCondLst>
                      <p:childTnLst>
                        <p:par>
                          <p:cTn id="1777" fill="hold">
                            <p:stCondLst>
                              <p:cond delay="0"/>
                            </p:stCondLst>
                            <p:childTnLst>
                              <p:par>
                                <p:cTn id="177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0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1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2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3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4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课文阅读分析题　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82040" y="1125360"/>
            <a:ext cx="8370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新华社长江前线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电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     人民解放军百万大军，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中宋"/>
              </a:rPr>
              <a:t>100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余华里的战线上，冲破敌阵，横渡长江。西起九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中宋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不含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中宋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东至江阴，均是人民解放军的渡江区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中宋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．这部分内容从结构上看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中宋"/>
              </a:rPr>
              <a:t>______________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，在文中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作用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中宋"/>
              </a:rPr>
              <a:t>_____________________________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中宋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．“新华社长江前线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中宋"/>
              </a:rPr>
              <a:t>2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中宋"/>
              </a:rPr>
              <a:t>2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时电”是电头，交代了通讯社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名称、地点和时间，能否删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中宋"/>
              </a:rPr>
              <a:t>?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为什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中宋"/>
              </a:rPr>
              <a:t>?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　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中宋"/>
              </a:rPr>
              <a:t>______________________________________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　　　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中宋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．概括写出人民军队所向无敌、战绩辉煌的两个短语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中宋"/>
              </a:rPr>
              <a:t>____________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中宋"/>
              </a:rPr>
              <a:t>____________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。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129640" y="2492280"/>
            <a:ext cx="6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ff"/>
                </a:solidFill>
                <a:latin typeface="Arial"/>
                <a:ea typeface="华文中宋"/>
              </a:rPr>
              <a:t>导语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189240" y="2924280"/>
            <a:ext cx="308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ff"/>
                </a:solidFill>
                <a:latin typeface="Arial"/>
                <a:ea typeface="华文中宋"/>
              </a:rPr>
              <a:t>简述渡江战役胜利成功，引起下文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021200" y="43657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ff"/>
                </a:solidFill>
                <a:latin typeface="Arial"/>
                <a:ea typeface="华文中宋"/>
              </a:rPr>
              <a:t>不能。这样写表明材料真实准确，报道及时。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580040" y="549288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ff"/>
                </a:solidFill>
                <a:latin typeface="Arial"/>
                <a:ea typeface="华文中宋"/>
              </a:rPr>
              <a:t>冲破敌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12040" y="549288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ff"/>
                </a:solidFill>
                <a:latin typeface="Arial"/>
                <a:ea typeface="华文中宋"/>
              </a:rPr>
              <a:t>横渡长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" name="camera.wav"/>
      </p:stSnd>
    </p:sndAc>
  </p:transition>
  <p:timing>
    <p:tnLst>
      <p:par>
        <p:cTn id="1785" dur="indefinite" restart="never" nodeType="tmRoot">
          <p:childTnLst>
            <p:seq>
              <p:cTn id="1786" dur="indefinite" nodeType="mainSeq">
                <p:childTnLst>
                  <p:par>
                    <p:cTn id="1787" fill="hold">
                      <p:stCondLst>
                        <p:cond delay="indefinite"/>
                      </p:stCondLst>
                      <p:childTnLst>
                        <p:par>
                          <p:cTn id="1788" fill="hold">
                            <p:stCondLst>
                              <p:cond delay="0"/>
                            </p:stCondLst>
                            <p:childTnLst>
                              <p:par>
                                <p:cTn id="17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1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2" fill="hold">
                      <p:stCondLst>
                        <p:cond delay="indefinite"/>
                      </p:stCondLst>
                      <p:childTnLst>
                        <p:par>
                          <p:cTn id="1793" fill="hold">
                            <p:stCondLst>
                              <p:cond delay="0"/>
                            </p:stCondLst>
                            <p:childTnLst>
                              <p:par>
                                <p:cTn id="17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6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7" fill="hold">
                      <p:stCondLst>
                        <p:cond delay="indefinite"/>
                      </p:stCondLst>
                      <p:childTnLst>
                        <p:par>
                          <p:cTn id="1798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1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2" fill="hold">
                      <p:stCondLst>
                        <p:cond delay="indefinite"/>
                      </p:stCondLst>
                      <p:childTnLst>
                        <p:par>
                          <p:cTn id="1803" fill="hold">
                            <p:stCondLst>
                              <p:cond delay="0"/>
                            </p:stCondLst>
                            <p:childTnLst>
                              <p:par>
                                <p:cTn id="18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0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7" fill="hold">
                      <p:stCondLst>
                        <p:cond delay="indefinite"/>
                      </p:stCondLst>
                      <p:childTnLst>
                        <p:par>
                          <p:cTn id="1808" fill="hold">
                            <p:stCondLst>
                              <p:cond delay="0"/>
                            </p:stCondLst>
                            <p:childTnLst>
                              <p:par>
                                <p:cTn id="18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50920" y="-17028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课文阅读分析题　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907920"/>
            <a:ext cx="8532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新华社长江前线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电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人民解放军百万大军，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中宋"/>
              </a:rPr>
              <a:t>100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余华里的战线上，冲破敌阵，横渡长江。西起九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中宋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不含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中宋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，东至江阴，均是人民解放军的渡江区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504080" y="2349360"/>
            <a:ext cx="5613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中宋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中宋"/>
              </a:rPr>
              <a:t>"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百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中宋"/>
              </a:rPr>
              <a:t>"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是夸张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中宋"/>
              </a:rPr>
              <a:t>?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为什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中宋"/>
              </a:rPr>
              <a:t>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中宋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．“西起九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中宋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不含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中宋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，东至江阴，均是人民解放军的渡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区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中宋"/>
              </a:rPr>
              <a:t>"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一句中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中宋"/>
              </a:rPr>
              <a:t>"(</a:t>
            </a:r>
            <a:r>
              <a:rPr b="0" lang="zh-CN" sz="2400" spc="-1" strike="noStrike">
                <a:solidFill>
                  <a:srgbClr val="6600ff"/>
                </a:solidFill>
                <a:latin typeface="Arial"/>
                <a:ea typeface="华文中宋"/>
              </a:rPr>
              <a:t>不含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中宋"/>
              </a:rPr>
              <a:t>)"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中宋"/>
              </a:rPr>
              <a:t>"</a:t>
            </a:r>
            <a:r>
              <a:rPr b="0" lang="zh-CN" sz="2400" spc="-1" strike="noStrike">
                <a:solidFill>
                  <a:srgbClr val="6600ff"/>
                </a:solidFill>
                <a:latin typeface="Arial"/>
                <a:ea typeface="华文中宋"/>
              </a:rPr>
              <a:t>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中宋"/>
              </a:rPr>
              <a:t>"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有何表达作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中宋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263040" y="2852640"/>
            <a:ext cx="78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ff"/>
                </a:solidFill>
                <a:latin typeface="Arial"/>
                <a:ea typeface="华文中宋"/>
              </a:rPr>
              <a:t>不是，因三路大军加起来正好一百万。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057760" y="4292640"/>
            <a:ext cx="515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ff"/>
                </a:solidFill>
                <a:latin typeface="Arial"/>
                <a:ea typeface="华文中宋"/>
              </a:rPr>
              <a:t>      “</a:t>
            </a:r>
            <a:r>
              <a:rPr b="0" lang="zh-CN" sz="2400" spc="-1" strike="noStrike">
                <a:solidFill>
                  <a:srgbClr val="6600ff"/>
                </a:solidFill>
                <a:latin typeface="Arial"/>
                <a:ea typeface="华文中宋"/>
              </a:rPr>
              <a:t>不含”是不包括，当时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华文中宋"/>
              </a:rPr>
              <a:t>九江尚未解放</a:t>
            </a:r>
            <a:r>
              <a:rPr b="0" lang="zh-CN" sz="2400" spc="-1" strike="noStrike">
                <a:solidFill>
                  <a:srgbClr val="6600ff"/>
                </a:solidFill>
                <a:latin typeface="Arial"/>
                <a:ea typeface="华文中宋"/>
              </a:rPr>
              <a:t>，体现了本文语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华文中宋"/>
              </a:rPr>
              <a:t>确凿无误</a:t>
            </a:r>
            <a:r>
              <a:rPr b="0" lang="zh-CN" sz="2400" spc="-1" strike="noStrike">
                <a:solidFill>
                  <a:srgbClr val="6600ff"/>
                </a:solidFill>
                <a:latin typeface="Arial"/>
                <a:ea typeface="华文中宋"/>
              </a:rPr>
              <a:t>的特点；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251080" y="5300640"/>
            <a:ext cx="484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“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均”是</a:t>
            </a:r>
            <a:r>
              <a:rPr b="0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全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的意思。突出了</a:t>
            </a:r>
            <a:r>
              <a:rPr b="0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战线之长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</a:t>
            </a:r>
            <a:r>
              <a:rPr b="0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胜利之大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洋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着</a:t>
            </a:r>
            <a:r>
              <a:rPr b="0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自豪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之情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" name="camera.wav"/>
      </p:stSnd>
    </p:sndAc>
  </p:transition>
  <p:timing>
    <p:tnLst>
      <p:par>
        <p:cTn id="1812" dur="indefinite" restart="never" nodeType="tmRoot">
          <p:childTnLst>
            <p:seq>
              <p:cTn id="1813" dur="indefinite" nodeType="mainSeq">
                <p:childTnLst>
                  <p:par>
                    <p:cTn id="1814" fill="hold">
                      <p:stCondLst>
                        <p:cond delay="indefinite"/>
                      </p:stCondLst>
                      <p:childTnLst>
                        <p:par>
                          <p:cTn id="1815" fill="hold">
                            <p:stCondLst>
                              <p:cond delay="0"/>
                            </p:stCondLst>
                            <p:childTnLst>
                              <p:par>
                                <p:cTn id="18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8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9" fill="hold">
                      <p:stCondLst>
                        <p:cond delay="indefinite"/>
                      </p:stCondLst>
                      <p:childTnLst>
                        <p:par>
                          <p:cTn id="1820" fill="hold">
                            <p:stCondLst>
                              <p:cond delay="0"/>
                            </p:stCondLst>
                            <p:childTnLst>
                              <p:par>
                                <p:cTn id="18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3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4" fill="hold">
                      <p:stCondLst>
                        <p:cond delay="indefinite"/>
                      </p:stCondLst>
                      <p:childTnLst>
                        <p:par>
                          <p:cTn id="1825" fill="hold">
                            <p:stCondLst>
                              <p:cond delay="0"/>
                            </p:stCondLst>
                            <p:childTnLst>
                              <p:par>
                                <p:cTn id="18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8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11415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《七律•人民解放军占领南京》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rcRect l="14555" t="3125" r="14555" b="4163"/>
          <a:stretch/>
        </p:blipFill>
        <p:spPr>
          <a:xfrm>
            <a:off x="395280" y="1268280"/>
            <a:ext cx="4608360" cy="4681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96" name=""/>
          <p:cNvSpPr/>
          <p:nvPr/>
        </p:nvSpPr>
        <p:spPr>
          <a:xfrm>
            <a:off x="6150600" y="1989000"/>
            <a:ext cx="18874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钟山风雨起苍黄，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百万雄师过大江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虎踞龙盘今胜昔，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天翻地覆慨而慷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宜将剩勇追穷寇，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不可沽名学霸王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天若有情天亦老，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人间正道是沧桑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883840" y="1052640"/>
            <a:ext cx="2424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人民解放军占领南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中宋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3" name="camera.wav"/>
      </p:stSnd>
    </p:sndAc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342160" y="2349360"/>
            <a:ext cx="4935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行楷"/>
              </a:rPr>
              <a:t>人民解放军百万大军横渡长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40680" y="3068640"/>
            <a:ext cx="202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华文行楷"/>
              </a:rPr>
              <a:t>——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行楷"/>
              </a:rPr>
              <a:t>毛泽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67480" y="5589720"/>
            <a:ext cx="343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Arial"/>
              </a:rPr>
              <a:t>盐城市新世纪学校  邹德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46360" cy="2205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0" y="3789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伟大的革命家、军事家、思想家；中国的缔造者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4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人民解放军百万大军横渡长江</a:t>
            </a: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1600200" y="1752480"/>
            <a:ext cx="6172200" cy="35053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ransition>
    <p:zoom dir="out"/>
    <p:sndAc>
      <p:stSnd>
        <p:snd r:embed="rId3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476360" y="692280"/>
            <a:ext cx="62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210b5"/>
                </a:solidFill>
                <a:latin typeface="Times New Roman"/>
              </a:rPr>
              <a:t>人民解放军百万大军横渡长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3" name="camera.wav"/>
      </p:stSnd>
    </p:sndAc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39640" y="1197000"/>
            <a:ext cx="8137800" cy="53658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32600" y="549360"/>
            <a:ext cx="37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ff"/>
                </a:solidFill>
                <a:latin typeface="Times New Roman"/>
              </a:rPr>
              <a:t>人民解放军百万大军横渡长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3" name="camera.wav"/>
      </p:stSnd>
    </p:sndAc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9T19:10:13Z</dcterms:created>
  <dc:creator>www.DearEDU.com</dc:creator>
  <dc:description>www.DearEDU.com</dc:description>
  <cp:keywords>www.DearEDU.com</cp:keywords>
  <dc:language>en-US</dc:language>
  <cp:lastModifiedBy>user</cp:lastModifiedBy>
  <dcterms:modified xsi:type="dcterms:W3CDTF">2011-05-16T07:58:19Z</dcterms:modified>
  <cp:revision>40</cp:revision>
  <dc:subject>www.DearEDU.com</dc:subject>
  <dc:title>www.DearEDU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